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5.xml.rels" ContentType="application/vnd.openxmlformats-package.relationships+xml"/>
  <Override PartName="/ppt/notesSlides/notesSlide9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4.jpeg" ContentType="image/jpeg"/>
  <Override PartName="/ppt/media/image23.jpeg" ContentType="image/jpeg"/>
  <Override PartName="/ppt/media/image21.png" ContentType="image/png"/>
  <Override PartName="/ppt/media/image19.wmf" ContentType="image/x-wmf"/>
  <Override PartName="/ppt/media/image28.jpeg" ContentType="image/jpeg"/>
  <Override PartName="/ppt/media/image20.png" ContentType="image/png"/>
  <Override PartName="/ppt/media/image18.wmf" ContentType="image/x-wmf"/>
  <Override PartName="/ppt/media/image12.jpeg" ContentType="image/jpeg"/>
  <Override PartName="/ppt/media/image13.png" ContentType="image/png"/>
  <Override PartName="/ppt/media/image33.wmf" ContentType="image/x-wmf"/>
  <Override PartName="/ppt/media/image6.wmf" ContentType="image/x-wmf"/>
  <Override PartName="/ppt/media/image36.wmf" ContentType="image/x-wmf"/>
  <Override PartName="/ppt/media/image11.jpeg" ContentType="image/jpeg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17.wmf" ContentType="image/x-wmf"/>
  <Override PartName="/ppt/media/image30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10.jpeg" ContentType="image/jpeg"/>
  <Override PartName="/ppt/media/image14.png" ContentType="image/png"/>
  <Override PartName="/ppt/media/image34.wmf" ContentType="image/x-wmf"/>
  <Override PartName="/ppt/media/image4.wmf" ContentType="image/x-wmf"/>
  <Override PartName="/ppt/media/image3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wmf" ContentType="image/x-wmf"/>
  <Override PartName="/ppt/media/image9.png" ContentType="image/png"/>
  <Override PartName="/ppt/media/image22.jpeg" ContentType="image/jpeg"/>
  <Override PartName="/ppt/media/image16.wmf" ContentType="image/x-wmf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512A-A76A-4A98-86DD-68A010ED7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imple multiple access control techn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obile’s share of the bandwidth is divided into portions for the uplink and the downlink. Also, possibly, out of band signa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will see, used in AMPS, GSM, IS-54/1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E5E-C7E7-4349-88AB-D04D3A67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D13-D069-441B-90BF-D917C5C6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B78-C1C2-4B72-A586-DE1E8ECB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883B-2D01-49F3-B916-12196B58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FA61-56A1-4D24-9B21-A3194D8A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6F01-EF5A-4FD1-9ED7-7DF28BA6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9353-00F7-4180-A977-3B44C3C3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7EED-C6D1-48CB-A8BB-1ED4E0A1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9BDF-51F2-4D77-9566-D93C6BEB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71EA-C902-4BC5-B8AC-28AE95F9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61B7-9927-409C-82D2-2446ADA5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464-4CB1-4AA7-90F1-BF58DB17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380A-E3A1-40D4-BF62-B959E952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096B-21FA-476E-A830-940263E0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6E94-6E25-4F3D-ABA5-0D6AF750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E718-95E2-4FDD-AB06-E6C2665B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B67D-4C3E-42A4-848D-FDACCAEE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3F6-1401-491A-9828-D8886DDB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BD3-0D09-4090-AE99-5BF76561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612-50C5-43D3-8D59-E298EE3F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57B-613C-45BF-AFEE-60E9B2B9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BA4-511B-4B61-B4CE-046A75A5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E8B-C3E1-4A46-B642-B4F57DE3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9792-6A0E-4D3C-BAF5-478F1C4C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BDF7-6707-488A-83A4-421F2B4E8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D7C1-31ED-4EDE-86CA-71361DF2D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5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slideLayout" Target="../slideLayouts/slideLayout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8.jpeg"/><Relationship Id="rId10" Type="http://schemas.openxmlformats.org/officeDocument/2006/relationships/image" Target="../media/image28.jpeg"/><Relationship Id="rId11" Type="http://schemas.openxmlformats.org/officeDocument/2006/relationships/image" Target="../media/image28.jpeg"/><Relationship Id="rId12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4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4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image" Target="../media/image36.wmf"/><Relationship Id="rId9" Type="http://schemas.openxmlformats.org/officeDocument/2006/relationships/image" Target="../media/image35.wmf"/><Relationship Id="rId10" Type="http://schemas.openxmlformats.org/officeDocument/2006/relationships/image" Target="../media/image33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5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6.wmf"/><Relationship Id="rId18" Type="http://schemas.openxmlformats.org/officeDocument/2006/relationships/image" Target="../media/image33.wmf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5.wmf"/><Relationship Id="rId22" Type="http://schemas.openxmlformats.org/officeDocument/2006/relationships/image" Target="../media/image6.wmf"/><Relationship Id="rId2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image" Target="../media/image7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5.wmf"/><Relationship Id="rId17" Type="http://schemas.openxmlformats.org/officeDocument/2006/relationships/image" Target="../media/image6.wmf"/><Relationship Id="rId18" Type="http://schemas.openxmlformats.org/officeDocument/2006/relationships/image" Target="../media/image5.wmf"/><Relationship Id="rId19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5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slideLayout" Target="../slideLayouts/slideLayout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5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slideLayout" Target="../slideLayouts/slideLayout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5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slideLayout" Target="../slideLayouts/slideLayout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5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slideLayout" Target="../slideLayouts/slideLayout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5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slideLayout" Target="../slideLayouts/slideLayout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157840"/>
            <a:ext cx="8353440" cy="1861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Policijska informatika</a:t>
            </a:r>
            <a:br>
              <a:rPr sz="4400"/>
            </a:b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Poglavlje.2 </a:t>
            </a:r>
            <a:br>
              <a:rPr sz="3600"/>
            </a:b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Umrežavanje i Internet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92" name="ftn_znak" descr=""/>
          <p:cNvPicPr/>
          <p:nvPr/>
        </p:nvPicPr>
        <p:blipFill>
          <a:blip r:embed="rId1"/>
          <a:stretch/>
        </p:blipFill>
        <p:spPr>
          <a:xfrm>
            <a:off x="0" y="0"/>
            <a:ext cx="1276200" cy="1341360"/>
          </a:xfrm>
          <a:prstGeom prst="rect">
            <a:avLst/>
          </a:prstGeom>
          <a:ln w="0">
            <a:noFill/>
          </a:ln>
        </p:spPr>
      </p:pic>
      <p:pic>
        <p:nvPicPr>
          <p:cNvPr id="93" name="cezar_new" descr=""/>
          <p:cNvPicPr/>
          <p:nvPr/>
        </p:nvPicPr>
        <p:blipFill>
          <a:blip r:embed="rId2"/>
          <a:stretch/>
        </p:blipFill>
        <p:spPr>
          <a:xfrm>
            <a:off x="802476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5661000"/>
            <a:ext cx="8351640" cy="429120"/>
          </a:xfrm>
          <a:prstGeom prst="rect">
            <a:avLst/>
          </a:prstGeom>
          <a:solidFill>
            <a:srgbClr val="cc99ff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Predmetni nastavnik: Prof. dr Branko Perišić  FTN 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76280" y="-11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Istorija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Internet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-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05" name=""/>
          <p:cNvSpPr/>
          <p:nvPr/>
        </p:nvSpPr>
        <p:spPr>
          <a:xfrm>
            <a:off x="395280" y="620640"/>
            <a:ext cx="836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0000"/>
                </a:solidFill>
                <a:latin typeface="Arial Black"/>
              </a:rPr>
              <a:t>Prva skica ARPA-net mre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rcRect l="0" t="0" r="0" b="8436"/>
          <a:stretch/>
        </p:blipFill>
        <p:spPr>
          <a:xfrm>
            <a:off x="755640" y="1125360"/>
            <a:ext cx="6480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0" y="194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Mreže sa komutiranim paketima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 u="sng">
                <a:solidFill>
                  <a:srgbClr val="ff0000"/>
                </a:solidFill>
                <a:uFillTx/>
                <a:latin typeface="Arial"/>
              </a:rPr>
              <a:t>Cilj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baciti pakete kroz rutere od izv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do odredi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tagram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mrež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odredišna adre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paketu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određuje sledeći sk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utanje-rute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ogu da se menjaju za vreme ses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nalog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ožnja, pitanj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 vez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v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kretan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e održavaju informacije o stanju-konekci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na switch-ev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mreže s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rtu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elnim kolo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i paket nos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etike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irtuelnog kola - br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g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dređuje sledeći sk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iksna putanja određena u trenutku poziva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l setup time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taj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pun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fiksi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.25,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i="1" lang="sr-Latn-CS" sz="2000" spc="-1" strike="noStrike">
                <a:solidFill>
                  <a:srgbClr val="ff0000"/>
                </a:solidFill>
                <a:latin typeface="Arial"/>
              </a:rPr>
              <a:t>uteri održavaju stanje po pozi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04560" y="194040"/>
            <a:ext cx="8381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Pristup mre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žama i fizički mediji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727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: Kako povezati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 krajeve sistema sa granom u kojoj je rute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stup mrežama iz sta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stup mrež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 instituci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ko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mpani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i pristup mrež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Treba voditi računa o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irini opseg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a u sekund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stupne mrež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eljenju ili posvećenj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6807240" y="1800360"/>
            <a:ext cx="1989000" cy="20095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727520" y="1628640"/>
            <a:ext cx="2065320" cy="190656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5124600" y="3357720"/>
            <a:ext cx="3290760" cy="26622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1" name="" descr=""/>
          <p:cNvPicPr/>
          <p:nvPr/>
        </p:nvPicPr>
        <p:blipFill>
          <a:blip r:embed="rId1"/>
          <a:stretch/>
        </p:blipFill>
        <p:spPr>
          <a:xfrm>
            <a:off x="4857840" y="1790640"/>
            <a:ext cx="460440" cy="382680"/>
          </a:xfrm>
          <a:prstGeom prst="rect">
            <a:avLst/>
          </a:prstGeom>
          <a:ln w="0">
            <a:noFill/>
          </a:ln>
        </p:spPr>
      </p:pic>
      <p:pic>
        <p:nvPicPr>
          <p:cNvPr id="2482" name="" descr=""/>
          <p:cNvPicPr/>
          <p:nvPr/>
        </p:nvPicPr>
        <p:blipFill>
          <a:blip r:embed="rId2"/>
          <a:stretch/>
        </p:blipFill>
        <p:spPr>
          <a:xfrm>
            <a:off x="5359320" y="1932120"/>
            <a:ext cx="309600" cy="222120"/>
          </a:xfrm>
          <a:prstGeom prst="rect">
            <a:avLst/>
          </a:prstGeom>
          <a:ln w="0">
            <a:noFill/>
          </a:ln>
        </p:spPr>
      </p:pic>
      <p:sp>
        <p:nvSpPr>
          <p:cNvPr id="2483" name=""/>
          <p:cNvSpPr/>
          <p:nvPr/>
        </p:nvSpPr>
        <p:spPr>
          <a:xfrm flipV="1">
            <a:off x="5307120" y="2080800"/>
            <a:ext cx="12672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4" name="" descr=""/>
          <p:cNvPicPr/>
          <p:nvPr/>
        </p:nvPicPr>
        <p:blipFill>
          <a:blip r:embed="rId3"/>
          <a:stretch/>
        </p:blipFill>
        <p:spPr>
          <a:xfrm>
            <a:off x="4857840" y="2505240"/>
            <a:ext cx="460440" cy="382320"/>
          </a:xfrm>
          <a:prstGeom prst="rect">
            <a:avLst/>
          </a:prstGeom>
          <a:ln w="0">
            <a:noFill/>
          </a:ln>
        </p:spPr>
      </p:pic>
      <p:pic>
        <p:nvPicPr>
          <p:cNvPr id="2485" name="" descr=""/>
          <p:cNvPicPr/>
          <p:nvPr/>
        </p:nvPicPr>
        <p:blipFill>
          <a:blip r:embed="rId4"/>
          <a:stretch/>
        </p:blipFill>
        <p:spPr>
          <a:xfrm>
            <a:off x="5359320" y="2646360"/>
            <a:ext cx="309600" cy="222120"/>
          </a:xfrm>
          <a:prstGeom prst="rect">
            <a:avLst/>
          </a:prstGeom>
          <a:ln w="0">
            <a:noFill/>
          </a:ln>
        </p:spPr>
      </p:pic>
      <p:sp>
        <p:nvSpPr>
          <p:cNvPr id="2486" name=""/>
          <p:cNvSpPr/>
          <p:nvPr/>
        </p:nvSpPr>
        <p:spPr>
          <a:xfrm flipV="1">
            <a:off x="5307120" y="2795760"/>
            <a:ext cx="126720" cy="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7" name=""/>
          <p:cNvGrpSpPr/>
          <p:nvPr/>
        </p:nvGrpSpPr>
        <p:grpSpPr>
          <a:xfrm>
            <a:off x="5273640" y="2249640"/>
            <a:ext cx="77400" cy="256680"/>
            <a:chOff x="5273640" y="2249640"/>
            <a:chExt cx="77400" cy="256680"/>
          </a:xfrm>
        </p:grpSpPr>
        <p:sp>
          <p:nvSpPr>
            <p:cNvPr id="2488" name=""/>
            <p:cNvSpPr/>
            <p:nvPr/>
          </p:nvSpPr>
          <p:spPr>
            <a:xfrm>
              <a:off x="5273640" y="2249640"/>
              <a:ext cx="71280" cy="72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276520" y="2341800"/>
              <a:ext cx="71280" cy="720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279760" y="2434320"/>
              <a:ext cx="71280" cy="720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1" name=""/>
          <p:cNvGrpSpPr/>
          <p:nvPr/>
        </p:nvGrpSpPr>
        <p:grpSpPr>
          <a:xfrm>
            <a:off x="5792760" y="2852640"/>
            <a:ext cx="231840" cy="474480"/>
            <a:chOff x="5792760" y="2852640"/>
            <a:chExt cx="231840" cy="474480"/>
          </a:xfrm>
        </p:grpSpPr>
        <p:sp>
          <p:nvSpPr>
            <p:cNvPr id="2492" name=""/>
            <p:cNvSpPr/>
            <p:nvPr/>
          </p:nvSpPr>
          <p:spPr>
            <a:xfrm>
              <a:off x="5792760" y="3217680"/>
              <a:ext cx="231840" cy="109440"/>
            </a:xfrm>
            <a:prstGeom prst="parallelogram">
              <a:avLst>
                <a:gd name="adj" fmla="val 8160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910120" y="2855520"/>
              <a:ext cx="106560" cy="364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793840" y="2959200"/>
              <a:ext cx="146880" cy="3650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792760" y="2852640"/>
              <a:ext cx="231840" cy="109440"/>
            </a:xfrm>
            <a:prstGeom prst="parallelogram">
              <a:avLst>
                <a:gd name="adj" fmla="val 8160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024600" y="2860200"/>
              <a:ext cx="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H="1">
              <a:off x="5940720" y="3217680"/>
              <a:ext cx="831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812560" y="3007080"/>
              <a:ext cx="97200" cy="2102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826600" y="3070440"/>
              <a:ext cx="73800" cy="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0" name=""/>
          <p:cNvGrpSpPr/>
          <p:nvPr/>
        </p:nvGrpSpPr>
        <p:grpSpPr>
          <a:xfrm>
            <a:off x="6054840" y="3038400"/>
            <a:ext cx="258120" cy="96480"/>
            <a:chOff x="6054840" y="3038400"/>
            <a:chExt cx="258120" cy="96480"/>
          </a:xfrm>
        </p:grpSpPr>
        <p:sp>
          <p:nvSpPr>
            <p:cNvPr id="2501" name=""/>
            <p:cNvSpPr/>
            <p:nvPr/>
          </p:nvSpPr>
          <p:spPr>
            <a:xfrm rot="16200000">
              <a:off x="6046560" y="3053880"/>
              <a:ext cx="88920" cy="727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rot="16200000">
              <a:off x="6139440" y="3050640"/>
              <a:ext cx="88920" cy="72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rot="16200000">
              <a:off x="6232320" y="3046680"/>
              <a:ext cx="88920" cy="72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4" name=""/>
          <p:cNvSpPr/>
          <p:nvPr/>
        </p:nvSpPr>
        <p:spPr>
          <a:xfrm>
            <a:off x="5945040" y="2743200"/>
            <a:ext cx="5479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5948280" y="2738520"/>
            <a:ext cx="1800" cy="114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6496200" y="2736720"/>
            <a:ext cx="1440" cy="100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5613480" y="2095560"/>
            <a:ext cx="318960" cy="31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 flipV="1">
            <a:off x="5626080" y="2438280"/>
            <a:ext cx="306360" cy="3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6210360" y="2541600"/>
            <a:ext cx="1440" cy="19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0" name=""/>
          <p:cNvGrpSpPr/>
          <p:nvPr/>
        </p:nvGrpSpPr>
        <p:grpSpPr>
          <a:xfrm>
            <a:off x="6342120" y="2827440"/>
            <a:ext cx="231840" cy="472680"/>
            <a:chOff x="6342120" y="2827440"/>
            <a:chExt cx="231840" cy="472680"/>
          </a:xfrm>
        </p:grpSpPr>
        <p:sp>
          <p:nvSpPr>
            <p:cNvPr id="2511" name=""/>
            <p:cNvSpPr/>
            <p:nvPr/>
          </p:nvSpPr>
          <p:spPr>
            <a:xfrm>
              <a:off x="6342120" y="3191040"/>
              <a:ext cx="231840" cy="109080"/>
            </a:xfrm>
            <a:prstGeom prst="parallelogram">
              <a:avLst>
                <a:gd name="adj" fmla="val 818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459480" y="2830320"/>
              <a:ext cx="106560" cy="363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343200" y="2933640"/>
              <a:ext cx="146880" cy="363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342120" y="2827440"/>
              <a:ext cx="231840" cy="109080"/>
            </a:xfrm>
            <a:prstGeom prst="parallelogram">
              <a:avLst>
                <a:gd name="adj" fmla="val 818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573960" y="28350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 flipH="1">
              <a:off x="6490080" y="3191040"/>
              <a:ext cx="831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361920" y="2981160"/>
              <a:ext cx="97200" cy="2095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375960" y="3044520"/>
              <a:ext cx="73800" cy="7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19" name="" descr=""/>
          <p:cNvPicPr/>
          <p:nvPr/>
        </p:nvPicPr>
        <p:blipFill>
          <a:blip r:embed="rId5"/>
          <a:stretch/>
        </p:blipFill>
        <p:spPr>
          <a:xfrm>
            <a:off x="5283360" y="3570120"/>
            <a:ext cx="460080" cy="397080"/>
          </a:xfrm>
          <a:prstGeom prst="rect">
            <a:avLst/>
          </a:prstGeom>
          <a:ln w="0">
            <a:noFill/>
          </a:ln>
        </p:spPr>
      </p:pic>
      <p:sp>
        <p:nvSpPr>
          <p:cNvPr id="2520" name=""/>
          <p:cNvSpPr/>
          <p:nvPr/>
        </p:nvSpPr>
        <p:spPr>
          <a:xfrm flipV="1">
            <a:off x="5734080" y="3865680"/>
            <a:ext cx="79200" cy="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1" name="" descr=""/>
          <p:cNvPicPr/>
          <p:nvPr/>
        </p:nvPicPr>
        <p:blipFill>
          <a:blip r:embed="rId6"/>
          <a:stretch/>
        </p:blipFill>
        <p:spPr>
          <a:xfrm>
            <a:off x="5283360" y="4282920"/>
            <a:ext cx="460080" cy="397080"/>
          </a:xfrm>
          <a:prstGeom prst="rect">
            <a:avLst/>
          </a:prstGeom>
          <a:ln w="0">
            <a:noFill/>
          </a:ln>
        </p:spPr>
      </p:pic>
      <p:sp>
        <p:nvSpPr>
          <p:cNvPr id="2522" name=""/>
          <p:cNvSpPr/>
          <p:nvPr/>
        </p:nvSpPr>
        <p:spPr>
          <a:xfrm flipV="1">
            <a:off x="5734080" y="4584240"/>
            <a:ext cx="7920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5421240" y="3979800"/>
            <a:ext cx="79200" cy="266400"/>
            <a:chOff x="5421240" y="3979800"/>
            <a:chExt cx="79200" cy="266400"/>
          </a:xfrm>
        </p:grpSpPr>
        <p:sp>
          <p:nvSpPr>
            <p:cNvPr id="2524" name=""/>
            <p:cNvSpPr/>
            <p:nvPr/>
          </p:nvSpPr>
          <p:spPr>
            <a:xfrm>
              <a:off x="5421240" y="3979800"/>
              <a:ext cx="73080" cy="75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424120" y="4075560"/>
              <a:ext cx="73080" cy="74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427360" y="4171320"/>
              <a:ext cx="73080" cy="74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7" name=""/>
          <p:cNvSpPr/>
          <p:nvPr/>
        </p:nvSpPr>
        <p:spPr>
          <a:xfrm>
            <a:off x="5807160" y="386244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8" name="" descr=""/>
          <p:cNvPicPr/>
          <p:nvPr/>
        </p:nvPicPr>
        <p:blipFill>
          <a:blip r:embed="rId7"/>
          <a:stretch/>
        </p:blipFill>
        <p:spPr>
          <a:xfrm>
            <a:off x="6243480" y="4781520"/>
            <a:ext cx="462240" cy="397080"/>
          </a:xfrm>
          <a:prstGeom prst="rect">
            <a:avLst/>
          </a:prstGeom>
          <a:ln w="0">
            <a:noFill/>
          </a:ln>
        </p:spPr>
      </p:pic>
      <p:pic>
        <p:nvPicPr>
          <p:cNvPr id="2529" name="" descr=""/>
          <p:cNvPicPr/>
          <p:nvPr/>
        </p:nvPicPr>
        <p:blipFill>
          <a:blip r:embed="rId8"/>
          <a:stretch/>
        </p:blipFill>
        <p:spPr>
          <a:xfrm>
            <a:off x="5564160" y="4767120"/>
            <a:ext cx="458640" cy="397080"/>
          </a:xfrm>
          <a:prstGeom prst="rect">
            <a:avLst/>
          </a:prstGeom>
          <a:ln w="0">
            <a:noFill/>
          </a:ln>
        </p:spPr>
      </p:pic>
      <p:sp>
        <p:nvSpPr>
          <p:cNvPr id="2530" name=""/>
          <p:cNvSpPr/>
          <p:nvPr/>
        </p:nvSpPr>
        <p:spPr>
          <a:xfrm flipV="1">
            <a:off x="6524640" y="4716000"/>
            <a:ext cx="144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 flipV="1">
            <a:off x="5834160" y="4703760"/>
            <a:ext cx="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 flipH="1">
            <a:off x="5835240" y="4710240"/>
            <a:ext cx="69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803920" y="4255920"/>
            <a:ext cx="112680" cy="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6478560" y="4316400"/>
            <a:ext cx="33516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 flipH="1">
            <a:off x="7358040" y="4313160"/>
            <a:ext cx="30960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6" name="" descr=""/>
          <p:cNvPicPr/>
          <p:nvPr/>
        </p:nvPicPr>
        <p:blipFill>
          <a:blip r:embed="rId9"/>
          <a:stretch/>
        </p:blipFill>
        <p:spPr>
          <a:xfrm>
            <a:off x="7554960" y="3774960"/>
            <a:ext cx="225360" cy="290520"/>
          </a:xfrm>
          <a:prstGeom prst="rect">
            <a:avLst/>
          </a:prstGeom>
          <a:ln w="0">
            <a:noFill/>
          </a:ln>
        </p:spPr>
      </p:pic>
      <p:pic>
        <p:nvPicPr>
          <p:cNvPr id="2537" name="" descr=""/>
          <p:cNvPicPr/>
          <p:nvPr/>
        </p:nvPicPr>
        <p:blipFill>
          <a:blip r:embed="rId10"/>
          <a:stretch/>
        </p:blipFill>
        <p:spPr>
          <a:xfrm>
            <a:off x="6076800" y="3871800"/>
            <a:ext cx="223920" cy="289080"/>
          </a:xfrm>
          <a:prstGeom prst="rect">
            <a:avLst/>
          </a:prstGeom>
          <a:ln w="0">
            <a:noFill/>
          </a:ln>
        </p:spPr>
      </p:pic>
      <p:sp>
        <p:nvSpPr>
          <p:cNvPr id="2538" name=""/>
          <p:cNvSpPr/>
          <p:nvPr/>
        </p:nvSpPr>
        <p:spPr>
          <a:xfrm>
            <a:off x="6165720" y="3602160"/>
            <a:ext cx="1498680" cy="36504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9" name="" descr=""/>
          <p:cNvPicPr/>
          <p:nvPr/>
        </p:nvPicPr>
        <p:blipFill>
          <a:blip r:embed="rId11"/>
          <a:stretch/>
        </p:blipFill>
        <p:spPr>
          <a:xfrm>
            <a:off x="6461280" y="5308560"/>
            <a:ext cx="419040" cy="452520"/>
          </a:xfrm>
          <a:prstGeom prst="rect">
            <a:avLst/>
          </a:prstGeom>
          <a:ln w="0">
            <a:noFill/>
          </a:ln>
        </p:spPr>
      </p:pic>
      <p:pic>
        <p:nvPicPr>
          <p:cNvPr id="2540" name="" descr=""/>
          <p:cNvPicPr/>
          <p:nvPr/>
        </p:nvPicPr>
        <p:blipFill>
          <a:blip r:embed="rId12"/>
          <a:stretch/>
        </p:blipFill>
        <p:spPr>
          <a:xfrm>
            <a:off x="6527880" y="5443560"/>
            <a:ext cx="382680" cy="377640"/>
          </a:xfrm>
          <a:prstGeom prst="rect">
            <a:avLst/>
          </a:prstGeom>
          <a:ln w="0">
            <a:noFill/>
          </a:ln>
        </p:spPr>
      </p:pic>
      <p:grpSp>
        <p:nvGrpSpPr>
          <p:cNvPr id="2541" name=""/>
          <p:cNvGrpSpPr/>
          <p:nvPr/>
        </p:nvGrpSpPr>
        <p:grpSpPr>
          <a:xfrm>
            <a:off x="7321680" y="5346720"/>
            <a:ext cx="448920" cy="512280"/>
            <a:chOff x="7321680" y="5346720"/>
            <a:chExt cx="448920" cy="512280"/>
          </a:xfrm>
        </p:grpSpPr>
        <p:pic>
          <p:nvPicPr>
            <p:cNvPr id="2542" name="" descr=""/>
            <p:cNvPicPr/>
            <p:nvPr/>
          </p:nvPicPr>
          <p:blipFill>
            <a:blip r:embed="rId13"/>
            <a:stretch/>
          </p:blipFill>
          <p:spPr>
            <a:xfrm>
              <a:off x="7321680" y="5346720"/>
              <a:ext cx="417960" cy="45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3" name="" descr=""/>
            <p:cNvPicPr/>
            <p:nvPr/>
          </p:nvPicPr>
          <p:blipFill>
            <a:blip r:embed="rId14"/>
            <a:stretch/>
          </p:blipFill>
          <p:spPr>
            <a:xfrm>
              <a:off x="7387920" y="5481000"/>
              <a:ext cx="382680" cy="3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4" name=""/>
          <p:cNvGrpSpPr/>
          <p:nvPr/>
        </p:nvGrpSpPr>
        <p:grpSpPr>
          <a:xfrm>
            <a:off x="6862680" y="5005440"/>
            <a:ext cx="419040" cy="452160"/>
            <a:chOff x="6862680" y="5005440"/>
            <a:chExt cx="419040" cy="452160"/>
          </a:xfrm>
        </p:grpSpPr>
        <p:pic>
          <p:nvPicPr>
            <p:cNvPr id="2545" name="" descr=""/>
            <p:cNvPicPr/>
            <p:nvPr/>
          </p:nvPicPr>
          <p:blipFill>
            <a:blip r:embed="rId15"/>
            <a:stretch/>
          </p:blipFill>
          <p:spPr>
            <a:xfrm>
              <a:off x="6862680" y="5005440"/>
              <a:ext cx="419040" cy="4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6" name=""/>
            <p:cNvSpPr/>
            <p:nvPr/>
          </p:nvSpPr>
          <p:spPr>
            <a:xfrm>
              <a:off x="6984360" y="5164200"/>
              <a:ext cx="295200" cy="293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7" name=""/>
          <p:cNvGrpSpPr/>
          <p:nvPr/>
        </p:nvGrpSpPr>
        <p:grpSpPr>
          <a:xfrm>
            <a:off x="7999560" y="4199040"/>
            <a:ext cx="230040" cy="489960"/>
            <a:chOff x="7999560" y="4199040"/>
            <a:chExt cx="230040" cy="489960"/>
          </a:xfrm>
        </p:grpSpPr>
        <p:sp>
          <p:nvSpPr>
            <p:cNvPr id="2548" name=""/>
            <p:cNvSpPr/>
            <p:nvPr/>
          </p:nvSpPr>
          <p:spPr>
            <a:xfrm>
              <a:off x="7999560" y="4575960"/>
              <a:ext cx="230040" cy="113040"/>
            </a:xfrm>
            <a:prstGeom prst="parallelogram">
              <a:avLst>
                <a:gd name="adj" fmla="val 7839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8115840" y="4202280"/>
              <a:ext cx="105480" cy="376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8000640" y="4308840"/>
              <a:ext cx="145800" cy="37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999560" y="4199040"/>
              <a:ext cx="230040" cy="113040"/>
            </a:xfrm>
            <a:prstGeom prst="parallelogram">
              <a:avLst>
                <a:gd name="adj" fmla="val 7839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8229600" y="420696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H="1">
              <a:off x="8146440" y="4575960"/>
              <a:ext cx="8280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8019360" y="4358520"/>
              <a:ext cx="96480" cy="217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8033040" y="4424040"/>
              <a:ext cx="730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6" name=""/>
          <p:cNvGrpSpPr/>
          <p:nvPr/>
        </p:nvGrpSpPr>
        <p:grpSpPr>
          <a:xfrm>
            <a:off x="7985160" y="4732200"/>
            <a:ext cx="230040" cy="490320"/>
            <a:chOff x="7985160" y="4732200"/>
            <a:chExt cx="230040" cy="490320"/>
          </a:xfrm>
        </p:grpSpPr>
        <p:sp>
          <p:nvSpPr>
            <p:cNvPr id="2557" name=""/>
            <p:cNvSpPr/>
            <p:nvPr/>
          </p:nvSpPr>
          <p:spPr>
            <a:xfrm>
              <a:off x="7985160" y="5109120"/>
              <a:ext cx="230040" cy="113400"/>
            </a:xfrm>
            <a:prstGeom prst="parallelogram">
              <a:avLst>
                <a:gd name="adj" fmla="val 7814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8101440" y="4735440"/>
              <a:ext cx="105480" cy="376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986240" y="4842360"/>
              <a:ext cx="145800" cy="37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985160" y="4732200"/>
              <a:ext cx="230040" cy="113400"/>
            </a:xfrm>
            <a:prstGeom prst="parallelogram">
              <a:avLst>
                <a:gd name="adj" fmla="val 7814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8215200" y="474012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H="1">
              <a:off x="8132040" y="5109120"/>
              <a:ext cx="8280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8004960" y="4891680"/>
              <a:ext cx="96480" cy="217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8018640" y="4957560"/>
              <a:ext cx="730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5" name=""/>
          <p:cNvSpPr/>
          <p:nvPr/>
        </p:nvSpPr>
        <p:spPr>
          <a:xfrm flipV="1">
            <a:off x="7908840" y="4279680"/>
            <a:ext cx="0" cy="733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7905600" y="5011560"/>
            <a:ext cx="114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7902720" y="4440240"/>
            <a:ext cx="9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 flipV="1">
            <a:off x="6491160" y="2155320"/>
            <a:ext cx="50652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7524720" y="2136600"/>
            <a:ext cx="53820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 flipH="1">
            <a:off x="8098920" y="2541600"/>
            <a:ext cx="266760" cy="81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7246800" y="2273400"/>
            <a:ext cx="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7275600" y="3049560"/>
            <a:ext cx="59220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 flipH="1">
            <a:off x="7785000" y="3608280"/>
            <a:ext cx="29520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7534080" y="2503440"/>
            <a:ext cx="61884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7543800" y="1830240"/>
            <a:ext cx="38880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flipH="1">
            <a:off x="8337600" y="2041560"/>
            <a:ext cx="22392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7" name=""/>
          <p:cNvGrpSpPr/>
          <p:nvPr/>
        </p:nvGrpSpPr>
        <p:grpSpPr>
          <a:xfrm>
            <a:off x="5916600" y="2273400"/>
            <a:ext cx="554040" cy="279000"/>
            <a:chOff x="5916600" y="2273400"/>
            <a:chExt cx="554040" cy="279000"/>
          </a:xfrm>
        </p:grpSpPr>
        <p:sp>
          <p:nvSpPr>
            <p:cNvPr id="2578" name=""/>
            <p:cNvSpPr/>
            <p:nvPr/>
          </p:nvSpPr>
          <p:spPr>
            <a:xfrm>
              <a:off x="5920920" y="2397960"/>
              <a:ext cx="549360" cy="1544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920920" y="23846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470640" y="23846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920920" y="2384640"/>
              <a:ext cx="544320" cy="94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916600" y="2273400"/>
              <a:ext cx="549000" cy="1803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3" name=""/>
            <p:cNvGrpSpPr/>
            <p:nvPr/>
          </p:nvGrpSpPr>
          <p:grpSpPr>
            <a:xfrm>
              <a:off x="6048720" y="2313000"/>
              <a:ext cx="271800" cy="105120"/>
              <a:chOff x="6048720" y="2313000"/>
              <a:chExt cx="271800" cy="105120"/>
            </a:xfrm>
          </p:grpSpPr>
          <p:sp>
            <p:nvSpPr>
              <p:cNvPr id="2584" name=""/>
              <p:cNvSpPr/>
              <p:nvPr/>
            </p:nvSpPr>
            <p:spPr>
              <a:xfrm flipV="1">
                <a:off x="6048720" y="2313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6235200" y="241812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138000" y="23151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7" name=""/>
            <p:cNvGrpSpPr/>
            <p:nvPr/>
          </p:nvGrpSpPr>
          <p:grpSpPr>
            <a:xfrm>
              <a:off x="6048720" y="2311560"/>
              <a:ext cx="271800" cy="105120"/>
              <a:chOff x="6048720" y="2311560"/>
              <a:chExt cx="271800" cy="105120"/>
            </a:xfrm>
          </p:grpSpPr>
          <p:sp>
            <p:nvSpPr>
              <p:cNvPr id="2588" name=""/>
              <p:cNvSpPr/>
              <p:nvPr/>
            </p:nvSpPr>
            <p:spPr>
              <a:xfrm>
                <a:off x="6048720" y="241452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6235200" y="2311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 flipV="1">
                <a:off x="6138000" y="23115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1" name=""/>
          <p:cNvGrpSpPr/>
          <p:nvPr/>
        </p:nvGrpSpPr>
        <p:grpSpPr>
          <a:xfrm>
            <a:off x="6970680" y="1998720"/>
            <a:ext cx="554040" cy="279000"/>
            <a:chOff x="6970680" y="1998720"/>
            <a:chExt cx="554040" cy="279000"/>
          </a:xfrm>
        </p:grpSpPr>
        <p:sp>
          <p:nvSpPr>
            <p:cNvPr id="2592" name=""/>
            <p:cNvSpPr/>
            <p:nvPr/>
          </p:nvSpPr>
          <p:spPr>
            <a:xfrm>
              <a:off x="6975000" y="2123280"/>
              <a:ext cx="549360" cy="1544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975000" y="210996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524720" y="210996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975000" y="2109960"/>
              <a:ext cx="544320" cy="94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970680" y="1998720"/>
              <a:ext cx="549000" cy="1803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7" name=""/>
            <p:cNvGrpSpPr/>
            <p:nvPr/>
          </p:nvGrpSpPr>
          <p:grpSpPr>
            <a:xfrm>
              <a:off x="7102800" y="2038320"/>
              <a:ext cx="271800" cy="105120"/>
              <a:chOff x="7102800" y="2038320"/>
              <a:chExt cx="271800" cy="105120"/>
            </a:xfrm>
          </p:grpSpPr>
          <p:sp>
            <p:nvSpPr>
              <p:cNvPr id="2598" name=""/>
              <p:cNvSpPr/>
              <p:nvPr/>
            </p:nvSpPr>
            <p:spPr>
              <a:xfrm flipV="1">
                <a:off x="7102800" y="203832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7289280" y="21434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7192080" y="204048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1" name=""/>
            <p:cNvGrpSpPr/>
            <p:nvPr/>
          </p:nvGrpSpPr>
          <p:grpSpPr>
            <a:xfrm>
              <a:off x="7102800" y="2036880"/>
              <a:ext cx="271800" cy="105120"/>
              <a:chOff x="7102800" y="2036880"/>
              <a:chExt cx="271800" cy="105120"/>
            </a:xfrm>
          </p:grpSpPr>
          <p:sp>
            <p:nvSpPr>
              <p:cNvPr id="2602" name=""/>
              <p:cNvSpPr/>
              <p:nvPr/>
            </p:nvSpPr>
            <p:spPr>
              <a:xfrm>
                <a:off x="7102800" y="21398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289280" y="203688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7192080" y="203688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5" name=""/>
          <p:cNvGrpSpPr/>
          <p:nvPr/>
        </p:nvGrpSpPr>
        <p:grpSpPr>
          <a:xfrm>
            <a:off x="6989760" y="2786040"/>
            <a:ext cx="554040" cy="280800"/>
            <a:chOff x="6989760" y="2786040"/>
            <a:chExt cx="554040" cy="280800"/>
          </a:xfrm>
        </p:grpSpPr>
        <p:sp>
          <p:nvSpPr>
            <p:cNvPr id="2606" name=""/>
            <p:cNvSpPr/>
            <p:nvPr/>
          </p:nvSpPr>
          <p:spPr>
            <a:xfrm>
              <a:off x="6994080" y="2911320"/>
              <a:ext cx="549360" cy="1555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994080" y="28980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543800" y="28980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994080" y="2898000"/>
              <a:ext cx="544320" cy="95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989760" y="2786040"/>
              <a:ext cx="549000" cy="1814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1" name=""/>
            <p:cNvGrpSpPr/>
            <p:nvPr/>
          </p:nvGrpSpPr>
          <p:grpSpPr>
            <a:xfrm>
              <a:off x="7121880" y="2826000"/>
              <a:ext cx="271800" cy="105840"/>
              <a:chOff x="7121880" y="2826000"/>
              <a:chExt cx="271800" cy="105840"/>
            </a:xfrm>
          </p:grpSpPr>
          <p:sp>
            <p:nvSpPr>
              <p:cNvPr id="2612" name=""/>
              <p:cNvSpPr/>
              <p:nvPr/>
            </p:nvSpPr>
            <p:spPr>
              <a:xfrm flipV="1">
                <a:off x="7121880" y="2826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308360" y="29318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211160" y="2828160"/>
                <a:ext cx="100800" cy="10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5" name=""/>
            <p:cNvGrpSpPr/>
            <p:nvPr/>
          </p:nvGrpSpPr>
          <p:grpSpPr>
            <a:xfrm>
              <a:off x="7121880" y="2824560"/>
              <a:ext cx="271800" cy="105840"/>
              <a:chOff x="7121880" y="2824560"/>
              <a:chExt cx="271800" cy="105840"/>
            </a:xfrm>
          </p:grpSpPr>
          <p:sp>
            <p:nvSpPr>
              <p:cNvPr id="2616" name=""/>
              <p:cNvSpPr/>
              <p:nvPr/>
            </p:nvSpPr>
            <p:spPr>
              <a:xfrm>
                <a:off x="7121880" y="29282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308360" y="2824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V="1">
                <a:off x="7211160" y="2824560"/>
                <a:ext cx="100800" cy="10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9" name=""/>
          <p:cNvGrpSpPr/>
          <p:nvPr/>
        </p:nvGrpSpPr>
        <p:grpSpPr>
          <a:xfrm>
            <a:off x="8062920" y="2247840"/>
            <a:ext cx="552600" cy="279000"/>
            <a:chOff x="8062920" y="2247840"/>
            <a:chExt cx="552600" cy="279000"/>
          </a:xfrm>
        </p:grpSpPr>
        <p:sp>
          <p:nvSpPr>
            <p:cNvPr id="2620" name=""/>
            <p:cNvSpPr/>
            <p:nvPr/>
          </p:nvSpPr>
          <p:spPr>
            <a:xfrm>
              <a:off x="8067240" y="2372400"/>
              <a:ext cx="547920" cy="1544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8067240" y="23590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8615520" y="23590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8067240" y="2359080"/>
              <a:ext cx="542880" cy="94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8062920" y="2247840"/>
              <a:ext cx="547560" cy="1803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5" name=""/>
            <p:cNvGrpSpPr/>
            <p:nvPr/>
          </p:nvGrpSpPr>
          <p:grpSpPr>
            <a:xfrm>
              <a:off x="8194680" y="2287440"/>
              <a:ext cx="271080" cy="105120"/>
              <a:chOff x="8194680" y="2287440"/>
              <a:chExt cx="271080" cy="105120"/>
            </a:xfrm>
          </p:grpSpPr>
          <p:sp>
            <p:nvSpPr>
              <p:cNvPr id="2626" name=""/>
              <p:cNvSpPr/>
              <p:nvPr/>
            </p:nvSpPr>
            <p:spPr>
              <a:xfrm flipV="1">
                <a:off x="8194680" y="228744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8380440" y="2392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8283960" y="228960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9" name=""/>
            <p:cNvGrpSpPr/>
            <p:nvPr/>
          </p:nvGrpSpPr>
          <p:grpSpPr>
            <a:xfrm>
              <a:off x="8194680" y="2286000"/>
              <a:ext cx="271080" cy="105120"/>
              <a:chOff x="8194680" y="2286000"/>
              <a:chExt cx="271080" cy="105120"/>
            </a:xfrm>
          </p:grpSpPr>
          <p:sp>
            <p:nvSpPr>
              <p:cNvPr id="2630" name=""/>
              <p:cNvSpPr/>
              <p:nvPr/>
            </p:nvSpPr>
            <p:spPr>
              <a:xfrm>
                <a:off x="8194680" y="238896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8380440" y="22860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V="1">
                <a:off x="8283960" y="228600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3" name=""/>
          <p:cNvGrpSpPr/>
          <p:nvPr/>
        </p:nvGrpSpPr>
        <p:grpSpPr>
          <a:xfrm>
            <a:off x="7848720" y="3324240"/>
            <a:ext cx="554040" cy="279000"/>
            <a:chOff x="7848720" y="3324240"/>
            <a:chExt cx="554040" cy="279000"/>
          </a:xfrm>
        </p:grpSpPr>
        <p:sp>
          <p:nvSpPr>
            <p:cNvPr id="2634" name=""/>
            <p:cNvSpPr/>
            <p:nvPr/>
          </p:nvSpPr>
          <p:spPr>
            <a:xfrm>
              <a:off x="7853040" y="3448800"/>
              <a:ext cx="549360" cy="1544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853040" y="34354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8402760" y="34354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853040" y="3435480"/>
              <a:ext cx="544320" cy="94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848720" y="3324240"/>
              <a:ext cx="549000" cy="1803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9" name=""/>
            <p:cNvGrpSpPr/>
            <p:nvPr/>
          </p:nvGrpSpPr>
          <p:grpSpPr>
            <a:xfrm>
              <a:off x="7980840" y="3363840"/>
              <a:ext cx="271800" cy="105120"/>
              <a:chOff x="7980840" y="3363840"/>
              <a:chExt cx="271800" cy="105120"/>
            </a:xfrm>
          </p:grpSpPr>
          <p:sp>
            <p:nvSpPr>
              <p:cNvPr id="2640" name=""/>
              <p:cNvSpPr/>
              <p:nvPr/>
            </p:nvSpPr>
            <p:spPr>
              <a:xfrm flipV="1">
                <a:off x="7980840" y="33638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167320" y="34689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8070120" y="33660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3" name=""/>
            <p:cNvGrpSpPr/>
            <p:nvPr/>
          </p:nvGrpSpPr>
          <p:grpSpPr>
            <a:xfrm>
              <a:off x="7980840" y="3362400"/>
              <a:ext cx="271800" cy="105120"/>
              <a:chOff x="7980840" y="3362400"/>
              <a:chExt cx="271800" cy="105120"/>
            </a:xfrm>
          </p:grpSpPr>
          <p:sp>
            <p:nvSpPr>
              <p:cNvPr id="2644" name=""/>
              <p:cNvSpPr/>
              <p:nvPr/>
            </p:nvSpPr>
            <p:spPr>
              <a:xfrm>
                <a:off x="7980840" y="346536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8167320" y="33624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 flipV="1">
                <a:off x="8070120" y="33624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7" name=""/>
          <p:cNvGrpSpPr/>
          <p:nvPr/>
        </p:nvGrpSpPr>
        <p:grpSpPr>
          <a:xfrm>
            <a:off x="7478640" y="4024440"/>
            <a:ext cx="555840" cy="282240"/>
            <a:chOff x="7478640" y="4024440"/>
            <a:chExt cx="555840" cy="282240"/>
          </a:xfrm>
        </p:grpSpPr>
        <p:sp>
          <p:nvSpPr>
            <p:cNvPr id="2648" name=""/>
            <p:cNvSpPr/>
            <p:nvPr/>
          </p:nvSpPr>
          <p:spPr>
            <a:xfrm>
              <a:off x="7482960" y="4150440"/>
              <a:ext cx="551160" cy="156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482960" y="4137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8034480" y="4137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482960" y="4137120"/>
              <a:ext cx="546120" cy="95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478640" y="4024440"/>
              <a:ext cx="550800" cy="1825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3" name=""/>
            <p:cNvGrpSpPr/>
            <p:nvPr/>
          </p:nvGrpSpPr>
          <p:grpSpPr>
            <a:xfrm>
              <a:off x="7611120" y="4064400"/>
              <a:ext cx="272880" cy="106560"/>
              <a:chOff x="7611120" y="4064400"/>
              <a:chExt cx="272880" cy="106560"/>
            </a:xfrm>
          </p:grpSpPr>
          <p:sp>
            <p:nvSpPr>
              <p:cNvPr id="2654" name=""/>
              <p:cNvSpPr/>
              <p:nvPr/>
            </p:nvSpPr>
            <p:spPr>
              <a:xfrm flipV="1">
                <a:off x="7611120" y="406440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798320" y="417096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700760" y="4066560"/>
                <a:ext cx="1011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7" name=""/>
            <p:cNvGrpSpPr/>
            <p:nvPr/>
          </p:nvGrpSpPr>
          <p:grpSpPr>
            <a:xfrm>
              <a:off x="7611120" y="4062960"/>
              <a:ext cx="272880" cy="106560"/>
              <a:chOff x="7611120" y="4062960"/>
              <a:chExt cx="272880" cy="106560"/>
            </a:xfrm>
          </p:grpSpPr>
          <p:sp>
            <p:nvSpPr>
              <p:cNvPr id="2658" name=""/>
              <p:cNvSpPr/>
              <p:nvPr/>
            </p:nvSpPr>
            <p:spPr>
              <a:xfrm>
                <a:off x="7611120" y="416736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798320" y="406296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700760" y="4062960"/>
                <a:ext cx="1011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1" name=""/>
          <p:cNvGrpSpPr/>
          <p:nvPr/>
        </p:nvGrpSpPr>
        <p:grpSpPr>
          <a:xfrm>
            <a:off x="6805440" y="4611600"/>
            <a:ext cx="552600" cy="279000"/>
            <a:chOff x="6805440" y="4611600"/>
            <a:chExt cx="552600" cy="279000"/>
          </a:xfrm>
        </p:grpSpPr>
        <p:sp>
          <p:nvSpPr>
            <p:cNvPr id="2662" name=""/>
            <p:cNvSpPr/>
            <p:nvPr/>
          </p:nvSpPr>
          <p:spPr>
            <a:xfrm>
              <a:off x="6809760" y="4736160"/>
              <a:ext cx="547920" cy="1544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809760" y="47228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358040" y="47228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809760" y="4722840"/>
              <a:ext cx="542880" cy="94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805440" y="4611600"/>
              <a:ext cx="547560" cy="1803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7" name=""/>
            <p:cNvGrpSpPr/>
            <p:nvPr/>
          </p:nvGrpSpPr>
          <p:grpSpPr>
            <a:xfrm>
              <a:off x="6937200" y="4651200"/>
              <a:ext cx="271080" cy="105120"/>
              <a:chOff x="6937200" y="4651200"/>
              <a:chExt cx="271080" cy="105120"/>
            </a:xfrm>
          </p:grpSpPr>
          <p:sp>
            <p:nvSpPr>
              <p:cNvPr id="2668" name=""/>
              <p:cNvSpPr/>
              <p:nvPr/>
            </p:nvSpPr>
            <p:spPr>
              <a:xfrm flipV="1">
                <a:off x="6937200" y="465120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122960" y="475632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026480" y="465336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1" name=""/>
            <p:cNvGrpSpPr/>
            <p:nvPr/>
          </p:nvGrpSpPr>
          <p:grpSpPr>
            <a:xfrm>
              <a:off x="6937200" y="4649760"/>
              <a:ext cx="271080" cy="105120"/>
              <a:chOff x="6937200" y="4649760"/>
              <a:chExt cx="271080" cy="105120"/>
            </a:xfrm>
          </p:grpSpPr>
          <p:sp>
            <p:nvSpPr>
              <p:cNvPr id="2672" name=""/>
              <p:cNvSpPr/>
              <p:nvPr/>
            </p:nvSpPr>
            <p:spPr>
              <a:xfrm>
                <a:off x="6937200" y="475272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122960" y="46497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V="1">
                <a:off x="7026480" y="464976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5" name=""/>
          <p:cNvGrpSpPr/>
          <p:nvPr/>
        </p:nvGrpSpPr>
        <p:grpSpPr>
          <a:xfrm>
            <a:off x="5916600" y="4160880"/>
            <a:ext cx="554040" cy="279000"/>
            <a:chOff x="5916600" y="4160880"/>
            <a:chExt cx="554040" cy="279000"/>
          </a:xfrm>
        </p:grpSpPr>
        <p:sp>
          <p:nvSpPr>
            <p:cNvPr id="2676" name=""/>
            <p:cNvSpPr/>
            <p:nvPr/>
          </p:nvSpPr>
          <p:spPr>
            <a:xfrm>
              <a:off x="5920920" y="4285440"/>
              <a:ext cx="549360" cy="1544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920920" y="427212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470640" y="427212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920920" y="4272120"/>
              <a:ext cx="544320" cy="94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916600" y="4160880"/>
              <a:ext cx="549000" cy="1803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1" name=""/>
            <p:cNvGrpSpPr/>
            <p:nvPr/>
          </p:nvGrpSpPr>
          <p:grpSpPr>
            <a:xfrm>
              <a:off x="6048720" y="4200480"/>
              <a:ext cx="271800" cy="105120"/>
              <a:chOff x="6048720" y="4200480"/>
              <a:chExt cx="271800" cy="105120"/>
            </a:xfrm>
          </p:grpSpPr>
          <p:sp>
            <p:nvSpPr>
              <p:cNvPr id="2682" name=""/>
              <p:cNvSpPr/>
              <p:nvPr/>
            </p:nvSpPr>
            <p:spPr>
              <a:xfrm flipV="1">
                <a:off x="6048720" y="420048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6235200" y="43056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6138000" y="420264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5" name=""/>
            <p:cNvGrpSpPr/>
            <p:nvPr/>
          </p:nvGrpSpPr>
          <p:grpSpPr>
            <a:xfrm>
              <a:off x="6048720" y="4199040"/>
              <a:ext cx="271800" cy="105120"/>
              <a:chOff x="6048720" y="4199040"/>
              <a:chExt cx="271800" cy="105120"/>
            </a:xfrm>
          </p:grpSpPr>
          <p:sp>
            <p:nvSpPr>
              <p:cNvPr id="2686" name=""/>
              <p:cNvSpPr/>
              <p:nvPr/>
            </p:nvSpPr>
            <p:spPr>
              <a:xfrm>
                <a:off x="6048720" y="4302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6235200" y="41990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 flipV="1">
                <a:off x="6138000" y="419904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89" name=""/>
          <p:cNvSpPr/>
          <p:nvPr/>
        </p:nvSpPr>
        <p:spPr>
          <a:xfrm>
            <a:off x="6192720" y="4430880"/>
            <a:ext cx="1800" cy="27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0" name=""/>
          <p:cNvGrpSpPr/>
          <p:nvPr/>
        </p:nvGrpSpPr>
        <p:grpSpPr>
          <a:xfrm>
            <a:off x="6022800" y="4889520"/>
            <a:ext cx="1179720" cy="287280"/>
            <a:chOff x="6022800" y="4889520"/>
            <a:chExt cx="1179720" cy="287280"/>
          </a:xfrm>
        </p:grpSpPr>
        <p:sp>
          <p:nvSpPr>
            <p:cNvPr id="2691" name=""/>
            <p:cNvSpPr/>
            <p:nvPr/>
          </p:nvSpPr>
          <p:spPr>
            <a:xfrm rot="16200000">
              <a:off x="6022080" y="4894560"/>
              <a:ext cx="74520" cy="73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rot="16200000">
              <a:off x="6114960" y="4892400"/>
              <a:ext cx="76320" cy="73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rot="16200000">
              <a:off x="6201720" y="4897800"/>
              <a:ext cx="74520" cy="73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202520" y="4889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931080" y="503856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873840" y="50133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818400" y="4997520"/>
              <a:ext cx="11592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 flipV="1">
              <a:off x="7020720" y="5023800"/>
              <a:ext cx="65160" cy="759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H="1" flipV="1">
              <a:off x="7048440" y="49989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H="1" flipV="1">
              <a:off x="7070760" y="496332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1" name=""/>
          <p:cNvGrpSpPr/>
          <p:nvPr/>
        </p:nvGrpSpPr>
        <p:grpSpPr>
          <a:xfrm>
            <a:off x="7304040" y="5316480"/>
            <a:ext cx="367920" cy="212760"/>
            <a:chOff x="7304040" y="5316480"/>
            <a:chExt cx="367920" cy="212760"/>
          </a:xfrm>
        </p:grpSpPr>
        <p:sp>
          <p:nvSpPr>
            <p:cNvPr id="2702" name=""/>
            <p:cNvSpPr/>
            <p:nvPr/>
          </p:nvSpPr>
          <p:spPr>
            <a:xfrm>
              <a:off x="7417080" y="5391000"/>
              <a:ext cx="6480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359840" y="536580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7304040" y="534960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 flipV="1">
              <a:off x="7506720" y="537660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 flipH="1" flipV="1">
              <a:off x="7534440" y="53506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flipV="1">
              <a:off x="7556040" y="5316480"/>
              <a:ext cx="11556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8" name=""/>
          <p:cNvGrpSpPr/>
          <p:nvPr/>
        </p:nvGrpSpPr>
        <p:grpSpPr>
          <a:xfrm>
            <a:off x="6399360" y="5268960"/>
            <a:ext cx="367920" cy="212760"/>
            <a:chOff x="6399360" y="5268960"/>
            <a:chExt cx="367920" cy="212760"/>
          </a:xfrm>
        </p:grpSpPr>
        <p:sp>
          <p:nvSpPr>
            <p:cNvPr id="2709" name=""/>
            <p:cNvSpPr/>
            <p:nvPr/>
          </p:nvSpPr>
          <p:spPr>
            <a:xfrm>
              <a:off x="6512400" y="5343480"/>
              <a:ext cx="6480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455160" y="53182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399360" y="530208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 flipH="1" flipV="1">
              <a:off x="6602040" y="5329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 flipH="1" flipV="1">
              <a:off x="6629760" y="530316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 flipH="1" flipV="1">
              <a:off x="6651360" y="5268960"/>
              <a:ext cx="11556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04560" y="180000"/>
            <a:ext cx="8381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Pristup mestu stanovanja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: point to point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 pristup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0" y="1553760"/>
            <a:ext cx="64533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alup preko mo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56Kbps direktan pristup rout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 može da se surf-u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telefonira u isto vre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 može bi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always 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7" name=""/>
          <p:cNvGrpSpPr/>
          <p:nvPr/>
        </p:nvGrpSpPr>
        <p:grpSpPr>
          <a:xfrm>
            <a:off x="6262560" y="1700280"/>
            <a:ext cx="2554920" cy="1829520"/>
            <a:chOff x="6262560" y="1700280"/>
            <a:chExt cx="2554920" cy="1829520"/>
          </a:xfrm>
        </p:grpSpPr>
        <p:pic>
          <p:nvPicPr>
            <p:cNvPr id="2718" name="" descr=""/>
            <p:cNvPicPr/>
            <p:nvPr/>
          </p:nvPicPr>
          <p:blipFill>
            <a:blip r:embed="rId1"/>
            <a:stretch/>
          </p:blipFill>
          <p:spPr>
            <a:xfrm>
              <a:off x="6262560" y="1700280"/>
              <a:ext cx="729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9" name="" descr=""/>
            <p:cNvPicPr/>
            <p:nvPr/>
          </p:nvPicPr>
          <p:blipFill>
            <a:blip r:embed="rId2"/>
            <a:stretch/>
          </p:blipFill>
          <p:spPr>
            <a:xfrm>
              <a:off x="7057080" y="1936080"/>
              <a:ext cx="490320" cy="3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0" name=""/>
            <p:cNvSpPr/>
            <p:nvPr/>
          </p:nvSpPr>
          <p:spPr>
            <a:xfrm flipV="1">
              <a:off x="6974280" y="2184480"/>
              <a:ext cx="200520" cy="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1" name="" descr=""/>
            <p:cNvPicPr/>
            <p:nvPr/>
          </p:nvPicPr>
          <p:blipFill>
            <a:blip r:embed="rId3"/>
            <a:stretch/>
          </p:blipFill>
          <p:spPr>
            <a:xfrm>
              <a:off x="6262560" y="2892240"/>
              <a:ext cx="729360" cy="63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4"/>
            <a:stretch/>
          </p:blipFill>
          <p:spPr>
            <a:xfrm>
              <a:off x="7057080" y="3127680"/>
              <a:ext cx="490320" cy="3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V="1">
              <a:off x="6974280" y="3376440"/>
              <a:ext cx="20052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4" name=""/>
            <p:cNvGrpSpPr/>
            <p:nvPr/>
          </p:nvGrpSpPr>
          <p:grpSpPr>
            <a:xfrm>
              <a:off x="6921360" y="2466000"/>
              <a:ext cx="122760" cy="428400"/>
              <a:chOff x="6921360" y="2466000"/>
              <a:chExt cx="122760" cy="428400"/>
            </a:xfrm>
          </p:grpSpPr>
          <p:sp>
            <p:nvSpPr>
              <p:cNvPr id="2725" name=""/>
              <p:cNvSpPr/>
              <p:nvPr/>
            </p:nvSpPr>
            <p:spPr>
              <a:xfrm>
                <a:off x="6921360" y="2466000"/>
                <a:ext cx="113040" cy="1206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926040" y="2620080"/>
                <a:ext cx="113040" cy="12024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6931080" y="2774160"/>
                <a:ext cx="113040" cy="12024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8" name=""/>
            <p:cNvSpPr/>
            <p:nvPr/>
          </p:nvSpPr>
          <p:spPr>
            <a:xfrm>
              <a:off x="7459920" y="2208960"/>
              <a:ext cx="505440" cy="529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 flipV="1">
              <a:off x="7479720" y="2780280"/>
              <a:ext cx="485280" cy="659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0" name=""/>
            <p:cNvGrpSpPr/>
            <p:nvPr/>
          </p:nvGrpSpPr>
          <p:grpSpPr>
            <a:xfrm>
              <a:off x="7940160" y="2505600"/>
              <a:ext cx="877320" cy="465480"/>
              <a:chOff x="7940160" y="2505600"/>
              <a:chExt cx="877320" cy="465480"/>
            </a:xfrm>
          </p:grpSpPr>
          <p:sp>
            <p:nvSpPr>
              <p:cNvPr id="2731" name=""/>
              <p:cNvSpPr/>
              <p:nvPr/>
            </p:nvSpPr>
            <p:spPr>
              <a:xfrm>
                <a:off x="7947000" y="2713320"/>
                <a:ext cx="870120" cy="25776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947000" y="2691360"/>
                <a:ext cx="0" cy="15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817480" y="2691360"/>
                <a:ext cx="0" cy="15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947000" y="2691360"/>
                <a:ext cx="862560" cy="1573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940160" y="2505600"/>
                <a:ext cx="869400" cy="30060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6" name=""/>
              <p:cNvGrpSpPr/>
              <p:nvPr/>
            </p:nvGrpSpPr>
            <p:grpSpPr>
              <a:xfrm>
                <a:off x="8149320" y="2571840"/>
                <a:ext cx="430560" cy="175320"/>
                <a:chOff x="8149320" y="2571840"/>
                <a:chExt cx="430560" cy="175320"/>
              </a:xfrm>
            </p:grpSpPr>
            <p:sp>
              <p:nvSpPr>
                <p:cNvPr id="2737" name=""/>
                <p:cNvSpPr/>
                <p:nvPr/>
              </p:nvSpPr>
              <p:spPr>
                <a:xfrm flipV="1">
                  <a:off x="8149320" y="2571840"/>
                  <a:ext cx="153360" cy="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8444520" y="2747160"/>
                  <a:ext cx="135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8290800" y="2575440"/>
                  <a:ext cx="159840" cy="17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0" name=""/>
              <p:cNvGrpSpPr/>
              <p:nvPr/>
            </p:nvGrpSpPr>
            <p:grpSpPr>
              <a:xfrm>
                <a:off x="8149320" y="2569680"/>
                <a:ext cx="430560" cy="175320"/>
                <a:chOff x="8149320" y="2569680"/>
                <a:chExt cx="430560" cy="175320"/>
              </a:xfrm>
            </p:grpSpPr>
            <p:sp>
              <p:nvSpPr>
                <p:cNvPr id="2741" name=""/>
                <p:cNvSpPr/>
                <p:nvPr/>
              </p:nvSpPr>
              <p:spPr>
                <a:xfrm>
                  <a:off x="8149320" y="2741400"/>
                  <a:ext cx="153360" cy="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8444520" y="2569680"/>
                  <a:ext cx="135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 flipV="1">
                  <a:off x="8290800" y="2569680"/>
                  <a:ext cx="159840" cy="17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44" name=""/>
          <p:cNvSpPr/>
          <p:nvPr/>
        </p:nvSpPr>
        <p:spPr>
          <a:xfrm>
            <a:off x="0" y="3789360"/>
            <a:ext cx="8896320" cy="28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DSL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s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imetrični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gital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ni pretplatničk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vod (lin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Mbps u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n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256 k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bps dow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n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 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SL korist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M: 50 kHz - 1 MHz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wn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kHz - 50 kHz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kHz - 4 kHz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običan telefon (dvosmerni ka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2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304560" y="180720"/>
            <a:ext cx="83818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Pristup iz stana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: 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kablovski modemi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228240" y="2066400"/>
            <a:ext cx="7583400" cy="35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FC: hybrid fiber co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0Mbps downstream, 2 Mbps up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mrež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blo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 optike pridružuje-spaja stanove 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P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anovi dele pristu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skoristljiv preko kablovsk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304560" y="180720"/>
            <a:ext cx="83818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Pristup iz stana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: 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kablovski modemi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748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465960" cy="4745160"/>
          </a:xfrm>
          <a:prstGeom prst="rect">
            <a:avLst/>
          </a:prstGeom>
          <a:ln w="0">
            <a:noFill/>
          </a:ln>
        </p:spPr>
      </p:pic>
      <p:sp>
        <p:nvSpPr>
          <p:cNvPr id="2749" name=""/>
          <p:cNvSpPr/>
          <p:nvPr/>
        </p:nvSpPr>
        <p:spPr>
          <a:xfrm>
            <a:off x="614520" y="6392880"/>
            <a:ext cx="451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: http://www.cabledatacomnews.com/cmic/diagra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19040" y="286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Arhitektura kablovske mreže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: </a:t>
            </a: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Pregled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2751" name=""/>
          <p:cNvGrpSpPr/>
          <p:nvPr/>
        </p:nvGrpSpPr>
        <p:grpSpPr>
          <a:xfrm>
            <a:off x="971640" y="2205000"/>
            <a:ext cx="7811280" cy="3234960"/>
            <a:chOff x="971640" y="2205000"/>
            <a:chExt cx="7811280" cy="3234960"/>
          </a:xfrm>
        </p:grpSpPr>
        <p:pic>
          <p:nvPicPr>
            <p:cNvPr id="2752" name="" descr=""/>
            <p:cNvPicPr/>
            <p:nvPr/>
          </p:nvPicPr>
          <p:blipFill>
            <a:blip r:embed="rId1"/>
            <a:stretch/>
          </p:blipFill>
          <p:spPr>
            <a:xfrm>
              <a:off x="5260680" y="3021120"/>
              <a:ext cx="101880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3" name="" descr=""/>
            <p:cNvPicPr/>
            <p:nvPr/>
          </p:nvPicPr>
          <p:blipFill>
            <a:blip r:embed="rId2"/>
            <a:stretch/>
          </p:blipFill>
          <p:spPr>
            <a:xfrm>
              <a:off x="5760720" y="3456000"/>
              <a:ext cx="101880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4" name="" descr=""/>
            <p:cNvPicPr/>
            <p:nvPr/>
          </p:nvPicPr>
          <p:blipFill>
            <a:blip r:embed="rId3"/>
            <a:stretch/>
          </p:blipFill>
          <p:spPr>
            <a:xfrm>
              <a:off x="3941280" y="3211560"/>
              <a:ext cx="1000080" cy="274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55" name=""/>
            <p:cNvGrpSpPr/>
            <p:nvPr/>
          </p:nvGrpSpPr>
          <p:grpSpPr>
            <a:xfrm>
              <a:off x="3760560" y="3375000"/>
              <a:ext cx="254880" cy="633240"/>
              <a:chOff x="3760560" y="3375000"/>
              <a:chExt cx="254880" cy="633240"/>
            </a:xfrm>
          </p:grpSpPr>
          <p:sp>
            <p:nvSpPr>
              <p:cNvPr id="2756" name=""/>
              <p:cNvSpPr/>
              <p:nvPr/>
            </p:nvSpPr>
            <p:spPr>
              <a:xfrm rot="16200000">
                <a:off x="3465720" y="3670920"/>
                <a:ext cx="631800" cy="42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3761640" y="3375000"/>
                <a:ext cx="253800" cy="42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758" name="" descr=""/>
            <p:cNvPicPr/>
            <p:nvPr/>
          </p:nvPicPr>
          <p:blipFill>
            <a:blip r:embed="rId4"/>
            <a:stretch/>
          </p:blipFill>
          <p:spPr>
            <a:xfrm>
              <a:off x="7167240" y="3224160"/>
              <a:ext cx="9997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9" name="" descr=""/>
            <p:cNvPicPr/>
            <p:nvPr/>
          </p:nvPicPr>
          <p:blipFill>
            <a:blip r:embed="rId5"/>
            <a:stretch/>
          </p:blipFill>
          <p:spPr>
            <a:xfrm>
              <a:off x="4106520" y="4481640"/>
              <a:ext cx="9997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0" name="" descr=""/>
            <p:cNvPicPr/>
            <p:nvPr/>
          </p:nvPicPr>
          <p:blipFill>
            <a:blip r:embed="rId6"/>
            <a:stretch/>
          </p:blipFill>
          <p:spPr>
            <a:xfrm>
              <a:off x="5582880" y="4218120"/>
              <a:ext cx="101880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1" name="" descr=""/>
            <p:cNvPicPr/>
            <p:nvPr/>
          </p:nvPicPr>
          <p:blipFill>
            <a:blip r:embed="rId7"/>
            <a:stretch/>
          </p:blipFill>
          <p:spPr>
            <a:xfrm>
              <a:off x="6798960" y="4672080"/>
              <a:ext cx="999720" cy="274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62" name=""/>
            <p:cNvGrpSpPr/>
            <p:nvPr/>
          </p:nvGrpSpPr>
          <p:grpSpPr>
            <a:xfrm>
              <a:off x="6614640" y="4054680"/>
              <a:ext cx="255240" cy="820440"/>
              <a:chOff x="6614640" y="4054680"/>
              <a:chExt cx="255240" cy="820440"/>
            </a:xfrm>
          </p:grpSpPr>
          <p:sp>
            <p:nvSpPr>
              <p:cNvPr id="2763" name=""/>
              <p:cNvSpPr/>
              <p:nvPr/>
            </p:nvSpPr>
            <p:spPr>
              <a:xfrm flipV="1" rot="5400000">
                <a:off x="6226560" y="4442400"/>
                <a:ext cx="819000" cy="42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V="1">
                <a:off x="6616080" y="4831920"/>
                <a:ext cx="253800" cy="42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5" name=""/>
            <p:cNvGrpSpPr/>
            <p:nvPr/>
          </p:nvGrpSpPr>
          <p:grpSpPr>
            <a:xfrm>
              <a:off x="5373360" y="4035960"/>
              <a:ext cx="255240" cy="378360"/>
              <a:chOff x="5373360" y="4035960"/>
              <a:chExt cx="255240" cy="378360"/>
            </a:xfrm>
          </p:grpSpPr>
          <p:sp>
            <p:nvSpPr>
              <p:cNvPr id="2766" name=""/>
              <p:cNvSpPr/>
              <p:nvPr/>
            </p:nvSpPr>
            <p:spPr>
              <a:xfrm flipV="1" rot="5400000">
                <a:off x="5205960" y="4203000"/>
                <a:ext cx="377640" cy="42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V="1">
                <a:off x="5374800" y="4371840"/>
                <a:ext cx="253800" cy="42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8" name=""/>
            <p:cNvGrpSpPr/>
            <p:nvPr/>
          </p:nvGrpSpPr>
          <p:grpSpPr>
            <a:xfrm>
              <a:off x="3938400" y="4048200"/>
              <a:ext cx="254880" cy="632880"/>
              <a:chOff x="3938400" y="4048200"/>
              <a:chExt cx="254880" cy="632880"/>
            </a:xfrm>
          </p:grpSpPr>
          <p:sp>
            <p:nvSpPr>
              <p:cNvPr id="2769" name=""/>
              <p:cNvSpPr/>
              <p:nvPr/>
            </p:nvSpPr>
            <p:spPr>
              <a:xfrm flipV="1" rot="5400000">
                <a:off x="3643920" y="4342680"/>
                <a:ext cx="631440" cy="42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3939480" y="4638600"/>
                <a:ext cx="253800" cy="42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1" name=""/>
            <p:cNvGrpSpPr/>
            <p:nvPr/>
          </p:nvGrpSpPr>
          <p:grpSpPr>
            <a:xfrm>
              <a:off x="6970320" y="3394080"/>
              <a:ext cx="254880" cy="630000"/>
              <a:chOff x="6970320" y="3394080"/>
              <a:chExt cx="254880" cy="630000"/>
            </a:xfrm>
          </p:grpSpPr>
          <p:sp>
            <p:nvSpPr>
              <p:cNvPr id="2772" name=""/>
              <p:cNvSpPr/>
              <p:nvPr/>
            </p:nvSpPr>
            <p:spPr>
              <a:xfrm rot="16200000">
                <a:off x="6676920" y="3688200"/>
                <a:ext cx="628920" cy="42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6971400" y="3394080"/>
                <a:ext cx="253800" cy="42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4" name=""/>
            <p:cNvGrpSpPr/>
            <p:nvPr/>
          </p:nvGrpSpPr>
          <p:grpSpPr>
            <a:xfrm>
              <a:off x="5601960" y="3616200"/>
              <a:ext cx="255240" cy="379440"/>
              <a:chOff x="5601960" y="3616200"/>
              <a:chExt cx="255240" cy="379440"/>
            </a:xfrm>
          </p:grpSpPr>
          <p:sp>
            <p:nvSpPr>
              <p:cNvPr id="2775" name=""/>
              <p:cNvSpPr/>
              <p:nvPr/>
            </p:nvSpPr>
            <p:spPr>
              <a:xfrm rot="16200000">
                <a:off x="5434200" y="3785040"/>
                <a:ext cx="378000" cy="42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603400" y="3616200"/>
                <a:ext cx="253800" cy="42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7" name=""/>
            <p:cNvGrpSpPr/>
            <p:nvPr/>
          </p:nvGrpSpPr>
          <p:grpSpPr>
            <a:xfrm>
              <a:off x="5065560" y="3178080"/>
              <a:ext cx="255240" cy="820440"/>
              <a:chOff x="5065560" y="3178080"/>
              <a:chExt cx="255240" cy="820440"/>
            </a:xfrm>
          </p:grpSpPr>
          <p:sp>
            <p:nvSpPr>
              <p:cNvPr id="2778" name=""/>
              <p:cNvSpPr/>
              <p:nvPr/>
            </p:nvSpPr>
            <p:spPr>
              <a:xfrm rot="16200000">
                <a:off x="4677480" y="3567600"/>
                <a:ext cx="819000" cy="42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067000" y="3178080"/>
                <a:ext cx="253800" cy="42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0" name=""/>
            <p:cNvSpPr/>
            <p:nvPr/>
          </p:nvSpPr>
          <p:spPr>
            <a:xfrm flipV="1">
              <a:off x="2457000" y="3993480"/>
              <a:ext cx="509256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262040" y="47322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82" name="" descr=""/>
            <p:cNvPicPr/>
            <p:nvPr/>
          </p:nvPicPr>
          <p:blipFill>
            <a:blip r:embed="rId8"/>
            <a:stretch/>
          </p:blipFill>
          <p:spPr>
            <a:xfrm>
              <a:off x="971640" y="3503520"/>
              <a:ext cx="150444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3" name=""/>
            <p:cNvSpPr/>
            <p:nvPr/>
          </p:nvSpPr>
          <p:spPr>
            <a:xfrm>
              <a:off x="972360" y="42879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ble head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991880" y="4859280"/>
              <a:ext cx="1930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ble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 (simplifi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V="1">
              <a:off x="2968200" y="4087440"/>
              <a:ext cx="406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3961080" y="2205000"/>
              <a:ext cx="482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Comic Sans MS"/>
                </a:rPr>
                <a:t>ipično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Comic Sans MS"/>
                </a:rPr>
                <a:t>od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00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 5,000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Comic Sans MS"/>
                </a:rPr>
                <a:t>domo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19040" y="286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Arhitektura kablovske mreže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: </a:t>
            </a: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Pregled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788" name="" descr=""/>
          <p:cNvPicPr/>
          <p:nvPr/>
        </p:nvPicPr>
        <p:blipFill>
          <a:blip r:embed="rId1"/>
          <a:stretch/>
        </p:blipFill>
        <p:spPr>
          <a:xfrm>
            <a:off x="5416560" y="387360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2"/>
          <a:stretch/>
        </p:blipFill>
        <p:spPr>
          <a:xfrm>
            <a:off x="5916600" y="430848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790" name="" descr=""/>
          <p:cNvPicPr/>
          <p:nvPr/>
        </p:nvPicPr>
        <p:blipFill>
          <a:blip r:embed="rId3"/>
          <a:stretch/>
        </p:blipFill>
        <p:spPr>
          <a:xfrm>
            <a:off x="4097160" y="4064040"/>
            <a:ext cx="1000440" cy="274680"/>
          </a:xfrm>
          <a:prstGeom prst="rect">
            <a:avLst/>
          </a:prstGeom>
          <a:ln w="0">
            <a:noFill/>
          </a:ln>
        </p:spPr>
      </p:pic>
      <p:grpSp>
        <p:nvGrpSpPr>
          <p:cNvPr id="2791" name=""/>
          <p:cNvGrpSpPr/>
          <p:nvPr/>
        </p:nvGrpSpPr>
        <p:grpSpPr>
          <a:xfrm>
            <a:off x="3916440" y="4227480"/>
            <a:ext cx="255600" cy="633240"/>
            <a:chOff x="3916440" y="4227480"/>
            <a:chExt cx="255600" cy="633240"/>
          </a:xfrm>
        </p:grpSpPr>
        <p:sp>
          <p:nvSpPr>
            <p:cNvPr id="2792" name=""/>
            <p:cNvSpPr/>
            <p:nvPr/>
          </p:nvSpPr>
          <p:spPr>
            <a:xfrm rot="16200000">
              <a:off x="3621960" y="4523400"/>
              <a:ext cx="631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3917880" y="4227480"/>
              <a:ext cx="25416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94" name="" descr=""/>
          <p:cNvPicPr/>
          <p:nvPr/>
        </p:nvPicPr>
        <p:blipFill>
          <a:blip r:embed="rId4"/>
          <a:stretch/>
        </p:blipFill>
        <p:spPr>
          <a:xfrm>
            <a:off x="7323120" y="4076640"/>
            <a:ext cx="1000080" cy="274680"/>
          </a:xfrm>
          <a:prstGeom prst="rect">
            <a:avLst/>
          </a:prstGeom>
          <a:ln w="0">
            <a:noFill/>
          </a:ln>
        </p:spPr>
      </p:pic>
      <p:pic>
        <p:nvPicPr>
          <p:cNvPr id="2795" name="" descr=""/>
          <p:cNvPicPr/>
          <p:nvPr/>
        </p:nvPicPr>
        <p:blipFill>
          <a:blip r:embed="rId5"/>
          <a:stretch/>
        </p:blipFill>
        <p:spPr>
          <a:xfrm>
            <a:off x="4262400" y="5334120"/>
            <a:ext cx="1000080" cy="274680"/>
          </a:xfrm>
          <a:prstGeom prst="rect">
            <a:avLst/>
          </a:prstGeom>
          <a:ln w="0">
            <a:noFill/>
          </a:ln>
        </p:spPr>
      </p:pic>
      <p:pic>
        <p:nvPicPr>
          <p:cNvPr id="2796" name="" descr=""/>
          <p:cNvPicPr/>
          <p:nvPr/>
        </p:nvPicPr>
        <p:blipFill>
          <a:blip r:embed="rId6"/>
          <a:stretch/>
        </p:blipFill>
        <p:spPr>
          <a:xfrm>
            <a:off x="5738760" y="507060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797" name="" descr=""/>
          <p:cNvPicPr/>
          <p:nvPr/>
        </p:nvPicPr>
        <p:blipFill>
          <a:blip r:embed="rId7"/>
          <a:stretch/>
        </p:blipFill>
        <p:spPr>
          <a:xfrm>
            <a:off x="6954840" y="5524560"/>
            <a:ext cx="1000080" cy="274680"/>
          </a:xfrm>
          <a:prstGeom prst="rect">
            <a:avLst/>
          </a:prstGeom>
          <a:ln w="0">
            <a:noFill/>
          </a:ln>
        </p:spPr>
      </p:pic>
      <p:grpSp>
        <p:nvGrpSpPr>
          <p:cNvPr id="2798" name=""/>
          <p:cNvGrpSpPr/>
          <p:nvPr/>
        </p:nvGrpSpPr>
        <p:grpSpPr>
          <a:xfrm>
            <a:off x="6770520" y="4907160"/>
            <a:ext cx="255240" cy="820440"/>
            <a:chOff x="6770520" y="4907160"/>
            <a:chExt cx="255240" cy="820440"/>
          </a:xfrm>
        </p:grpSpPr>
        <p:sp>
          <p:nvSpPr>
            <p:cNvPr id="2799" name=""/>
            <p:cNvSpPr/>
            <p:nvPr/>
          </p:nvSpPr>
          <p:spPr>
            <a:xfrm flipV="1" rot="5400000">
              <a:off x="6382440" y="5294880"/>
              <a:ext cx="819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V="1">
              <a:off x="6771960" y="568440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1" name=""/>
          <p:cNvGrpSpPr/>
          <p:nvPr/>
        </p:nvGrpSpPr>
        <p:grpSpPr>
          <a:xfrm>
            <a:off x="5529240" y="4888440"/>
            <a:ext cx="255240" cy="378360"/>
            <a:chOff x="5529240" y="4888440"/>
            <a:chExt cx="255240" cy="378360"/>
          </a:xfrm>
        </p:grpSpPr>
        <p:sp>
          <p:nvSpPr>
            <p:cNvPr id="2802" name=""/>
            <p:cNvSpPr/>
            <p:nvPr/>
          </p:nvSpPr>
          <p:spPr>
            <a:xfrm flipV="1" rot="5400000">
              <a:off x="5361840" y="5055480"/>
              <a:ext cx="3776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V="1">
              <a:off x="5530680" y="5224320"/>
              <a:ext cx="253800" cy="42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4" name=""/>
          <p:cNvGrpSpPr/>
          <p:nvPr/>
        </p:nvGrpSpPr>
        <p:grpSpPr>
          <a:xfrm>
            <a:off x="4094280" y="4900680"/>
            <a:ext cx="255600" cy="632880"/>
            <a:chOff x="4094280" y="4900680"/>
            <a:chExt cx="255600" cy="632880"/>
          </a:xfrm>
        </p:grpSpPr>
        <p:sp>
          <p:nvSpPr>
            <p:cNvPr id="2805" name=""/>
            <p:cNvSpPr/>
            <p:nvPr/>
          </p:nvSpPr>
          <p:spPr>
            <a:xfrm flipV="1" rot="5400000">
              <a:off x="3799800" y="5194800"/>
              <a:ext cx="6314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 flipV="1">
              <a:off x="4095720" y="5491080"/>
              <a:ext cx="254160" cy="42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7" name=""/>
          <p:cNvGrpSpPr/>
          <p:nvPr/>
        </p:nvGrpSpPr>
        <p:grpSpPr>
          <a:xfrm>
            <a:off x="7126200" y="4246560"/>
            <a:ext cx="255600" cy="630000"/>
            <a:chOff x="7126200" y="4246560"/>
            <a:chExt cx="255600" cy="630000"/>
          </a:xfrm>
        </p:grpSpPr>
        <p:sp>
          <p:nvSpPr>
            <p:cNvPr id="2808" name=""/>
            <p:cNvSpPr/>
            <p:nvPr/>
          </p:nvSpPr>
          <p:spPr>
            <a:xfrm rot="16200000">
              <a:off x="6833160" y="4540680"/>
              <a:ext cx="62892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127640" y="4246560"/>
              <a:ext cx="25416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0" name=""/>
          <p:cNvGrpSpPr/>
          <p:nvPr/>
        </p:nvGrpSpPr>
        <p:grpSpPr>
          <a:xfrm>
            <a:off x="5757840" y="4468680"/>
            <a:ext cx="255240" cy="379440"/>
            <a:chOff x="5757840" y="4468680"/>
            <a:chExt cx="255240" cy="379440"/>
          </a:xfrm>
        </p:grpSpPr>
        <p:sp>
          <p:nvSpPr>
            <p:cNvPr id="2811" name=""/>
            <p:cNvSpPr/>
            <p:nvPr/>
          </p:nvSpPr>
          <p:spPr>
            <a:xfrm rot="16200000">
              <a:off x="5590080" y="4637520"/>
              <a:ext cx="378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759280" y="446868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3" name=""/>
          <p:cNvGrpSpPr/>
          <p:nvPr/>
        </p:nvGrpSpPr>
        <p:grpSpPr>
          <a:xfrm>
            <a:off x="5221440" y="4030560"/>
            <a:ext cx="255240" cy="820440"/>
            <a:chOff x="5221440" y="4030560"/>
            <a:chExt cx="255240" cy="820440"/>
          </a:xfrm>
        </p:grpSpPr>
        <p:sp>
          <p:nvSpPr>
            <p:cNvPr id="2814" name=""/>
            <p:cNvSpPr/>
            <p:nvPr/>
          </p:nvSpPr>
          <p:spPr>
            <a:xfrm rot="16200000">
              <a:off x="4833360" y="4420080"/>
              <a:ext cx="819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222880" y="403056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6" name=""/>
          <p:cNvSpPr/>
          <p:nvPr/>
        </p:nvSpPr>
        <p:spPr>
          <a:xfrm flipV="1">
            <a:off x="2612880" y="4845960"/>
            <a:ext cx="5092920" cy="42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4418280" y="55846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8" name="" descr=""/>
          <p:cNvPicPr/>
          <p:nvPr/>
        </p:nvPicPr>
        <p:blipFill>
          <a:blip r:embed="rId8"/>
          <a:stretch/>
        </p:blipFill>
        <p:spPr>
          <a:xfrm>
            <a:off x="1127160" y="4356000"/>
            <a:ext cx="1504800" cy="782640"/>
          </a:xfrm>
          <a:prstGeom prst="rect">
            <a:avLst/>
          </a:prstGeom>
          <a:ln w="0">
            <a:noFill/>
          </a:ln>
        </p:spPr>
      </p:pic>
      <p:sp>
        <p:nvSpPr>
          <p:cNvPr id="2819" name=""/>
          <p:cNvSpPr/>
          <p:nvPr/>
        </p:nvSpPr>
        <p:spPr>
          <a:xfrm>
            <a:off x="1127880" y="51404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head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147760" y="5711760"/>
            <a:ext cx="193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 (simplifi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 flipV="1">
            <a:off x="3124080" y="4939920"/>
            <a:ext cx="406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2" name=""/>
          <p:cNvGrpSpPr/>
          <p:nvPr/>
        </p:nvGrpSpPr>
        <p:grpSpPr>
          <a:xfrm>
            <a:off x="3429000" y="1181160"/>
            <a:ext cx="5232240" cy="2806560"/>
            <a:chOff x="3429000" y="1181160"/>
            <a:chExt cx="5232240" cy="2806560"/>
          </a:xfrm>
        </p:grpSpPr>
        <p:sp>
          <p:nvSpPr>
            <p:cNvPr id="2823" name=""/>
            <p:cNvSpPr/>
            <p:nvPr/>
          </p:nvSpPr>
          <p:spPr>
            <a:xfrm>
              <a:off x="4038480" y="3251160"/>
              <a:ext cx="3861000" cy="736560"/>
            </a:xfrm>
            <a:custGeom>
              <a:avLst/>
              <a:gdLst/>
              <a:ahLst/>
              <a:rect l="l" t="t" r="r" b="b"/>
              <a:pathLst>
                <a:path w="2432" h="464">
                  <a:moveTo>
                    <a:pt x="912" y="448"/>
                  </a:moveTo>
                  <a:lnTo>
                    <a:pt x="1496" y="464"/>
                  </a:lnTo>
                  <a:lnTo>
                    <a:pt x="2432" y="48"/>
                  </a:lnTo>
                  <a:lnTo>
                    <a:pt x="1784" y="176"/>
                  </a:lnTo>
                  <a:lnTo>
                    <a:pt x="864" y="20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3429000" y="1181160"/>
              <a:ext cx="5232240" cy="248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25" name="" descr=""/>
            <p:cNvPicPr/>
            <p:nvPr/>
          </p:nvPicPr>
          <p:blipFill>
            <a:blip r:embed="rId9"/>
            <a:stretch/>
          </p:blipFill>
          <p:spPr>
            <a:xfrm>
              <a:off x="3686040" y="1657440"/>
              <a:ext cx="4691160" cy="1630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1000"/>
                                        <p:tgtEl>
                                          <p:spTgt spid="2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19040" y="286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Arhitektura kablovske mreže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: </a:t>
            </a: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Pregled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827" name="" descr=""/>
          <p:cNvPicPr/>
          <p:nvPr/>
        </p:nvPicPr>
        <p:blipFill>
          <a:blip r:embed="rId1"/>
          <a:stretch/>
        </p:blipFill>
        <p:spPr>
          <a:xfrm>
            <a:off x="5416560" y="387360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828" name="" descr=""/>
          <p:cNvPicPr/>
          <p:nvPr/>
        </p:nvPicPr>
        <p:blipFill>
          <a:blip r:embed="rId2"/>
          <a:stretch/>
        </p:blipFill>
        <p:spPr>
          <a:xfrm>
            <a:off x="5916600" y="430848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829" name="" descr=""/>
          <p:cNvPicPr/>
          <p:nvPr/>
        </p:nvPicPr>
        <p:blipFill>
          <a:blip r:embed="rId3"/>
          <a:stretch/>
        </p:blipFill>
        <p:spPr>
          <a:xfrm>
            <a:off x="4097160" y="4064040"/>
            <a:ext cx="1000440" cy="274680"/>
          </a:xfrm>
          <a:prstGeom prst="rect">
            <a:avLst/>
          </a:prstGeom>
          <a:ln w="0">
            <a:noFill/>
          </a:ln>
        </p:spPr>
      </p:pic>
      <p:grpSp>
        <p:nvGrpSpPr>
          <p:cNvPr id="2830" name=""/>
          <p:cNvGrpSpPr/>
          <p:nvPr/>
        </p:nvGrpSpPr>
        <p:grpSpPr>
          <a:xfrm>
            <a:off x="3916440" y="4227480"/>
            <a:ext cx="255600" cy="633240"/>
            <a:chOff x="3916440" y="4227480"/>
            <a:chExt cx="255600" cy="633240"/>
          </a:xfrm>
        </p:grpSpPr>
        <p:sp>
          <p:nvSpPr>
            <p:cNvPr id="2831" name=""/>
            <p:cNvSpPr/>
            <p:nvPr/>
          </p:nvSpPr>
          <p:spPr>
            <a:xfrm rot="16200000">
              <a:off x="3621960" y="4523400"/>
              <a:ext cx="631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3917880" y="4227480"/>
              <a:ext cx="25416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33" name="" descr=""/>
          <p:cNvPicPr/>
          <p:nvPr/>
        </p:nvPicPr>
        <p:blipFill>
          <a:blip r:embed="rId4"/>
          <a:stretch/>
        </p:blipFill>
        <p:spPr>
          <a:xfrm>
            <a:off x="7323120" y="4076640"/>
            <a:ext cx="1000080" cy="274680"/>
          </a:xfrm>
          <a:prstGeom prst="rect">
            <a:avLst/>
          </a:prstGeom>
          <a:ln w="0">
            <a:noFill/>
          </a:ln>
        </p:spPr>
      </p:pic>
      <p:pic>
        <p:nvPicPr>
          <p:cNvPr id="2834" name="" descr=""/>
          <p:cNvPicPr/>
          <p:nvPr/>
        </p:nvPicPr>
        <p:blipFill>
          <a:blip r:embed="rId5"/>
          <a:stretch/>
        </p:blipFill>
        <p:spPr>
          <a:xfrm>
            <a:off x="4262400" y="5334120"/>
            <a:ext cx="1000080" cy="274680"/>
          </a:xfrm>
          <a:prstGeom prst="rect">
            <a:avLst/>
          </a:prstGeom>
          <a:ln w="0">
            <a:noFill/>
          </a:ln>
        </p:spPr>
      </p:pic>
      <p:pic>
        <p:nvPicPr>
          <p:cNvPr id="2835" name="" descr=""/>
          <p:cNvPicPr/>
          <p:nvPr/>
        </p:nvPicPr>
        <p:blipFill>
          <a:blip r:embed="rId6"/>
          <a:stretch/>
        </p:blipFill>
        <p:spPr>
          <a:xfrm>
            <a:off x="5738760" y="507060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836" name="" descr=""/>
          <p:cNvPicPr/>
          <p:nvPr/>
        </p:nvPicPr>
        <p:blipFill>
          <a:blip r:embed="rId7"/>
          <a:stretch/>
        </p:blipFill>
        <p:spPr>
          <a:xfrm>
            <a:off x="6954840" y="5524560"/>
            <a:ext cx="1000080" cy="274680"/>
          </a:xfrm>
          <a:prstGeom prst="rect">
            <a:avLst/>
          </a:prstGeom>
          <a:ln w="0">
            <a:noFill/>
          </a:ln>
        </p:spPr>
      </p:pic>
      <p:grpSp>
        <p:nvGrpSpPr>
          <p:cNvPr id="2837" name=""/>
          <p:cNvGrpSpPr/>
          <p:nvPr/>
        </p:nvGrpSpPr>
        <p:grpSpPr>
          <a:xfrm>
            <a:off x="6770520" y="4907160"/>
            <a:ext cx="255240" cy="820440"/>
            <a:chOff x="6770520" y="4907160"/>
            <a:chExt cx="255240" cy="820440"/>
          </a:xfrm>
        </p:grpSpPr>
        <p:sp>
          <p:nvSpPr>
            <p:cNvPr id="2838" name=""/>
            <p:cNvSpPr/>
            <p:nvPr/>
          </p:nvSpPr>
          <p:spPr>
            <a:xfrm flipV="1" rot="5400000">
              <a:off x="6382440" y="5294880"/>
              <a:ext cx="819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 flipV="1">
              <a:off x="6771960" y="568440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0" name=""/>
          <p:cNvGrpSpPr/>
          <p:nvPr/>
        </p:nvGrpSpPr>
        <p:grpSpPr>
          <a:xfrm>
            <a:off x="5529240" y="4888440"/>
            <a:ext cx="255240" cy="378360"/>
            <a:chOff x="5529240" y="4888440"/>
            <a:chExt cx="255240" cy="378360"/>
          </a:xfrm>
        </p:grpSpPr>
        <p:sp>
          <p:nvSpPr>
            <p:cNvPr id="2841" name=""/>
            <p:cNvSpPr/>
            <p:nvPr/>
          </p:nvSpPr>
          <p:spPr>
            <a:xfrm flipV="1" rot="5400000">
              <a:off x="5361840" y="5055480"/>
              <a:ext cx="3776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 flipV="1">
              <a:off x="5530680" y="5224320"/>
              <a:ext cx="253800" cy="42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3" name=""/>
          <p:cNvGrpSpPr/>
          <p:nvPr/>
        </p:nvGrpSpPr>
        <p:grpSpPr>
          <a:xfrm>
            <a:off x="4094280" y="4900680"/>
            <a:ext cx="255600" cy="632880"/>
            <a:chOff x="4094280" y="4900680"/>
            <a:chExt cx="255600" cy="632880"/>
          </a:xfrm>
        </p:grpSpPr>
        <p:sp>
          <p:nvSpPr>
            <p:cNvPr id="2844" name=""/>
            <p:cNvSpPr/>
            <p:nvPr/>
          </p:nvSpPr>
          <p:spPr>
            <a:xfrm flipV="1" rot="5400000">
              <a:off x="3799800" y="5194800"/>
              <a:ext cx="6314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V="1">
              <a:off x="4095720" y="5491080"/>
              <a:ext cx="254160" cy="42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6" name=""/>
          <p:cNvGrpSpPr/>
          <p:nvPr/>
        </p:nvGrpSpPr>
        <p:grpSpPr>
          <a:xfrm>
            <a:off x="7126200" y="4246560"/>
            <a:ext cx="255600" cy="630000"/>
            <a:chOff x="7126200" y="4246560"/>
            <a:chExt cx="255600" cy="630000"/>
          </a:xfrm>
        </p:grpSpPr>
        <p:sp>
          <p:nvSpPr>
            <p:cNvPr id="2847" name=""/>
            <p:cNvSpPr/>
            <p:nvPr/>
          </p:nvSpPr>
          <p:spPr>
            <a:xfrm rot="16200000">
              <a:off x="6833160" y="4540680"/>
              <a:ext cx="62892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127640" y="4246560"/>
              <a:ext cx="25416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9" name=""/>
          <p:cNvGrpSpPr/>
          <p:nvPr/>
        </p:nvGrpSpPr>
        <p:grpSpPr>
          <a:xfrm>
            <a:off x="5757840" y="4468680"/>
            <a:ext cx="255240" cy="379440"/>
            <a:chOff x="5757840" y="4468680"/>
            <a:chExt cx="255240" cy="379440"/>
          </a:xfrm>
        </p:grpSpPr>
        <p:sp>
          <p:nvSpPr>
            <p:cNvPr id="2850" name=""/>
            <p:cNvSpPr/>
            <p:nvPr/>
          </p:nvSpPr>
          <p:spPr>
            <a:xfrm rot="16200000">
              <a:off x="5590080" y="4637520"/>
              <a:ext cx="378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759280" y="446868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2" name=""/>
          <p:cNvGrpSpPr/>
          <p:nvPr/>
        </p:nvGrpSpPr>
        <p:grpSpPr>
          <a:xfrm>
            <a:off x="5221440" y="4030560"/>
            <a:ext cx="255240" cy="820440"/>
            <a:chOff x="5221440" y="4030560"/>
            <a:chExt cx="255240" cy="820440"/>
          </a:xfrm>
        </p:grpSpPr>
        <p:sp>
          <p:nvSpPr>
            <p:cNvPr id="2853" name=""/>
            <p:cNvSpPr/>
            <p:nvPr/>
          </p:nvSpPr>
          <p:spPr>
            <a:xfrm rot="16200000">
              <a:off x="4833360" y="4420080"/>
              <a:ext cx="819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222880" y="403056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5" name=""/>
          <p:cNvSpPr/>
          <p:nvPr/>
        </p:nvSpPr>
        <p:spPr>
          <a:xfrm flipV="1">
            <a:off x="2612880" y="4845960"/>
            <a:ext cx="5092920" cy="42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4418280" y="55846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7" name="" descr=""/>
          <p:cNvPicPr/>
          <p:nvPr/>
        </p:nvPicPr>
        <p:blipFill>
          <a:blip r:embed="rId8"/>
          <a:stretch/>
        </p:blipFill>
        <p:spPr>
          <a:xfrm>
            <a:off x="1127160" y="4356000"/>
            <a:ext cx="1504800" cy="782640"/>
          </a:xfrm>
          <a:prstGeom prst="rect">
            <a:avLst/>
          </a:prstGeom>
          <a:ln w="0">
            <a:noFill/>
          </a:ln>
        </p:spPr>
      </p:pic>
      <p:sp>
        <p:nvSpPr>
          <p:cNvPr id="2858" name=""/>
          <p:cNvSpPr/>
          <p:nvPr/>
        </p:nvSpPr>
        <p:spPr>
          <a:xfrm>
            <a:off x="1127880" y="51404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head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257560" y="5711760"/>
            <a:ext cx="170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3124080" y="4939920"/>
            <a:ext cx="406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1" name=""/>
          <p:cNvGrpSpPr/>
          <p:nvPr/>
        </p:nvGrpSpPr>
        <p:grpSpPr>
          <a:xfrm>
            <a:off x="304920" y="1521000"/>
            <a:ext cx="2552760" cy="2873160"/>
            <a:chOff x="304920" y="1521000"/>
            <a:chExt cx="2552760" cy="2873160"/>
          </a:xfrm>
        </p:grpSpPr>
        <p:sp>
          <p:nvSpPr>
            <p:cNvPr id="2862" name=""/>
            <p:cNvSpPr/>
            <p:nvPr/>
          </p:nvSpPr>
          <p:spPr>
            <a:xfrm>
              <a:off x="533520" y="2946240"/>
              <a:ext cx="2273040" cy="1447920"/>
            </a:xfrm>
            <a:custGeom>
              <a:avLst/>
              <a:gdLst/>
              <a:ahLst/>
              <a:rect l="l" t="t" r="r" b="b"/>
              <a:pathLst>
                <a:path w="1432" h="912">
                  <a:moveTo>
                    <a:pt x="544" y="912"/>
                  </a:moveTo>
                  <a:lnTo>
                    <a:pt x="0" y="224"/>
                  </a:lnTo>
                  <a:lnTo>
                    <a:pt x="288" y="400"/>
                  </a:lnTo>
                  <a:lnTo>
                    <a:pt x="672" y="512"/>
                  </a:lnTo>
                  <a:lnTo>
                    <a:pt x="960" y="464"/>
                  </a:lnTo>
                  <a:lnTo>
                    <a:pt x="1176" y="336"/>
                  </a:lnTo>
                  <a:lnTo>
                    <a:pt x="1432" y="0"/>
                  </a:lnTo>
                  <a:lnTo>
                    <a:pt x="1016" y="896"/>
                  </a:lnTo>
                  <a:lnTo>
                    <a:pt x="544" y="91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04920" y="1536840"/>
              <a:ext cx="2552760" cy="220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4" name=""/>
            <p:cNvGrpSpPr/>
            <p:nvPr/>
          </p:nvGrpSpPr>
          <p:grpSpPr>
            <a:xfrm>
              <a:off x="633240" y="1521000"/>
              <a:ext cx="1928880" cy="2128320"/>
              <a:chOff x="633240" y="1521000"/>
              <a:chExt cx="1928880" cy="2128320"/>
            </a:xfrm>
          </p:grpSpPr>
          <p:sp>
            <p:nvSpPr>
              <p:cNvPr id="2865" name=""/>
              <p:cNvSpPr/>
              <p:nvPr/>
            </p:nvSpPr>
            <p:spPr>
              <a:xfrm flipH="1" rot="5400000">
                <a:off x="1209600" y="2992680"/>
                <a:ext cx="491760" cy="42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flipH="1" rot="5400000">
                <a:off x="930240" y="2510280"/>
                <a:ext cx="491760" cy="42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H="1" rot="5400000">
                <a:off x="1780920" y="2497320"/>
                <a:ext cx="491760" cy="42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6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33240" y="1850760"/>
                <a:ext cx="731880" cy="69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750680" y="1888920"/>
                <a:ext cx="731880" cy="69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14120" y="2955960"/>
                <a:ext cx="731880" cy="69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1" name=""/>
              <p:cNvSpPr/>
              <p:nvPr/>
            </p:nvSpPr>
            <p:spPr>
              <a:xfrm flipV="1">
                <a:off x="796680" y="2738160"/>
                <a:ext cx="1765440" cy="42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06360" y="1521000"/>
                <a:ext cx="98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(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1000"/>
                                        <p:tgtEl>
                                          <p:spTgt spid="2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19040" y="286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Arhitektura kablovske mreže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: </a:t>
            </a: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Pregled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874" name="" descr=""/>
          <p:cNvPicPr/>
          <p:nvPr/>
        </p:nvPicPr>
        <p:blipFill>
          <a:blip r:embed="rId1"/>
          <a:stretch/>
        </p:blipFill>
        <p:spPr>
          <a:xfrm>
            <a:off x="5416560" y="387360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875" name="" descr=""/>
          <p:cNvPicPr/>
          <p:nvPr/>
        </p:nvPicPr>
        <p:blipFill>
          <a:blip r:embed="rId2"/>
          <a:stretch/>
        </p:blipFill>
        <p:spPr>
          <a:xfrm>
            <a:off x="5916600" y="430848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876" name="" descr=""/>
          <p:cNvPicPr/>
          <p:nvPr/>
        </p:nvPicPr>
        <p:blipFill>
          <a:blip r:embed="rId3"/>
          <a:stretch/>
        </p:blipFill>
        <p:spPr>
          <a:xfrm>
            <a:off x="4097160" y="4064040"/>
            <a:ext cx="1000440" cy="274680"/>
          </a:xfrm>
          <a:prstGeom prst="rect">
            <a:avLst/>
          </a:prstGeom>
          <a:ln w="0">
            <a:noFill/>
          </a:ln>
        </p:spPr>
      </p:pic>
      <p:grpSp>
        <p:nvGrpSpPr>
          <p:cNvPr id="2877" name=""/>
          <p:cNvGrpSpPr/>
          <p:nvPr/>
        </p:nvGrpSpPr>
        <p:grpSpPr>
          <a:xfrm>
            <a:off x="3916440" y="4227480"/>
            <a:ext cx="255600" cy="633240"/>
            <a:chOff x="3916440" y="4227480"/>
            <a:chExt cx="255600" cy="633240"/>
          </a:xfrm>
        </p:grpSpPr>
        <p:sp>
          <p:nvSpPr>
            <p:cNvPr id="2878" name=""/>
            <p:cNvSpPr/>
            <p:nvPr/>
          </p:nvSpPr>
          <p:spPr>
            <a:xfrm rot="16200000">
              <a:off x="3621960" y="4523400"/>
              <a:ext cx="631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917880" y="4227480"/>
              <a:ext cx="25416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80" name="" descr=""/>
          <p:cNvPicPr/>
          <p:nvPr/>
        </p:nvPicPr>
        <p:blipFill>
          <a:blip r:embed="rId4"/>
          <a:stretch/>
        </p:blipFill>
        <p:spPr>
          <a:xfrm>
            <a:off x="7323120" y="4076640"/>
            <a:ext cx="1000080" cy="274680"/>
          </a:xfrm>
          <a:prstGeom prst="rect">
            <a:avLst/>
          </a:prstGeom>
          <a:ln w="0">
            <a:noFill/>
          </a:ln>
        </p:spPr>
      </p:pic>
      <p:pic>
        <p:nvPicPr>
          <p:cNvPr id="2881" name="" descr=""/>
          <p:cNvPicPr/>
          <p:nvPr/>
        </p:nvPicPr>
        <p:blipFill>
          <a:blip r:embed="rId5"/>
          <a:stretch/>
        </p:blipFill>
        <p:spPr>
          <a:xfrm>
            <a:off x="4262400" y="5334120"/>
            <a:ext cx="1000080" cy="274680"/>
          </a:xfrm>
          <a:prstGeom prst="rect">
            <a:avLst/>
          </a:prstGeom>
          <a:ln w="0">
            <a:noFill/>
          </a:ln>
        </p:spPr>
      </p:pic>
      <p:pic>
        <p:nvPicPr>
          <p:cNvPr id="2882" name="" descr=""/>
          <p:cNvPicPr/>
          <p:nvPr/>
        </p:nvPicPr>
        <p:blipFill>
          <a:blip r:embed="rId6"/>
          <a:stretch/>
        </p:blipFill>
        <p:spPr>
          <a:xfrm>
            <a:off x="5738760" y="507060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883" name="" descr=""/>
          <p:cNvPicPr/>
          <p:nvPr/>
        </p:nvPicPr>
        <p:blipFill>
          <a:blip r:embed="rId7"/>
          <a:stretch/>
        </p:blipFill>
        <p:spPr>
          <a:xfrm>
            <a:off x="6954840" y="5524560"/>
            <a:ext cx="1000080" cy="274680"/>
          </a:xfrm>
          <a:prstGeom prst="rect">
            <a:avLst/>
          </a:prstGeom>
          <a:ln w="0">
            <a:noFill/>
          </a:ln>
        </p:spPr>
      </p:pic>
      <p:grpSp>
        <p:nvGrpSpPr>
          <p:cNvPr id="2884" name=""/>
          <p:cNvGrpSpPr/>
          <p:nvPr/>
        </p:nvGrpSpPr>
        <p:grpSpPr>
          <a:xfrm>
            <a:off x="6770520" y="4907160"/>
            <a:ext cx="255240" cy="820440"/>
            <a:chOff x="6770520" y="4907160"/>
            <a:chExt cx="255240" cy="820440"/>
          </a:xfrm>
        </p:grpSpPr>
        <p:sp>
          <p:nvSpPr>
            <p:cNvPr id="2885" name=""/>
            <p:cNvSpPr/>
            <p:nvPr/>
          </p:nvSpPr>
          <p:spPr>
            <a:xfrm flipV="1" rot="5400000">
              <a:off x="6382440" y="5294880"/>
              <a:ext cx="819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 flipV="1">
              <a:off x="6771960" y="568440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7" name=""/>
          <p:cNvGrpSpPr/>
          <p:nvPr/>
        </p:nvGrpSpPr>
        <p:grpSpPr>
          <a:xfrm>
            <a:off x="5529240" y="4888440"/>
            <a:ext cx="255240" cy="378360"/>
            <a:chOff x="5529240" y="4888440"/>
            <a:chExt cx="255240" cy="378360"/>
          </a:xfrm>
        </p:grpSpPr>
        <p:sp>
          <p:nvSpPr>
            <p:cNvPr id="2888" name=""/>
            <p:cNvSpPr/>
            <p:nvPr/>
          </p:nvSpPr>
          <p:spPr>
            <a:xfrm flipV="1" rot="5400000">
              <a:off x="5361840" y="5055480"/>
              <a:ext cx="3776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 flipV="1">
              <a:off x="5530680" y="5224320"/>
              <a:ext cx="253800" cy="42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0" name=""/>
          <p:cNvGrpSpPr/>
          <p:nvPr/>
        </p:nvGrpSpPr>
        <p:grpSpPr>
          <a:xfrm>
            <a:off x="4094280" y="4900680"/>
            <a:ext cx="255600" cy="632880"/>
            <a:chOff x="4094280" y="4900680"/>
            <a:chExt cx="255600" cy="632880"/>
          </a:xfrm>
        </p:grpSpPr>
        <p:sp>
          <p:nvSpPr>
            <p:cNvPr id="2891" name=""/>
            <p:cNvSpPr/>
            <p:nvPr/>
          </p:nvSpPr>
          <p:spPr>
            <a:xfrm flipV="1" rot="5400000">
              <a:off x="3799800" y="5194800"/>
              <a:ext cx="6314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4095720" y="5491080"/>
              <a:ext cx="254160" cy="42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7126200" y="4246560"/>
            <a:ext cx="255600" cy="630000"/>
            <a:chOff x="7126200" y="4246560"/>
            <a:chExt cx="255600" cy="630000"/>
          </a:xfrm>
        </p:grpSpPr>
        <p:sp>
          <p:nvSpPr>
            <p:cNvPr id="2894" name=""/>
            <p:cNvSpPr/>
            <p:nvPr/>
          </p:nvSpPr>
          <p:spPr>
            <a:xfrm rot="16200000">
              <a:off x="6833160" y="4540680"/>
              <a:ext cx="62892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7127640" y="4246560"/>
              <a:ext cx="25416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5757840" y="4468680"/>
            <a:ext cx="255240" cy="379440"/>
            <a:chOff x="5757840" y="4468680"/>
            <a:chExt cx="255240" cy="379440"/>
          </a:xfrm>
        </p:grpSpPr>
        <p:sp>
          <p:nvSpPr>
            <p:cNvPr id="2897" name=""/>
            <p:cNvSpPr/>
            <p:nvPr/>
          </p:nvSpPr>
          <p:spPr>
            <a:xfrm rot="16200000">
              <a:off x="5590080" y="4637520"/>
              <a:ext cx="378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5759280" y="446868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5221440" y="4030560"/>
            <a:ext cx="255240" cy="820440"/>
            <a:chOff x="5221440" y="4030560"/>
            <a:chExt cx="255240" cy="820440"/>
          </a:xfrm>
        </p:grpSpPr>
        <p:sp>
          <p:nvSpPr>
            <p:cNvPr id="2900" name=""/>
            <p:cNvSpPr/>
            <p:nvPr/>
          </p:nvSpPr>
          <p:spPr>
            <a:xfrm rot="16200000">
              <a:off x="4833360" y="4420080"/>
              <a:ext cx="819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222880" y="403056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2" name=""/>
          <p:cNvSpPr/>
          <p:nvPr/>
        </p:nvSpPr>
        <p:spPr>
          <a:xfrm flipV="1">
            <a:off x="2612880" y="4845960"/>
            <a:ext cx="5092920" cy="42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4418280" y="55846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4" name="" descr=""/>
          <p:cNvPicPr/>
          <p:nvPr/>
        </p:nvPicPr>
        <p:blipFill>
          <a:blip r:embed="rId8"/>
          <a:stretch/>
        </p:blipFill>
        <p:spPr>
          <a:xfrm>
            <a:off x="1127160" y="4356000"/>
            <a:ext cx="1504800" cy="782640"/>
          </a:xfrm>
          <a:prstGeom prst="rect">
            <a:avLst/>
          </a:prstGeom>
          <a:ln w="0">
            <a:noFill/>
          </a:ln>
        </p:spPr>
      </p:pic>
      <p:sp>
        <p:nvSpPr>
          <p:cNvPr id="2905" name=""/>
          <p:cNvSpPr/>
          <p:nvPr/>
        </p:nvSpPr>
        <p:spPr>
          <a:xfrm>
            <a:off x="1127880" y="51404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head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2257560" y="5711760"/>
            <a:ext cx="170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 flipV="1">
            <a:off x="3124080" y="4939920"/>
            <a:ext cx="406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8" name=""/>
          <p:cNvGrpSpPr/>
          <p:nvPr/>
        </p:nvGrpSpPr>
        <p:grpSpPr>
          <a:xfrm>
            <a:off x="4846680" y="1352520"/>
            <a:ext cx="2042640" cy="959040"/>
            <a:chOff x="4846680" y="1352520"/>
            <a:chExt cx="2042640" cy="959040"/>
          </a:xfrm>
        </p:grpSpPr>
        <p:sp>
          <p:nvSpPr>
            <p:cNvPr id="2909" name=""/>
            <p:cNvSpPr/>
            <p:nvPr/>
          </p:nvSpPr>
          <p:spPr>
            <a:xfrm flipH="1">
              <a:off x="4846680" y="1811520"/>
              <a:ext cx="20304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914720" y="1352520"/>
              <a:ext cx="891720" cy="422280"/>
            </a:xfrm>
            <a:custGeom>
              <a:avLst/>
              <a:gdLst/>
              <a:ahLst/>
              <a:rect l="l" t="t" r="r" b="b"/>
              <a:pathLst>
                <a:path w="562" h="266">
                  <a:moveTo>
                    <a:pt x="4" y="264"/>
                  </a:moveTo>
                  <a:cubicBezTo>
                    <a:pt x="4" y="212"/>
                    <a:pt x="0" y="4"/>
                    <a:pt x="52" y="6"/>
                  </a:cubicBezTo>
                  <a:cubicBezTo>
                    <a:pt x="106" y="4"/>
                    <a:pt x="58" y="266"/>
                    <a:pt x="108" y="266"/>
                  </a:cubicBezTo>
                  <a:cubicBezTo>
                    <a:pt x="158" y="266"/>
                    <a:pt x="126" y="0"/>
                    <a:pt x="174" y="0"/>
                  </a:cubicBezTo>
                  <a:cubicBezTo>
                    <a:pt x="222" y="0"/>
                    <a:pt x="184" y="266"/>
                    <a:pt x="228" y="264"/>
                  </a:cubicBezTo>
                  <a:cubicBezTo>
                    <a:pt x="272" y="262"/>
                    <a:pt x="244" y="8"/>
                    <a:pt x="288" y="8"/>
                  </a:cubicBezTo>
                  <a:cubicBezTo>
                    <a:pt x="332" y="8"/>
                    <a:pt x="304" y="266"/>
                    <a:pt x="354" y="266"/>
                  </a:cubicBezTo>
                  <a:cubicBezTo>
                    <a:pt x="404" y="266"/>
                    <a:pt x="336" y="8"/>
                    <a:pt x="402" y="8"/>
                  </a:cubicBezTo>
                  <a:cubicBezTo>
                    <a:pt x="468" y="8"/>
                    <a:pt x="416" y="266"/>
                    <a:pt x="464" y="264"/>
                  </a:cubicBezTo>
                  <a:cubicBezTo>
                    <a:pt x="512" y="262"/>
                    <a:pt x="450" y="4"/>
                    <a:pt x="506" y="6"/>
                  </a:cubicBezTo>
                  <a:cubicBezTo>
                    <a:pt x="562" y="8"/>
                    <a:pt x="546" y="192"/>
                    <a:pt x="556" y="2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6462360" y="1359000"/>
              <a:ext cx="426960" cy="422280"/>
            </a:xfrm>
            <a:custGeom>
              <a:avLst/>
              <a:gdLst/>
              <a:ahLst/>
              <a:rect l="l" t="t" r="r" b="b"/>
              <a:pathLst>
                <a:path w="562" h="266">
                  <a:moveTo>
                    <a:pt x="4" y="264"/>
                  </a:moveTo>
                  <a:cubicBezTo>
                    <a:pt x="4" y="212"/>
                    <a:pt x="0" y="4"/>
                    <a:pt x="52" y="6"/>
                  </a:cubicBezTo>
                  <a:cubicBezTo>
                    <a:pt x="106" y="4"/>
                    <a:pt x="58" y="266"/>
                    <a:pt x="108" y="266"/>
                  </a:cubicBezTo>
                  <a:cubicBezTo>
                    <a:pt x="158" y="266"/>
                    <a:pt x="126" y="0"/>
                    <a:pt x="174" y="0"/>
                  </a:cubicBezTo>
                  <a:cubicBezTo>
                    <a:pt x="222" y="0"/>
                    <a:pt x="184" y="266"/>
                    <a:pt x="228" y="264"/>
                  </a:cubicBezTo>
                  <a:cubicBezTo>
                    <a:pt x="272" y="262"/>
                    <a:pt x="244" y="8"/>
                    <a:pt x="288" y="8"/>
                  </a:cubicBezTo>
                  <a:cubicBezTo>
                    <a:pt x="332" y="8"/>
                    <a:pt x="304" y="266"/>
                    <a:pt x="354" y="266"/>
                  </a:cubicBezTo>
                  <a:cubicBezTo>
                    <a:pt x="404" y="266"/>
                    <a:pt x="336" y="8"/>
                    <a:pt x="402" y="8"/>
                  </a:cubicBezTo>
                  <a:cubicBezTo>
                    <a:pt x="468" y="8"/>
                    <a:pt x="416" y="266"/>
                    <a:pt x="464" y="264"/>
                  </a:cubicBezTo>
                  <a:cubicBezTo>
                    <a:pt x="512" y="262"/>
                    <a:pt x="450" y="4"/>
                    <a:pt x="506" y="6"/>
                  </a:cubicBezTo>
                  <a:cubicBezTo>
                    <a:pt x="562" y="8"/>
                    <a:pt x="546" y="192"/>
                    <a:pt x="556" y="2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 flipH="1">
              <a:off x="6319440" y="1846440"/>
              <a:ext cx="20268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3" name=""/>
          <p:cNvGrpSpPr/>
          <p:nvPr/>
        </p:nvGrpSpPr>
        <p:grpSpPr>
          <a:xfrm>
            <a:off x="4137120" y="1509840"/>
            <a:ext cx="3019320" cy="2115360"/>
            <a:chOff x="4137120" y="1509840"/>
            <a:chExt cx="3019320" cy="2115360"/>
          </a:xfrm>
        </p:grpSpPr>
        <p:sp>
          <p:nvSpPr>
            <p:cNvPr id="2914" name=""/>
            <p:cNvSpPr/>
            <p:nvPr/>
          </p:nvSpPr>
          <p:spPr>
            <a:xfrm>
              <a:off x="5362920" y="3287880"/>
              <a:ext cx="103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nn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4753080" y="1509840"/>
              <a:ext cx="0" cy="15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743360" y="3071880"/>
              <a:ext cx="23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728960" y="2235240"/>
              <a:ext cx="279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000760" y="29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5005080" y="2235240"/>
              <a:ext cx="279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300640" y="2235240"/>
              <a:ext cx="279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5595840" y="2235240"/>
              <a:ext cx="279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5891040" y="2235240"/>
              <a:ext cx="279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6186240" y="2235240"/>
              <a:ext cx="279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6444000" y="2225520"/>
              <a:ext cx="2721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672600" y="2225520"/>
              <a:ext cx="2721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875280" y="1768320"/>
              <a:ext cx="27972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5292720" y="29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5578560" y="29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870520" y="29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6168960" y="29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448320" y="2970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6696000" y="2963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6924600" y="2951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4740120" y="3111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5006880" y="3111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311800" y="3111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584680" y="3111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883120" y="3105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6181560" y="3105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6441840" y="3105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676920" y="3105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6905520" y="3105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137120" y="1538280"/>
              <a:ext cx="595080" cy="1538280"/>
            </a:xfrm>
            <a:custGeom>
              <a:avLst/>
              <a:gdLst/>
              <a:ahLst/>
              <a:rect l="l" t="t" r="r" b="b"/>
              <a:pathLst>
                <a:path w="375" h="969">
                  <a:moveTo>
                    <a:pt x="375" y="0"/>
                  </a:moveTo>
                  <a:lnTo>
                    <a:pt x="0" y="485"/>
                  </a:lnTo>
                  <a:lnTo>
                    <a:pt x="375" y="969"/>
                  </a:lnTo>
                  <a:lnTo>
                    <a:pt x="37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4" name=""/>
          <p:cNvGrpSpPr/>
          <p:nvPr/>
        </p:nvGrpSpPr>
        <p:grpSpPr>
          <a:xfrm>
            <a:off x="2398680" y="2176560"/>
            <a:ext cx="1666440" cy="2062080"/>
            <a:chOff x="2398680" y="2176560"/>
            <a:chExt cx="1666440" cy="2062080"/>
          </a:xfrm>
        </p:grpSpPr>
        <p:grpSp>
          <p:nvGrpSpPr>
            <p:cNvPr id="2945" name=""/>
            <p:cNvGrpSpPr/>
            <p:nvPr/>
          </p:nvGrpSpPr>
          <p:grpSpPr>
            <a:xfrm>
              <a:off x="2398680" y="2176560"/>
              <a:ext cx="1666440" cy="314280"/>
              <a:chOff x="2398680" y="2176560"/>
              <a:chExt cx="1666440" cy="314280"/>
            </a:xfrm>
          </p:grpSpPr>
          <p:sp>
            <p:nvSpPr>
              <p:cNvPr id="2946" name=""/>
              <p:cNvSpPr/>
              <p:nvPr/>
            </p:nvSpPr>
            <p:spPr>
              <a:xfrm>
                <a:off x="3579480" y="2186280"/>
                <a:ext cx="266400" cy="27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2398680" y="2176560"/>
                <a:ext cx="1422000" cy="314280"/>
              </a:xfrm>
              <a:custGeom>
                <a:avLst/>
                <a:gdLst/>
                <a:ahLst/>
                <a:rect l="l" t="t" r="r" b="b"/>
                <a:pathLst>
                  <a:path w="896" h="198">
                    <a:moveTo>
                      <a:pt x="18" y="0"/>
                    </a:moveTo>
                    <a:lnTo>
                      <a:pt x="0" y="96"/>
                    </a:lnTo>
                    <a:lnTo>
                      <a:pt x="18" y="198"/>
                    </a:lnTo>
                    <a:lnTo>
                      <a:pt x="774" y="198"/>
                    </a:lnTo>
                    <a:cubicBezTo>
                      <a:pt x="896" y="180"/>
                      <a:pt x="750" y="123"/>
                      <a:pt x="750" y="90"/>
                    </a:cubicBezTo>
                    <a:cubicBezTo>
                      <a:pt x="750" y="57"/>
                      <a:pt x="896" y="15"/>
                      <a:pt x="774" y="0"/>
                    </a:cubicBezTo>
                    <a:lnTo>
                      <a:pt x="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3808080" y="2195640"/>
                <a:ext cx="98280" cy="26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3846240" y="231948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0" name=""/>
            <p:cNvSpPr/>
            <p:nvPr/>
          </p:nvSpPr>
          <p:spPr>
            <a:xfrm>
              <a:off x="2438280" y="2481120"/>
              <a:ext cx="1611360" cy="1757520"/>
            </a:xfrm>
            <a:custGeom>
              <a:avLst/>
              <a:gdLst/>
              <a:ahLst/>
              <a:rect l="l" t="t" r="r" b="b"/>
              <a:pathLst>
                <a:path w="1015" h="1107">
                  <a:moveTo>
                    <a:pt x="1015" y="1107"/>
                  </a:moveTo>
                  <a:lnTo>
                    <a:pt x="0" y="0"/>
                  </a:lnTo>
                  <a:lnTo>
                    <a:pt x="905" y="0"/>
                  </a:lnTo>
                  <a:lnTo>
                    <a:pt x="1015" y="11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1" name=""/>
          <p:cNvSpPr/>
          <p:nvPr/>
        </p:nvSpPr>
        <p:spPr>
          <a:xfrm>
            <a:off x="1963440" y="136044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D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250560" y="33156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Pristup iz kompanija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: lo</a:t>
            </a: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kalne mrež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416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mpanijs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univ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rzitets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kalna mrež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AN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vezuje kraj sistema 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therne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ljeni ili posvećen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vezuje kraj sistema 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Mbs, 100Mbps, Gigabi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4" name=""/>
          <p:cNvGrpSpPr/>
          <p:nvPr/>
        </p:nvGrpSpPr>
        <p:grpSpPr>
          <a:xfrm>
            <a:off x="5580000" y="2349360"/>
            <a:ext cx="2797920" cy="2350800"/>
            <a:chOff x="5580000" y="2349360"/>
            <a:chExt cx="2797920" cy="2350800"/>
          </a:xfrm>
        </p:grpSpPr>
        <p:pic>
          <p:nvPicPr>
            <p:cNvPr id="2955" name="" descr=""/>
            <p:cNvPicPr/>
            <p:nvPr/>
          </p:nvPicPr>
          <p:blipFill>
            <a:blip r:embed="rId1"/>
            <a:stretch/>
          </p:blipFill>
          <p:spPr>
            <a:xfrm>
              <a:off x="5580000" y="2349360"/>
              <a:ext cx="5983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6" name=""/>
            <p:cNvSpPr/>
            <p:nvPr/>
          </p:nvSpPr>
          <p:spPr>
            <a:xfrm flipV="1">
              <a:off x="6166440" y="2781000"/>
              <a:ext cx="102960" cy="1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7" name="" descr=""/>
            <p:cNvPicPr/>
            <p:nvPr/>
          </p:nvPicPr>
          <p:blipFill>
            <a:blip r:embed="rId2"/>
            <a:stretch/>
          </p:blipFill>
          <p:spPr>
            <a:xfrm>
              <a:off x="5580000" y="3391200"/>
              <a:ext cx="5983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8" name=""/>
            <p:cNvSpPr/>
            <p:nvPr/>
          </p:nvSpPr>
          <p:spPr>
            <a:xfrm flipV="1">
              <a:off x="6166440" y="3831480"/>
              <a:ext cx="10296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9" name=""/>
            <p:cNvGrpSpPr/>
            <p:nvPr/>
          </p:nvGrpSpPr>
          <p:grpSpPr>
            <a:xfrm>
              <a:off x="5759280" y="2948040"/>
              <a:ext cx="102600" cy="389520"/>
              <a:chOff x="5759280" y="2948040"/>
              <a:chExt cx="102600" cy="389520"/>
            </a:xfrm>
          </p:grpSpPr>
          <p:sp>
            <p:nvSpPr>
              <p:cNvPr id="2960" name=""/>
              <p:cNvSpPr/>
              <p:nvPr/>
            </p:nvSpPr>
            <p:spPr>
              <a:xfrm>
                <a:off x="5759280" y="2948040"/>
                <a:ext cx="94680" cy="1098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763240" y="3088080"/>
                <a:ext cx="94680" cy="10944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767200" y="3228120"/>
                <a:ext cx="94680" cy="10944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3" name=""/>
            <p:cNvSpPr/>
            <p:nvPr/>
          </p:nvSpPr>
          <p:spPr>
            <a:xfrm>
              <a:off x="6261480" y="2776320"/>
              <a:ext cx="0" cy="1053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64" name="" descr=""/>
            <p:cNvPicPr/>
            <p:nvPr/>
          </p:nvPicPr>
          <p:blipFill>
            <a:blip r:embed="rId3"/>
            <a:stretch/>
          </p:blipFill>
          <p:spPr>
            <a:xfrm>
              <a:off x="6829200" y="4119840"/>
              <a:ext cx="601200" cy="58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5" name="" descr=""/>
            <p:cNvPicPr/>
            <p:nvPr/>
          </p:nvPicPr>
          <p:blipFill>
            <a:blip r:embed="rId4"/>
            <a:stretch/>
          </p:blipFill>
          <p:spPr>
            <a:xfrm>
              <a:off x="5945040" y="4098600"/>
              <a:ext cx="5965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6" name=""/>
            <p:cNvSpPr/>
            <p:nvPr/>
          </p:nvSpPr>
          <p:spPr>
            <a:xfrm flipV="1">
              <a:off x="7194960" y="4024440"/>
              <a:ext cx="1800" cy="106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 flipV="1">
              <a:off x="6296400" y="4005720"/>
              <a:ext cx="0" cy="11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flipH="1">
              <a:off x="6298200" y="4015440"/>
              <a:ext cx="902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6257160" y="3351600"/>
              <a:ext cx="146520" cy="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0" name=""/>
            <p:cNvGrpSpPr/>
            <p:nvPr/>
          </p:nvGrpSpPr>
          <p:grpSpPr>
            <a:xfrm>
              <a:off x="7675920" y="3672000"/>
              <a:ext cx="299160" cy="716760"/>
              <a:chOff x="7675920" y="3672000"/>
              <a:chExt cx="299160" cy="716760"/>
            </a:xfrm>
          </p:grpSpPr>
          <p:sp>
            <p:nvSpPr>
              <p:cNvPr id="2971" name=""/>
              <p:cNvSpPr/>
              <p:nvPr/>
            </p:nvSpPr>
            <p:spPr>
              <a:xfrm>
                <a:off x="7675920" y="422316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827480" y="3676680"/>
                <a:ext cx="137520" cy="55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677720" y="3832920"/>
                <a:ext cx="189720" cy="551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675920" y="367200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975080" y="3683520"/>
                <a:ext cx="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H="1">
                <a:off x="7867080" y="4223160"/>
                <a:ext cx="10764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701480" y="3905280"/>
                <a:ext cx="125640" cy="3175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719840" y="4001040"/>
                <a:ext cx="954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9" name=""/>
            <p:cNvGrpSpPr/>
            <p:nvPr/>
          </p:nvGrpSpPr>
          <p:grpSpPr>
            <a:xfrm>
              <a:off x="8078760" y="3672000"/>
              <a:ext cx="299160" cy="716760"/>
              <a:chOff x="8078760" y="3672000"/>
              <a:chExt cx="299160" cy="716760"/>
            </a:xfrm>
          </p:grpSpPr>
          <p:sp>
            <p:nvSpPr>
              <p:cNvPr id="2980" name=""/>
              <p:cNvSpPr/>
              <p:nvPr/>
            </p:nvSpPr>
            <p:spPr>
              <a:xfrm>
                <a:off x="8078760" y="422316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8230320" y="3676680"/>
                <a:ext cx="137520" cy="55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8080560" y="3832920"/>
                <a:ext cx="189720" cy="551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8078760" y="367200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8377920" y="3683520"/>
                <a:ext cx="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H="1">
                <a:off x="8269920" y="4223160"/>
                <a:ext cx="10764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8104320" y="3905280"/>
                <a:ext cx="125640" cy="3175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8122680" y="4001040"/>
                <a:ext cx="954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8" name=""/>
            <p:cNvSpPr/>
            <p:nvPr/>
          </p:nvSpPr>
          <p:spPr>
            <a:xfrm>
              <a:off x="7124760" y="3428280"/>
              <a:ext cx="1127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 flipV="1">
              <a:off x="7889040" y="3412080"/>
              <a:ext cx="0" cy="28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0" name=""/>
            <p:cNvGrpSpPr/>
            <p:nvPr/>
          </p:nvGrpSpPr>
          <p:grpSpPr>
            <a:xfrm>
              <a:off x="6403680" y="3212640"/>
              <a:ext cx="720360" cy="407520"/>
              <a:chOff x="6403680" y="3212640"/>
              <a:chExt cx="720360" cy="407520"/>
            </a:xfrm>
          </p:grpSpPr>
          <p:sp>
            <p:nvSpPr>
              <p:cNvPr id="2991" name=""/>
              <p:cNvSpPr/>
              <p:nvPr/>
            </p:nvSpPr>
            <p:spPr>
              <a:xfrm>
                <a:off x="6409440" y="3394440"/>
                <a:ext cx="714600" cy="22572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6409440" y="3375360"/>
                <a:ext cx="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124040" y="3375360"/>
                <a:ext cx="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6409440" y="3375360"/>
                <a:ext cx="708120" cy="13788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6403680" y="3212640"/>
                <a:ext cx="714240" cy="26352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6" name=""/>
              <p:cNvGrpSpPr/>
              <p:nvPr/>
            </p:nvGrpSpPr>
            <p:grpSpPr>
              <a:xfrm>
                <a:off x="6575400" y="3270600"/>
                <a:ext cx="353880" cy="153720"/>
                <a:chOff x="6575400" y="3270600"/>
                <a:chExt cx="353880" cy="153720"/>
              </a:xfrm>
            </p:grpSpPr>
            <p:sp>
              <p:nvSpPr>
                <p:cNvPr id="2997" name=""/>
                <p:cNvSpPr/>
                <p:nvPr/>
              </p:nvSpPr>
              <p:spPr>
                <a:xfrm flipV="1">
                  <a:off x="6575400" y="3270600"/>
                  <a:ext cx="1260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6818040" y="3424320"/>
                  <a:ext cx="11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6691680" y="3273480"/>
                  <a:ext cx="1310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0" name=""/>
              <p:cNvGrpSpPr/>
              <p:nvPr/>
            </p:nvGrpSpPr>
            <p:grpSpPr>
              <a:xfrm>
                <a:off x="6575400" y="3268080"/>
                <a:ext cx="353880" cy="153720"/>
                <a:chOff x="6575400" y="3268080"/>
                <a:chExt cx="353880" cy="153720"/>
              </a:xfrm>
            </p:grpSpPr>
            <p:sp>
              <p:nvSpPr>
                <p:cNvPr id="3001" name=""/>
                <p:cNvSpPr/>
                <p:nvPr/>
              </p:nvSpPr>
              <p:spPr>
                <a:xfrm>
                  <a:off x="6575400" y="3418920"/>
                  <a:ext cx="1260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6818040" y="3268080"/>
                  <a:ext cx="11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 flipV="1">
                  <a:off x="6691680" y="3268440"/>
                  <a:ext cx="1310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04" name=""/>
            <p:cNvSpPr/>
            <p:nvPr/>
          </p:nvSpPr>
          <p:spPr>
            <a:xfrm>
              <a:off x="6762960" y="3607200"/>
              <a:ext cx="2160" cy="398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V="1">
              <a:off x="8248320" y="3412080"/>
              <a:ext cx="0" cy="28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4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76280" y="-11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Istorija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Internet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-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08" name=""/>
          <p:cNvSpPr/>
          <p:nvPr/>
        </p:nvSpPr>
        <p:spPr>
          <a:xfrm>
            <a:off x="395280" y="620640"/>
            <a:ext cx="836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0000"/>
                </a:solidFill>
                <a:latin typeface="Arial Black"/>
              </a:rPr>
              <a:t>Prva skica ARPA-net mre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rcRect l="0" t="0" r="0" b="8436"/>
          <a:stretch/>
        </p:blipFill>
        <p:spPr>
          <a:xfrm>
            <a:off x="900000" y="1052640"/>
            <a:ext cx="6480360" cy="57322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4140360" y="4149720"/>
            <a:ext cx="2304720" cy="2160720"/>
          </a:xfrm>
          <a:prstGeom prst="ellipse">
            <a:avLst/>
          </a:prstGeom>
          <a:solidFill>
            <a:srgbClr val="00ffff">
              <a:alpha val="12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76720" y="2205000"/>
            <a:ext cx="4032000" cy="1937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niverzitet Kalifornije u Los Agđelesu 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CL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ačunar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Xerox DSS7:SEX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znat pod nazivo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IGMA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04560" y="264960"/>
            <a:ext cx="8381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Bežični pristup mrežama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536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lje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bežič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st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reži povezuje kraj sistema 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ko bazne stan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access poin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pristupne tač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bežičn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N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mrež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b/g (WiFi): 11 ili 54 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der-area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bežični pri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bezbeđen prek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c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eća generaci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G ~ 384 k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 Ev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8" name=""/>
          <p:cNvGrpSpPr/>
          <p:nvPr/>
        </p:nvGrpSpPr>
        <p:grpSpPr>
          <a:xfrm>
            <a:off x="5419440" y="1743120"/>
            <a:ext cx="3273480" cy="3949200"/>
            <a:chOff x="5419440" y="1743120"/>
            <a:chExt cx="3273480" cy="3949200"/>
          </a:xfrm>
        </p:grpSpPr>
        <p:grpSp>
          <p:nvGrpSpPr>
            <p:cNvPr id="3009" name=""/>
            <p:cNvGrpSpPr/>
            <p:nvPr/>
          </p:nvGrpSpPr>
          <p:grpSpPr>
            <a:xfrm>
              <a:off x="6221520" y="4047840"/>
              <a:ext cx="622440" cy="793080"/>
              <a:chOff x="6221520" y="4047840"/>
              <a:chExt cx="622440" cy="793080"/>
            </a:xfrm>
          </p:grpSpPr>
          <p:pic>
            <p:nvPicPr>
              <p:cNvPr id="301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221520" y="4047840"/>
                <a:ext cx="58104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3680" y="4255560"/>
                <a:ext cx="53028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12" name=""/>
            <p:cNvGrpSpPr/>
            <p:nvPr/>
          </p:nvGrpSpPr>
          <p:grpSpPr>
            <a:xfrm>
              <a:off x="7377120" y="3962160"/>
              <a:ext cx="622080" cy="792720"/>
              <a:chOff x="7377120" y="3962160"/>
              <a:chExt cx="622080" cy="792720"/>
            </a:xfrm>
          </p:grpSpPr>
          <p:pic>
            <p:nvPicPr>
              <p:cNvPr id="30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7120" y="3962160"/>
                <a:ext cx="579240" cy="69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468920" y="4169880"/>
                <a:ext cx="530280" cy="58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15" name=""/>
            <p:cNvGrpSpPr/>
            <p:nvPr/>
          </p:nvGrpSpPr>
          <p:grpSpPr>
            <a:xfrm>
              <a:off x="6456600" y="2803320"/>
              <a:ext cx="580680" cy="700920"/>
              <a:chOff x="6456600" y="2803320"/>
              <a:chExt cx="580680" cy="700920"/>
            </a:xfrm>
          </p:grpSpPr>
          <p:pic>
            <p:nvPicPr>
              <p:cNvPr id="301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56600" y="2803320"/>
                <a:ext cx="58068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7" name=""/>
              <p:cNvSpPr/>
              <p:nvPr/>
            </p:nvSpPr>
            <p:spPr>
              <a:xfrm>
                <a:off x="6625440" y="3049560"/>
                <a:ext cx="409320" cy="4546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8" name=""/>
            <p:cNvGrpSpPr/>
            <p:nvPr/>
          </p:nvGrpSpPr>
          <p:grpSpPr>
            <a:xfrm>
              <a:off x="6489720" y="2193480"/>
              <a:ext cx="766440" cy="432360"/>
              <a:chOff x="6489720" y="2193480"/>
              <a:chExt cx="766440" cy="432360"/>
            </a:xfrm>
          </p:grpSpPr>
          <p:sp>
            <p:nvSpPr>
              <p:cNvPr id="3019" name=""/>
              <p:cNvSpPr/>
              <p:nvPr/>
            </p:nvSpPr>
            <p:spPr>
              <a:xfrm>
                <a:off x="6495840" y="2386440"/>
                <a:ext cx="760320" cy="23940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6495840" y="2366280"/>
                <a:ext cx="0" cy="14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256160" y="2366280"/>
                <a:ext cx="0" cy="14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495840" y="2366280"/>
                <a:ext cx="753480" cy="1465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6489720" y="2193480"/>
                <a:ext cx="759600" cy="27936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24" name=""/>
              <p:cNvGrpSpPr/>
              <p:nvPr/>
            </p:nvGrpSpPr>
            <p:grpSpPr>
              <a:xfrm>
                <a:off x="6672600" y="2254680"/>
                <a:ext cx="376200" cy="163080"/>
                <a:chOff x="6672600" y="2254680"/>
                <a:chExt cx="376200" cy="163080"/>
              </a:xfrm>
            </p:grpSpPr>
            <p:sp>
              <p:nvSpPr>
                <p:cNvPr id="3025" name=""/>
                <p:cNvSpPr/>
                <p:nvPr/>
              </p:nvSpPr>
              <p:spPr>
                <a:xfrm flipV="1">
                  <a:off x="6672600" y="2254680"/>
                  <a:ext cx="1342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6930720" y="2417760"/>
                  <a:ext cx="11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6796440" y="2258280"/>
                  <a:ext cx="139680" cy="15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8" name=""/>
              <p:cNvGrpSpPr/>
              <p:nvPr/>
            </p:nvGrpSpPr>
            <p:grpSpPr>
              <a:xfrm>
                <a:off x="6672600" y="2252880"/>
                <a:ext cx="376200" cy="163080"/>
                <a:chOff x="6672600" y="2252880"/>
                <a:chExt cx="376200" cy="163080"/>
              </a:xfrm>
            </p:grpSpPr>
            <p:sp>
              <p:nvSpPr>
                <p:cNvPr id="3029" name=""/>
                <p:cNvSpPr/>
                <p:nvPr/>
              </p:nvSpPr>
              <p:spPr>
                <a:xfrm>
                  <a:off x="6672600" y="2412720"/>
                  <a:ext cx="1342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6930720" y="2252880"/>
                  <a:ext cx="11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 flipV="1">
                  <a:off x="6796440" y="2252880"/>
                  <a:ext cx="139680" cy="15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32" name=""/>
            <p:cNvSpPr/>
            <p:nvPr/>
          </p:nvSpPr>
          <p:spPr>
            <a:xfrm flipV="1">
              <a:off x="6886800" y="2619000"/>
              <a:ext cx="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3" name=""/>
            <p:cNvGrpSpPr/>
            <p:nvPr/>
          </p:nvGrpSpPr>
          <p:grpSpPr>
            <a:xfrm>
              <a:off x="7621560" y="2358720"/>
              <a:ext cx="622080" cy="792720"/>
              <a:chOff x="7621560" y="2358720"/>
              <a:chExt cx="622080" cy="792720"/>
            </a:xfrm>
          </p:grpSpPr>
          <p:pic>
            <p:nvPicPr>
              <p:cNvPr id="303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21560" y="2358720"/>
                <a:ext cx="579240" cy="69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713360" y="2566440"/>
                <a:ext cx="530280" cy="58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36" name=""/>
            <p:cNvGrpSpPr/>
            <p:nvPr/>
          </p:nvGrpSpPr>
          <p:grpSpPr>
            <a:xfrm>
              <a:off x="8070840" y="3420720"/>
              <a:ext cx="622080" cy="792720"/>
              <a:chOff x="8070840" y="3420720"/>
              <a:chExt cx="622080" cy="792720"/>
            </a:xfrm>
          </p:grpSpPr>
          <p:pic>
            <p:nvPicPr>
              <p:cNvPr id="303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070840" y="3420720"/>
                <a:ext cx="579240" cy="69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162640" y="3628440"/>
                <a:ext cx="530280" cy="585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39" name=""/>
            <p:cNvSpPr/>
            <p:nvPr/>
          </p:nvSpPr>
          <p:spPr>
            <a:xfrm>
              <a:off x="5419440" y="2847600"/>
              <a:ext cx="119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Comic Sans MS"/>
                </a:rPr>
                <a:t>Baz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Comic Sans MS"/>
                </a:rPr>
                <a:t>stan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205040" y="4866840"/>
              <a:ext cx="132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Comic Sans MS"/>
                </a:rPr>
                <a:t>mobil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Comic Sans MS"/>
                </a:rPr>
                <a:t>host-ov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 flipV="1">
              <a:off x="6829560" y="1743120"/>
              <a:ext cx="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590440" y="2161800"/>
              <a:ext cx="90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1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276120" y="19404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Mreže u kućama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Komponente tipične mreže u kući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S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li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ablovski mo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/firewall/N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access poi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W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6753240" y="3371760"/>
            <a:ext cx="622440" cy="793800"/>
            <a:chOff x="6753240" y="3371760"/>
            <a:chExt cx="622440" cy="793800"/>
          </a:xfrm>
        </p:grpSpPr>
        <p:pic>
          <p:nvPicPr>
            <p:cNvPr id="3046" name="" descr=""/>
            <p:cNvPicPr/>
            <p:nvPr/>
          </p:nvPicPr>
          <p:blipFill>
            <a:blip r:embed="rId1"/>
            <a:stretch/>
          </p:blipFill>
          <p:spPr>
            <a:xfrm>
              <a:off x="6753240" y="3371760"/>
              <a:ext cx="5810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7" name="" descr=""/>
            <p:cNvPicPr/>
            <p:nvPr/>
          </p:nvPicPr>
          <p:blipFill>
            <a:blip r:embed="rId2"/>
            <a:stretch/>
          </p:blipFill>
          <p:spPr>
            <a:xfrm>
              <a:off x="6845400" y="3579840"/>
              <a:ext cx="530280" cy="58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8" name=""/>
          <p:cNvGrpSpPr/>
          <p:nvPr/>
        </p:nvGrpSpPr>
        <p:grpSpPr>
          <a:xfrm>
            <a:off x="6800760" y="4330800"/>
            <a:ext cx="622080" cy="793440"/>
            <a:chOff x="6800760" y="4330800"/>
            <a:chExt cx="622080" cy="793440"/>
          </a:xfrm>
        </p:grpSpPr>
        <p:pic>
          <p:nvPicPr>
            <p:cNvPr id="3049" name="" descr=""/>
            <p:cNvPicPr/>
            <p:nvPr/>
          </p:nvPicPr>
          <p:blipFill>
            <a:blip r:embed="rId3"/>
            <a:stretch/>
          </p:blipFill>
          <p:spPr>
            <a:xfrm>
              <a:off x="6800760" y="4330800"/>
              <a:ext cx="579240" cy="69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0" name="" descr=""/>
            <p:cNvPicPr/>
            <p:nvPr/>
          </p:nvPicPr>
          <p:blipFill>
            <a:blip r:embed="rId4"/>
            <a:stretch/>
          </p:blipFill>
          <p:spPr>
            <a:xfrm>
              <a:off x="6892560" y="4538880"/>
              <a:ext cx="530280" cy="58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1" name=""/>
          <p:cNvGrpSpPr/>
          <p:nvPr/>
        </p:nvGrpSpPr>
        <p:grpSpPr>
          <a:xfrm>
            <a:off x="6108840" y="3936960"/>
            <a:ext cx="539280" cy="633240"/>
            <a:chOff x="6108840" y="3936960"/>
            <a:chExt cx="539280" cy="633240"/>
          </a:xfrm>
        </p:grpSpPr>
        <p:pic>
          <p:nvPicPr>
            <p:cNvPr id="3052" name="" descr=""/>
            <p:cNvPicPr/>
            <p:nvPr/>
          </p:nvPicPr>
          <p:blipFill>
            <a:blip r:embed="rId5"/>
            <a:stretch/>
          </p:blipFill>
          <p:spPr>
            <a:xfrm>
              <a:off x="6108840" y="3936960"/>
              <a:ext cx="5392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3" name=""/>
            <p:cNvSpPr/>
            <p:nvPr/>
          </p:nvSpPr>
          <p:spPr>
            <a:xfrm>
              <a:off x="6265440" y="4159440"/>
              <a:ext cx="380160" cy="410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6478920" y="5133960"/>
            <a:ext cx="114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7571160" y="3981600"/>
            <a:ext cx="114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pt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3629160" y="449892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out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4821120" y="4448160"/>
            <a:ext cx="776520" cy="677880"/>
          </a:xfrm>
          <a:custGeom>
            <a:avLst/>
            <a:gdLst/>
            <a:ahLst/>
            <a:rect l="l" t="t" r="r" b="b"/>
            <a:pathLst>
              <a:path w="489" h="427">
                <a:moveTo>
                  <a:pt x="489" y="427"/>
                </a:moveTo>
                <a:lnTo>
                  <a:pt x="166" y="42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8" name=""/>
          <p:cNvGraphicFramePr/>
          <p:nvPr/>
        </p:nvGraphicFramePr>
        <p:xfrm>
          <a:off x="5526000" y="3222720"/>
          <a:ext cx="598680" cy="579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26000" y="3222720"/>
                    <a:ext cx="5986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0" name=""/>
          <p:cNvSpPr/>
          <p:nvPr/>
        </p:nvSpPr>
        <p:spPr>
          <a:xfrm flipV="1">
            <a:off x="5021280" y="4237920"/>
            <a:ext cx="1244520" cy="98280"/>
          </a:xfrm>
          <a:custGeom>
            <a:avLst/>
            <a:gdLst/>
            <a:ahLst/>
            <a:rect l="l" t="t" r="r" b="b"/>
            <a:pathLst>
              <a:path w="513" h="1">
                <a:moveTo>
                  <a:pt x="0" y="0"/>
                </a:moveTo>
                <a:lnTo>
                  <a:pt x="5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1" name=""/>
          <p:cNvGraphicFramePr/>
          <p:nvPr/>
        </p:nvGraphicFramePr>
        <p:xfrm>
          <a:off x="5553000" y="4951440"/>
          <a:ext cx="598680" cy="579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53000" y="4951440"/>
                    <a:ext cx="5986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3" name="modem"/>
          <p:cNvSpPr/>
          <p:nvPr/>
        </p:nvSpPr>
        <p:spPr>
          <a:xfrm>
            <a:off x="2435400" y="4232160"/>
            <a:ext cx="1033200" cy="208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3470400" y="4368960"/>
            <a:ext cx="814320" cy="1440"/>
          </a:xfrm>
          <a:custGeom>
            <a:avLst/>
            <a:gdLst/>
            <a:ahLst/>
            <a:rect l="l" t="t" r="r" b="b"/>
            <a:pathLst>
              <a:path w="513" h="1">
                <a:moveTo>
                  <a:pt x="0" y="0"/>
                </a:moveTo>
                <a:lnTo>
                  <a:pt x="5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 flipV="1">
            <a:off x="4765680" y="3591720"/>
            <a:ext cx="776160" cy="677880"/>
          </a:xfrm>
          <a:custGeom>
            <a:avLst/>
            <a:gdLst/>
            <a:ahLst/>
            <a:rect l="l" t="t" r="r" b="b"/>
            <a:pathLst>
              <a:path w="489" h="427">
                <a:moveTo>
                  <a:pt x="489" y="427"/>
                </a:moveTo>
                <a:lnTo>
                  <a:pt x="166" y="42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 flipH="1" flipV="1">
            <a:off x="6512040" y="4613400"/>
            <a:ext cx="12384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2373840" y="4484520"/>
            <a:ext cx="11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1870200" y="4351320"/>
            <a:ext cx="56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1074600" y="4348080"/>
            <a:ext cx="123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/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0" name=""/>
          <p:cNvGrpSpPr/>
          <p:nvPr/>
        </p:nvGrpSpPr>
        <p:grpSpPr>
          <a:xfrm>
            <a:off x="4246560" y="4146480"/>
            <a:ext cx="766440" cy="432720"/>
            <a:chOff x="4246560" y="4146480"/>
            <a:chExt cx="766440" cy="432720"/>
          </a:xfrm>
        </p:grpSpPr>
        <p:sp>
          <p:nvSpPr>
            <p:cNvPr id="3071" name=""/>
            <p:cNvSpPr/>
            <p:nvPr/>
          </p:nvSpPr>
          <p:spPr>
            <a:xfrm>
              <a:off x="4252680" y="4339440"/>
              <a:ext cx="760320" cy="2397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252680" y="431928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013000" y="431928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252680" y="4319280"/>
              <a:ext cx="753480" cy="1465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4246560" y="4146480"/>
              <a:ext cx="759600" cy="2797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6" name=""/>
            <p:cNvGrpSpPr/>
            <p:nvPr/>
          </p:nvGrpSpPr>
          <p:grpSpPr>
            <a:xfrm>
              <a:off x="4429440" y="4207680"/>
              <a:ext cx="376200" cy="163440"/>
              <a:chOff x="4429440" y="4207680"/>
              <a:chExt cx="376200" cy="163440"/>
            </a:xfrm>
          </p:grpSpPr>
          <p:sp>
            <p:nvSpPr>
              <p:cNvPr id="3077" name=""/>
              <p:cNvSpPr/>
              <p:nvPr/>
            </p:nvSpPr>
            <p:spPr>
              <a:xfrm flipV="1">
                <a:off x="4429440" y="420768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4687560" y="437112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4553280" y="421128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0" name=""/>
            <p:cNvGrpSpPr/>
            <p:nvPr/>
          </p:nvGrpSpPr>
          <p:grpSpPr>
            <a:xfrm>
              <a:off x="4429440" y="4206240"/>
              <a:ext cx="376200" cy="163440"/>
              <a:chOff x="4429440" y="4206240"/>
              <a:chExt cx="376200" cy="163440"/>
            </a:xfrm>
          </p:grpSpPr>
          <p:sp>
            <p:nvSpPr>
              <p:cNvPr id="3081" name=""/>
              <p:cNvSpPr/>
              <p:nvPr/>
            </p:nvSpPr>
            <p:spPr>
              <a:xfrm>
                <a:off x="4429440" y="436644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4687560" y="420624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 flipV="1">
                <a:off x="4553280" y="420624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4" name=""/>
          <p:cNvSpPr/>
          <p:nvPr/>
        </p:nvSpPr>
        <p:spPr>
          <a:xfrm>
            <a:off x="4232160" y="563256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 flipV="1">
            <a:off x="4862520" y="4875120"/>
            <a:ext cx="69840" cy="81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 flipV="1">
            <a:off x="4875120" y="3586320"/>
            <a:ext cx="444600" cy="2093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 flipV="1">
            <a:off x="4861080" y="5124600"/>
            <a:ext cx="347400" cy="528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228240" y="20412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Fi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zički mediji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5003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it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e prost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među parova predajni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jem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fizički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lin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ta leži između predajni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jem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"vođeni"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medi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ji (mediji sa vođenim talasima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se prostiru u čvrstim medij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ak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ptička vlakna-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er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sijalni ka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"nevođeni"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medi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ji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se prostiru slobod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alas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768560" y="1052640"/>
            <a:ext cx="419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Upredene parice </a:t>
            </a:r>
            <a:r>
              <a:rPr b="1" lang="sr-Latn-CS" sz="1900" spc="-1" strike="noStrike" u="sng">
                <a:solidFill>
                  <a:srgbClr val="ff0000"/>
                </a:solidFill>
                <a:uFillTx/>
                <a:latin typeface="Arial"/>
              </a:rPr>
              <a:t>(</a:t>
            </a: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Twisted Pair TP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ve izolovane bakarne ž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tegori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: trad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onalne telefonske ž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0 Mbps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tegori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Mbps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tegorija 6: 1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1" name="" descr=""/>
          <p:cNvPicPr/>
          <p:nvPr/>
        </p:nvPicPr>
        <p:blipFill>
          <a:blip r:embed="rId1"/>
          <a:stretch/>
        </p:blipFill>
        <p:spPr>
          <a:xfrm>
            <a:off x="5032440" y="6021360"/>
            <a:ext cx="411156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9144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Fi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zički mediji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: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k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oa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ksijalni kabl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,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optička vlakna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6432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Koaksijalni kab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va koncentrična bakarna provod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i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c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novni opseg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dan kanal po kab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cy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irokopojasno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ban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iše kanala po kab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C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hibridni fiber-koaksijalni kab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4" name="" descr=""/>
          <p:cNvPicPr/>
          <p:nvPr/>
        </p:nvPicPr>
        <p:blipFill>
          <a:blip r:embed="rId1"/>
          <a:stretch/>
        </p:blipFill>
        <p:spPr>
          <a:xfrm>
            <a:off x="1116000" y="6165720"/>
            <a:ext cx="2502000" cy="692280"/>
          </a:xfrm>
          <a:prstGeom prst="rect">
            <a:avLst/>
          </a:prstGeom>
          <a:ln w="0">
            <a:noFill/>
          </a:ln>
        </p:spPr>
      </p:pic>
      <p:sp>
        <p:nvSpPr>
          <p:cNvPr id="3095" name=""/>
          <p:cNvSpPr/>
          <p:nvPr/>
        </p:nvSpPr>
        <p:spPr>
          <a:xfrm>
            <a:off x="4335480" y="1092240"/>
            <a:ext cx="480852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Kabl sa optičkim vlaknim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klena vlakna kojima se prostiru svetlosni impu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de je svaki impuls jedan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peracije velikih brzi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nos velike brz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-to-point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’s-100’s G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la verovatnoća pojave greš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peat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i udaljeni međusob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imu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na elektromagnetni š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6" name="" descr=""/>
          <p:cNvPicPr/>
          <p:nvPr/>
        </p:nvPicPr>
        <p:blipFill>
          <a:blip r:embed="rId2"/>
          <a:stretch/>
        </p:blipFill>
        <p:spPr>
          <a:xfrm>
            <a:off x="5724360" y="5516640"/>
            <a:ext cx="186696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04560" y="204120"/>
            <a:ext cx="8381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Fi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zički medij</a:t>
            </a:r>
            <a:r>
              <a:rPr b="0" lang="en-GB" sz="4000" spc="-1" strike="noStrike">
                <a:solidFill>
                  <a:srgbClr val="003300"/>
                </a:solidFill>
                <a:latin typeface="Arial Black"/>
              </a:rPr>
              <a:t>i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: radio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d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đenog elektromagnetskog spek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ma fizič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c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fekti pr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iji tala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si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metanja zbog objek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erenc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4140360" y="981000"/>
            <a:ext cx="500364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Tipovi 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io link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ov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zemaljski-površinski mikrotal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 Mbp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 kana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Wif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bps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de-ar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ellul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G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ilja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ate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bp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Mbp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o kan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li više manjih kana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0 msec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šnjenje od kraja do kr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395280" y="187920"/>
            <a:ext cx="7996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Šta smo usvojili?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Šta j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istorija njegovog razvoj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ipovi mreža i arhitektura otvorenih sist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mponente računarskih mreža i Internet umrežav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dresiranje na Intern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režna gr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Jezgro mrež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režni pristup i fizički medij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truktur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a 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324000" y="1356840"/>
            <a:ext cx="8820000" cy="187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Policijska informatika</a:t>
            </a:r>
            <a:br>
              <a:rPr sz="4400"/>
            </a:br>
            <a:r>
              <a:rPr b="1" lang="sr-Latn-CS" sz="3600" spc="-1" strike="noStrike">
                <a:solidFill>
                  <a:srgbClr val="ff0000"/>
                </a:solidFill>
                <a:latin typeface="Arial Black"/>
              </a:rPr>
              <a:t>Poglavlje 02. </a:t>
            </a:r>
            <a:br>
              <a:rPr sz="3600"/>
            </a:br>
            <a:r>
              <a:rPr b="1" lang="sr-Latn-CS" sz="3600" spc="-1" strike="noStrike">
                <a:solidFill>
                  <a:srgbClr val="ff0000"/>
                </a:solidFill>
                <a:latin typeface="Arial Black"/>
              </a:rPr>
              <a:t>Umrežavanje i</a:t>
            </a:r>
            <a:r>
              <a:rPr b="0" lang="sr-Latn-C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i="1" lang="sr-Latn-CS" sz="3600" spc="-1" strike="noStrike">
                <a:solidFill>
                  <a:srgbClr val="ff0000"/>
                </a:solidFill>
                <a:latin typeface="Arial Black"/>
              </a:rPr>
              <a:t>Internet 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103" name="ftn_znak" descr=""/>
          <p:cNvPicPr/>
          <p:nvPr/>
        </p:nvPicPr>
        <p:blipFill>
          <a:blip r:embed="rId1"/>
          <a:stretch/>
        </p:blipFill>
        <p:spPr>
          <a:xfrm>
            <a:off x="0" y="0"/>
            <a:ext cx="1208160" cy="1268280"/>
          </a:xfrm>
          <a:prstGeom prst="rect">
            <a:avLst/>
          </a:prstGeom>
          <a:ln w="0">
            <a:noFill/>
          </a:ln>
        </p:spPr>
      </p:pic>
      <p:pic>
        <p:nvPicPr>
          <p:cNvPr id="3104" name="cezar_new" descr=""/>
          <p:cNvPicPr/>
          <p:nvPr/>
        </p:nvPicPr>
        <p:blipFill>
          <a:blip r:embed="rId2"/>
          <a:stretch/>
        </p:blipFill>
        <p:spPr>
          <a:xfrm>
            <a:off x="8024760" y="0"/>
            <a:ext cx="1119240" cy="1125360"/>
          </a:xfrm>
          <a:prstGeom prst="rect">
            <a:avLst/>
          </a:prstGeom>
          <a:ln w="0">
            <a:noFill/>
          </a:ln>
        </p:spPr>
      </p:pic>
      <p:pic>
        <p:nvPicPr>
          <p:cNvPr id="3105" name="" descr=""/>
          <p:cNvPicPr/>
          <p:nvPr/>
        </p:nvPicPr>
        <p:blipFill>
          <a:blip r:embed="rId3"/>
          <a:stretch/>
        </p:blipFill>
        <p:spPr>
          <a:xfrm>
            <a:off x="5364000" y="3357720"/>
            <a:ext cx="1540080" cy="3124080"/>
          </a:xfrm>
          <a:prstGeom prst="rect">
            <a:avLst/>
          </a:prstGeom>
          <a:ln w="0">
            <a:noFill/>
          </a:ln>
        </p:spPr>
      </p:pic>
      <p:sp>
        <p:nvSpPr>
          <p:cNvPr id="3106" name=""/>
          <p:cNvSpPr txBox="1"/>
          <p:nvPr/>
        </p:nvSpPr>
        <p:spPr>
          <a:xfrm>
            <a:off x="611280" y="4076640"/>
            <a:ext cx="4647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P i t a nj a 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3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7" name=""/>
          <p:cNvGrpSpPr/>
          <p:nvPr/>
        </p:nvGrpSpPr>
        <p:grpSpPr>
          <a:xfrm>
            <a:off x="108000" y="620640"/>
            <a:ext cx="8640720" cy="6042240"/>
            <a:chOff x="108000" y="620640"/>
            <a:chExt cx="8640720" cy="6042240"/>
          </a:xfrm>
        </p:grpSpPr>
        <p:grpSp>
          <p:nvGrpSpPr>
            <p:cNvPr id="3108" name=""/>
            <p:cNvGrpSpPr/>
            <p:nvPr/>
          </p:nvGrpSpPr>
          <p:grpSpPr>
            <a:xfrm>
              <a:off x="1979640" y="1268280"/>
              <a:ext cx="501480" cy="233280"/>
              <a:chOff x="1979640" y="1268280"/>
              <a:chExt cx="501480" cy="233280"/>
            </a:xfrm>
          </p:grpSpPr>
          <p:sp>
            <p:nvSpPr>
              <p:cNvPr id="3109" name=""/>
              <p:cNvSpPr/>
              <p:nvPr/>
            </p:nvSpPr>
            <p:spPr>
              <a:xfrm>
                <a:off x="1983600" y="1372320"/>
                <a:ext cx="497160" cy="1292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1983600" y="1361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2481120" y="1361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1983600" y="1361520"/>
                <a:ext cx="49284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1979640" y="1268280"/>
                <a:ext cx="496800" cy="1508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14" name=""/>
              <p:cNvGrpSpPr/>
              <p:nvPr/>
            </p:nvGrpSpPr>
            <p:grpSpPr>
              <a:xfrm>
                <a:off x="2099160" y="1301040"/>
                <a:ext cx="246240" cy="88560"/>
                <a:chOff x="2099160" y="1301040"/>
                <a:chExt cx="246240" cy="88560"/>
              </a:xfrm>
            </p:grpSpPr>
            <p:sp>
              <p:nvSpPr>
                <p:cNvPr id="3115" name=""/>
                <p:cNvSpPr/>
                <p:nvPr/>
              </p:nvSpPr>
              <p:spPr>
                <a:xfrm flipV="1">
                  <a:off x="2099160" y="1301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2268000" y="1389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2180160" y="13032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8" name=""/>
              <p:cNvGrpSpPr/>
              <p:nvPr/>
            </p:nvGrpSpPr>
            <p:grpSpPr>
              <a:xfrm>
                <a:off x="2099160" y="1299960"/>
                <a:ext cx="246240" cy="88560"/>
                <a:chOff x="2099160" y="1299960"/>
                <a:chExt cx="246240" cy="88560"/>
              </a:xfrm>
            </p:grpSpPr>
            <p:sp>
              <p:nvSpPr>
                <p:cNvPr id="3119" name=""/>
                <p:cNvSpPr/>
                <p:nvPr/>
              </p:nvSpPr>
              <p:spPr>
                <a:xfrm>
                  <a:off x="2099160" y="1386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2268000" y="12999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 flipV="1">
                  <a:off x="2180160" y="129996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22" name=""/>
            <p:cNvSpPr/>
            <p:nvPr/>
          </p:nvSpPr>
          <p:spPr>
            <a:xfrm>
              <a:off x="539640" y="126828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Glavni r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3132000" y="765000"/>
              <a:ext cx="1224000" cy="122400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3276720" y="119700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ARMU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5" name="" descr=""/>
            <p:cNvPicPr/>
            <p:nvPr/>
          </p:nvPicPr>
          <p:blipFill>
            <a:blip r:embed="rId1"/>
            <a:stretch/>
          </p:blipFill>
          <p:spPr>
            <a:xfrm>
              <a:off x="250920" y="3860640"/>
              <a:ext cx="50472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6" name="" descr=""/>
            <p:cNvPicPr/>
            <p:nvPr/>
          </p:nvPicPr>
          <p:blipFill>
            <a:blip r:embed="rId2"/>
            <a:stretch/>
          </p:blipFill>
          <p:spPr>
            <a:xfrm>
              <a:off x="4211640" y="2565360"/>
              <a:ext cx="50472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7" name="" descr=""/>
            <p:cNvPicPr/>
            <p:nvPr/>
          </p:nvPicPr>
          <p:blipFill>
            <a:blip r:embed="rId3"/>
            <a:stretch/>
          </p:blipFill>
          <p:spPr>
            <a:xfrm>
              <a:off x="1979640" y="5084640"/>
              <a:ext cx="57636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8" name="" descr=""/>
            <p:cNvPicPr/>
            <p:nvPr/>
          </p:nvPicPr>
          <p:blipFill>
            <a:blip r:embed="rId4"/>
            <a:stretch/>
          </p:blipFill>
          <p:spPr>
            <a:xfrm rot="5400000">
              <a:off x="2068560" y="1755720"/>
              <a:ext cx="45720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9" name="" descr=""/>
            <p:cNvPicPr/>
            <p:nvPr/>
          </p:nvPicPr>
          <p:blipFill>
            <a:blip r:embed="rId5"/>
            <a:stretch/>
          </p:blipFill>
          <p:spPr>
            <a:xfrm>
              <a:off x="4932360" y="620640"/>
              <a:ext cx="193500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0" name=""/>
            <p:cNvSpPr/>
            <p:nvPr/>
          </p:nvSpPr>
          <p:spPr>
            <a:xfrm>
              <a:off x="5364000" y="1197000"/>
              <a:ext cx="990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V="1">
              <a:off x="2484360" y="1341000"/>
              <a:ext cx="647640" cy="33480"/>
            </a:xfrm>
            <a:prstGeom prst="line">
              <a:avLst/>
            </a:prstGeom>
            <a:ln cap="sq" w="28440">
              <a:solidFill>
                <a:srgbClr val="5f5f5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 flipV="1">
              <a:off x="2268360" y="1557360"/>
              <a:ext cx="0" cy="504720"/>
            </a:xfrm>
            <a:prstGeom prst="line">
              <a:avLst/>
            </a:prstGeom>
            <a:ln cap="sq" w="28440">
              <a:solidFill>
                <a:srgbClr val="5f5f5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284720" y="1413000"/>
              <a:ext cx="609480" cy="0"/>
            </a:xfrm>
            <a:prstGeom prst="line">
              <a:avLst/>
            </a:prstGeom>
            <a:ln cap="sq" w="28440">
              <a:solidFill>
                <a:srgbClr val="5f5f5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 flipV="1">
              <a:off x="2268360" y="3284280"/>
              <a:ext cx="0" cy="1152360"/>
            </a:xfrm>
            <a:prstGeom prst="line">
              <a:avLst/>
            </a:prstGeom>
            <a:ln cap="sq" w="28440">
              <a:solidFill>
                <a:srgbClr val="5f5f5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35" name="" descr=""/>
            <p:cNvPicPr/>
            <p:nvPr/>
          </p:nvPicPr>
          <p:blipFill>
            <a:blip r:embed="rId6"/>
            <a:stretch/>
          </p:blipFill>
          <p:spPr>
            <a:xfrm>
              <a:off x="3348000" y="2565360"/>
              <a:ext cx="4320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6" name="" descr=""/>
            <p:cNvPicPr/>
            <p:nvPr/>
          </p:nvPicPr>
          <p:blipFill>
            <a:blip r:embed="rId7"/>
            <a:stretch/>
          </p:blipFill>
          <p:spPr>
            <a:xfrm rot="5400000">
              <a:off x="1996560" y="4132080"/>
              <a:ext cx="45720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7" name=""/>
            <p:cNvGrpSpPr/>
            <p:nvPr/>
          </p:nvGrpSpPr>
          <p:grpSpPr>
            <a:xfrm>
              <a:off x="2050920" y="2997360"/>
              <a:ext cx="501840" cy="232920"/>
              <a:chOff x="2050920" y="2997360"/>
              <a:chExt cx="501840" cy="232920"/>
            </a:xfrm>
          </p:grpSpPr>
          <p:sp>
            <p:nvSpPr>
              <p:cNvPr id="3138" name=""/>
              <p:cNvSpPr/>
              <p:nvPr/>
            </p:nvSpPr>
            <p:spPr>
              <a:xfrm>
                <a:off x="2054880" y="3101400"/>
                <a:ext cx="497520" cy="1288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2054880" y="3090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2552760" y="3090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2054880" y="3090240"/>
                <a:ext cx="49320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2050920" y="2997360"/>
                <a:ext cx="497160" cy="1504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3" name=""/>
              <p:cNvGrpSpPr/>
              <p:nvPr/>
            </p:nvGrpSpPr>
            <p:grpSpPr>
              <a:xfrm>
                <a:off x="2170440" y="3030120"/>
                <a:ext cx="246240" cy="88200"/>
                <a:chOff x="2170440" y="3030120"/>
                <a:chExt cx="246240" cy="88200"/>
              </a:xfrm>
            </p:grpSpPr>
            <p:sp>
              <p:nvSpPr>
                <p:cNvPr id="3144" name=""/>
                <p:cNvSpPr/>
                <p:nvPr/>
              </p:nvSpPr>
              <p:spPr>
                <a:xfrm flipV="1">
                  <a:off x="2170440" y="3030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2339280" y="3118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2251440" y="30322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7" name=""/>
              <p:cNvGrpSpPr/>
              <p:nvPr/>
            </p:nvGrpSpPr>
            <p:grpSpPr>
              <a:xfrm>
                <a:off x="2170440" y="3029400"/>
                <a:ext cx="246240" cy="88200"/>
                <a:chOff x="2170440" y="3029400"/>
                <a:chExt cx="246240" cy="88200"/>
              </a:xfrm>
            </p:grpSpPr>
            <p:sp>
              <p:nvSpPr>
                <p:cNvPr id="3148" name=""/>
                <p:cNvSpPr/>
                <p:nvPr/>
              </p:nvSpPr>
              <p:spPr>
                <a:xfrm>
                  <a:off x="2170440" y="31158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2339280" y="3029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 flipV="1">
                  <a:off x="2251440" y="3029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51" name=""/>
            <p:cNvSpPr/>
            <p:nvPr/>
          </p:nvSpPr>
          <p:spPr>
            <a:xfrm>
              <a:off x="684360" y="2781360"/>
              <a:ext cx="1223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Inter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SW /r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 flipV="1">
              <a:off x="2340000" y="2491920"/>
              <a:ext cx="0" cy="505080"/>
            </a:xfrm>
            <a:prstGeom prst="line">
              <a:avLst/>
            </a:prstGeom>
            <a:ln cap="sq" w="28440">
              <a:solidFill>
                <a:srgbClr val="5f5f5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468360" y="1989000"/>
              <a:ext cx="122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Glavni firew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43280" y="2349360"/>
              <a:ext cx="3457440" cy="0"/>
            </a:xfrm>
            <a:prstGeom prst="line">
              <a:avLst/>
            </a:prstGeom>
            <a:ln cap="sq" w="28440">
              <a:solidFill>
                <a:srgbClr val="5f5f5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3564000" y="2349360"/>
              <a:ext cx="0" cy="216000"/>
            </a:xfrm>
            <a:prstGeom prst="line">
              <a:avLst/>
            </a:prstGeom>
            <a:ln cap="sq" w="28440">
              <a:solidFill>
                <a:srgbClr val="5f5f5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500720" y="2349360"/>
              <a:ext cx="0" cy="216000"/>
            </a:xfrm>
            <a:prstGeom prst="line">
              <a:avLst/>
            </a:prstGeom>
            <a:ln cap="sq" w="28440">
              <a:solidFill>
                <a:srgbClr val="5f5f5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3132000" y="2060640"/>
              <a:ext cx="216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Demilitarizovana zo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987640" y="3357720"/>
              <a:ext cx="1224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Autentikacio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4211640" y="3429000"/>
              <a:ext cx="79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Web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0" name="" descr=""/>
            <p:cNvPicPr/>
            <p:nvPr/>
          </p:nvPicPr>
          <p:blipFill>
            <a:blip r:embed="rId8"/>
            <a:stretch/>
          </p:blipFill>
          <p:spPr>
            <a:xfrm rot="5400000">
              <a:off x="4588920" y="4132080"/>
              <a:ext cx="4572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1" name="" descr=""/>
            <p:cNvPicPr/>
            <p:nvPr/>
          </p:nvPicPr>
          <p:blipFill>
            <a:blip r:embed="rId9"/>
            <a:stretch/>
          </p:blipFill>
          <p:spPr>
            <a:xfrm>
              <a:off x="4572000" y="5157720"/>
              <a:ext cx="57636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2" name="" descr=""/>
            <p:cNvPicPr/>
            <p:nvPr/>
          </p:nvPicPr>
          <p:blipFill>
            <a:blip r:embed="rId10"/>
            <a:stretch/>
          </p:blipFill>
          <p:spPr>
            <a:xfrm>
              <a:off x="250920" y="4653000"/>
              <a:ext cx="50472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3" name="" descr=""/>
            <p:cNvPicPr/>
            <p:nvPr/>
          </p:nvPicPr>
          <p:blipFill>
            <a:blip r:embed="rId11"/>
            <a:stretch/>
          </p:blipFill>
          <p:spPr>
            <a:xfrm>
              <a:off x="324000" y="5950080"/>
              <a:ext cx="50472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4" name=""/>
            <p:cNvSpPr/>
            <p:nvPr/>
          </p:nvSpPr>
          <p:spPr>
            <a:xfrm>
              <a:off x="900000" y="3213000"/>
              <a:ext cx="1295640" cy="2952720"/>
            </a:xfrm>
            <a:custGeom>
              <a:avLst/>
              <a:gdLst/>
              <a:ahLst/>
              <a:rect l="l" t="t" r="r" b="b"/>
              <a:pathLst>
                <a:path w="816" h="1860">
                  <a:moveTo>
                    <a:pt x="0" y="1860"/>
                  </a:moveTo>
                  <a:lnTo>
                    <a:pt x="136" y="1860"/>
                  </a:lnTo>
                  <a:lnTo>
                    <a:pt x="136" y="862"/>
                  </a:lnTo>
                  <a:lnTo>
                    <a:pt x="81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755640" y="3213000"/>
              <a:ext cx="1368360" cy="1584360"/>
            </a:xfrm>
            <a:custGeom>
              <a:avLst/>
              <a:gdLst/>
              <a:ahLst/>
              <a:rect l="l" t="t" r="r" b="b"/>
              <a:pathLst>
                <a:path w="862" h="998">
                  <a:moveTo>
                    <a:pt x="0" y="998"/>
                  </a:moveTo>
                  <a:lnTo>
                    <a:pt x="136" y="998"/>
                  </a:lnTo>
                  <a:lnTo>
                    <a:pt x="136" y="726"/>
                  </a:lnTo>
                  <a:lnTo>
                    <a:pt x="86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826920" y="3213000"/>
              <a:ext cx="11527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 flipH="1" flipV="1">
              <a:off x="2411280" y="3284640"/>
              <a:ext cx="1873440" cy="1224000"/>
            </a:xfrm>
            <a:prstGeom prst="line">
              <a:avLst/>
            </a:prstGeom>
            <a:ln cap="sq" w="28440">
              <a:solidFill>
                <a:srgbClr val="5f5f5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8" name="" descr=""/>
            <p:cNvPicPr/>
            <p:nvPr/>
          </p:nvPicPr>
          <p:blipFill>
            <a:blip r:embed="rId12"/>
            <a:stretch/>
          </p:blipFill>
          <p:spPr>
            <a:xfrm>
              <a:off x="5076720" y="2565360"/>
              <a:ext cx="5050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9" name=""/>
            <p:cNvSpPr/>
            <p:nvPr/>
          </p:nvSpPr>
          <p:spPr>
            <a:xfrm flipV="1">
              <a:off x="5364000" y="2349360"/>
              <a:ext cx="0" cy="216000"/>
            </a:xfrm>
            <a:prstGeom prst="line">
              <a:avLst/>
            </a:prstGeom>
            <a:ln cap="sq" w="28440">
              <a:solidFill>
                <a:srgbClr val="5f5f5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076720" y="3429000"/>
              <a:ext cx="79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Mai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547640" y="595008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Baza podata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poslovni si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V="1">
              <a:off x="2268360" y="4797360"/>
              <a:ext cx="0" cy="287280"/>
            </a:xfrm>
            <a:prstGeom prst="line">
              <a:avLst/>
            </a:prstGeom>
            <a:ln cap="sq" w="28440">
              <a:solidFill>
                <a:srgbClr val="5f5f5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771640" y="4437000"/>
              <a:ext cx="863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Barije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poslov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435640" y="4292640"/>
              <a:ext cx="863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Barije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Nastavni si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140360" y="6021360"/>
              <a:ext cx="1368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Baza podata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Nastavni si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V="1">
              <a:off x="4859280" y="4869000"/>
              <a:ext cx="0" cy="287280"/>
            </a:xfrm>
            <a:prstGeom prst="line">
              <a:avLst/>
            </a:prstGeom>
            <a:ln cap="sq" w="28440">
              <a:solidFill>
                <a:srgbClr val="5f5f5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108000" y="342900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Klijen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8" name=""/>
            <p:cNvGrpSpPr/>
            <p:nvPr/>
          </p:nvGrpSpPr>
          <p:grpSpPr>
            <a:xfrm>
              <a:off x="7740720" y="2276640"/>
              <a:ext cx="621360" cy="792720"/>
              <a:chOff x="7740720" y="2276640"/>
              <a:chExt cx="621360" cy="792720"/>
            </a:xfrm>
          </p:grpSpPr>
          <p:pic>
            <p:nvPicPr>
              <p:cNvPr id="317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740720" y="2276640"/>
                <a:ext cx="578880" cy="69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32160" y="2484360"/>
                <a:ext cx="529920" cy="58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81" name=""/>
            <p:cNvGrpSpPr/>
            <p:nvPr/>
          </p:nvGrpSpPr>
          <p:grpSpPr>
            <a:xfrm>
              <a:off x="6659640" y="2708280"/>
              <a:ext cx="580680" cy="701280"/>
              <a:chOff x="6659640" y="2708280"/>
              <a:chExt cx="580680" cy="701280"/>
            </a:xfrm>
          </p:grpSpPr>
          <p:pic>
            <p:nvPicPr>
              <p:cNvPr id="318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659640" y="2708280"/>
                <a:ext cx="58068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3" name=""/>
              <p:cNvSpPr/>
              <p:nvPr/>
            </p:nvSpPr>
            <p:spPr>
              <a:xfrm>
                <a:off x="6828480" y="2954520"/>
                <a:ext cx="409320" cy="4546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4" name=""/>
            <p:cNvGrpSpPr/>
            <p:nvPr/>
          </p:nvGrpSpPr>
          <p:grpSpPr>
            <a:xfrm>
              <a:off x="7885080" y="3068640"/>
              <a:ext cx="622080" cy="793440"/>
              <a:chOff x="7885080" y="3068640"/>
              <a:chExt cx="622080" cy="793440"/>
            </a:xfrm>
          </p:grpSpPr>
          <p:pic>
            <p:nvPicPr>
              <p:cNvPr id="3185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885080" y="3068640"/>
                <a:ext cx="57924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976880" y="3276720"/>
                <a:ext cx="53028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87" name=""/>
            <p:cNvSpPr/>
            <p:nvPr/>
          </p:nvSpPr>
          <p:spPr>
            <a:xfrm>
              <a:off x="6156360" y="2349360"/>
              <a:ext cx="647640" cy="792360"/>
            </a:xfrm>
            <a:custGeom>
              <a:avLst/>
              <a:gdLst/>
              <a:ahLst/>
              <a:rect l="l" t="t" r="r" b="b"/>
              <a:pathLst>
                <a:path w="408" h="499">
                  <a:moveTo>
                    <a:pt x="0" y="0"/>
                  </a:moveTo>
                  <a:lnTo>
                    <a:pt x="0" y="499"/>
                  </a:lnTo>
                  <a:lnTo>
                    <a:pt x="408" y="49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6300720" y="3429000"/>
              <a:ext cx="8636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W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Bežič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pristup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tač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89" name="" descr=""/>
            <p:cNvPicPr/>
            <p:nvPr/>
          </p:nvPicPr>
          <p:blipFill>
            <a:blip r:embed="rId18"/>
            <a:stretch/>
          </p:blipFill>
          <p:spPr>
            <a:xfrm>
              <a:off x="7308720" y="620640"/>
              <a:ext cx="50508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0" name=""/>
            <p:cNvSpPr/>
            <p:nvPr/>
          </p:nvSpPr>
          <p:spPr>
            <a:xfrm flipV="1">
              <a:off x="6732720" y="907920"/>
              <a:ext cx="647640" cy="144720"/>
            </a:xfrm>
            <a:prstGeom prst="line">
              <a:avLst/>
            </a:prstGeom>
            <a:ln cap="sq" w="28440">
              <a:solidFill>
                <a:srgbClr val="5f5f5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7885080" y="1052640"/>
              <a:ext cx="863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Comic Sans MS"/>
                </a:rPr>
                <a:t>Klijen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2" name=""/>
            <p:cNvGrpSpPr/>
            <p:nvPr/>
          </p:nvGrpSpPr>
          <p:grpSpPr>
            <a:xfrm>
              <a:off x="7093080" y="1989000"/>
              <a:ext cx="621360" cy="793440"/>
              <a:chOff x="7093080" y="1989000"/>
              <a:chExt cx="621360" cy="793440"/>
            </a:xfrm>
          </p:grpSpPr>
          <p:pic>
            <p:nvPicPr>
              <p:cNvPr id="3193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7093080" y="1989000"/>
                <a:ext cx="57888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4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184520" y="2197080"/>
                <a:ext cx="52992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95" name=""/>
            <p:cNvGrpSpPr/>
            <p:nvPr/>
          </p:nvGrpSpPr>
          <p:grpSpPr>
            <a:xfrm>
              <a:off x="7236000" y="3429000"/>
              <a:ext cx="621360" cy="793440"/>
              <a:chOff x="7236000" y="3429000"/>
              <a:chExt cx="621360" cy="793440"/>
            </a:xfrm>
          </p:grpSpPr>
          <p:pic>
            <p:nvPicPr>
              <p:cNvPr id="319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236000" y="3429000"/>
                <a:ext cx="57888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7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7327440" y="3637080"/>
                <a:ext cx="529920" cy="585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76280" y="-11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Istorija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Internet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-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3" name=""/>
          <p:cNvSpPr/>
          <p:nvPr/>
        </p:nvSpPr>
        <p:spPr>
          <a:xfrm>
            <a:off x="395280" y="620640"/>
            <a:ext cx="836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0000"/>
                </a:solidFill>
                <a:latin typeface="Arial Black"/>
              </a:rPr>
              <a:t>Prva skica ARPA-net mre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rcRect l="0" t="0" r="0" b="8436"/>
          <a:stretch/>
        </p:blipFill>
        <p:spPr>
          <a:xfrm>
            <a:off x="1042920" y="1125360"/>
            <a:ext cx="6480360" cy="573264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3635280" y="1125360"/>
            <a:ext cx="2305080" cy="2160720"/>
          </a:xfrm>
          <a:prstGeom prst="ellipse">
            <a:avLst/>
          </a:prstGeom>
          <a:solidFill>
            <a:srgbClr val="00ffff">
              <a:alpha val="12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84360" y="3357720"/>
            <a:ext cx="4896000" cy="1572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nstitut za razvoj Stanford univerzite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RI – Stanford Research Institut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ačunar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DS940/Geni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76280" y="-11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Istorija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Internet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-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8" name=""/>
          <p:cNvSpPr/>
          <p:nvPr/>
        </p:nvSpPr>
        <p:spPr>
          <a:xfrm>
            <a:off x="395280" y="620640"/>
            <a:ext cx="836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0000"/>
                </a:solidFill>
                <a:latin typeface="Arial Black"/>
              </a:rPr>
              <a:t>Prva skica ARPA-net mre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rcRect l="0" t="0" r="0" b="8436"/>
          <a:stretch/>
        </p:blipFill>
        <p:spPr>
          <a:xfrm>
            <a:off x="971640" y="1125360"/>
            <a:ext cx="6480000" cy="57326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692360" y="2852640"/>
            <a:ext cx="2305080" cy="2160720"/>
          </a:xfrm>
          <a:prstGeom prst="ellipse">
            <a:avLst/>
          </a:prstGeom>
          <a:solidFill>
            <a:srgbClr val="00ffff">
              <a:alpha val="12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067280" y="3284640"/>
            <a:ext cx="4500360" cy="1381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niverzitet Kalifornije u Santa Barbari 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CSB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ačunar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BM 360/75:Os/MV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76280" y="-11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Istorija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Internet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-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3" name=""/>
          <p:cNvSpPr/>
          <p:nvPr/>
        </p:nvSpPr>
        <p:spPr>
          <a:xfrm>
            <a:off x="395280" y="620640"/>
            <a:ext cx="836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0000"/>
                </a:solidFill>
                <a:latin typeface="Arial Black"/>
              </a:rPr>
              <a:t>Prva skica ARPA-net mre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rcRect l="0" t="0" r="0" b="8436"/>
          <a:stretch/>
        </p:blipFill>
        <p:spPr>
          <a:xfrm>
            <a:off x="971640" y="1125360"/>
            <a:ext cx="6480000" cy="573264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5364000" y="1844640"/>
            <a:ext cx="2305080" cy="2160720"/>
          </a:xfrm>
          <a:prstGeom prst="ellipse">
            <a:avLst/>
          </a:prstGeom>
          <a:solidFill>
            <a:srgbClr val="00ffff">
              <a:alpha val="12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356000" y="4005360"/>
            <a:ext cx="4500720" cy="1015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niverzitet Juta 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TA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ačunar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DEC PDP-10/Ten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76280" y="-11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Istorija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Internet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-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8" name=""/>
          <p:cNvSpPr/>
          <p:nvPr/>
        </p:nvSpPr>
        <p:spPr>
          <a:xfrm>
            <a:off x="395280" y="620640"/>
            <a:ext cx="836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0000"/>
                </a:solidFill>
                <a:latin typeface="Arial Black"/>
              </a:rPr>
              <a:t>Prva skica ARPA-net mre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rcRect l="0" t="0" r="0" b="8436"/>
          <a:stretch/>
        </p:blipFill>
        <p:spPr>
          <a:xfrm>
            <a:off x="179280" y="1628640"/>
            <a:ext cx="3816360" cy="395928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4067280" y="1413000"/>
            <a:ext cx="4860720" cy="3035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reža je povezana sa 50Kbs vez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ezom su upravljali procesori informacionih poruka 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 na bazi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Honeywell 516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mini-račun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omunikacioni protokol –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CP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Network Controle Protocol) – prvi host to host protok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13000" y="2286000"/>
            <a:ext cx="1814400" cy="2235240"/>
          </a:xfrm>
          <a:custGeom>
            <a:avLst/>
            <a:gdLst/>
            <a:ahLst/>
            <a:rect l="l" t="t" r="r" b="b"/>
            <a:pathLst>
              <a:path w="1143" h="1408">
                <a:moveTo>
                  <a:pt x="18" y="506"/>
                </a:moveTo>
                <a:cubicBezTo>
                  <a:pt x="35" y="529"/>
                  <a:pt x="54" y="551"/>
                  <a:pt x="70" y="576"/>
                </a:cubicBezTo>
                <a:cubicBezTo>
                  <a:pt x="75" y="584"/>
                  <a:pt x="74" y="594"/>
                  <a:pt x="79" y="602"/>
                </a:cubicBezTo>
                <a:cubicBezTo>
                  <a:pt x="93" y="626"/>
                  <a:pt x="129" y="644"/>
                  <a:pt x="149" y="663"/>
                </a:cubicBezTo>
                <a:cubicBezTo>
                  <a:pt x="160" y="699"/>
                  <a:pt x="187" y="721"/>
                  <a:pt x="210" y="751"/>
                </a:cubicBezTo>
                <a:cubicBezTo>
                  <a:pt x="223" y="768"/>
                  <a:pt x="245" y="803"/>
                  <a:pt x="245" y="803"/>
                </a:cubicBezTo>
                <a:cubicBezTo>
                  <a:pt x="272" y="889"/>
                  <a:pt x="208" y="944"/>
                  <a:pt x="131" y="960"/>
                </a:cubicBezTo>
                <a:cubicBezTo>
                  <a:pt x="84" y="1007"/>
                  <a:pt x="86" y="1005"/>
                  <a:pt x="70" y="1065"/>
                </a:cubicBezTo>
                <a:cubicBezTo>
                  <a:pt x="82" y="1155"/>
                  <a:pt x="89" y="1206"/>
                  <a:pt x="175" y="1248"/>
                </a:cubicBezTo>
                <a:cubicBezTo>
                  <a:pt x="212" y="1285"/>
                  <a:pt x="256" y="1321"/>
                  <a:pt x="297" y="1353"/>
                </a:cubicBezTo>
                <a:cubicBezTo>
                  <a:pt x="313" y="1366"/>
                  <a:pt x="332" y="1376"/>
                  <a:pt x="349" y="1388"/>
                </a:cubicBezTo>
                <a:cubicBezTo>
                  <a:pt x="364" y="1398"/>
                  <a:pt x="402" y="1405"/>
                  <a:pt x="402" y="1405"/>
                </a:cubicBezTo>
                <a:cubicBezTo>
                  <a:pt x="450" y="1393"/>
                  <a:pt x="505" y="1408"/>
                  <a:pt x="541" y="1370"/>
                </a:cubicBezTo>
                <a:cubicBezTo>
                  <a:pt x="557" y="1200"/>
                  <a:pt x="571" y="1249"/>
                  <a:pt x="768" y="1239"/>
                </a:cubicBezTo>
                <a:cubicBezTo>
                  <a:pt x="803" y="1228"/>
                  <a:pt x="821" y="1213"/>
                  <a:pt x="847" y="1187"/>
                </a:cubicBezTo>
                <a:cubicBezTo>
                  <a:pt x="889" y="1101"/>
                  <a:pt x="910" y="1005"/>
                  <a:pt x="943" y="916"/>
                </a:cubicBezTo>
                <a:cubicBezTo>
                  <a:pt x="951" y="895"/>
                  <a:pt x="960" y="875"/>
                  <a:pt x="969" y="855"/>
                </a:cubicBezTo>
                <a:cubicBezTo>
                  <a:pt x="980" y="831"/>
                  <a:pt x="1004" y="785"/>
                  <a:pt x="1004" y="785"/>
                </a:cubicBezTo>
                <a:cubicBezTo>
                  <a:pt x="1015" y="687"/>
                  <a:pt x="1028" y="586"/>
                  <a:pt x="1074" y="497"/>
                </a:cubicBezTo>
                <a:cubicBezTo>
                  <a:pt x="1081" y="441"/>
                  <a:pt x="1079" y="418"/>
                  <a:pt x="1109" y="375"/>
                </a:cubicBezTo>
                <a:cubicBezTo>
                  <a:pt x="1118" y="346"/>
                  <a:pt x="1134" y="326"/>
                  <a:pt x="1143" y="297"/>
                </a:cubicBezTo>
                <a:cubicBezTo>
                  <a:pt x="1133" y="190"/>
                  <a:pt x="1119" y="110"/>
                  <a:pt x="1030" y="44"/>
                </a:cubicBezTo>
                <a:cubicBezTo>
                  <a:pt x="1016" y="1"/>
                  <a:pt x="1003" y="11"/>
                  <a:pt x="960" y="0"/>
                </a:cubicBezTo>
                <a:cubicBezTo>
                  <a:pt x="950" y="1"/>
                  <a:pt x="868" y="2"/>
                  <a:pt x="838" y="17"/>
                </a:cubicBezTo>
                <a:cubicBezTo>
                  <a:pt x="763" y="55"/>
                  <a:pt x="858" y="19"/>
                  <a:pt x="786" y="44"/>
                </a:cubicBezTo>
                <a:cubicBezTo>
                  <a:pt x="753" y="140"/>
                  <a:pt x="767" y="78"/>
                  <a:pt x="777" y="236"/>
                </a:cubicBezTo>
                <a:cubicBezTo>
                  <a:pt x="774" y="265"/>
                  <a:pt x="777" y="295"/>
                  <a:pt x="768" y="323"/>
                </a:cubicBezTo>
                <a:cubicBezTo>
                  <a:pt x="761" y="345"/>
                  <a:pt x="700" y="351"/>
                  <a:pt x="681" y="358"/>
                </a:cubicBezTo>
                <a:cubicBezTo>
                  <a:pt x="654" y="383"/>
                  <a:pt x="638" y="393"/>
                  <a:pt x="602" y="401"/>
                </a:cubicBezTo>
                <a:cubicBezTo>
                  <a:pt x="563" y="392"/>
                  <a:pt x="541" y="380"/>
                  <a:pt x="515" y="349"/>
                </a:cubicBezTo>
                <a:cubicBezTo>
                  <a:pt x="494" y="323"/>
                  <a:pt x="495" y="289"/>
                  <a:pt x="463" y="271"/>
                </a:cubicBezTo>
                <a:cubicBezTo>
                  <a:pt x="447" y="262"/>
                  <a:pt x="428" y="257"/>
                  <a:pt x="410" y="253"/>
                </a:cubicBezTo>
                <a:cubicBezTo>
                  <a:pt x="387" y="247"/>
                  <a:pt x="341" y="236"/>
                  <a:pt x="341" y="236"/>
                </a:cubicBezTo>
                <a:cubicBezTo>
                  <a:pt x="300" y="239"/>
                  <a:pt x="259" y="237"/>
                  <a:pt x="218" y="244"/>
                </a:cubicBezTo>
                <a:cubicBezTo>
                  <a:pt x="149" y="255"/>
                  <a:pt x="106" y="341"/>
                  <a:pt x="53" y="375"/>
                </a:cubicBezTo>
                <a:cubicBezTo>
                  <a:pt x="40" y="411"/>
                  <a:pt x="13" y="434"/>
                  <a:pt x="0" y="471"/>
                </a:cubicBezTo>
                <a:cubicBezTo>
                  <a:pt x="7" y="478"/>
                  <a:pt x="66" y="531"/>
                  <a:pt x="18" y="506"/>
                </a:cubicBezTo>
                <a:close/>
              </a:path>
            </a:pathLst>
          </a:custGeom>
          <a:solidFill>
            <a:srgbClr val="00ffff">
              <a:alpha val="13000"/>
            </a:srgbClr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76280" y="-11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Istorija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Internet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-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1970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H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reža na Havaj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1972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PAnet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kazan jav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Ray Tomlis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kreira program za elektronsku razmenu poruke (pr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gra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mena poruka u privatnoj mreži uz oslonac na jednostavne liste slanja! (mailing li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PAnet j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v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95280" y="620640"/>
            <a:ext cx="836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 Black"/>
              </a:rPr>
              <a:t>1961-1972: </a:t>
            </a:r>
            <a:r>
              <a:rPr b="0" i="1" lang="sr-Latn-CS" sz="2800" spc="-1" strike="noStrike">
                <a:solidFill>
                  <a:srgbClr val="ff0000"/>
                </a:solidFill>
                <a:latin typeface="Arial Black"/>
              </a:rPr>
              <a:t>Rani principi</a:t>
            </a:r>
            <a:r>
              <a:rPr b="0" i="1" lang="en-US" sz="2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i="1" lang="sr-Latn-CS" sz="2400" spc="-1" strike="noStrike">
                <a:solidFill>
                  <a:srgbClr val="ff0000"/>
                </a:solidFill>
                <a:latin typeface="Arial Black"/>
              </a:rPr>
              <a:t>komutiranja-pak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76280" y="-83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Istorija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Internet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-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460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1973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obert J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calf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Xerox) – u sklopu doktorske disertacije predlaž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protok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1974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otokola (Vint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f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niverzitet Stanford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ber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h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R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hite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 za međusobno povezivanje zasebnih mre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1976: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– R.J. Metcalf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Eternet protokola u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1976: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ATNET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SA-Europa preko satel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9900"/>
                </a:solidFill>
                <a:latin typeface="Arial"/>
              </a:rPr>
              <a:t>kasnih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70</a:t>
            </a:r>
            <a:r>
              <a:rPr b="0" lang="sr-Latn-CS" sz="2000" spc="-1" strike="noStrike">
                <a:solidFill>
                  <a:srgbClr val="cc9900"/>
                </a:solidFill>
                <a:latin typeface="Arial"/>
              </a:rPr>
              <a:t>-ih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ve mrež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hit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ECnet, SNA, X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9900"/>
                </a:solidFill>
                <a:latin typeface="Arial"/>
              </a:rPr>
              <a:t>kasnih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70</a:t>
            </a:r>
            <a:r>
              <a:rPr b="0" lang="sr-Latn-CS" sz="2000" spc="-1" strike="noStrike">
                <a:solidFill>
                  <a:srgbClr val="cc9900"/>
                </a:solidFill>
                <a:latin typeface="Arial"/>
              </a:rPr>
              <a:t>-tih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utiranje paketa fiksnih duži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ethodnik ATM-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1979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PAnet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vor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00360" y="1341360"/>
            <a:ext cx="4608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Principi međusobnog umrežavanja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rf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Kahn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utono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ma zahtevanih internih prom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međusobno povezane mre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del najboljeg pokušaja serv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les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rut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ntrali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vana k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fin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išu arhitekturu današnje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nternet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9640" y="549360"/>
            <a:ext cx="7972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1972-1980: </a:t>
            </a:r>
            <a:r>
              <a:rPr b="1" i="1" lang="sr-Latn-CS" sz="2000" spc="-1" strike="noStrike">
                <a:solidFill>
                  <a:srgbClr val="ff0000"/>
                </a:solidFill>
                <a:latin typeface="Arial"/>
              </a:rPr>
              <a:t>Međusobno umrežavanje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, nove mre</a:t>
            </a:r>
            <a:r>
              <a:rPr b="1" i="1" lang="sr-Latn-CS" sz="2000" spc="-1" strike="noStrike">
                <a:solidFill>
                  <a:srgbClr val="ff0000"/>
                </a:solidFill>
                <a:latin typeface="Arial"/>
              </a:rPr>
              <a:t>ž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716360" y="1197000"/>
            <a:ext cx="4357800" cy="4751280"/>
          </a:xfrm>
          <a:prstGeom prst="rect">
            <a:avLst/>
          </a:prstGeom>
          <a:noFill/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1328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Istorija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Internet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-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453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1982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efinisan j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l prot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1983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RPAnet je podeljen na dva dela odvajanjem vojne mreže (MIL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1983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vij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tiskuje NCP-protok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1983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efinis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podršku prevođenju imena u IP-adresu (University of Wisconsi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03640" y="1773360"/>
            <a:ext cx="388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istribuirana baza podataka koja povezuje imena računara sa njihovom IP adresom. Ona zamenjuje STATIČKE datoteke koje su postojale na svakom računaru u mreži i zahtevale PERIODIČNO ažuriran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server domena ime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ar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(IP,DNS-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68360" y="836640"/>
            <a:ext cx="796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 Black"/>
              </a:rPr>
              <a:t>1980-19</a:t>
            </a:r>
            <a:r>
              <a:rPr b="0" i="1" lang="sr-Latn-CS" sz="2800" spc="-1" strike="noStrike">
                <a:solidFill>
                  <a:srgbClr val="ff0000"/>
                </a:solidFill>
                <a:latin typeface="Arial Black"/>
              </a:rPr>
              <a:t>85</a:t>
            </a:r>
            <a:r>
              <a:rPr b="0" i="1" lang="en-US" sz="2800" spc="-1" strike="noStrike">
                <a:solidFill>
                  <a:srgbClr val="ff0000"/>
                </a:solidFill>
                <a:latin typeface="Arial Black"/>
              </a:rPr>
              <a:t>: n</a:t>
            </a:r>
            <a:r>
              <a:rPr b="0" i="1" lang="sr-Latn-CS" sz="2800" spc="-1" strike="noStrike">
                <a:solidFill>
                  <a:srgbClr val="ff0000"/>
                </a:solidFill>
                <a:latin typeface="Arial Black"/>
              </a:rPr>
              <a:t>ovi protokoli</a:t>
            </a:r>
            <a:r>
              <a:rPr b="0" i="1" lang="en-US" sz="2800" spc="-1" strike="noStrike">
                <a:solidFill>
                  <a:srgbClr val="ff0000"/>
                </a:solidFill>
                <a:latin typeface="Arial Black"/>
              </a:rPr>
              <a:t>, </a:t>
            </a:r>
            <a:r>
              <a:rPr b="0" i="1" lang="sr-Latn-CS" sz="2800" spc="-1" strike="noStrike">
                <a:solidFill>
                  <a:srgbClr val="ff0000"/>
                </a:solidFill>
                <a:latin typeface="Arial Black"/>
              </a:rPr>
              <a:t>širenje mre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9640" y="1328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Istorija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Internet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-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897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9900"/>
                </a:solidFill>
                <a:latin typeface="Arial"/>
              </a:rPr>
              <a:t>1985</a:t>
            </a:r>
            <a:r>
              <a:rPr b="0" lang="en-US" sz="26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NSFnet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– (National Science Foundation) – uključuje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linije za protok od 1,544Mbps. Uvodi novu generaciju ARPAnet-a. Uvode se dva poboljšanja TCP/IP protokola. NNTP-(New NTP) i Mail Exchange zapis kod DNS serve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9900"/>
                </a:solidFill>
                <a:latin typeface="Arial"/>
              </a:rPr>
              <a:t>1985</a:t>
            </a:r>
            <a:r>
              <a:rPr b="0" lang="en-US" sz="26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definisan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otok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9900"/>
                </a:solidFill>
                <a:latin typeface="Arial"/>
              </a:rPr>
              <a:t>1988</a:t>
            </a:r>
            <a:r>
              <a:rPr b="0" lang="en-US" sz="26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CP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ontrola zaguše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219280" y="1557000"/>
            <a:ext cx="392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ve nacionalne mrež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net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T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SF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,000 hos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ova povezano na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onfederaciju mre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TM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45Mb/s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ynchronous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nsmission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68360" y="836640"/>
            <a:ext cx="796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 Black"/>
              </a:rPr>
              <a:t>198</a:t>
            </a:r>
            <a:r>
              <a:rPr b="0" i="1" lang="sr-Latn-CS" sz="2800" spc="-1" strike="noStrike">
                <a:solidFill>
                  <a:srgbClr val="ff0000"/>
                </a:solidFill>
                <a:latin typeface="Arial Black"/>
              </a:rPr>
              <a:t>5</a:t>
            </a:r>
            <a:r>
              <a:rPr b="0" i="1" lang="en-US" sz="2800" spc="-1" strike="noStrike">
                <a:solidFill>
                  <a:srgbClr val="ff0000"/>
                </a:solidFill>
                <a:latin typeface="Arial Black"/>
              </a:rPr>
              <a:t>-1990: n</a:t>
            </a:r>
            <a:r>
              <a:rPr b="0" i="1" lang="sr-Latn-CS" sz="2800" spc="-1" strike="noStrike">
                <a:solidFill>
                  <a:srgbClr val="ff0000"/>
                </a:solidFill>
                <a:latin typeface="Arial Black"/>
              </a:rPr>
              <a:t>ovi protokoli</a:t>
            </a:r>
            <a:r>
              <a:rPr b="0" i="1" lang="en-US" sz="2800" spc="-1" strike="noStrike">
                <a:solidFill>
                  <a:srgbClr val="ff0000"/>
                </a:solidFill>
                <a:latin typeface="Arial Black"/>
              </a:rPr>
              <a:t>, </a:t>
            </a:r>
            <a:r>
              <a:rPr b="0" i="1" lang="sr-Latn-CS" sz="2800" spc="-1" strike="noStrike">
                <a:solidFill>
                  <a:srgbClr val="ff0000"/>
                </a:solidFill>
                <a:latin typeface="Arial Black"/>
              </a:rPr>
              <a:t>širenje mre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2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oglavlje </a:t>
            </a: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2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: </a:t>
            </a: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Sadržaj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Cilj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bit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eća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inolo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"du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talj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st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risćenj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a kao pr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08000" y="981000"/>
            <a:ext cx="5435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Pregled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ta j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ta je protok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rež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gra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zgro mr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stup mrež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izičk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/ISP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rakteristi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u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šnjenj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lojev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odel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 serv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11280" y="-56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Istorija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Internet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-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680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9900"/>
                </a:solidFill>
                <a:latin typeface="Arial"/>
              </a:rPr>
              <a:t>Ranih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1990</a:t>
            </a:r>
            <a:r>
              <a:rPr b="1" lang="sr-Latn-CS" sz="2000" spc="-1" strike="noStrike">
                <a:solidFill>
                  <a:srgbClr val="cc9900"/>
                </a:solidFill>
                <a:latin typeface="Arial"/>
              </a:rPr>
              <a:t>-ih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PAnet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odustajanje od proviz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1991: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F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kid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cije na komercijalno korišće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SFnet (decommissioned, 19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199</a:t>
            </a:r>
            <a:r>
              <a:rPr b="1" lang="sr-Latn-CS" sz="2000" spc="-1" strike="noStrike">
                <a:solidFill>
                  <a:srgbClr val="cc99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novano Internet društvo (Internet Society) –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 posebnim savetodavnim grupama za određene oblasti razvoja Inetrn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9900"/>
                </a:solidFill>
                <a:latin typeface="Arial"/>
              </a:rPr>
              <a:t>Ranih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1990</a:t>
            </a:r>
            <a:r>
              <a:rPr b="1" lang="sr-Latn-CS" sz="2000" spc="-1" strike="noStrike">
                <a:solidFill>
                  <a:srgbClr val="cc9900"/>
                </a:solidFill>
                <a:latin typeface="Arial"/>
              </a:rPr>
              <a:t>-ih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b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WW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text [Bush 1945, Nelson 1960’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, HTTP: Berners-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Mosaic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sni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t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sni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99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i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ercijalizacij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932000" y="1412640"/>
            <a:ext cx="4016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9900"/>
                </a:solidFill>
                <a:latin typeface="Arial"/>
              </a:rPr>
              <a:t>Kasnih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1990</a:t>
            </a:r>
            <a:r>
              <a:rPr b="0" lang="sr-Latn-CS" sz="2800" spc="-1" strike="noStrike">
                <a:solidFill>
                  <a:srgbClr val="cc9900"/>
                </a:solidFill>
                <a:latin typeface="Arial"/>
              </a:rPr>
              <a:t>-ih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iš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ikaci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stant messaging, P2P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eljenje fajl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zbednost mrež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bliž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milion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s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k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mil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ri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bone lin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ovi rade 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765000"/>
            <a:ext cx="88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1990, 2000</a:t>
            </a:r>
            <a:r>
              <a:rPr b="0" i="1" lang="sr-Latn-CS" sz="2400" spc="-1" strike="noStrike">
                <a:solidFill>
                  <a:srgbClr val="ff0000"/>
                </a:solidFill>
                <a:latin typeface="Arial Black"/>
              </a:rPr>
              <a:t>: komercijalizacija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, </a:t>
            </a:r>
            <a:r>
              <a:rPr b="0" i="1" lang="sr-Latn-CS" sz="2400" spc="-1" strike="noStrike">
                <a:solidFill>
                  <a:srgbClr val="ff0000"/>
                </a:solidFill>
                <a:latin typeface="Arial Black"/>
              </a:rPr>
              <a:t>W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eb, </a:t>
            </a:r>
            <a:r>
              <a:rPr b="0" i="1" lang="sr-Latn-CS" sz="2400" spc="-1" strike="noStrike">
                <a:solidFill>
                  <a:srgbClr val="ff0000"/>
                </a:solidFill>
                <a:latin typeface="Arial Black"/>
              </a:rPr>
              <a:t>nove aplik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11280" y="-56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Istorija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Internet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-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9900"/>
                </a:solidFill>
                <a:latin typeface="Arial"/>
              </a:rPr>
              <a:t>IP</a:t>
            </a:r>
            <a:r>
              <a:rPr b="1" i="1" lang="sr-Latn-CS" sz="2800" spc="-1" strike="noStrike">
                <a:solidFill>
                  <a:srgbClr val="cc9900"/>
                </a:solidFill>
                <a:latin typeface="Arial"/>
              </a:rPr>
              <a:t>v</a:t>
            </a:r>
            <a:r>
              <a:rPr b="1" lang="sr-Latn-CS" sz="2800" spc="-1" strike="noStrike">
                <a:solidFill>
                  <a:srgbClr val="cc99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: </a:t>
            </a:r>
            <a:r>
              <a:rPr b="0" lang="sr-Latn-CS" sz="2800" spc="-1" strike="noStrike">
                <a:solidFill>
                  <a:srgbClr val="cc9900"/>
                </a:solidFill>
                <a:latin typeface="Arial"/>
              </a:rPr>
              <a:t>(Zamena za IP</a:t>
            </a:r>
            <a:r>
              <a:rPr b="0" i="1" lang="sr-Latn-CS" sz="2800" spc="-1" strike="noStrike">
                <a:solidFill>
                  <a:srgbClr val="cc9900"/>
                </a:solidFill>
                <a:latin typeface="Arial"/>
              </a:rPr>
              <a:t>v</a:t>
            </a:r>
            <a:r>
              <a:rPr b="0" lang="sr-Latn-CS" sz="2800" spc="-1" strike="noStrike">
                <a:solidFill>
                  <a:srgbClr val="cc9900"/>
                </a:solidFill>
                <a:latin typeface="Arial"/>
              </a:rPr>
              <a:t>4 – 32-bitna adresna šema) . Problem – nedostatak adresa u IPv4 – adresnom prostoru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ovi standard za 21. vek – implementiran u sklopu nekih mreža u S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bitna adresna šema – (Svaki današnji korisnik dobija adresni prostor koji je jednak celokupnom današnjem adresnom prostoru na Internetu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jednostavljenje strukture proto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većana sigurnost – autentikacioni elementi u sklopu strukture protokola. Mogućnost enkripcije (kripto-zaštite) podataka u prenosu preko mrež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 Voice over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765000"/>
            <a:ext cx="889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0000"/>
                </a:solidFill>
                <a:latin typeface="Arial Black"/>
              </a:rPr>
              <a:t>Internet u 21. ve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11280" y="-56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Oficijelna Organizacij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6" name=""/>
          <p:cNvSpPr/>
          <p:nvPr/>
        </p:nvSpPr>
        <p:spPr>
          <a:xfrm>
            <a:off x="3276720" y="765000"/>
            <a:ext cx="3024000" cy="8769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A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(Internet Architecture Bo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42920" y="2205000"/>
            <a:ext cx="3097440" cy="830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E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(Internet Engineering Task For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651640" y="2205000"/>
            <a:ext cx="2881080" cy="830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R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(Internet Research Task Four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627280" y="1700280"/>
            <a:ext cx="1513080" cy="504720"/>
          </a:xfrm>
          <a:custGeom>
            <a:avLst/>
            <a:gdLst/>
            <a:ahLst/>
            <a:rect l="l" t="t" r="r" b="b"/>
            <a:pathLst>
              <a:path w="907" h="363">
                <a:moveTo>
                  <a:pt x="907" y="0"/>
                </a:moveTo>
                <a:lnTo>
                  <a:pt x="0" y="136"/>
                </a:lnTo>
                <a:lnTo>
                  <a:pt x="0" y="3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64000" y="1700280"/>
            <a:ext cx="1800360" cy="50472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0" y="0"/>
                </a:moveTo>
                <a:lnTo>
                  <a:pt x="998" y="227"/>
                </a:lnTo>
                <a:lnTo>
                  <a:pt x="998" y="3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42920" y="3284640"/>
            <a:ext cx="3097440" cy="784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E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(Internet Engineering Stearing Grou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5600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651640" y="3284640"/>
            <a:ext cx="3097080" cy="784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R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(Internet Engineering Stearing Grou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3600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50920" y="4292640"/>
            <a:ext cx="4249800" cy="2062440"/>
            <a:chOff x="250920" y="4292640"/>
            <a:chExt cx="4249800" cy="2062440"/>
          </a:xfrm>
        </p:grpSpPr>
        <p:sp>
          <p:nvSpPr>
            <p:cNvPr id="666" name=""/>
            <p:cNvSpPr/>
            <p:nvPr/>
          </p:nvSpPr>
          <p:spPr>
            <a:xfrm>
              <a:off x="250920" y="4292640"/>
              <a:ext cx="2089080" cy="20624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Times New Roman"/>
                </a:rPr>
                <a:t>Tehničke oblasti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Aplikaci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Operaci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Korisnički i serverski servi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Sigurnost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11280" y="4292640"/>
              <a:ext cx="2089440" cy="1819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Internet servi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Upravljanje mrež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Rutiran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1600" spc="-1" strike="noStrike">
                  <a:solidFill>
                    <a:srgbClr val="000000"/>
                  </a:solidFill>
                  <a:latin typeface="Times New Roman"/>
                </a:rPr>
                <a:t>OSI integraci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5364000" y="4221000"/>
            <a:ext cx="3600720" cy="2382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Istraživanja vezana za razvoj TCP/IP, razmatranje predloga izmena u sklopu Internet arhitek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RFC – (Request for Com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OBAVEZ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PREPORUČE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IZBOR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GRANIČENE PRIME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NEPREPORUČE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768240" y="307800"/>
            <a:ext cx="76215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ftn_znak" descr=""/>
          <p:cNvPicPr/>
          <p:nvPr/>
        </p:nvPicPr>
        <p:blipFill>
          <a:blip r:embed="rId1"/>
          <a:stretch/>
        </p:blipFill>
        <p:spPr>
          <a:xfrm>
            <a:off x="0" y="0"/>
            <a:ext cx="1276200" cy="1341360"/>
          </a:xfrm>
          <a:prstGeom prst="rect">
            <a:avLst/>
          </a:prstGeom>
          <a:ln w="0">
            <a:noFill/>
          </a:ln>
        </p:spPr>
      </p:pic>
      <p:pic>
        <p:nvPicPr>
          <p:cNvPr id="671" name="cezar_new" descr=""/>
          <p:cNvPicPr/>
          <p:nvPr/>
        </p:nvPicPr>
        <p:blipFill>
          <a:blip r:embed="rId2"/>
          <a:stretch/>
        </p:blipFill>
        <p:spPr>
          <a:xfrm>
            <a:off x="8024760" y="0"/>
            <a:ext cx="1119240" cy="112536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1258920" y="404640"/>
            <a:ext cx="6842160" cy="61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ftn_znak" descr=""/>
          <p:cNvPicPr/>
          <p:nvPr/>
        </p:nvPicPr>
        <p:blipFill>
          <a:blip r:embed="rId1"/>
          <a:stretch/>
        </p:blipFill>
        <p:spPr>
          <a:xfrm>
            <a:off x="0" y="0"/>
            <a:ext cx="1276200" cy="1341360"/>
          </a:xfrm>
          <a:prstGeom prst="rect">
            <a:avLst/>
          </a:prstGeom>
          <a:ln w="0">
            <a:noFill/>
          </a:ln>
        </p:spPr>
      </p:pic>
      <p:pic>
        <p:nvPicPr>
          <p:cNvPr id="674" name="cezar_new" descr=""/>
          <p:cNvPicPr/>
          <p:nvPr/>
        </p:nvPicPr>
        <p:blipFill>
          <a:blip r:embed="rId2"/>
          <a:stretch/>
        </p:blipFill>
        <p:spPr>
          <a:xfrm>
            <a:off x="8024760" y="0"/>
            <a:ext cx="1119240" cy="11253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3"/>
          <a:stretch/>
        </p:blipFill>
        <p:spPr>
          <a:xfrm>
            <a:off x="250920" y="1046160"/>
            <a:ext cx="88930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ftn_znak" descr=""/>
          <p:cNvPicPr/>
          <p:nvPr/>
        </p:nvPicPr>
        <p:blipFill>
          <a:blip r:embed="rId1"/>
          <a:stretch/>
        </p:blipFill>
        <p:spPr>
          <a:xfrm>
            <a:off x="0" y="0"/>
            <a:ext cx="1276200" cy="1341360"/>
          </a:xfrm>
          <a:prstGeom prst="rect">
            <a:avLst/>
          </a:prstGeom>
          <a:ln w="0">
            <a:noFill/>
          </a:ln>
        </p:spPr>
      </p:pic>
      <p:pic>
        <p:nvPicPr>
          <p:cNvPr id="677" name="cezar_new" descr=""/>
          <p:cNvPicPr/>
          <p:nvPr/>
        </p:nvPicPr>
        <p:blipFill>
          <a:blip r:embed="rId2"/>
          <a:stretch/>
        </p:blipFill>
        <p:spPr>
          <a:xfrm>
            <a:off x="8024760" y="0"/>
            <a:ext cx="1119240" cy="112536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3"/>
          <a:stretch/>
        </p:blipFill>
        <p:spPr>
          <a:xfrm>
            <a:off x="250920" y="608040"/>
            <a:ext cx="856908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ftn_znak" descr=""/>
          <p:cNvPicPr/>
          <p:nvPr/>
        </p:nvPicPr>
        <p:blipFill>
          <a:blip r:embed="rId1"/>
          <a:stretch/>
        </p:blipFill>
        <p:spPr>
          <a:xfrm>
            <a:off x="0" y="0"/>
            <a:ext cx="1276200" cy="1341360"/>
          </a:xfrm>
          <a:prstGeom prst="rect">
            <a:avLst/>
          </a:prstGeom>
          <a:ln w="0">
            <a:noFill/>
          </a:ln>
        </p:spPr>
      </p:pic>
      <p:pic>
        <p:nvPicPr>
          <p:cNvPr id="680" name="cezar_new" descr=""/>
          <p:cNvPicPr/>
          <p:nvPr/>
        </p:nvPicPr>
        <p:blipFill>
          <a:blip r:embed="rId2"/>
          <a:stretch/>
        </p:blipFill>
        <p:spPr>
          <a:xfrm>
            <a:off x="8024760" y="0"/>
            <a:ext cx="1119240" cy="112536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250920" y="644400"/>
            <a:ext cx="856908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ftn_znak" descr=""/>
          <p:cNvPicPr/>
          <p:nvPr/>
        </p:nvPicPr>
        <p:blipFill>
          <a:blip r:embed="rId1"/>
          <a:stretch/>
        </p:blipFill>
        <p:spPr>
          <a:xfrm>
            <a:off x="0" y="0"/>
            <a:ext cx="1276200" cy="1341360"/>
          </a:xfrm>
          <a:prstGeom prst="rect">
            <a:avLst/>
          </a:prstGeom>
          <a:ln w="0">
            <a:noFill/>
          </a:ln>
        </p:spPr>
      </p:pic>
      <p:pic>
        <p:nvPicPr>
          <p:cNvPr id="683" name="cezar_new" descr=""/>
          <p:cNvPicPr/>
          <p:nvPr/>
        </p:nvPicPr>
        <p:blipFill>
          <a:blip r:embed="rId2"/>
          <a:stretch/>
        </p:blipFill>
        <p:spPr>
          <a:xfrm>
            <a:off x="8024760" y="0"/>
            <a:ext cx="1119240" cy="112536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3"/>
          <a:stretch/>
        </p:blipFill>
        <p:spPr>
          <a:xfrm>
            <a:off x="971640" y="446040"/>
            <a:ext cx="7416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26920" y="18648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51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Šta je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tern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51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Tipovi mreža i arhitektura otvorenih sistema (OS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51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Elementi organizacije Intern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Mrežna gr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Jezgro mrež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Mrežni pristup i fizički medij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rnet</a:t>
            </a: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-a i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IS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Kašnjenj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gubici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u paketno-komutiranim mrež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Slojevi protokola, modeli servi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8648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51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Šta j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n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51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Tipovi mreža i arhitektura otvorenih sistema (OS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51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Elementi organizacije Intern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Mrežna gr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Jezgro mrež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Mrežni pristup i fizički medij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truktur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-a 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Kašnjenj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gubic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u paketno-komutiranim mrež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lojevi protokola, modeli servi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Tipovi mreža i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Cilj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poznavanje sa osnovnim topologijama računarskih mre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lementi Open System Interconnection (OSI) - arhitek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030560" y="1125000"/>
            <a:ext cx="478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Sadržaj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finicija tipova računarskih mrež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okalne mreže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e na širokom prostoru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W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reže na gradskom području 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iverzitetske mreže 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LOBALNA MRE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ncept otvorene arhitek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S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referentn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Tipovi mreža i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56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Lokalna mreža (LA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a računara koja funkcioniše u okviru jedne lok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čunari su povezani prelo ETERNET ili TOKEN-RING tipa mrež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stalacija i Administracija se može obaviti uz oslonac na kadrove zaposlene u sklopu kompan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dno vreme nije ogranič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ipovi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VNOPRAVNE (Peer-to-Peer)(P2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i računar u mreži ima ulogu i KLIJENTA i SERVERA. Administracija lokalnog računara određuje koji resursi će biti na raspolaganju ostalim korisnicima mrež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E SA SERVEROM – (bar jedan 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Tipovi mreža i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REŽE SA SERVEROM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ar jedan računar ima ulogu serv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lijenti u mreži ne dele svoje resu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vi deljeni podaci su smešteni na SERVER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Uloge SERV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Fajl serv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KLADIŠTE PODATAK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int serv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RAVLJANJE ŠTAMP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plikacioni serv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DRŽI PODRŠKU IMPLEMENTACIJI POSLOVNE LOGIKE. (WEB-serv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ail serv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ERVIS ELEKTRONSKE POŠ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igurnosni serv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Zaštitne barijere-FIREWALL, PROX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munikacioni serv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ržavaju eksternu komunikaciju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Tipovi mreža i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Mrežna topologij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uhvata pojmove kao što su: LOKACIJA RAČUNARA, PASIVNI DEO MREŽE (veze) i AKTIVNI DEO MREŽE (komunikacioni uređaj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AGISTRALN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BUS – sabirn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OPOLOGIJA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VEZ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St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OPOLOGIJA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STEN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VOSTRUKE PRSTENASTE MREŽ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Dual 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Tipovi mreža i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7" name=""/>
          <p:cNvSpPr/>
          <p:nvPr/>
        </p:nvSpPr>
        <p:spPr>
          <a:xfrm>
            <a:off x="324000" y="981000"/>
            <a:ext cx="8496000" cy="561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MAGISTRAL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BUS – sabirn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ajjednostavniji metod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umrežavan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Jedan kabl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povezuje sve račun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aci se direktno šalju na fizičku adresu mrežnog adaptera (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dia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cess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ntrol) – obično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cifreni heksadecimalni brojevi (1AF23ED078CE) –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48-bita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instvenost MAC adrese je odgovornost proizvođača mrežnih adaptera (karti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SMA/CD – protoko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oblem: jedan neispravan adapter ruši mrežu!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Danas je RELATIVNO RETKO U UPOTREBI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Tipovi mreža i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9" name=""/>
          <p:cNvSpPr/>
          <p:nvPr/>
        </p:nvSpPr>
        <p:spPr>
          <a:xfrm>
            <a:off x="324000" y="981000"/>
            <a:ext cx="8496000" cy="561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OPOLOGIJA ZVEZ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St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egmenti mreže se povezuju u jednu tačk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entralni komunikacioni uređaj  služi kao koncentrator (hub, switch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bre osob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dnostavno proširenje mreže (skup zvezda, pahulj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uzdaniji rad u uslovima otkaza mrežnog adaptera i/ili segmenta mreže. (Samo taj računar – port na komunikacionom uređaju se blokira, samo ta grana mreže se blokira, mogućnost postojanja – sekundarnih kanala – potreba za usmeravanjem sobračaja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oše osobine – složena topologij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Tipovi mreža i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1" name=""/>
          <p:cNvSpPr/>
          <p:nvPr/>
        </p:nvSpPr>
        <p:spPr>
          <a:xfrm>
            <a:off x="324000" y="981000"/>
            <a:ext cx="8496000" cy="561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OPOLOGIJA ZVEZ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St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abliranje: - UTP kablovi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(Unshilded Twisted Pa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tegorija 1: KLASIČNA TELEFONIJA. Prenos jedino gov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tegorija 2: Prenos podataka za brzine do 4Mb/s (rani token-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tegorija 3: Prenos podataka za brzine do 10Mb/s (eter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tegorija 4: Prenos podataka za brzine do 16Mb/s (token 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tegorija 5: Prenos podataka za brzine do 100Mb/s (brzi eter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tegorija 6: Prenos podataka za brzine do 1Gb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ektori : RJ45,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ajzastupljeniji vid topologija dan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Tipovi mreža i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3" name=""/>
          <p:cNvSpPr/>
          <p:nvPr/>
        </p:nvSpPr>
        <p:spPr>
          <a:xfrm>
            <a:off x="324000" y="981000"/>
            <a:ext cx="8496000" cy="561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OPOLOGIJA PRSTEN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vezuju računare u jedan LOGIČKI prs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daci koji putuju kroz prsten prolaze kroz svaki računar (tačnije kroz njegov mrežni interfej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polja izgleda kao ZVEZ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azlika je jedino u mestu spajanja (konekcije). MAU (Multi-Station Access Un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otokol – TOKEN PASSING. (Token-Žeton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OKEN – kontrolna poruka kruži po mreži. Računar koji ima poruku “hvata” token, modifikuje njegovo zaglavlje i u njega upisuje MAC adresu odrediš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Tipovi mreža i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5" name=""/>
          <p:cNvSpPr/>
          <p:nvPr/>
        </p:nvSpPr>
        <p:spPr>
          <a:xfrm>
            <a:off x="179280" y="765000"/>
            <a:ext cx="8640720" cy="609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OPOLOGIJA PRSTEN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otokol – TOKEN PASSING. (Token-Žeton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OKEN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ntrolna poruka kruži po mreži. Računar koji ima poruku “hvata” token, modifikuje njegovo zaglavlje i u njega upisuje MAC adresu odredišta i uključuje poruku u deo za prenos “korisnih” podata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ruka prolazi kroz mrežni adapter svih računa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ačunar koji prepozna svoju MAC-adresu skida poruku i modifikuje zaglavlje da bi označio uspešan projem poru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ačunar POŠILJALAC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poznaje token sa svojom porukom. Evidentira uspešan prenos i oslobađa TO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Da li je ovo SPORO?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Arial"/>
              </a:rPr>
              <a:t>(Kabl dužine 400m – oko 5000 krugova/s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500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500"/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Tipovi mreža i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7" name=""/>
          <p:cNvSpPr/>
          <p:nvPr/>
        </p:nvSpPr>
        <p:spPr>
          <a:xfrm>
            <a:off x="179280" y="765000"/>
            <a:ext cx="8640720" cy="609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DVOSTRUKI PRSTEN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Dual 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va prst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IMARNI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nos u normalnom režimu 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EKUNDAR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rezervni ka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terfejs : FDDI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(Fiber Distributed Data Inte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osilac  : OPTIČKI KABL –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Nema zračenj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otokol: Modifikovani TOKEN 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Arial"/>
              </a:rPr>
              <a:t>Računar u mreži može poslati onoliko ramova poruka (frame) koliko je u stanju da generiše u vremenu do slanja TOKEN-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Arial"/>
              </a:rPr>
              <a:t>U jednom trenutku u mreži postoji više ramova PORU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Arial"/>
              </a:rPr>
              <a:t>Pouzdaniji prenos </a:t>
            </a:r>
            <a:r>
              <a:rPr b="1" lang="sr-Latn-CS" sz="2000" spc="-1" strike="noStrike">
                <a:solidFill>
                  <a:srgbClr val="0000cc"/>
                </a:solidFill>
                <a:latin typeface="Arial"/>
              </a:rPr>
              <a:t>(DAC – Dual Access Concentra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18648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51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Šta j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n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51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Tipovi mreža i arhitektura otvorenih sistema (OS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51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Elementi organizacije Intern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Mrežna gr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Jezgro mrež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Mrežni pristup i fizički medij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rnet</a:t>
            </a: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-a i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IS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Kašnjenj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gubici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u paketno-komutiranim mrež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Slojevi protokola, modeli servi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Tipovi mreža i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Mreže na širokom prostoru (WAN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maju ograničenje sa aspekta pokrivanja rasto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W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pretstavljaju KOMPOZITNE (složene) topologije koj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vezuju lokalne mrež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omoću odgovorajuć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munikacione infrastruktu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tehničkom smislu između različitih tipova WAN mreža ne postoji razlika. Razlika je jedino u prostoru koji posmatrana TOPOLOGIJA pokr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munikacione tehnologije WAN mrež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ENOS OD TAČKE DO TAČK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Point to 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NALOGN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IGITALN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AKETSKI PRENO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Multi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Tipovi mreža i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Digitalno povezivanj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D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Digital Data Service) – SINHRONA V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ipovi digitalnih ve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nosi podatke u PUNOJ DUPLEKSNOJ VEZI (istovremeni prenos i prijem) brzina 1,544Mb/s. Može prenositi: govor, video signal i podatke. (STAL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bično se deli u više kanala (modul 64Kb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3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novi podatke u PUNOJ DUPLEKSNOJ VEZI (istovremeni prenos i prijem) brzina 45Mb/s. Može se deliti u više kanala. (STAL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(Integrated Service Digital Net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MUTIRAN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Switched 56) – DIAL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Tipovi mreža i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ISDN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(veza po potreb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SNOVNI (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Basic rat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 ISDN – obezbeđuje dva kanala (B-kanali) koji rade na 56Kb/s, kanal za kontrolu veze (8Kb/s) i jedan kanal protoka (D-kanal) koji prenosi signalne i kontrolne podatke (16Kb/s). Upotrebom oba B kanala ukupna brzina prenosa osnovnog ISDN-a je 128Kb/s (2x56=112 + 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IMARNI (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Primary rat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 ISDN – obezbeđuje brzinu T1 linije, 23 B kanala i jedan D kanal. D kanal radi na 64Kb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Tipovi mreža i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PAKETNA MREŽ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mogučava prenos preko više konek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utanja podataka nije unapred poznata. (BEZKONEKCIONI SERVI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riginalni podaci se dekomponuju u pakete koji se nezavisno šal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mplementac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X.25 –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(1970). Javna mreža za prenos podataka. (Virtual circuit) – fiksni pak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rame Relay –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igitalni prenos, optika, paketi promenljive veličine. (Stalna virtualna ve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TM (Asynchronous Transfer M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Tipovi mreža i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Koncept otvorene arhitekture (OA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tiv: STANDARDIZACIJA razmene poruka u računarskim mrež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Cilj: Smanjenje raznolikosti specifičnih rešenja pojedinih proizvođača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ehanizam: UGNEŽDENI MODEL (MODEL SLOJ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ekompozicija funkcija rada mreže na skup JEDNOSTAVNIJIH, međusobno povezanih, elemen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ogućnost specijalizacije samo za jedan ili ograničeni broj nivoa (slojeva) otvorenog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ogućnost zamene SLOJEVA bez posledica po ostale sloj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OSI-arhitektura – mrežni slojev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19" name=""/>
          <p:cNvSpPr/>
          <p:nvPr/>
        </p:nvSpPr>
        <p:spPr>
          <a:xfrm>
            <a:off x="3419640" y="2997360"/>
            <a:ext cx="216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419640" y="2276640"/>
            <a:ext cx="216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419640" y="3789360"/>
            <a:ext cx="216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19640" y="4508640"/>
            <a:ext cx="216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419640" y="1557360"/>
            <a:ext cx="216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219640" y="2565360"/>
            <a:ext cx="0" cy="720720"/>
          </a:xfrm>
          <a:prstGeom prst="line">
            <a:avLst/>
          </a:prstGeom>
          <a:ln w="50760">
            <a:solidFill>
              <a:srgbClr val="33cc33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3134400">
            <a:off x="4921560" y="2007360"/>
            <a:ext cx="1305000" cy="1087560"/>
          </a:xfrm>
          <a:custGeom>
            <a:avLst/>
            <a:gdLst/>
            <a:ahLst/>
            <a:rect l="l" t="t" r="r" b="b"/>
            <a:pathLst>
              <a:path w="1716" h="1542">
                <a:moveTo>
                  <a:pt x="0" y="0"/>
                </a:moveTo>
                <a:cubicBezTo>
                  <a:pt x="62" y="7"/>
                  <a:pt x="230" y="4"/>
                  <a:pt x="372" y="42"/>
                </a:cubicBezTo>
                <a:cubicBezTo>
                  <a:pt x="514" y="80"/>
                  <a:pt x="672" y="114"/>
                  <a:pt x="852" y="228"/>
                </a:cubicBezTo>
                <a:cubicBezTo>
                  <a:pt x="1032" y="342"/>
                  <a:pt x="1308" y="507"/>
                  <a:pt x="1452" y="726"/>
                </a:cubicBezTo>
                <a:cubicBezTo>
                  <a:pt x="1596" y="945"/>
                  <a:pt x="1661" y="1372"/>
                  <a:pt x="1716" y="154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780000" y="1844640"/>
            <a:ext cx="0" cy="720720"/>
          </a:xfrm>
          <a:prstGeom prst="line">
            <a:avLst/>
          </a:prstGeom>
          <a:ln w="50760">
            <a:solidFill>
              <a:srgbClr val="33cc33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780000" y="3357720"/>
            <a:ext cx="0" cy="720720"/>
          </a:xfrm>
          <a:prstGeom prst="line">
            <a:avLst/>
          </a:prstGeom>
          <a:ln w="50760">
            <a:solidFill>
              <a:srgbClr val="33cc33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219640" y="4076640"/>
            <a:ext cx="0" cy="720720"/>
          </a:xfrm>
          <a:prstGeom prst="line">
            <a:avLst/>
          </a:prstGeom>
          <a:ln w="50760">
            <a:solidFill>
              <a:srgbClr val="33cc33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rot="13894200">
            <a:off x="2662560" y="3537000"/>
            <a:ext cx="1305000" cy="1087560"/>
          </a:xfrm>
          <a:custGeom>
            <a:avLst/>
            <a:gdLst/>
            <a:ahLst/>
            <a:rect l="l" t="t" r="r" b="b"/>
            <a:pathLst>
              <a:path w="1716" h="1542">
                <a:moveTo>
                  <a:pt x="0" y="0"/>
                </a:moveTo>
                <a:cubicBezTo>
                  <a:pt x="62" y="7"/>
                  <a:pt x="230" y="4"/>
                  <a:pt x="372" y="42"/>
                </a:cubicBezTo>
                <a:cubicBezTo>
                  <a:pt x="514" y="80"/>
                  <a:pt x="672" y="114"/>
                  <a:pt x="852" y="228"/>
                </a:cubicBezTo>
                <a:cubicBezTo>
                  <a:pt x="1032" y="342"/>
                  <a:pt x="1308" y="507"/>
                  <a:pt x="1452" y="726"/>
                </a:cubicBezTo>
                <a:cubicBezTo>
                  <a:pt x="1596" y="945"/>
                  <a:pt x="1661" y="1372"/>
                  <a:pt x="1716" y="154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755640" y="1557360"/>
            <a:ext cx="2016000" cy="3529080"/>
            <a:chOff x="755640" y="1557360"/>
            <a:chExt cx="2016000" cy="3529080"/>
          </a:xfrm>
        </p:grpSpPr>
        <p:sp>
          <p:nvSpPr>
            <p:cNvPr id="731" name=""/>
            <p:cNvSpPr/>
            <p:nvPr/>
          </p:nvSpPr>
          <p:spPr>
            <a:xfrm>
              <a:off x="2484360" y="1557360"/>
              <a:ext cx="287280" cy="352908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91800 h 3529080"/>
                <a:gd name="textAreaBottom" fmla="*/ 3437280 h 35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755640" y="2997360"/>
              <a:ext cx="1285920" cy="6570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Slojevi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156360" y="1557360"/>
            <a:ext cx="1717560" cy="1224000"/>
            <a:chOff x="6156360" y="1557360"/>
            <a:chExt cx="1717560" cy="1224000"/>
          </a:xfrm>
        </p:grpSpPr>
        <p:sp>
          <p:nvSpPr>
            <p:cNvPr id="734" name=""/>
            <p:cNvSpPr/>
            <p:nvPr/>
          </p:nvSpPr>
          <p:spPr>
            <a:xfrm>
              <a:off x="6156360" y="1557360"/>
              <a:ext cx="215640" cy="122400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 txBox="1"/>
            <p:nvPr/>
          </p:nvSpPr>
          <p:spPr>
            <a:xfrm>
              <a:off x="6588000" y="1701720"/>
              <a:ext cx="1285920" cy="800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susedni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slojevi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6156360" y="2349360"/>
            <a:ext cx="1717560" cy="1224000"/>
            <a:chOff x="6156360" y="2349360"/>
            <a:chExt cx="1717560" cy="1224000"/>
          </a:xfrm>
        </p:grpSpPr>
        <p:sp>
          <p:nvSpPr>
            <p:cNvPr id="737" name=""/>
            <p:cNvSpPr/>
            <p:nvPr/>
          </p:nvSpPr>
          <p:spPr>
            <a:xfrm>
              <a:off x="6156360" y="2349360"/>
              <a:ext cx="215640" cy="122400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 txBox="1"/>
            <p:nvPr/>
          </p:nvSpPr>
          <p:spPr>
            <a:xfrm>
              <a:off x="6588000" y="2493720"/>
              <a:ext cx="1285920" cy="800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susedni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slojevi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6156360" y="3068640"/>
            <a:ext cx="1717560" cy="1224000"/>
            <a:chOff x="6156360" y="3068640"/>
            <a:chExt cx="1717560" cy="1224000"/>
          </a:xfrm>
        </p:grpSpPr>
        <p:sp>
          <p:nvSpPr>
            <p:cNvPr id="740" name=""/>
            <p:cNvSpPr/>
            <p:nvPr/>
          </p:nvSpPr>
          <p:spPr>
            <a:xfrm>
              <a:off x="6156360" y="3068640"/>
              <a:ext cx="215640" cy="122400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>
              <a:off x="6588000" y="3213000"/>
              <a:ext cx="1285920" cy="800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susedni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slojevi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6156360" y="3789360"/>
            <a:ext cx="1717560" cy="1224000"/>
            <a:chOff x="6156360" y="3789360"/>
            <a:chExt cx="1717560" cy="1224000"/>
          </a:xfrm>
        </p:grpSpPr>
        <p:sp>
          <p:nvSpPr>
            <p:cNvPr id="743" name=""/>
            <p:cNvSpPr/>
            <p:nvPr/>
          </p:nvSpPr>
          <p:spPr>
            <a:xfrm>
              <a:off x="6156360" y="3789360"/>
              <a:ext cx="215640" cy="122400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>
              <a:off x="6588000" y="3933720"/>
              <a:ext cx="1285920" cy="800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susedni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slojevi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OSI – referentni model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(ISO-OS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EDAM nivoa (sloj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OJ APLIKACIJE (Applic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OJ PREZENTACIJE (Presen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OJ SESIJE (Ses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RANSPORTNI SLOJ (Transpor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REŽNI SLOJ (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OJ VEZE PODATAKA (Data Lin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FIZIČKI SLOJ (Physical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OSI – referentni model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(ISO-OS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EDAM nivoa (sloj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OJ APLIKACIJE (Applic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PREZENTACIJE (Presen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SESIJE (Ses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TRANSPORTNI SLOJ (Transpor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REŽNI SLOJ (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VEZE PODATAKA (Data Lin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FIZIČKI SLOJ (Physical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11280" y="3141720"/>
            <a:ext cx="8064360" cy="303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mogućava aplikacijama, namenjenim korisnicima sistema sa otvorenom arhitekturim, pristup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REŽNIM SERVISI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ervisi mogu zahtevati resurse koji se nalaze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BILO GD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u mrež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a bi se koristio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ROGRAM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moraju posedovati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OMUNIKACIONE KOMPONENT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koje pristupaju mrežnim resurs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OSI – referentni model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(ISO-OS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EDAM nivoa (sloj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OJ APLIKACIJE (Applic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PREZENTACIJE (Presen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SESIJE (Ses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TRANSPORTNI SLOJ (Transpor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REŽNI SLOJ (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VEZE PODATAKA (Data Lin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FIZIČKI SLOJ (Physical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39640" y="3105000"/>
            <a:ext cx="8353440" cy="37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rimer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Elektronska pošt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(e-mai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Elektronska razmena podatak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(ED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Konferencijske aplikacij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Microsoft Net Meeting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(World Wide Web) – (web browseri i web server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Apach Web Server (UNIX, LINUX, WINDOW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etscape SuitSpo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Microsoft Internet Information Server (Microsoft Window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OSI – referentni model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(ISO-OS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EDAM nivoa (sloj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APLIKACIJE (Applic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OJ PREZENTACIJE (Presen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SESIJE (Ses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TRANSPORTNI SLOJ (Transpor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REŽNI SLOJ (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VEZE PODATAKA (Data Lin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FIZIČKI SLOJ (Physical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11280" y="3573360"/>
            <a:ext cx="8208720" cy="303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dređuje način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formatiranja podatak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pri njihovoj razmeni između računara na mrež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daci dobijeni od strane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LOJA APLIKAC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se prevode u prepoznatljiv format. (sve vrste prevođenja, kriptovani podaci i s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dgovoran je za prilagođavanje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INTAKS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(Npe. ASCII u EBCDIC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-1080"/>
            <a:ext cx="8618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1. Šta je 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Internet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5113440" cy="609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oni pov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nih računarskih uređa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hosts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i="1" lang="sr-Latn-CS" sz="2000" spc="-1" strike="noStrike">
                <a:solidFill>
                  <a:srgbClr val="ff0000"/>
                </a:solidFill>
                <a:latin typeface="Arial"/>
              </a:rPr>
              <a:t>kraj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evi</a:t>
            </a:r>
            <a:r>
              <a:rPr b="0" i="1" lang="sr-Latn-CS" sz="2000" spc="-1" strike="noStrike">
                <a:solidFill>
                  <a:srgbClr val="ff0000"/>
                </a:solidFill>
                <a:latin typeface="Arial"/>
              </a:rPr>
              <a:t> sistem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vođe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ff0000"/>
                </a:solidFill>
                <a:latin typeface="Arial"/>
              </a:rPr>
              <a:t>mrežne aplik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0000"/>
                </a:solidFill>
                <a:latin typeface="Arial"/>
              </a:rPr>
              <a:t>komunikacioni link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pti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ak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adio, sate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rzina preno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sr-Latn-CS" sz="2000" spc="-1" strike="noStrike">
                <a:solidFill>
                  <a:srgbClr val="ff0000"/>
                </a:solidFill>
                <a:latin typeface="Arial"/>
              </a:rPr>
              <a:t>širina ops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ruter</a:t>
            </a:r>
            <a:r>
              <a:rPr b="0" i="1" lang="sr-Latn-C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sleđivanje pake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lika količina podata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roto</a:t>
            </a:r>
            <a:r>
              <a:rPr b="0" i="1" lang="sr-Latn-CS" sz="2000" spc="-1" strike="noStrike">
                <a:solidFill>
                  <a:srgbClr val="ff0000"/>
                </a:solidFill>
                <a:latin typeface="Arial"/>
              </a:rPr>
              <a:t>koli</a:t>
            </a:r>
            <a:r>
              <a:rPr b="0" i="1" lang="sr-Latn-C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troliš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j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ru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, IP, HTTP, FTP,  P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Internet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mreža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svih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 mrež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ba hijerarh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avn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ti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rane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standar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: Request for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: Internet Engineering Task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732280" y="836640"/>
            <a:ext cx="2793600" cy="1263960"/>
            <a:chOff x="5732280" y="836640"/>
            <a:chExt cx="2793600" cy="1263960"/>
          </a:xfrm>
        </p:grpSpPr>
        <p:grpSp>
          <p:nvGrpSpPr>
            <p:cNvPr id="105" name=""/>
            <p:cNvGrpSpPr/>
            <p:nvPr/>
          </p:nvGrpSpPr>
          <p:grpSpPr>
            <a:xfrm>
              <a:off x="5771880" y="836640"/>
              <a:ext cx="501840" cy="232920"/>
              <a:chOff x="5771880" y="836640"/>
              <a:chExt cx="501840" cy="232920"/>
            </a:xfrm>
          </p:grpSpPr>
          <p:sp>
            <p:nvSpPr>
              <p:cNvPr id="106" name=""/>
              <p:cNvSpPr/>
              <p:nvPr/>
            </p:nvSpPr>
            <p:spPr>
              <a:xfrm>
                <a:off x="5775840" y="940680"/>
                <a:ext cx="497520" cy="1288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75840" y="929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73720" y="929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75840" y="929520"/>
                <a:ext cx="49320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71880" y="836640"/>
                <a:ext cx="497160" cy="1504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5891400" y="869400"/>
                <a:ext cx="246240" cy="88200"/>
                <a:chOff x="5891400" y="869400"/>
                <a:chExt cx="246240" cy="88200"/>
              </a:xfrm>
            </p:grpSpPr>
            <p:sp>
              <p:nvSpPr>
                <p:cNvPr id="112" name=""/>
                <p:cNvSpPr/>
                <p:nvPr/>
              </p:nvSpPr>
              <p:spPr>
                <a:xfrm flipV="1">
                  <a:off x="5891400" y="8694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060240" y="957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972400" y="8715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891400" y="868680"/>
                <a:ext cx="246240" cy="88200"/>
                <a:chOff x="5891400" y="868680"/>
                <a:chExt cx="246240" cy="882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891400" y="955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060240" y="8686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5972400" y="8686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" name=""/>
            <p:cNvGrpSpPr/>
            <p:nvPr/>
          </p:nvGrpSpPr>
          <p:grpSpPr>
            <a:xfrm>
              <a:off x="5781240" y="1412640"/>
              <a:ext cx="209880" cy="409680"/>
              <a:chOff x="5781240" y="1412640"/>
              <a:chExt cx="209880" cy="409680"/>
            </a:xfrm>
          </p:grpSpPr>
          <p:sp>
            <p:nvSpPr>
              <p:cNvPr id="120" name=""/>
              <p:cNvSpPr/>
              <p:nvPr/>
            </p:nvSpPr>
            <p:spPr>
              <a:xfrm>
                <a:off x="5781240" y="1727640"/>
                <a:ext cx="209880" cy="94680"/>
              </a:xfrm>
              <a:prstGeom prst="parallelogram">
                <a:avLst>
                  <a:gd name="adj" fmla="val 85395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887440" y="1415160"/>
                <a:ext cx="9648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82320" y="1504440"/>
                <a:ext cx="13284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81240" y="1412640"/>
                <a:ext cx="209880" cy="94680"/>
              </a:xfrm>
              <a:prstGeom prst="parallelogram">
                <a:avLst>
                  <a:gd name="adj" fmla="val 85395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991120" y="141912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5915160" y="1727640"/>
                <a:ext cx="7524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99240" y="1545840"/>
                <a:ext cx="88200" cy="1814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11840" y="1600560"/>
                <a:ext cx="6696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7037280" y="890280"/>
              <a:ext cx="415800" cy="31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" name=""/>
            <p:cNvGrpSpPr/>
            <p:nvPr/>
          </p:nvGrpSpPr>
          <p:grpSpPr>
            <a:xfrm>
              <a:off x="6973560" y="1496880"/>
              <a:ext cx="406080" cy="426960"/>
              <a:chOff x="6973560" y="1496880"/>
              <a:chExt cx="406080" cy="4269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973560" y="149688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33320" y="160884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5732280" y="10000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u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26400" y="1126800"/>
              <a:ext cx="159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55120" y="1511280"/>
              <a:ext cx="92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66240" y="1701720"/>
              <a:ext cx="100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ob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267160" y="2349360"/>
            <a:ext cx="3873600" cy="3826080"/>
            <a:chOff x="5267160" y="2349360"/>
            <a:chExt cx="3873600" cy="3826080"/>
          </a:xfrm>
        </p:grpSpPr>
        <p:sp>
          <p:nvSpPr>
            <p:cNvPr id="137" name=""/>
            <p:cNvSpPr/>
            <p:nvPr/>
          </p:nvSpPr>
          <p:spPr>
            <a:xfrm>
              <a:off x="5288040" y="3956040"/>
              <a:ext cx="2973240" cy="221940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47080" y="2509920"/>
              <a:ext cx="1798560" cy="167472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67160" y="2367000"/>
              <a:ext cx="1866960" cy="158904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384880" y="2502000"/>
              <a:ext cx="732960" cy="318960"/>
              <a:chOff x="5384880" y="2502000"/>
              <a:chExt cx="732960" cy="318960"/>
            </a:xfrm>
          </p:grpSpPr>
          <p:pic>
            <p:nvPicPr>
              <p:cNvPr id="1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84880" y="2502000"/>
                <a:ext cx="4161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38480" y="262008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 flipV="1">
                <a:off x="5791320" y="274356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384880" y="3097080"/>
              <a:ext cx="732960" cy="319320"/>
              <a:chOff x="5384880" y="3097080"/>
              <a:chExt cx="732960" cy="319320"/>
            </a:xfrm>
          </p:grpSpPr>
          <p:pic>
            <p:nvPicPr>
              <p:cNvPr id="14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384880" y="3097080"/>
                <a:ext cx="416160" cy="3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838480" y="3215160"/>
                <a:ext cx="279360" cy="18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 flipV="1">
                <a:off x="5791320" y="333864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761080" y="2884320"/>
              <a:ext cx="69480" cy="214200"/>
              <a:chOff x="5761080" y="2884320"/>
              <a:chExt cx="69480" cy="214200"/>
            </a:xfrm>
          </p:grpSpPr>
          <p:sp>
            <p:nvSpPr>
              <p:cNvPr id="149" name=""/>
              <p:cNvSpPr/>
              <p:nvPr/>
            </p:nvSpPr>
            <p:spPr>
              <a:xfrm>
                <a:off x="5761080" y="2884320"/>
                <a:ext cx="64080" cy="6048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63600" y="2961360"/>
                <a:ext cx="64080" cy="601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766480" y="3038400"/>
                <a:ext cx="64080" cy="601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6230880" y="3387600"/>
              <a:ext cx="209520" cy="394920"/>
              <a:chOff x="6230880" y="3387600"/>
              <a:chExt cx="209520" cy="394920"/>
            </a:xfrm>
          </p:grpSpPr>
          <p:sp>
            <p:nvSpPr>
              <p:cNvPr id="153" name=""/>
              <p:cNvSpPr/>
              <p:nvPr/>
            </p:nvSpPr>
            <p:spPr>
              <a:xfrm>
                <a:off x="6230880" y="369144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337080" y="339012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231960" y="347616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30880" y="338760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440400" y="339372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364440" y="369144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248880" y="3516120"/>
                <a:ext cx="87840" cy="174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61480" y="356904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467400" y="3541320"/>
              <a:ext cx="233280" cy="81000"/>
              <a:chOff x="6467400" y="3541320"/>
              <a:chExt cx="233280" cy="81000"/>
            </a:xfrm>
          </p:grpSpPr>
          <p:sp>
            <p:nvSpPr>
              <p:cNvPr id="162" name=""/>
              <p:cNvSpPr/>
              <p:nvPr/>
            </p:nvSpPr>
            <p:spPr>
              <a:xfrm rot="16200000">
                <a:off x="6462720" y="3552120"/>
                <a:ext cx="74520" cy="655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6200000">
                <a:off x="6546600" y="3548880"/>
                <a:ext cx="74520" cy="655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6200000">
                <a:off x="6630480" y="3545640"/>
                <a:ext cx="74520" cy="655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6367320" y="3295800"/>
              <a:ext cx="49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70560" y="3292560"/>
              <a:ext cx="180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65920" y="328932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67440" y="2755800"/>
              <a:ext cx="28908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080040" y="3041280"/>
              <a:ext cx="27648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607080" y="3127320"/>
              <a:ext cx="180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6727680" y="3365640"/>
              <a:ext cx="208080" cy="394920"/>
              <a:chOff x="6727680" y="3365640"/>
              <a:chExt cx="208080" cy="394920"/>
            </a:xfrm>
          </p:grpSpPr>
          <p:sp>
            <p:nvSpPr>
              <p:cNvPr id="172" name=""/>
              <p:cNvSpPr/>
              <p:nvPr/>
            </p:nvSpPr>
            <p:spPr>
              <a:xfrm>
                <a:off x="6727680" y="3669480"/>
                <a:ext cx="208080" cy="91080"/>
              </a:xfrm>
              <a:prstGeom prst="parallelogram">
                <a:avLst>
                  <a:gd name="adj" fmla="val 8800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32800" y="3368160"/>
                <a:ext cx="9540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28760" y="3454200"/>
                <a:ext cx="13176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727680" y="3365640"/>
                <a:ext cx="208080" cy="91080"/>
              </a:xfrm>
              <a:prstGeom prst="parallelogram">
                <a:avLst>
                  <a:gd name="adj" fmla="val 8800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35760" y="337176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6860520" y="3669480"/>
                <a:ext cx="7488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745320" y="3494160"/>
                <a:ext cx="87480" cy="174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757920" y="3547080"/>
                <a:ext cx="6624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5769000" y="3984480"/>
              <a:ext cx="479160" cy="925200"/>
              <a:chOff x="5769000" y="3984480"/>
              <a:chExt cx="479160" cy="925200"/>
            </a:xfrm>
          </p:grpSpPr>
          <p:pic>
            <p:nvPicPr>
              <p:cNvPr id="18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769000" y="398448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 flipV="1">
                <a:off x="6175800" y="423108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769000" y="457920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 flipV="1">
                <a:off x="6175800" y="482940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5894280" y="4325760"/>
                <a:ext cx="70560" cy="222480"/>
                <a:chOff x="5894280" y="4325760"/>
                <a:chExt cx="70560" cy="2224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894280" y="4325760"/>
                  <a:ext cx="65160" cy="62640"/>
                </a:xfrm>
                <a:prstGeom prst="ellipse">
                  <a:avLst/>
                </a:pr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896800" y="4405680"/>
                  <a:ext cx="65160" cy="62280"/>
                </a:xfrm>
                <a:prstGeom prst="ellipse">
                  <a:avLst/>
                </a:pr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899680" y="4485960"/>
                  <a:ext cx="65160" cy="62280"/>
                </a:xfrm>
                <a:prstGeom prst="ellipse">
                  <a:avLst/>
                </a:pr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6242760" y="4228200"/>
                <a:ext cx="0" cy="60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90" name="" descr=""/>
            <p:cNvPicPr/>
            <p:nvPr/>
          </p:nvPicPr>
          <p:blipFill>
            <a:blip r:embed="rId10"/>
            <a:stretch/>
          </p:blipFill>
          <p:spPr>
            <a:xfrm>
              <a:off x="6637320" y="4994280"/>
              <a:ext cx="4176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1"/>
            <a:stretch/>
          </p:blipFill>
          <p:spPr>
            <a:xfrm>
              <a:off x="6022800" y="4983120"/>
              <a:ext cx="41616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 rot="16200000">
              <a:off x="6439680" y="5086800"/>
              <a:ext cx="63720" cy="651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6524640" y="5084640"/>
              <a:ext cx="63360" cy="66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6602400" y="5089680"/>
              <a:ext cx="61920" cy="648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891480" y="4940280"/>
              <a:ext cx="1440" cy="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267600" y="4928760"/>
              <a:ext cx="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269040" y="4935600"/>
              <a:ext cx="6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248520" y="4560480"/>
              <a:ext cx="93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50080" y="4606920"/>
              <a:ext cx="30312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646760" y="4603680"/>
              <a:ext cx="27756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823160" y="415620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13"/>
            <a:stretch/>
          </p:blipFill>
          <p:spPr>
            <a:xfrm>
              <a:off x="6486480" y="4237200"/>
              <a:ext cx="203400" cy="23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568920" y="4011480"/>
              <a:ext cx="1352880" cy="30492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6834240" y="5433840"/>
              <a:ext cx="406080" cy="426960"/>
              <a:chOff x="6834240" y="5433840"/>
              <a:chExt cx="406080" cy="426960"/>
            </a:xfrm>
          </p:grpSpPr>
          <p:pic>
            <p:nvPicPr>
              <p:cNvPr id="20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834240" y="5433840"/>
                <a:ext cx="3783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94000" y="554580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7612200" y="5465880"/>
              <a:ext cx="406080" cy="426960"/>
              <a:chOff x="7612200" y="5465880"/>
              <a:chExt cx="406080" cy="426960"/>
            </a:xfrm>
          </p:grpSpPr>
          <p:pic>
            <p:nvPicPr>
              <p:cNvPr id="208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612200" y="546588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671960" y="557784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" name=""/>
            <p:cNvGrpSpPr/>
            <p:nvPr/>
          </p:nvGrpSpPr>
          <p:grpSpPr>
            <a:xfrm>
              <a:off x="7197840" y="5181480"/>
              <a:ext cx="379440" cy="376200"/>
              <a:chOff x="7197840" y="5181480"/>
              <a:chExt cx="379440" cy="37620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97840" y="5181480"/>
                <a:ext cx="379440" cy="3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7308000" y="5313600"/>
                <a:ext cx="267480" cy="244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7504200" y="50846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8224920" y="4508640"/>
              <a:ext cx="207720" cy="408960"/>
              <a:chOff x="8224920" y="4508640"/>
              <a:chExt cx="207720" cy="408960"/>
            </a:xfrm>
          </p:grpSpPr>
          <p:sp>
            <p:nvSpPr>
              <p:cNvPr id="215" name=""/>
              <p:cNvSpPr/>
              <p:nvPr/>
            </p:nvSpPr>
            <p:spPr>
              <a:xfrm>
                <a:off x="8224920" y="4823280"/>
                <a:ext cx="207720" cy="94320"/>
              </a:xfrm>
              <a:prstGeom prst="parallelogram">
                <a:avLst>
                  <a:gd name="adj" fmla="val 8483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330040" y="4511160"/>
                <a:ext cx="9540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226000" y="4600440"/>
                <a:ext cx="13140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224920" y="4508640"/>
                <a:ext cx="207720" cy="94320"/>
              </a:xfrm>
              <a:prstGeom prst="parallelogram">
                <a:avLst>
                  <a:gd name="adj" fmla="val 8483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432640" y="451512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8357400" y="4823280"/>
                <a:ext cx="7452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242560" y="4641840"/>
                <a:ext cx="87120" cy="1810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255160" y="469656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8211960" y="4952880"/>
              <a:ext cx="209880" cy="409680"/>
              <a:chOff x="8211960" y="4952880"/>
              <a:chExt cx="209880" cy="409680"/>
            </a:xfrm>
          </p:grpSpPr>
          <p:sp>
            <p:nvSpPr>
              <p:cNvPr id="224" name=""/>
              <p:cNvSpPr/>
              <p:nvPr/>
            </p:nvSpPr>
            <p:spPr>
              <a:xfrm>
                <a:off x="8211960" y="5267880"/>
                <a:ext cx="209880" cy="94680"/>
              </a:xfrm>
              <a:prstGeom prst="parallelogram">
                <a:avLst>
                  <a:gd name="adj" fmla="val 85395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318160" y="4955400"/>
                <a:ext cx="9648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213040" y="5044680"/>
                <a:ext cx="13284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211960" y="4952880"/>
                <a:ext cx="209880" cy="94680"/>
              </a:xfrm>
              <a:prstGeom prst="parallelogram">
                <a:avLst>
                  <a:gd name="adj" fmla="val 85395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421840" y="495936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8345880" y="5267880"/>
                <a:ext cx="7524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229960" y="5086080"/>
                <a:ext cx="88200" cy="1814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242560" y="5140800"/>
                <a:ext cx="6696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>
              <a:off x="8143920" y="4576680"/>
              <a:ext cx="0" cy="6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40680" y="5186520"/>
              <a:ext cx="1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37440" y="4710240"/>
              <a:ext cx="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861240" y="2806560"/>
              <a:ext cx="45864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96160" y="2790720"/>
              <a:ext cx="48600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8314920" y="3127320"/>
              <a:ext cx="243000" cy="6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7040" y="290340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70800" y="3551400"/>
              <a:ext cx="5349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8030880" y="4016520"/>
              <a:ext cx="26676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805880" y="3095640"/>
              <a:ext cx="55872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813800" y="2535120"/>
              <a:ext cx="35064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8532720" y="2711520"/>
              <a:ext cx="20016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91320" y="2349360"/>
              <a:ext cx="139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ocal</a:t>
              </a:r>
              <a:r>
                <a:rPr b="0" lang="sr-Latn-CS" sz="2000" spc="-1" strike="noStrike">
                  <a:solidFill>
                    <a:srgbClr val="ff0000"/>
                  </a:solidFill>
                  <a:latin typeface="Comic Sans MS"/>
                </a:rPr>
                <a:t>ni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I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33720" y="536112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0000"/>
                  </a:solidFill>
                  <a:latin typeface="Comic Sans MS"/>
                </a:rPr>
                <a:t>Intra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00440" y="350208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gional</a:t>
              </a:r>
              <a:r>
                <a:rPr b="0" lang="sr-Latn-CS" sz="2000" spc="-1" strike="noStrike">
                  <a:solidFill>
                    <a:srgbClr val="ff0000"/>
                  </a:solidFill>
                  <a:latin typeface="Comic Sans MS"/>
                </a:rPr>
                <a:t>ni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I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6342120" y="2903400"/>
              <a:ext cx="501480" cy="233280"/>
              <a:chOff x="6342120" y="2903400"/>
              <a:chExt cx="501480" cy="233280"/>
            </a:xfrm>
          </p:grpSpPr>
          <p:sp>
            <p:nvSpPr>
              <p:cNvPr id="248" name=""/>
              <p:cNvSpPr/>
              <p:nvPr/>
            </p:nvSpPr>
            <p:spPr>
              <a:xfrm>
                <a:off x="6346080" y="3007440"/>
                <a:ext cx="497160" cy="1292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46080" y="29966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843600" y="29966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346080" y="2996640"/>
                <a:ext cx="49284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342120" y="2903400"/>
                <a:ext cx="496800" cy="1508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3" name=""/>
              <p:cNvGrpSpPr/>
              <p:nvPr/>
            </p:nvGrpSpPr>
            <p:grpSpPr>
              <a:xfrm>
                <a:off x="6461640" y="2936160"/>
                <a:ext cx="246240" cy="88560"/>
                <a:chOff x="6461640" y="2936160"/>
                <a:chExt cx="246240" cy="88560"/>
              </a:xfrm>
            </p:grpSpPr>
            <p:sp>
              <p:nvSpPr>
                <p:cNvPr id="254" name=""/>
                <p:cNvSpPr/>
                <p:nvPr/>
              </p:nvSpPr>
              <p:spPr>
                <a:xfrm flipV="1">
                  <a:off x="6461640" y="29361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630480" y="3024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542640" y="293832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461640" y="2935080"/>
                <a:ext cx="246240" cy="88560"/>
                <a:chOff x="6461640" y="2935080"/>
                <a:chExt cx="246240" cy="885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6461640" y="30218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630480" y="2935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V="1">
                  <a:off x="6542640" y="293508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1" name=""/>
            <p:cNvGrpSpPr/>
            <p:nvPr/>
          </p:nvGrpSpPr>
          <p:grpSpPr>
            <a:xfrm>
              <a:off x="7296120" y="2674800"/>
              <a:ext cx="500040" cy="233280"/>
              <a:chOff x="7296120" y="2674800"/>
              <a:chExt cx="500040" cy="233280"/>
            </a:xfrm>
          </p:grpSpPr>
          <p:sp>
            <p:nvSpPr>
              <p:cNvPr id="262" name=""/>
              <p:cNvSpPr/>
              <p:nvPr/>
            </p:nvSpPr>
            <p:spPr>
              <a:xfrm>
                <a:off x="7300080" y="2778840"/>
                <a:ext cx="495720" cy="1292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300080" y="27680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796160" y="27680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00080" y="2768040"/>
                <a:ext cx="49140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296120" y="2674800"/>
                <a:ext cx="495360" cy="1508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7415280" y="2707560"/>
                <a:ext cx="245520" cy="88560"/>
                <a:chOff x="7415280" y="2707560"/>
                <a:chExt cx="245520" cy="88560"/>
              </a:xfrm>
            </p:grpSpPr>
            <p:sp>
              <p:nvSpPr>
                <p:cNvPr id="268" name=""/>
                <p:cNvSpPr/>
                <p:nvPr/>
              </p:nvSpPr>
              <p:spPr>
                <a:xfrm flipV="1">
                  <a:off x="7415280" y="27075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83760" y="27961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495920" y="27097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7415280" y="2706480"/>
                <a:ext cx="245520" cy="88560"/>
                <a:chOff x="7415280" y="2706480"/>
                <a:chExt cx="245520" cy="8856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7415280" y="27932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583760" y="27064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7495920" y="270648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7311960" y="3332160"/>
              <a:ext cx="501840" cy="232920"/>
              <a:chOff x="7311960" y="3332160"/>
              <a:chExt cx="501840" cy="232920"/>
            </a:xfrm>
          </p:grpSpPr>
          <p:sp>
            <p:nvSpPr>
              <p:cNvPr id="276" name=""/>
              <p:cNvSpPr/>
              <p:nvPr/>
            </p:nvSpPr>
            <p:spPr>
              <a:xfrm>
                <a:off x="7315920" y="3436200"/>
                <a:ext cx="497520" cy="1288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315920" y="3425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813800" y="3425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315920" y="3425040"/>
                <a:ext cx="49320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311960" y="3332160"/>
                <a:ext cx="497160" cy="1504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7431480" y="3364920"/>
                <a:ext cx="246240" cy="88200"/>
                <a:chOff x="7431480" y="3364920"/>
                <a:chExt cx="246240" cy="88200"/>
              </a:xfrm>
            </p:grpSpPr>
            <p:sp>
              <p:nvSpPr>
                <p:cNvPr id="282" name=""/>
                <p:cNvSpPr/>
                <p:nvPr/>
              </p:nvSpPr>
              <p:spPr>
                <a:xfrm flipV="1">
                  <a:off x="7431480" y="33649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600320" y="3453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512480" y="33670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7431480" y="3364200"/>
                <a:ext cx="246240" cy="88200"/>
                <a:chOff x="7431480" y="3364200"/>
                <a:chExt cx="246240" cy="882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431480" y="3450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600320" y="3364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7512480" y="33642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9" name=""/>
            <p:cNvGrpSpPr/>
            <p:nvPr/>
          </p:nvGrpSpPr>
          <p:grpSpPr>
            <a:xfrm>
              <a:off x="8282160" y="2882880"/>
              <a:ext cx="501480" cy="232920"/>
              <a:chOff x="8282160" y="2882880"/>
              <a:chExt cx="501480" cy="232920"/>
            </a:xfrm>
          </p:grpSpPr>
          <p:sp>
            <p:nvSpPr>
              <p:cNvPr id="290" name=""/>
              <p:cNvSpPr/>
              <p:nvPr/>
            </p:nvSpPr>
            <p:spPr>
              <a:xfrm>
                <a:off x="8286120" y="2986920"/>
                <a:ext cx="497160" cy="1288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286120" y="2975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83640" y="2975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286120" y="2975760"/>
                <a:ext cx="49284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282160" y="2882880"/>
                <a:ext cx="496800" cy="1504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8401680" y="2915640"/>
                <a:ext cx="246240" cy="88200"/>
                <a:chOff x="8401680" y="2915640"/>
                <a:chExt cx="246240" cy="8820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8401680" y="2915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570520" y="3003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482680" y="29178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8401680" y="2914920"/>
                <a:ext cx="246240" cy="88200"/>
                <a:chOff x="8401680" y="2914920"/>
                <a:chExt cx="246240" cy="882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8401680" y="30013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570520" y="2914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8482680" y="29149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3" name=""/>
            <p:cNvGrpSpPr/>
            <p:nvPr/>
          </p:nvGrpSpPr>
          <p:grpSpPr>
            <a:xfrm>
              <a:off x="8089920" y="3780000"/>
              <a:ext cx="501480" cy="232920"/>
              <a:chOff x="8089920" y="3780000"/>
              <a:chExt cx="501480" cy="232920"/>
            </a:xfrm>
          </p:grpSpPr>
          <p:sp>
            <p:nvSpPr>
              <p:cNvPr id="304" name=""/>
              <p:cNvSpPr/>
              <p:nvPr/>
            </p:nvSpPr>
            <p:spPr>
              <a:xfrm>
                <a:off x="8093880" y="3884040"/>
                <a:ext cx="497160" cy="1288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093880" y="38728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591400" y="38728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093880" y="3872880"/>
                <a:ext cx="49284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089920" y="3780000"/>
                <a:ext cx="496800" cy="1504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8209440" y="3812760"/>
                <a:ext cx="246240" cy="88200"/>
                <a:chOff x="8209440" y="3812760"/>
                <a:chExt cx="246240" cy="88200"/>
              </a:xfrm>
            </p:grpSpPr>
            <p:sp>
              <p:nvSpPr>
                <p:cNvPr id="310" name=""/>
                <p:cNvSpPr/>
                <p:nvPr/>
              </p:nvSpPr>
              <p:spPr>
                <a:xfrm flipV="1">
                  <a:off x="8209440" y="3812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378280" y="39009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8290440" y="38149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8209440" y="3812040"/>
                <a:ext cx="246240" cy="88200"/>
                <a:chOff x="8209440" y="3812040"/>
                <a:chExt cx="246240" cy="882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8209440" y="3898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378280" y="3812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8290440" y="38120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7" name=""/>
            <p:cNvGrpSpPr/>
            <p:nvPr/>
          </p:nvGrpSpPr>
          <p:grpSpPr>
            <a:xfrm>
              <a:off x="7754760" y="4363920"/>
              <a:ext cx="501840" cy="234720"/>
              <a:chOff x="7754760" y="4363920"/>
              <a:chExt cx="501840" cy="234720"/>
            </a:xfrm>
          </p:grpSpPr>
          <p:sp>
            <p:nvSpPr>
              <p:cNvPr id="318" name=""/>
              <p:cNvSpPr/>
              <p:nvPr/>
            </p:nvSpPr>
            <p:spPr>
              <a:xfrm>
                <a:off x="7758720" y="4468680"/>
                <a:ext cx="497520" cy="12996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758720" y="445752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256600" y="445752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758720" y="4457520"/>
                <a:ext cx="493200" cy="7956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754760" y="4363920"/>
                <a:ext cx="497160" cy="15156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7874280" y="4397040"/>
                <a:ext cx="246240" cy="88920"/>
                <a:chOff x="7874280" y="4397040"/>
                <a:chExt cx="246240" cy="88920"/>
              </a:xfrm>
            </p:grpSpPr>
            <p:sp>
              <p:nvSpPr>
                <p:cNvPr id="324" name=""/>
                <p:cNvSpPr/>
                <p:nvPr/>
              </p:nvSpPr>
              <p:spPr>
                <a:xfrm flipV="1">
                  <a:off x="7874280" y="4397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043120" y="44859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955280" y="439920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7874280" y="4395960"/>
                <a:ext cx="246240" cy="88920"/>
                <a:chOff x="7874280" y="4395960"/>
                <a:chExt cx="246240" cy="889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7874280" y="4483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8043120" y="43959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V="1">
                  <a:off x="7955280" y="439596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7145280" y="4853160"/>
              <a:ext cx="501840" cy="232920"/>
              <a:chOff x="7145280" y="4853160"/>
              <a:chExt cx="501840" cy="232920"/>
            </a:xfrm>
          </p:grpSpPr>
          <p:sp>
            <p:nvSpPr>
              <p:cNvPr id="332" name=""/>
              <p:cNvSpPr/>
              <p:nvPr/>
            </p:nvSpPr>
            <p:spPr>
              <a:xfrm>
                <a:off x="7149240" y="4957200"/>
                <a:ext cx="497520" cy="1288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149240" y="4946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647120" y="4946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149240" y="4946040"/>
                <a:ext cx="49320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145280" y="4853160"/>
                <a:ext cx="497160" cy="1504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7264800" y="4885920"/>
                <a:ext cx="246240" cy="88200"/>
                <a:chOff x="7264800" y="4885920"/>
                <a:chExt cx="246240" cy="88200"/>
              </a:xfrm>
            </p:grpSpPr>
            <p:sp>
              <p:nvSpPr>
                <p:cNvPr id="338" name=""/>
                <p:cNvSpPr/>
                <p:nvPr/>
              </p:nvSpPr>
              <p:spPr>
                <a:xfrm flipV="1">
                  <a:off x="7264800" y="48859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433640" y="4974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345800" y="48880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7264800" y="4885200"/>
                <a:ext cx="246240" cy="88200"/>
                <a:chOff x="7264800" y="4885200"/>
                <a:chExt cx="246240" cy="8820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7264800" y="4971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433640" y="4885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7345800" y="48852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5" name=""/>
            <p:cNvGrpSpPr/>
            <p:nvPr/>
          </p:nvGrpSpPr>
          <p:grpSpPr>
            <a:xfrm>
              <a:off x="6342120" y="4476600"/>
              <a:ext cx="501480" cy="233280"/>
              <a:chOff x="6342120" y="4476600"/>
              <a:chExt cx="501480" cy="233280"/>
            </a:xfrm>
          </p:grpSpPr>
          <p:sp>
            <p:nvSpPr>
              <p:cNvPr id="346" name=""/>
              <p:cNvSpPr/>
              <p:nvPr/>
            </p:nvSpPr>
            <p:spPr>
              <a:xfrm>
                <a:off x="6346080" y="4580640"/>
                <a:ext cx="497160" cy="1292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346080" y="45698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843600" y="45698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346080" y="4569840"/>
                <a:ext cx="49284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342120" y="4476600"/>
                <a:ext cx="496800" cy="1508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6461640" y="4509360"/>
                <a:ext cx="246240" cy="88560"/>
                <a:chOff x="6461640" y="4509360"/>
                <a:chExt cx="246240" cy="88560"/>
              </a:xfrm>
            </p:grpSpPr>
            <p:sp>
              <p:nvSpPr>
                <p:cNvPr id="352" name=""/>
                <p:cNvSpPr/>
                <p:nvPr/>
              </p:nvSpPr>
              <p:spPr>
                <a:xfrm flipV="1">
                  <a:off x="6461640" y="45093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30480" y="4597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2640" y="451152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461640" y="4508280"/>
                <a:ext cx="246240" cy="88560"/>
                <a:chOff x="6461640" y="4508280"/>
                <a:chExt cx="246240" cy="8856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461640" y="4595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30480" y="4508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6542640" y="450828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9" name=""/>
            <p:cNvSpPr/>
            <p:nvPr/>
          </p:nvSpPr>
          <p:spPr>
            <a:xfrm flipV="1">
              <a:off x="6597720" y="4689000"/>
              <a:ext cx="1440" cy="2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364000" y="6308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SP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ternet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ervice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ov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OSI – referentni model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(ISO-OS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EDAM nivoa (sloj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APLIKACIJE (Applic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OJ PREZENTACIJE (Presen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SESIJE (Ses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TRANSPORTNI SLOJ (Transpor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REŽNI SLOJ (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VEZE PODATAKA (Data Lin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FIZIČKI SLOJ (Physical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24000" y="3573360"/>
            <a:ext cx="8569080" cy="263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jčešći forma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sr-Latn-C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merican </a:t>
            </a:r>
            <a:r>
              <a:rPr b="1" i="1" lang="sr-Latn-C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1" i="1" lang="sr-Latn-C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ode for </a:t>
            </a:r>
            <a:r>
              <a:rPr b="1" i="1" lang="sr-Latn-C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nformation </a:t>
            </a:r>
            <a:r>
              <a:rPr b="1" i="1" lang="sr-Latn-C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nterchange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EBCDIC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sr-Latn-C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xtended </a:t>
            </a:r>
            <a:r>
              <a:rPr b="1" i="1" lang="sr-Latn-C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inary </a:t>
            </a:r>
            <a:r>
              <a:rPr b="1" i="1" lang="sr-Latn-C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oded </a:t>
            </a:r>
            <a:r>
              <a:rPr b="1" i="1" lang="sr-Latn-C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ecimal </a:t>
            </a:r>
            <a:r>
              <a:rPr b="1" i="1" lang="sr-Latn-C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nterchange </a:t>
            </a:r>
            <a:r>
              <a:rPr b="1" i="1" lang="sr-Latn-C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o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XDR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sr-Latn-C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ternal </a:t>
            </a:r>
            <a:r>
              <a:rPr b="1" i="1" lang="sr-Latn-C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ata </a:t>
            </a:r>
            <a:r>
              <a:rPr b="1" i="1" lang="sr-Latn-C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epresentation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BF 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sr-Latn-C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inary </a:t>
            </a:r>
            <a:r>
              <a:rPr b="1" i="1" lang="sr-Latn-C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orma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OSI – referentni model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(ISO-OS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EDAM nivoa (sloj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APLIKACIJE (Applic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PREZENTACIJE (Presen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OJ SESIJE (Ses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TRANSPORTNI SLOJ (Transpor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REŽNI SLOJ (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VEZE PODATAKA (Data Lin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FIZIČKI SLOJ (Physical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50920" y="4005360"/>
            <a:ext cx="8713800" cy="266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bezbeđuje komunikaciju između aplikacija koje se izvršavaju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a različitim računarim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 sklopu računarske mre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hteva uspostavljanje kontrolisane SESIJE. Proverava se da li je računarima dozvoljeno uspostavljanje mrežne sesije, koordinira zahteve servisa i upravlja događajima na nivou komunikacije aplika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OSI – referentni model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(ISO-OS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EDAM nivoa (sloj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APLIKACIJE (Applic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PREZENTACIJE (Presen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OJ SESIJE (Ses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TRANSPORTNI SLOJ (Transpor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REŽNI SLOJ (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VEZE PODATAKA (Data Lin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FIZIČKI SLOJ (Physical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50920" y="4005360"/>
            <a:ext cx="8713800" cy="266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nterfejs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Winsoc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 (Windows Sock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PC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Remote Procedure Ca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X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OSI – referentni model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(ISO-OS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EDAM nivoa (sloj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APLIKACIJE (Applic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PREZENTACIJE (Presen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SESIJE (Ses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RANSPORTNI SLOJ (Transpor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REŽNI SLOJ (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VEZE PODATAKA (Data Lin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FIZIČKI SLOJ (Physical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24000" y="1125360"/>
            <a:ext cx="8424720" cy="288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država segmentiranje i spajanje po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mogučava komunikaciju KRAJNJIH TAČAKA (Sistema) u sklopu mreže. (End to En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aketira podatke, numeracija i slan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Upravlja prenosom pak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ntroliše greške prilikom prenosa podata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OSI – referentni model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(ISO-OS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EDAM nivoa (sloj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APLIKACIJE (Applic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PREZENTACIJE (Presen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SESIJE (Ses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TRANSPORTNI SLOJ (Transpor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REŽNI SLOJ (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VEZE PODATAKA (Data Lin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FIZIČKI SLOJ (Physical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24000" y="1052640"/>
            <a:ext cx="8640720" cy="345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Utvrđuje najbolji način prenosa podataka od jednog do drugog kraja mreže (IZVOR – ODREDIŠ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Upravlja adresiranjem poruka i prevođenjem LOGIČKIH ADRESA (Npr. IP-adresa) u fizičke adrese (Npr. MAC-adre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dređuje putanju (roote) podataka između krajnjih tača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ilagođava veličine paketa između dve krajnje tač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OSI – referentni model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(ISO-OS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EDAM nivoa (sloj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APLIKACIJE (Applic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PREZENTACIJE (Presen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SESIJE (Ses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TRANSPORTNI SLOJ (Transpor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REŽNI SLOJ (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OJ VEZE PODATAKA (Data Lin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FIZIČKI SLOJ (Physical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50920" y="620640"/>
            <a:ext cx="8642160" cy="446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Šalje PAKETE podataka (RAM – Frame) od mrežnog ka fizičkom sloj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ijemom povorke BITA sa fizičkog nivoa prevodi ih u RAM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aketi poseduj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ZNAKU ODREDIŠTA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Destination ID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– obično MAC adresa odredišnog računara ili uređaja za izlaz na mrežu (GATEWA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znaku pošiljaoca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ender ID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– obično MAC adresa pošilao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ontrolne informacije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Controle Information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 (TIP PAKETA, NAČIN USMERAVANJA, SEGMENTACIJ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CRC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Cyclic Redundancy Chack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 – detekcija i korekcija grešaka koje nastaju u prenosu pak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OSI – referentni model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(ISO-OS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EDAM nivoa (sloj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APLIKACIJE (Applic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PREZENTACIJE (Presen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SESIJE (Ses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TRANSPORTNI SLOJ (Transpor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REŽNI SLOJ (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OJ VEZE PODATAKA (Data Lin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FIZIČKI SLOJ (Physical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24000" y="1628640"/>
            <a:ext cx="8640720" cy="338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oj podataka je podeljen na dva podslo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LC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(Logical Link Controle) – obezbeđuje kontrolu grešaka i komunikaciju sa mrežnim slojem u cilju određivanja tipa mrežne komunikacije (konekcioni, beskonekcio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(Media Access Control) – pristup LAN medijumu. Primarno radi sa fizičkim sloj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OSI-arhitektur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OSI – referentni model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(ISO-OS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EDAM nivoa (sloj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APLIKACIJE (Applic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PREZENTACIJE (Presen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SESIJE (Ses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TRANSPORTNI SLOJ (Transportation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REŽNI SLOJ (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LOJ VEZE PODATAKA (Data Lin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FIZIČKI SLOJ (Physical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9640" y="2205000"/>
            <a:ext cx="8245440" cy="338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efiniše fizičke karakteristike medija kojim se vrši prenos podataka (struja, signal, nosioci, modulacija i sl.) između mrežnog adaptera (NIC – Network Interface Card) i mrežnog mediju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dgovoran je za prenos BITA između dva računara na mre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OSI-arhitektura – mrežni slojev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755640" y="1268280"/>
          <a:ext cx="1512720" cy="418176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63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k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ež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a podata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č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2" name=""/>
          <p:cNvGraphicFramePr/>
          <p:nvPr/>
        </p:nvGraphicFramePr>
        <p:xfrm>
          <a:off x="7020000" y="1268280"/>
          <a:ext cx="1535040" cy="4181760"/>
        </p:xfrm>
        <a:graphic>
          <a:graphicData uri="http://schemas.openxmlformats.org/drawingml/2006/table">
            <a:tbl>
              <a:tblPr/>
              <a:tblGrid>
                <a:gridCol w="1535040"/>
              </a:tblGrid>
              <a:tr h="63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k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ež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a podata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č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3" name=""/>
          <p:cNvGraphicFramePr/>
          <p:nvPr/>
        </p:nvGraphicFramePr>
        <p:xfrm>
          <a:off x="2340000" y="4941720"/>
          <a:ext cx="4608360" cy="50292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50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0100110011000001111001010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4" name=""/>
          <p:cNvGraphicFramePr/>
          <p:nvPr/>
        </p:nvGraphicFramePr>
        <p:xfrm>
          <a:off x="2340000" y="4292640"/>
          <a:ext cx="4608360" cy="576360"/>
        </p:xfrm>
        <a:graphic>
          <a:graphicData uri="http://schemas.openxmlformats.org/drawingml/2006/table">
            <a:tbl>
              <a:tblPr/>
              <a:tblGrid>
                <a:gridCol w="1152360"/>
                <a:gridCol w="1224000"/>
                <a:gridCol w="1150920"/>
                <a:gridCol w="1081080"/>
              </a:tblGrid>
              <a:tr h="57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glavl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a (Fram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glavl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ež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glavl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A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5" name=""/>
          <p:cNvGraphicFramePr/>
          <p:nvPr/>
        </p:nvGraphicFramePr>
        <p:xfrm>
          <a:off x="3492360" y="3716280"/>
          <a:ext cx="3456000" cy="504720"/>
        </p:xfrm>
        <a:graphic>
          <a:graphicData uri="http://schemas.openxmlformats.org/drawingml/2006/table">
            <a:tbl>
              <a:tblPr/>
              <a:tblGrid>
                <a:gridCol w="1224000"/>
                <a:gridCol w="1150920"/>
                <a:gridCol w="1081080"/>
              </a:tblGrid>
              <a:tr h="504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glavl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ež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glavl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A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6" name=""/>
          <p:cNvGraphicFramePr/>
          <p:nvPr/>
        </p:nvGraphicFramePr>
        <p:xfrm>
          <a:off x="4716360" y="3141720"/>
          <a:ext cx="2232000" cy="504720"/>
        </p:xfrm>
        <a:graphic>
          <a:graphicData uri="http://schemas.openxmlformats.org/drawingml/2006/table">
            <a:tbl>
              <a:tblPr/>
              <a:tblGrid>
                <a:gridCol w="1150920"/>
                <a:gridCol w="1081080"/>
              </a:tblGrid>
              <a:tr h="504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glavl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A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787" name=""/>
          <p:cNvSpPr/>
          <p:nvPr/>
        </p:nvSpPr>
        <p:spPr>
          <a:xfrm>
            <a:off x="395280" y="1628640"/>
            <a:ext cx="0" cy="3600720"/>
          </a:xfrm>
          <a:prstGeom prst="line">
            <a:avLst/>
          </a:prstGeom>
          <a:ln w="8892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8820000" y="1484280"/>
            <a:ext cx="0" cy="3673440"/>
          </a:xfrm>
          <a:prstGeom prst="line">
            <a:avLst/>
          </a:prstGeom>
          <a:ln w="8892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340000" y="5734080"/>
            <a:ext cx="4608360" cy="0"/>
          </a:xfrm>
          <a:prstGeom prst="line">
            <a:avLst/>
          </a:prstGeom>
          <a:ln w="8892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5867280" y="2492280"/>
          <a:ext cx="1081080" cy="50508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505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A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1" name=""/>
          <p:cNvGraphicFramePr/>
          <p:nvPr/>
        </p:nvGraphicFramePr>
        <p:xfrm>
          <a:off x="5867280" y="1916280"/>
          <a:ext cx="1079640" cy="50472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504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A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2" name=""/>
          <p:cNvGraphicFramePr/>
          <p:nvPr/>
        </p:nvGraphicFramePr>
        <p:xfrm>
          <a:off x="5867280" y="1341360"/>
          <a:ext cx="1079640" cy="5050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505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A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3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2. OSI-arhitektura – mrežni slojev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755640" y="1268280"/>
          <a:ext cx="1512720" cy="418176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63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k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ež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a podata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č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7020000" y="1268280"/>
          <a:ext cx="1535040" cy="4181760"/>
        </p:xfrm>
        <a:graphic>
          <a:graphicData uri="http://schemas.openxmlformats.org/drawingml/2006/table">
            <a:tbl>
              <a:tblPr/>
              <a:tblGrid>
                <a:gridCol w="1535040"/>
              </a:tblGrid>
              <a:tr h="63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k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ež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a podata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č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6" name=""/>
          <p:cNvGraphicFramePr/>
          <p:nvPr/>
        </p:nvGraphicFramePr>
        <p:xfrm>
          <a:off x="2340000" y="4941720"/>
          <a:ext cx="4608360" cy="50292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50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0100110011000001111001010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7" name=""/>
          <p:cNvGraphicFramePr/>
          <p:nvPr/>
        </p:nvGraphicFramePr>
        <p:xfrm>
          <a:off x="2340000" y="4292640"/>
          <a:ext cx="4608360" cy="576360"/>
        </p:xfrm>
        <a:graphic>
          <a:graphicData uri="http://schemas.openxmlformats.org/drawingml/2006/table">
            <a:tbl>
              <a:tblPr/>
              <a:tblGrid>
                <a:gridCol w="1152360"/>
                <a:gridCol w="1224000"/>
                <a:gridCol w="1150920"/>
                <a:gridCol w="1081080"/>
              </a:tblGrid>
              <a:tr h="57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glavl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a (Fram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glavl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ež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glavl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A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8" name=""/>
          <p:cNvGraphicFramePr/>
          <p:nvPr/>
        </p:nvGraphicFramePr>
        <p:xfrm>
          <a:off x="3492360" y="3716280"/>
          <a:ext cx="3456000" cy="504720"/>
        </p:xfrm>
        <a:graphic>
          <a:graphicData uri="http://schemas.openxmlformats.org/drawingml/2006/table">
            <a:tbl>
              <a:tblPr/>
              <a:tblGrid>
                <a:gridCol w="1224000"/>
                <a:gridCol w="1150920"/>
                <a:gridCol w="1081080"/>
              </a:tblGrid>
              <a:tr h="504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glavl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ež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glavl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A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4716360" y="3141720"/>
          <a:ext cx="2232000" cy="504720"/>
        </p:xfrm>
        <a:graphic>
          <a:graphicData uri="http://schemas.openxmlformats.org/drawingml/2006/table">
            <a:tbl>
              <a:tblPr/>
              <a:tblGrid>
                <a:gridCol w="1150920"/>
                <a:gridCol w="1081080"/>
              </a:tblGrid>
              <a:tr h="504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glavl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A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800" name=""/>
          <p:cNvSpPr/>
          <p:nvPr/>
        </p:nvSpPr>
        <p:spPr>
          <a:xfrm>
            <a:off x="395280" y="1628640"/>
            <a:ext cx="0" cy="3600720"/>
          </a:xfrm>
          <a:prstGeom prst="line">
            <a:avLst/>
          </a:prstGeom>
          <a:ln w="8892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8820000" y="1484280"/>
            <a:ext cx="0" cy="3673440"/>
          </a:xfrm>
          <a:prstGeom prst="line">
            <a:avLst/>
          </a:prstGeom>
          <a:ln w="8892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0000" y="5734080"/>
            <a:ext cx="4608360" cy="0"/>
          </a:xfrm>
          <a:prstGeom prst="line">
            <a:avLst/>
          </a:prstGeom>
          <a:ln w="8892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5867280" y="2492280"/>
          <a:ext cx="1081080" cy="50508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505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A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4" name=""/>
          <p:cNvGraphicFramePr/>
          <p:nvPr/>
        </p:nvGraphicFramePr>
        <p:xfrm>
          <a:off x="5867280" y="1916280"/>
          <a:ext cx="1079640" cy="50472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504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A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5" name=""/>
          <p:cNvGraphicFramePr/>
          <p:nvPr/>
        </p:nvGraphicFramePr>
        <p:xfrm>
          <a:off x="5867280" y="1341360"/>
          <a:ext cx="1079640" cy="5050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505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A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560" y="187200"/>
            <a:ext cx="889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“</a:t>
            </a:r>
            <a:r>
              <a:rPr b="0" i="1" lang="sr-Latn-CS" sz="3600" spc="-1" strike="noStrike">
                <a:solidFill>
                  <a:srgbClr val="003300"/>
                </a:solidFill>
                <a:latin typeface="Arial Black"/>
              </a:rPr>
              <a:t>Interesantne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” 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primene 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internet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a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114800" y="1460520"/>
            <a:ext cx="2495520" cy="29354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1166760" y="1368360"/>
            <a:ext cx="1895400" cy="15606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739800" y="3763800"/>
            <a:ext cx="2165400" cy="17132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42320" y="5477040"/>
            <a:ext cx="41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ajmanji WEB-server na sve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-ccs.cs.umass.edu/~shri/iPic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82680" y="2774880"/>
            <a:ext cx="215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–ram za sli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iva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62880" y="2349360"/>
            <a:ext cx="212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-enabled toster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remenska progno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6372360" y="4581360"/>
            <a:ext cx="2395440" cy="19195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950520" y="6308640"/>
            <a:ext cx="17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elefon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18648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51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Šta je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tern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51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Tipovi mreža i arhitektura otvorenih sistema (OS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51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Elementi organizacije Intern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rotok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Mrežna gr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Jezgro mrež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Mrežni pristup i fizički medij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truktur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-a 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Kašnjenj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gubic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u paketno-komutiranim mrež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lojevi protokola, modeli servi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6227640" y="189000"/>
            <a:ext cx="2390760" cy="657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7.02.2009.g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468360" y="1413000"/>
            <a:ext cx="4114800" cy="1296720"/>
          </a:xfrm>
          <a:prstGeom prst="triangle">
            <a:avLst>
              <a:gd name="adj" fmla="val 50000"/>
            </a:avLst>
          </a:prstGeom>
          <a:solidFill>
            <a:srgbClr val="1672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68360" y="5802480"/>
            <a:ext cx="4103640" cy="509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HARD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16200000">
            <a:off x="-849960" y="4026600"/>
            <a:ext cx="3076560" cy="43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SOFT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16200000">
            <a:off x="84960" y="4026600"/>
            <a:ext cx="3076560" cy="439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PROTOK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rot="16200000">
            <a:off x="950040" y="4026600"/>
            <a:ext cx="3076560" cy="439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DRESNE Š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rot="16200000">
            <a:off x="1884960" y="4026600"/>
            <a:ext cx="3076560" cy="43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rot="16200000">
            <a:off x="2821680" y="4026600"/>
            <a:ext cx="3076560" cy="43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LJU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11280" y="126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Internet - osnov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250920" y="1413000"/>
            <a:ext cx="4114800" cy="1296720"/>
          </a:xfrm>
          <a:prstGeom prst="triangle">
            <a:avLst>
              <a:gd name="adj" fmla="val 50000"/>
            </a:avLst>
          </a:prstGeom>
          <a:solidFill>
            <a:srgbClr val="1672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50920" y="5802480"/>
            <a:ext cx="4103640" cy="509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HARD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rot="16200000">
            <a:off x="-1067400" y="4026600"/>
            <a:ext cx="3076560" cy="43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SOFT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rot="16200000">
            <a:off x="-132120" y="4026600"/>
            <a:ext cx="3076560" cy="439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cc"/>
                </a:solidFill>
                <a:latin typeface="Arial"/>
              </a:rPr>
              <a:t>PROTOK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rot="16200000">
            <a:off x="732600" y="4026600"/>
            <a:ext cx="3076560" cy="439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DRESNE Š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rot="16200000">
            <a:off x="1667520" y="4026600"/>
            <a:ext cx="3076560" cy="43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rot="16200000">
            <a:off x="2604240" y="4026600"/>
            <a:ext cx="3076560" cy="439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LJU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11280" y="126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Internet - osnov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4211640" y="981000"/>
            <a:ext cx="4716360" cy="5256360"/>
            <a:chOff x="4211640" y="981000"/>
            <a:chExt cx="4716360" cy="5256360"/>
          </a:xfrm>
        </p:grpSpPr>
        <p:sp>
          <p:nvSpPr>
            <p:cNvPr id="826" name=""/>
            <p:cNvSpPr/>
            <p:nvPr/>
          </p:nvSpPr>
          <p:spPr>
            <a:xfrm>
              <a:off x="4211640" y="981000"/>
              <a:ext cx="4716360" cy="5256360"/>
            </a:xfrm>
            <a:prstGeom prst="cloudCallout">
              <a:avLst>
                <a:gd name="adj1" fmla="val -109240"/>
                <a:gd name="adj2" fmla="val 3876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59280" y="2338560"/>
              <a:ext cx="38386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cc"/>
                  </a:solidFill>
                  <a:latin typeface="Times New Roman"/>
                </a:rPr>
                <a:t>Protkoli (Standardi) – skup pravila koja omogučavaju komunikaciju računara povezanih na Intern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cc"/>
                  </a:solidFill>
                  <a:latin typeface="Times New Roman"/>
                </a:rPr>
                <a:t>VIŠENIVOVSKI (UGNEŽDENI)</a:t>
              </a:r>
              <a:r>
                <a:rPr b="0" lang="sr-Latn-CS" sz="2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55280" y="-252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Šta je protokol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3816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judski protoko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liko je sati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vas pita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na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poruke pos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ne aktivnosti preduzete kada se poruke prime, ili drugi događa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427640" y="836640"/>
            <a:ext cx="4248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Mrežni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to</a:t>
            </a:r>
            <a:r>
              <a:rPr b="1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koli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ašine pre lju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tokoli upravljaju svim aktivnostima prilikom komunikacija na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erne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140360" y="3789360"/>
            <a:ext cx="5003640" cy="28814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koli definišu: f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rmat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redosled poruka poslatih i primljenih između mrežnih entitet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kao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i akcije preduzete pri prenosu i prijemu poruka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9640" y="-252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Šta je protokol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judski protokol i protokol računarskih mrež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85800" y="59436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?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rugi ljudski protoko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257480" y="2771640"/>
            <a:ext cx="176184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709560" y="2376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3129120" y="2771640"/>
            <a:ext cx="676080" cy="6908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698480" y="248436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Comic Sans MS"/>
              </a:rPr>
              <a:t>Zdra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971640" y="3352680"/>
            <a:ext cx="2085840" cy="362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933480" y="3762360"/>
            <a:ext cx="2162160" cy="438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152360" y="3716280"/>
            <a:ext cx="1784160" cy="620640"/>
            <a:chOff x="1152360" y="3716280"/>
            <a:chExt cx="1784160" cy="620640"/>
          </a:xfrm>
        </p:grpSpPr>
        <p:sp>
          <p:nvSpPr>
            <p:cNvPr id="842" name=""/>
            <p:cNvSpPr/>
            <p:nvPr/>
          </p:nvSpPr>
          <p:spPr>
            <a:xfrm>
              <a:off x="1573200" y="3784320"/>
              <a:ext cx="9334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152360" y="3716280"/>
              <a:ext cx="1784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0000"/>
                  </a:solidFill>
                  <a:latin typeface="Comic Sans MS"/>
                </a:rPr>
                <a:t>Koliko je sati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 flipV="1">
            <a:off x="1095480" y="4334040"/>
            <a:ext cx="1952640" cy="333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1437120" y="4361040"/>
            <a:ext cx="957960" cy="459720"/>
            <a:chOff x="1437120" y="4361040"/>
            <a:chExt cx="957960" cy="459720"/>
          </a:xfrm>
        </p:grpSpPr>
        <p:sp>
          <p:nvSpPr>
            <p:cNvPr id="846" name=""/>
            <p:cNvSpPr/>
            <p:nvPr/>
          </p:nvSpPr>
          <p:spPr>
            <a:xfrm>
              <a:off x="1523880" y="443880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437120" y="4361040"/>
              <a:ext cx="9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0000"/>
                  </a:solidFill>
                  <a:latin typeface="Comic Sans MS"/>
                </a:rPr>
                <a:t>14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: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4057560" y="1962000"/>
            <a:ext cx="0" cy="385776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3657600" y="5094360"/>
            <a:ext cx="1092240" cy="459720"/>
            <a:chOff x="3657600" y="5094360"/>
            <a:chExt cx="1092240" cy="459720"/>
          </a:xfrm>
        </p:grpSpPr>
        <p:sp>
          <p:nvSpPr>
            <p:cNvPr id="850" name=""/>
            <p:cNvSpPr/>
            <p:nvPr/>
          </p:nvSpPr>
          <p:spPr>
            <a:xfrm>
              <a:off x="3752640" y="5191200"/>
              <a:ext cx="6480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657600" y="509436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cc9900"/>
                  </a:solidFill>
                  <a:latin typeface="Comic Sans MS"/>
                </a:rPr>
                <a:t>vre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1332000" y="3141720"/>
            <a:ext cx="100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Comic Sans MS"/>
              </a:rPr>
              <a:t>Zdra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4119480" y="2631960"/>
            <a:ext cx="4830840" cy="2447280"/>
            <a:chOff x="4119480" y="2631960"/>
            <a:chExt cx="4830840" cy="2447280"/>
          </a:xfrm>
        </p:grpSpPr>
        <p:grpSp>
          <p:nvGrpSpPr>
            <p:cNvPr id="854" name=""/>
            <p:cNvGrpSpPr/>
            <p:nvPr/>
          </p:nvGrpSpPr>
          <p:grpSpPr>
            <a:xfrm>
              <a:off x="5156280" y="4151160"/>
              <a:ext cx="3794040" cy="307080"/>
              <a:chOff x="5156280" y="4151160"/>
              <a:chExt cx="3794040" cy="307080"/>
            </a:xfrm>
          </p:grpSpPr>
          <p:sp>
            <p:nvSpPr>
              <p:cNvPr id="855" name=""/>
              <p:cNvSpPr/>
              <p:nvPr/>
            </p:nvSpPr>
            <p:spPr>
              <a:xfrm>
                <a:off x="5219640" y="4200480"/>
                <a:ext cx="3333960" cy="18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156280" y="4151160"/>
                <a:ext cx="379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Comic Sans MS"/>
                  </a:rPr>
                  <a:t>Get http://www.awl.com/kurose-ro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7174080" y="2917800"/>
              <a:ext cx="354960" cy="932760"/>
              <a:chOff x="7174080" y="2917800"/>
              <a:chExt cx="354960" cy="932760"/>
            </a:xfrm>
          </p:grpSpPr>
          <p:sp>
            <p:nvSpPr>
              <p:cNvPr id="858" name=""/>
              <p:cNvSpPr/>
              <p:nvPr/>
            </p:nvSpPr>
            <p:spPr>
              <a:xfrm>
                <a:off x="7174080" y="363492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353720" y="29239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175880" y="3126960"/>
                <a:ext cx="22500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174080" y="291780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529040" y="29329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400880" y="3634920"/>
                <a:ext cx="12780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204680" y="3221640"/>
                <a:ext cx="149040" cy="4132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225920" y="33462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66" name="" descr=""/>
            <p:cNvPicPr/>
            <p:nvPr/>
          </p:nvPicPr>
          <p:blipFill>
            <a:blip r:embed="rId3"/>
            <a:stretch/>
          </p:blipFill>
          <p:spPr>
            <a:xfrm>
              <a:off x="4543560" y="263196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5175000" y="2655720"/>
              <a:ext cx="266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CP </a:t>
              </a:r>
              <a:r>
                <a:rPr b="0" lang="sr-Latn-CS" sz="2000" spc="-1" strike="noStrike">
                  <a:solidFill>
                    <a:srgbClr val="ff0000"/>
                  </a:solidFill>
                  <a:latin typeface="Comic Sans MS"/>
                </a:rPr>
                <a:t>zahtev za vez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4943520" y="4648320"/>
              <a:ext cx="2343240" cy="428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219640" y="2981160"/>
              <a:ext cx="1762200" cy="27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4896000" y="3476520"/>
              <a:ext cx="2085840" cy="36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5123160" y="3408480"/>
              <a:ext cx="1713960" cy="398880"/>
              <a:chOff x="5123160" y="3408480"/>
              <a:chExt cx="1713960" cy="398880"/>
            </a:xfrm>
          </p:grpSpPr>
          <p:sp>
            <p:nvSpPr>
              <p:cNvPr id="872" name=""/>
              <p:cNvSpPr/>
              <p:nvPr/>
            </p:nvSpPr>
            <p:spPr>
              <a:xfrm>
                <a:off x="5248440" y="3476520"/>
                <a:ext cx="1438200" cy="28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123160" y="3408480"/>
                <a:ext cx="171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TCP </a:t>
                </a:r>
                <a:r>
                  <a:rPr b="0" lang="sr-Latn-CS" sz="2000" spc="-1" strike="noStrike">
                    <a:solidFill>
                      <a:srgbClr val="ff0000"/>
                    </a:solidFill>
                    <a:latin typeface="Comic Sans MS"/>
                  </a:rPr>
                  <a:t>odgov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4943520" y="4086360"/>
              <a:ext cx="2400120" cy="419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5473440" y="4724280"/>
              <a:ext cx="1256760" cy="354960"/>
              <a:chOff x="5473440" y="4724280"/>
              <a:chExt cx="1256760" cy="354960"/>
            </a:xfrm>
          </p:grpSpPr>
          <p:sp>
            <p:nvSpPr>
              <p:cNvPr id="876" name=""/>
              <p:cNvSpPr/>
              <p:nvPr/>
            </p:nvSpPr>
            <p:spPr>
              <a:xfrm>
                <a:off x="5600520" y="4724280"/>
                <a:ext cx="704880" cy="29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473440" y="4741920"/>
                <a:ext cx="1256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&lt;</a:t>
                </a:r>
                <a:r>
                  <a:rPr b="0" lang="sr-Latn-CS" sz="1600" spc="-1" strike="noStrike">
                    <a:solidFill>
                      <a:srgbClr val="ff0000"/>
                    </a:solidFill>
                    <a:latin typeface="Comic Sans MS"/>
                  </a:rPr>
                  <a:t>datoteka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&gt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chair"/>
            <p:cNvSpPr/>
            <p:nvPr/>
          </p:nvSpPr>
          <p:spPr>
            <a:xfrm>
              <a:off x="4119480" y="3090960"/>
              <a:ext cx="905040" cy="67608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28240" y="264960"/>
            <a:ext cx="8304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Slojevi Internet protokola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6192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likacion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d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ava mrežne aplik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‚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port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n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nos podataka (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t-hos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,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mrežn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meravanje (rutiranj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tagrama od izvora do odredi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nk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e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ataka između susednih mrežnih eleme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fizičk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i “preko fizičkog medijuma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6732720" y="1773360"/>
            <a:ext cx="2036160" cy="3674880"/>
            <a:chOff x="6732720" y="1773360"/>
            <a:chExt cx="2036160" cy="3674880"/>
          </a:xfrm>
        </p:grpSpPr>
        <p:sp>
          <p:nvSpPr>
            <p:cNvPr id="882" name=""/>
            <p:cNvSpPr/>
            <p:nvPr/>
          </p:nvSpPr>
          <p:spPr>
            <a:xfrm>
              <a:off x="6876720" y="1773360"/>
              <a:ext cx="1892160" cy="3530520"/>
            </a:xfrm>
            <a:prstGeom prst="rect">
              <a:avLst/>
            </a:prstGeom>
            <a:solidFill>
              <a:srgbClr val="cc9900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6732720" y="1917720"/>
              <a:ext cx="1897920" cy="3530520"/>
              <a:chOff x="6732720" y="1917720"/>
              <a:chExt cx="1897920" cy="3530520"/>
            </a:xfrm>
          </p:grpSpPr>
          <p:sp>
            <p:nvSpPr>
              <p:cNvPr id="884" name=""/>
              <p:cNvSpPr/>
              <p:nvPr/>
            </p:nvSpPr>
            <p:spPr>
              <a:xfrm>
                <a:off x="6738840" y="1917720"/>
                <a:ext cx="1891800" cy="3530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817320" y="2014560"/>
                <a:ext cx="1764000" cy="33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732720" y="2609640"/>
                <a:ext cx="1885680" cy="0"/>
              </a:xfrm>
              <a:prstGeom prst="line">
                <a:avLst/>
              </a:prstGeom>
              <a:ln w="381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732720" y="3314520"/>
                <a:ext cx="1885680" cy="0"/>
              </a:xfrm>
              <a:prstGeom prst="line">
                <a:avLst/>
              </a:prstGeom>
              <a:ln w="381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732720" y="4025880"/>
                <a:ext cx="1885680" cy="0"/>
              </a:xfrm>
              <a:prstGeom prst="line">
                <a:avLst/>
              </a:prstGeom>
              <a:ln w="381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732720" y="4737240"/>
                <a:ext cx="1885680" cy="0"/>
              </a:xfrm>
              <a:prstGeom prst="line">
                <a:avLst/>
              </a:prstGeom>
              <a:ln w="381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3817800" y="1447920"/>
            <a:ext cx="4048200" cy="3833640"/>
          </a:xfrm>
          <a:custGeom>
            <a:avLst/>
            <a:gdLst/>
            <a:ahLst/>
            <a:rect l="l" t="t" r="r" b="b"/>
            <a:pathLst>
              <a:path w="2550" h="2415">
                <a:moveTo>
                  <a:pt x="592" y="0"/>
                </a:moveTo>
                <a:lnTo>
                  <a:pt x="2544" y="0"/>
                </a:lnTo>
                <a:lnTo>
                  <a:pt x="2550" y="2415"/>
                </a:lnTo>
                <a:lnTo>
                  <a:pt x="0" y="2415"/>
                </a:ln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129440" y="2246400"/>
            <a:ext cx="638280" cy="852480"/>
          </a:xfrm>
          <a:custGeom>
            <a:avLst/>
            <a:gdLst/>
            <a:ahLst/>
            <a:rect l="l" t="t" r="r" b="b"/>
            <a:pathLst>
              <a:path w="402" h="537">
                <a:moveTo>
                  <a:pt x="402" y="363"/>
                </a:moveTo>
                <a:lnTo>
                  <a:pt x="28" y="0"/>
                </a:lnTo>
                <a:lnTo>
                  <a:pt x="0" y="470"/>
                </a:lnTo>
                <a:lnTo>
                  <a:pt x="242" y="537"/>
                </a:lnTo>
                <a:lnTo>
                  <a:pt x="402" y="36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19280" y="69696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Comic Sans MS"/>
              </a:rPr>
              <a:t>poru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79160" y="97164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00520" y="12841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dat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72080" y="161784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Comic Sans MS"/>
              </a:rPr>
              <a:t>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682000" y="18900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9900"/>
                </a:solidFill>
                <a:latin typeface="Comic Sans MS"/>
              </a:rPr>
              <a:t>iz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7" name=""/>
          <p:cNvGraphicFramePr/>
          <p:nvPr/>
        </p:nvGraphicFramePr>
        <p:xfrm>
          <a:off x="4098960" y="1201680"/>
          <a:ext cx="6462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8960" y="1201680"/>
                    <a:ext cx="646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9" name=""/>
          <p:cNvSpPr/>
          <p:nvPr/>
        </p:nvSpPr>
        <p:spPr>
          <a:xfrm>
            <a:off x="3868560" y="654120"/>
            <a:ext cx="360720" cy="1577880"/>
          </a:xfrm>
          <a:custGeom>
            <a:avLst/>
            <a:gdLst/>
            <a:ahLst/>
            <a:rect l="l" t="t" r="r" b="b"/>
            <a:pathLst>
              <a:path w="267" h="1186">
                <a:moveTo>
                  <a:pt x="254" y="466"/>
                </a:moveTo>
                <a:lnTo>
                  <a:pt x="0" y="0"/>
                </a:lnTo>
                <a:lnTo>
                  <a:pt x="0" y="1186"/>
                </a:lnTo>
                <a:lnTo>
                  <a:pt x="267" y="652"/>
                </a:lnTo>
                <a:lnTo>
                  <a:pt x="254" y="46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7488360" y="2827440"/>
            <a:ext cx="975960" cy="277200"/>
            <a:chOff x="7488360" y="2827440"/>
            <a:chExt cx="975960" cy="277200"/>
          </a:xfrm>
        </p:grpSpPr>
        <p:sp>
          <p:nvSpPr>
            <p:cNvPr id="901" name=""/>
            <p:cNvSpPr/>
            <p:nvPr/>
          </p:nvSpPr>
          <p:spPr>
            <a:xfrm>
              <a:off x="7488360" y="2946240"/>
              <a:ext cx="946440" cy="158400"/>
            </a:xfrm>
            <a:custGeom>
              <a:avLst/>
              <a:gdLst/>
              <a:ahLst/>
              <a:rect l="l" t="t" r="r" b="b"/>
              <a:pathLst>
                <a:path w="672" h="164">
                  <a:moveTo>
                    <a:pt x="179" y="0"/>
                  </a:moveTo>
                  <a:lnTo>
                    <a:pt x="672" y="0"/>
                  </a:lnTo>
                  <a:lnTo>
                    <a:pt x="508" y="164"/>
                  </a:lnTo>
                  <a:lnTo>
                    <a:pt x="0" y="16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509240" y="2827440"/>
              <a:ext cx="927000" cy="271800"/>
            </a:xfrm>
            <a:custGeom>
              <a:avLst/>
              <a:gdLst/>
              <a:ahLst/>
              <a:rect l="l" t="t" r="r" b="b"/>
              <a:pathLst>
                <a:path w="658" h="281">
                  <a:moveTo>
                    <a:pt x="0" y="281"/>
                  </a:moveTo>
                  <a:lnTo>
                    <a:pt x="13" y="150"/>
                  </a:lnTo>
                  <a:lnTo>
                    <a:pt x="658" y="0"/>
                  </a:lnTo>
                  <a:lnTo>
                    <a:pt x="658" y="13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517880" y="2827440"/>
              <a:ext cx="946440" cy="158400"/>
            </a:xfrm>
            <a:custGeom>
              <a:avLst/>
              <a:gdLst/>
              <a:ahLst/>
              <a:rect l="l" t="t" r="r" b="b"/>
              <a:pathLst>
                <a:path w="672" h="164">
                  <a:moveTo>
                    <a:pt x="179" y="0"/>
                  </a:moveTo>
                  <a:lnTo>
                    <a:pt x="672" y="0"/>
                  </a:lnTo>
                  <a:lnTo>
                    <a:pt x="508" y="164"/>
                  </a:lnTo>
                  <a:lnTo>
                    <a:pt x="0" y="16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7805160" y="2850120"/>
              <a:ext cx="334440" cy="100080"/>
              <a:chOff x="7805160" y="2850120"/>
              <a:chExt cx="334440" cy="100080"/>
            </a:xfrm>
          </p:grpSpPr>
          <p:sp>
            <p:nvSpPr>
              <p:cNvPr id="905" name=""/>
              <p:cNvSpPr/>
              <p:nvPr/>
            </p:nvSpPr>
            <p:spPr>
              <a:xfrm flipV="1">
                <a:off x="7805160" y="2850120"/>
                <a:ext cx="1191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034480" y="2950200"/>
                <a:ext cx="105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915320" y="2852280"/>
                <a:ext cx="124200" cy="9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7824960" y="2848680"/>
              <a:ext cx="334440" cy="99720"/>
              <a:chOff x="7824960" y="2848680"/>
              <a:chExt cx="334440" cy="99720"/>
            </a:xfrm>
          </p:grpSpPr>
          <p:sp>
            <p:nvSpPr>
              <p:cNvPr id="909" name=""/>
              <p:cNvSpPr/>
              <p:nvPr/>
            </p:nvSpPr>
            <p:spPr>
              <a:xfrm>
                <a:off x="7824960" y="2946600"/>
                <a:ext cx="1191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054280" y="2848680"/>
                <a:ext cx="105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V="1">
                <a:off x="7935120" y="2849040"/>
                <a:ext cx="124200" cy="9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2" name=""/>
          <p:cNvSpPr/>
          <p:nvPr/>
        </p:nvSpPr>
        <p:spPr>
          <a:xfrm>
            <a:off x="2644920" y="660240"/>
            <a:ext cx="1296720" cy="15465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97040" y="731880"/>
            <a:ext cx="1273320" cy="153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597040" y="10494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554200" y="698400"/>
            <a:ext cx="13176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604960" y="137016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610000" y="16509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610000" y="1927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1041480" y="1641600"/>
            <a:ext cx="1479600" cy="303120"/>
            <a:chOff x="1041480" y="1641600"/>
            <a:chExt cx="1479600" cy="303120"/>
          </a:xfrm>
        </p:grpSpPr>
        <p:sp>
          <p:nvSpPr>
            <p:cNvPr id="920" name=""/>
            <p:cNvSpPr/>
            <p:nvPr/>
          </p:nvSpPr>
          <p:spPr>
            <a:xfrm>
              <a:off x="1062000" y="166860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635120" y="16416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339920" y="16416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041480" y="16416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841760" y="164340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324080" y="166860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609920" y="167832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914480" y="16732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1309680" y="1343160"/>
            <a:ext cx="1208160" cy="302760"/>
            <a:chOff x="1309680" y="1343160"/>
            <a:chExt cx="1208160" cy="302760"/>
          </a:xfrm>
        </p:grpSpPr>
        <p:sp>
          <p:nvSpPr>
            <p:cNvPr id="929" name=""/>
            <p:cNvSpPr/>
            <p:nvPr/>
          </p:nvSpPr>
          <p:spPr>
            <a:xfrm>
              <a:off x="1309680" y="1369800"/>
              <a:ext cx="108288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31880" y="134316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336680" y="1343160"/>
              <a:ext cx="29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838520" y="134460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606680" y="137952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11600" y="1374840"/>
              <a:ext cx="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1612800" y="1035000"/>
            <a:ext cx="890640" cy="302760"/>
            <a:chOff x="1612800" y="1035000"/>
            <a:chExt cx="890640" cy="302760"/>
          </a:xfrm>
        </p:grpSpPr>
        <p:sp>
          <p:nvSpPr>
            <p:cNvPr id="936" name=""/>
            <p:cNvSpPr/>
            <p:nvPr/>
          </p:nvSpPr>
          <p:spPr>
            <a:xfrm>
              <a:off x="1612800" y="1061640"/>
              <a:ext cx="76536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617840" y="103500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24120" y="103644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897200" y="106668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1819440" y="723960"/>
            <a:ext cx="679320" cy="301680"/>
            <a:chOff x="1819440" y="723960"/>
            <a:chExt cx="679320" cy="301680"/>
          </a:xfrm>
        </p:grpSpPr>
        <p:sp>
          <p:nvSpPr>
            <p:cNvPr id="941" name=""/>
            <p:cNvSpPr/>
            <p:nvPr/>
          </p:nvSpPr>
          <p:spPr>
            <a:xfrm>
              <a:off x="1878120" y="749520"/>
              <a:ext cx="49536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819440" y="723960"/>
              <a:ext cx="679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1521360" y="4076640"/>
            <a:ext cx="139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9900"/>
                </a:solidFill>
                <a:latin typeface="Comic Sans MS"/>
              </a:rPr>
              <a:t>odrediš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4" name=""/>
          <p:cNvGraphicFramePr/>
          <p:nvPr/>
        </p:nvGraphicFramePr>
        <p:xfrm>
          <a:off x="3209760" y="5087880"/>
          <a:ext cx="6462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9760" y="5087880"/>
                    <a:ext cx="646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6" name=""/>
          <p:cNvSpPr/>
          <p:nvPr/>
        </p:nvSpPr>
        <p:spPr>
          <a:xfrm>
            <a:off x="2979720" y="4540320"/>
            <a:ext cx="360360" cy="1577880"/>
          </a:xfrm>
          <a:custGeom>
            <a:avLst/>
            <a:gdLst/>
            <a:ahLst/>
            <a:rect l="l" t="t" r="r" b="b"/>
            <a:pathLst>
              <a:path w="267" h="1186">
                <a:moveTo>
                  <a:pt x="254" y="466"/>
                </a:moveTo>
                <a:lnTo>
                  <a:pt x="0" y="0"/>
                </a:lnTo>
                <a:lnTo>
                  <a:pt x="0" y="1186"/>
                </a:lnTo>
                <a:lnTo>
                  <a:pt x="267" y="652"/>
                </a:lnTo>
                <a:lnTo>
                  <a:pt x="254" y="46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755720" y="4546440"/>
            <a:ext cx="1297080" cy="15465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708200" y="4618080"/>
            <a:ext cx="1272960" cy="153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08200" y="4935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665360" y="4584600"/>
            <a:ext cx="13176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16120" y="525636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720800" y="5537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720800" y="58132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152280" y="5527800"/>
            <a:ext cx="1479600" cy="303120"/>
            <a:chOff x="152280" y="5527800"/>
            <a:chExt cx="1479600" cy="303120"/>
          </a:xfrm>
        </p:grpSpPr>
        <p:sp>
          <p:nvSpPr>
            <p:cNvPr id="955" name=""/>
            <p:cNvSpPr/>
            <p:nvPr/>
          </p:nvSpPr>
          <p:spPr>
            <a:xfrm>
              <a:off x="172800" y="555480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45920" y="55278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50720" y="55278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52280" y="55278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952560" y="552960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34880" y="555480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0720" y="556452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025280" y="55594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420840" y="5229360"/>
            <a:ext cx="1207440" cy="302760"/>
            <a:chOff x="420840" y="5229360"/>
            <a:chExt cx="1207440" cy="302760"/>
          </a:xfrm>
        </p:grpSpPr>
        <p:sp>
          <p:nvSpPr>
            <p:cNvPr id="964" name=""/>
            <p:cNvSpPr/>
            <p:nvPr/>
          </p:nvSpPr>
          <p:spPr>
            <a:xfrm>
              <a:off x="420840" y="5256000"/>
              <a:ext cx="108252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42680" y="522936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7480" y="522936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949320" y="5230800"/>
              <a:ext cx="678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7480" y="526572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022400" y="5261040"/>
              <a:ext cx="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723960" y="4921200"/>
            <a:ext cx="890640" cy="302760"/>
            <a:chOff x="723960" y="4921200"/>
            <a:chExt cx="890640" cy="302760"/>
          </a:xfrm>
        </p:grpSpPr>
        <p:sp>
          <p:nvSpPr>
            <p:cNvPr id="971" name=""/>
            <p:cNvSpPr/>
            <p:nvPr/>
          </p:nvSpPr>
          <p:spPr>
            <a:xfrm>
              <a:off x="723960" y="4947840"/>
              <a:ext cx="76536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29000" y="492120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935280" y="492264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008360" y="495288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930240" y="4610160"/>
            <a:ext cx="679320" cy="301680"/>
            <a:chOff x="930240" y="4610160"/>
            <a:chExt cx="679320" cy="301680"/>
          </a:xfrm>
        </p:grpSpPr>
        <p:sp>
          <p:nvSpPr>
            <p:cNvPr id="976" name=""/>
            <p:cNvSpPr/>
            <p:nvPr/>
          </p:nvSpPr>
          <p:spPr>
            <a:xfrm>
              <a:off x="988920" y="4635720"/>
              <a:ext cx="49536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930240" y="4610160"/>
              <a:ext cx="679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5654520" y="4164120"/>
            <a:ext cx="1387800" cy="1037160"/>
            <a:chOff x="5654520" y="4164120"/>
            <a:chExt cx="1387800" cy="1037160"/>
          </a:xfrm>
        </p:grpSpPr>
        <p:sp>
          <p:nvSpPr>
            <p:cNvPr id="979" name=""/>
            <p:cNvSpPr/>
            <p:nvPr/>
          </p:nvSpPr>
          <p:spPr>
            <a:xfrm>
              <a:off x="5745240" y="4164120"/>
              <a:ext cx="1297080" cy="9460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697360" y="4235400"/>
              <a:ext cx="1273320" cy="94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697360" y="4552920"/>
              <a:ext cx="12639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654520" y="4202280"/>
              <a:ext cx="1317600" cy="9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05640" y="4873680"/>
              <a:ext cx="12636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5821200" y="2271600"/>
            <a:ext cx="1387440" cy="735120"/>
            <a:chOff x="5821200" y="2271600"/>
            <a:chExt cx="1387440" cy="735120"/>
          </a:xfrm>
        </p:grpSpPr>
        <p:sp>
          <p:nvSpPr>
            <p:cNvPr id="985" name=""/>
            <p:cNvSpPr/>
            <p:nvPr/>
          </p:nvSpPr>
          <p:spPr>
            <a:xfrm>
              <a:off x="5911560" y="2271600"/>
              <a:ext cx="1297080" cy="660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864040" y="2342880"/>
              <a:ext cx="1273320" cy="65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864040" y="2660400"/>
              <a:ext cx="126360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821200" y="2309400"/>
              <a:ext cx="131760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6978600" y="4156200"/>
            <a:ext cx="655560" cy="1135080"/>
          </a:xfrm>
          <a:custGeom>
            <a:avLst/>
            <a:gdLst/>
            <a:ahLst/>
            <a:rect l="l" t="t" r="r" b="b"/>
            <a:pathLst>
              <a:path w="413" h="715">
                <a:moveTo>
                  <a:pt x="413" y="570"/>
                </a:moveTo>
                <a:lnTo>
                  <a:pt x="9" y="0"/>
                </a:lnTo>
                <a:lnTo>
                  <a:pt x="0" y="604"/>
                </a:lnTo>
                <a:lnTo>
                  <a:pt x="397" y="715"/>
                </a:lnTo>
                <a:lnTo>
                  <a:pt x="413" y="57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581960" y="4983120"/>
            <a:ext cx="766440" cy="432720"/>
            <a:chOff x="7581960" y="4983120"/>
            <a:chExt cx="766440" cy="432720"/>
          </a:xfrm>
        </p:grpSpPr>
        <p:sp>
          <p:nvSpPr>
            <p:cNvPr id="991" name=""/>
            <p:cNvSpPr/>
            <p:nvPr/>
          </p:nvSpPr>
          <p:spPr>
            <a:xfrm>
              <a:off x="7588080" y="5176080"/>
              <a:ext cx="760320" cy="2397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588080" y="515592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348400" y="515592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588080" y="5155920"/>
              <a:ext cx="753480" cy="1465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581960" y="4983120"/>
              <a:ext cx="759600" cy="2797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7764840" y="5044320"/>
              <a:ext cx="376200" cy="163440"/>
              <a:chOff x="7764840" y="5044320"/>
              <a:chExt cx="376200" cy="163440"/>
            </a:xfrm>
          </p:grpSpPr>
          <p:sp>
            <p:nvSpPr>
              <p:cNvPr id="997" name=""/>
              <p:cNvSpPr/>
              <p:nvPr/>
            </p:nvSpPr>
            <p:spPr>
              <a:xfrm flipV="1">
                <a:off x="7764840" y="504432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022960" y="520776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888680" y="504792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7764840" y="5042880"/>
              <a:ext cx="376200" cy="163440"/>
              <a:chOff x="7764840" y="5042880"/>
              <a:chExt cx="376200" cy="163440"/>
            </a:xfrm>
          </p:grpSpPr>
          <p:sp>
            <p:nvSpPr>
              <p:cNvPr id="1001" name=""/>
              <p:cNvSpPr/>
              <p:nvPr/>
            </p:nvSpPr>
            <p:spPr>
              <a:xfrm>
                <a:off x="7764840" y="520308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022960" y="504288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7888680" y="504288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4" name=""/>
          <p:cNvSpPr/>
          <p:nvPr/>
        </p:nvSpPr>
        <p:spPr>
          <a:xfrm>
            <a:off x="1828800" y="620640"/>
            <a:ext cx="5264280" cy="5407200"/>
          </a:xfrm>
          <a:custGeom>
            <a:avLst/>
            <a:gdLst/>
            <a:ahLst/>
            <a:rect l="l" t="t" r="r" b="b"/>
            <a:pathLst>
              <a:path w="3316" h="3461">
                <a:moveTo>
                  <a:pt x="872" y="0"/>
                </a:moveTo>
                <a:lnTo>
                  <a:pt x="878" y="1481"/>
                </a:lnTo>
                <a:lnTo>
                  <a:pt x="2612" y="1481"/>
                </a:lnTo>
                <a:lnTo>
                  <a:pt x="2612" y="1179"/>
                </a:lnTo>
                <a:lnTo>
                  <a:pt x="3294" y="1179"/>
                </a:lnTo>
                <a:lnTo>
                  <a:pt x="3316" y="3131"/>
                </a:lnTo>
                <a:lnTo>
                  <a:pt x="3148" y="2986"/>
                </a:lnTo>
                <a:lnTo>
                  <a:pt x="3143" y="2387"/>
                </a:lnTo>
                <a:lnTo>
                  <a:pt x="2505" y="2387"/>
                </a:lnTo>
                <a:lnTo>
                  <a:pt x="2505" y="3070"/>
                </a:lnTo>
                <a:lnTo>
                  <a:pt x="1057" y="3461"/>
                </a:lnTo>
                <a:lnTo>
                  <a:pt x="0" y="3461"/>
                </a:lnTo>
                <a:lnTo>
                  <a:pt x="0" y="2505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4238640" y="4546440"/>
            <a:ext cx="1479600" cy="303120"/>
            <a:chOff x="4238640" y="4546440"/>
            <a:chExt cx="1479600" cy="303120"/>
          </a:xfrm>
        </p:grpSpPr>
        <p:sp>
          <p:nvSpPr>
            <p:cNvPr id="1006" name=""/>
            <p:cNvSpPr/>
            <p:nvPr/>
          </p:nvSpPr>
          <p:spPr>
            <a:xfrm>
              <a:off x="4259160" y="457344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832280" y="45464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537080" y="45464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38640" y="45464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038920" y="454824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521240" y="457344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807080" y="45831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111640" y="457812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4497480" y="4240080"/>
            <a:ext cx="1208160" cy="303480"/>
            <a:chOff x="4497480" y="4240080"/>
            <a:chExt cx="1208160" cy="303480"/>
          </a:xfrm>
        </p:grpSpPr>
        <p:sp>
          <p:nvSpPr>
            <p:cNvPr id="1015" name=""/>
            <p:cNvSpPr/>
            <p:nvPr/>
          </p:nvSpPr>
          <p:spPr>
            <a:xfrm>
              <a:off x="4497480" y="4267080"/>
              <a:ext cx="108288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819680" y="424008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524480" y="424008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026320" y="4241880"/>
              <a:ext cx="679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794480" y="427680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099400" y="427212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035840" y="4575240"/>
            <a:ext cx="1479600" cy="303120"/>
            <a:chOff x="7035840" y="4575240"/>
            <a:chExt cx="1479600" cy="303120"/>
          </a:xfrm>
        </p:grpSpPr>
        <p:sp>
          <p:nvSpPr>
            <p:cNvPr id="1022" name=""/>
            <p:cNvSpPr/>
            <p:nvPr/>
          </p:nvSpPr>
          <p:spPr>
            <a:xfrm>
              <a:off x="7056360" y="460224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629480" y="45752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34280" y="45752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035840" y="45752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836120" y="457704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18440" y="460224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604280" y="46119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908840" y="460692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7294680" y="4268880"/>
            <a:ext cx="1207440" cy="302760"/>
            <a:chOff x="7294680" y="4268880"/>
            <a:chExt cx="1207440" cy="302760"/>
          </a:xfrm>
        </p:grpSpPr>
        <p:sp>
          <p:nvSpPr>
            <p:cNvPr id="1031" name=""/>
            <p:cNvSpPr/>
            <p:nvPr/>
          </p:nvSpPr>
          <p:spPr>
            <a:xfrm>
              <a:off x="7294680" y="4295520"/>
              <a:ext cx="108252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616520" y="426888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321320" y="4268880"/>
              <a:ext cx="296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23160" y="4270320"/>
              <a:ext cx="678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591320" y="430524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896240" y="4300560"/>
              <a:ext cx="0" cy="24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4408560" y="2354400"/>
            <a:ext cx="1479600" cy="303120"/>
            <a:chOff x="4408560" y="2354400"/>
            <a:chExt cx="1479600" cy="303120"/>
          </a:xfrm>
        </p:grpSpPr>
        <p:sp>
          <p:nvSpPr>
            <p:cNvPr id="1038" name=""/>
            <p:cNvSpPr/>
            <p:nvPr/>
          </p:nvSpPr>
          <p:spPr>
            <a:xfrm>
              <a:off x="4429080" y="238140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002200" y="23544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707000" y="23544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408560" y="235440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208840" y="235620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91160" y="238140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977000" y="239112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281560" y="23860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7250040" y="2382840"/>
            <a:ext cx="1479600" cy="303120"/>
            <a:chOff x="7250040" y="2382840"/>
            <a:chExt cx="1479600" cy="303120"/>
          </a:xfrm>
        </p:grpSpPr>
        <p:sp>
          <p:nvSpPr>
            <p:cNvPr id="1047" name=""/>
            <p:cNvSpPr/>
            <p:nvPr/>
          </p:nvSpPr>
          <p:spPr>
            <a:xfrm>
              <a:off x="7270560" y="2409840"/>
              <a:ext cx="1333800" cy="2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843680" y="23828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548480" y="23828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250040" y="2382840"/>
              <a:ext cx="297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050320" y="2384640"/>
              <a:ext cx="67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532640" y="2409840"/>
              <a:ext cx="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818480" y="24195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123040" y="241452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7904160" y="54118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908840" y="30988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643280" y="254520"/>
            <a:ext cx="450072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En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kapsulacija</a:t>
            </a:r>
            <a:br>
              <a:rPr sz="2800"/>
            </a:b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(</a:t>
            </a:r>
            <a:r>
              <a:rPr b="0" lang="sr-Latn-CS" sz="2400" spc="-1" strike="noStrike">
                <a:solidFill>
                  <a:srgbClr val="003300"/>
                </a:solidFill>
                <a:latin typeface="Arial Black"/>
              </a:rPr>
              <a:t>skrivanje informacija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0" y="25776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00"/>
                </a:solidFill>
                <a:latin typeface="Arial Black"/>
              </a:rPr>
              <a:t>Adresiranje na Internetu: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Adresa -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u opštem slučaju pretstavlja jedinstven identifikator nekog objekta (entiteta) sa aspekta njegovog pronalaženja i/ili referencir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Adresiranje uz oslonac na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IP-adre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Adresiranje uz oslonac na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IME DOM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-adre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Internet Protocol Adresa)  - jedinstven identifikator računara povezanog na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bitna identifikacija podeljena u 4POLJA od po 8-b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bitna identifikacija (nova šema adresiranja na Interne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0" y="25776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00"/>
                </a:solidFill>
                <a:latin typeface="Arial Black"/>
              </a:rPr>
              <a:t>Adresiranje na Internetu: IP-adresa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format ad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1332000" y="1844640"/>
          <a:ext cx="6167520" cy="519120"/>
        </p:xfrm>
        <a:graphic>
          <a:graphicData uri="http://schemas.openxmlformats.org/drawingml/2006/table">
            <a:tbl>
              <a:tblPr/>
              <a:tblGrid>
                <a:gridCol w="1655640"/>
                <a:gridCol w="1513080"/>
                <a:gridCol w="1511280"/>
                <a:gridCol w="1487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#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#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#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#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3" name=""/>
          <p:cNvGraphicFramePr/>
          <p:nvPr/>
        </p:nvGraphicFramePr>
        <p:xfrm>
          <a:off x="1332000" y="3284640"/>
          <a:ext cx="6167520" cy="519120"/>
        </p:xfrm>
        <a:graphic>
          <a:graphicData uri="http://schemas.openxmlformats.org/drawingml/2006/table">
            <a:tbl>
              <a:tblPr/>
              <a:tblGrid>
                <a:gridCol w="1655640"/>
                <a:gridCol w="1513080"/>
                <a:gridCol w="1511280"/>
                <a:gridCol w="1487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4" name=""/>
          <p:cNvGraphicFramePr/>
          <p:nvPr/>
        </p:nvGraphicFramePr>
        <p:xfrm>
          <a:off x="4500720" y="2637000"/>
          <a:ext cx="3023640" cy="4316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5" name=""/>
          <p:cNvGraphicFramePr/>
          <p:nvPr/>
        </p:nvGraphicFramePr>
        <p:xfrm>
          <a:off x="1332000" y="2637000"/>
          <a:ext cx="3165480" cy="4316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6" name=""/>
          <p:cNvSpPr/>
          <p:nvPr/>
        </p:nvSpPr>
        <p:spPr>
          <a:xfrm>
            <a:off x="179280" y="4005360"/>
            <a:ext cx="8964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TRI KLASE MRE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 klas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mali broj mreža sa velikim brojem računa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 klas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noramalne i velike organizacije REGIONALNE MREŽ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 klas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LOKALNE MREŽE – veliki broj mreža sa malim brojem lokalnih računa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0" y="25776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00"/>
                </a:solidFill>
                <a:latin typeface="Arial Black"/>
              </a:rPr>
              <a:t>Adresiranje na Internetu: IP-adresa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068" name=""/>
          <p:cNvGraphicFramePr/>
          <p:nvPr/>
        </p:nvGraphicFramePr>
        <p:xfrm>
          <a:off x="4500720" y="1268280"/>
          <a:ext cx="3023640" cy="4316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9" name=""/>
          <p:cNvGraphicFramePr/>
          <p:nvPr/>
        </p:nvGraphicFramePr>
        <p:xfrm>
          <a:off x="1332000" y="1268280"/>
          <a:ext cx="3165480" cy="4316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0" name=""/>
          <p:cNvSpPr/>
          <p:nvPr/>
        </p:nvSpPr>
        <p:spPr>
          <a:xfrm>
            <a:off x="324000" y="4221000"/>
            <a:ext cx="856908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 klas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126 MREŽA, 24-bita adresa HOST-a unutar mrež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 klas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127 – ne koristi se, 128.1 – 191.254 – MREŽNI BROJEVI, 16-bita – adresa HOST-a unutar mreže-(64.516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 klas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192.1.1 do 223.254.354 – 8-bita adresa HOST-a omogućava adresiranje samo 254 HOST-a u jednoj mrež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1" name=""/>
          <p:cNvGraphicFramePr/>
          <p:nvPr/>
        </p:nvGraphicFramePr>
        <p:xfrm>
          <a:off x="1332000" y="1844640"/>
          <a:ext cx="6192720" cy="576360"/>
        </p:xfrm>
        <a:graphic>
          <a:graphicData uri="http://schemas.openxmlformats.org/drawingml/2006/table">
            <a:tbl>
              <a:tblPr/>
              <a:tblGrid>
                <a:gridCol w="215640"/>
                <a:gridCol w="1440000"/>
                <a:gridCol w="4537080"/>
              </a:tblGrid>
              <a:tr h="57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ež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2" name=""/>
          <p:cNvSpPr/>
          <p:nvPr/>
        </p:nvSpPr>
        <p:spPr>
          <a:xfrm>
            <a:off x="7812000" y="1916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1332000" y="765000"/>
            <a:ext cx="6192720" cy="368280"/>
            <a:chOff x="1332000" y="765000"/>
            <a:chExt cx="6192720" cy="368280"/>
          </a:xfrm>
        </p:grpSpPr>
        <p:sp>
          <p:nvSpPr>
            <p:cNvPr id="1074" name=""/>
            <p:cNvSpPr/>
            <p:nvPr/>
          </p:nvSpPr>
          <p:spPr>
            <a:xfrm>
              <a:off x="1332000" y="1052280"/>
              <a:ext cx="619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006080" y="76500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imes New Roman"/>
                </a:rPr>
                <a:t>32-bi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76" name=""/>
          <p:cNvGraphicFramePr/>
          <p:nvPr/>
        </p:nvGraphicFramePr>
        <p:xfrm>
          <a:off x="1332000" y="2637000"/>
          <a:ext cx="6192720" cy="576000"/>
        </p:xfrm>
        <a:graphic>
          <a:graphicData uri="http://schemas.openxmlformats.org/drawingml/2006/table">
            <a:tbl>
              <a:tblPr/>
              <a:tblGrid>
                <a:gridCol w="431640"/>
                <a:gridCol w="2737080"/>
                <a:gridCol w="3024000"/>
              </a:tblGrid>
              <a:tr h="576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ež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7" name=""/>
          <p:cNvSpPr/>
          <p:nvPr/>
        </p:nvSpPr>
        <p:spPr>
          <a:xfrm>
            <a:off x="7812000" y="2708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8" name=""/>
          <p:cNvGraphicFramePr/>
          <p:nvPr/>
        </p:nvGraphicFramePr>
        <p:xfrm>
          <a:off x="1332000" y="3357720"/>
          <a:ext cx="6192720" cy="576000"/>
        </p:xfrm>
        <a:graphic>
          <a:graphicData uri="http://schemas.openxmlformats.org/drawingml/2006/table">
            <a:tbl>
              <a:tblPr/>
              <a:tblGrid>
                <a:gridCol w="647640"/>
                <a:gridCol w="4032360"/>
                <a:gridCol w="1512720"/>
              </a:tblGrid>
              <a:tr h="576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ež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9" name=""/>
          <p:cNvSpPr/>
          <p:nvPr/>
        </p:nvSpPr>
        <p:spPr>
          <a:xfrm>
            <a:off x="7812000" y="3429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0560" y="258840"/>
            <a:ext cx="8381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Šta je Internet: pogled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pružanja servisa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43923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muni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kacij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nfrastru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</a:rPr>
              <a:t>ktura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mogućuje distribuirane aplikaci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, e-mail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ideo ig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lov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eljenje fajl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komunikacioni servisi obezbeđeni aplikacijam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z uspostavljanja konekcije  (nepouzd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rvis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nekciono-orijentisani (pouzdan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rvis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932360" y="1844640"/>
            <a:ext cx="3678120" cy="3670200"/>
            <a:chOff x="4932360" y="1844640"/>
            <a:chExt cx="3678120" cy="3670200"/>
          </a:xfrm>
        </p:grpSpPr>
        <p:sp>
          <p:nvSpPr>
            <p:cNvPr id="373" name=""/>
            <p:cNvSpPr/>
            <p:nvPr/>
          </p:nvSpPr>
          <p:spPr>
            <a:xfrm>
              <a:off x="6811920" y="1987560"/>
              <a:ext cx="1798560" cy="167472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32360" y="1844640"/>
              <a:ext cx="1866600" cy="158904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00640" y="3295440"/>
              <a:ext cx="2975040" cy="221940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049720" y="1979280"/>
              <a:ext cx="732960" cy="319320"/>
              <a:chOff x="5049720" y="1979280"/>
              <a:chExt cx="732960" cy="319320"/>
            </a:xfrm>
          </p:grpSpPr>
          <p:pic>
            <p:nvPicPr>
              <p:cNvPr id="37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49720" y="1979280"/>
                <a:ext cx="416160" cy="3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03320" y="2097360"/>
                <a:ext cx="279360" cy="18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 flipV="1">
                <a:off x="5456160" y="222084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049720" y="2574720"/>
              <a:ext cx="732960" cy="318960"/>
              <a:chOff x="5049720" y="2574720"/>
              <a:chExt cx="732960" cy="318960"/>
            </a:xfrm>
          </p:grpSpPr>
          <p:pic>
            <p:nvPicPr>
              <p:cNvPr id="38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9720" y="2574720"/>
                <a:ext cx="4161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03320" y="269280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 flipV="1">
                <a:off x="5456160" y="281628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5425920" y="2361960"/>
              <a:ext cx="69480" cy="214200"/>
              <a:chOff x="5425920" y="2361960"/>
              <a:chExt cx="69480" cy="214200"/>
            </a:xfrm>
          </p:grpSpPr>
          <p:sp>
            <p:nvSpPr>
              <p:cNvPr id="385" name=""/>
              <p:cNvSpPr/>
              <p:nvPr/>
            </p:nvSpPr>
            <p:spPr>
              <a:xfrm>
                <a:off x="5425920" y="2361960"/>
                <a:ext cx="64080" cy="6048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428440" y="2439000"/>
                <a:ext cx="64080" cy="601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431320" y="2516040"/>
                <a:ext cx="64080" cy="601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5895720" y="2865240"/>
              <a:ext cx="209520" cy="394920"/>
              <a:chOff x="5895720" y="2865240"/>
              <a:chExt cx="209520" cy="394920"/>
            </a:xfrm>
          </p:grpSpPr>
          <p:sp>
            <p:nvSpPr>
              <p:cNvPr id="389" name=""/>
              <p:cNvSpPr/>
              <p:nvPr/>
            </p:nvSpPr>
            <p:spPr>
              <a:xfrm>
                <a:off x="5895720" y="316908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001920" y="286776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96800" y="295380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95720" y="286524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05240" y="287136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6029280" y="316908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913720" y="2993760"/>
                <a:ext cx="87840" cy="174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926320" y="304668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6132240" y="3018960"/>
              <a:ext cx="233280" cy="81000"/>
              <a:chOff x="6132240" y="3018960"/>
              <a:chExt cx="233280" cy="81000"/>
            </a:xfrm>
          </p:grpSpPr>
          <p:sp>
            <p:nvSpPr>
              <p:cNvPr id="398" name=""/>
              <p:cNvSpPr/>
              <p:nvPr/>
            </p:nvSpPr>
            <p:spPr>
              <a:xfrm rot="16200000">
                <a:off x="6127920" y="3029760"/>
                <a:ext cx="74520" cy="6588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6200000">
                <a:off x="6211440" y="3026520"/>
                <a:ext cx="74520" cy="655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6200000">
                <a:off x="6295320" y="3023280"/>
                <a:ext cx="74520" cy="655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6032520" y="2773080"/>
              <a:ext cx="495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35400" y="2770200"/>
              <a:ext cx="180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30760" y="276840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32280" y="2233440"/>
              <a:ext cx="28908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744880" y="2518920"/>
              <a:ext cx="27648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271920" y="2604960"/>
              <a:ext cx="180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6391080" y="2842920"/>
              <a:ext cx="209520" cy="394920"/>
              <a:chOff x="6391080" y="2842920"/>
              <a:chExt cx="209520" cy="394920"/>
            </a:xfrm>
          </p:grpSpPr>
          <p:sp>
            <p:nvSpPr>
              <p:cNvPr id="408" name=""/>
              <p:cNvSpPr/>
              <p:nvPr/>
            </p:nvSpPr>
            <p:spPr>
              <a:xfrm>
                <a:off x="6391080" y="314676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497280" y="284544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392160" y="293148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391080" y="284292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00600" y="284904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6524640" y="314676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09080" y="2971440"/>
                <a:ext cx="87840" cy="174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421680" y="302436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5433840" y="3462120"/>
              <a:ext cx="479160" cy="925200"/>
              <a:chOff x="5433840" y="3462120"/>
              <a:chExt cx="479160" cy="925200"/>
            </a:xfrm>
          </p:grpSpPr>
          <p:pic>
            <p:nvPicPr>
              <p:cNvPr id="41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33840" y="346212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flipV="1">
                <a:off x="5840640" y="370872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33840" y="405684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0" name=""/>
              <p:cNvSpPr/>
              <p:nvPr/>
            </p:nvSpPr>
            <p:spPr>
              <a:xfrm flipV="1">
                <a:off x="5840640" y="430704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5559120" y="3803400"/>
                <a:ext cx="70560" cy="222480"/>
                <a:chOff x="5559120" y="3803400"/>
                <a:chExt cx="70560" cy="2224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559120" y="3803400"/>
                  <a:ext cx="65160" cy="62640"/>
                </a:xfrm>
                <a:prstGeom prst="ellipse">
                  <a:avLst/>
                </a:pr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561640" y="3883320"/>
                  <a:ext cx="65160" cy="62280"/>
                </a:xfrm>
                <a:prstGeom prst="ellipse">
                  <a:avLst/>
                </a:pr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564520" y="3963600"/>
                  <a:ext cx="65160" cy="62280"/>
                </a:xfrm>
                <a:prstGeom prst="ellipse">
                  <a:avLst/>
                </a:pr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5907600" y="3705840"/>
                <a:ext cx="0" cy="60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26" name="" descr=""/>
            <p:cNvPicPr/>
            <p:nvPr/>
          </p:nvPicPr>
          <p:blipFill>
            <a:blip r:embed="rId7"/>
            <a:stretch/>
          </p:blipFill>
          <p:spPr>
            <a:xfrm>
              <a:off x="6302160" y="4471920"/>
              <a:ext cx="41760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8"/>
            <a:stretch/>
          </p:blipFill>
          <p:spPr>
            <a:xfrm>
              <a:off x="5688000" y="4460760"/>
              <a:ext cx="415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 rot="16200000">
              <a:off x="6104520" y="4564440"/>
              <a:ext cx="63360" cy="651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6189480" y="4562280"/>
              <a:ext cx="63360" cy="66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6200000">
              <a:off x="6267240" y="4566960"/>
              <a:ext cx="61920" cy="651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556320" y="4417560"/>
              <a:ext cx="144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5932440" y="4406760"/>
              <a:ext cx="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5933880" y="4403520"/>
              <a:ext cx="6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913360" y="4038120"/>
              <a:ext cx="93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14920" y="4084560"/>
              <a:ext cx="30312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309800" y="4081320"/>
              <a:ext cx="27972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9"/>
            <a:stretch/>
          </p:blipFill>
          <p:spPr>
            <a:xfrm>
              <a:off x="7488000" y="3633480"/>
              <a:ext cx="20340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10"/>
            <a:stretch/>
          </p:blipFill>
          <p:spPr>
            <a:xfrm>
              <a:off x="6151320" y="3714480"/>
              <a:ext cx="20340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232320" y="3489120"/>
              <a:ext cx="1354320" cy="30492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6499080" y="4911480"/>
              <a:ext cx="406080" cy="426960"/>
              <a:chOff x="6499080" y="4911480"/>
              <a:chExt cx="406080" cy="426960"/>
            </a:xfrm>
          </p:grpSpPr>
          <p:pic>
            <p:nvPicPr>
              <p:cNvPr id="44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99080" y="491148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840" y="502344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3" name=""/>
            <p:cNvGrpSpPr/>
            <p:nvPr/>
          </p:nvGrpSpPr>
          <p:grpSpPr>
            <a:xfrm>
              <a:off x="7277040" y="4943160"/>
              <a:ext cx="406080" cy="426960"/>
              <a:chOff x="7277040" y="4943160"/>
              <a:chExt cx="406080" cy="426960"/>
            </a:xfrm>
          </p:grpSpPr>
          <p:pic>
            <p:nvPicPr>
              <p:cNvPr id="44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77040" y="4943160"/>
                <a:ext cx="3783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36800" y="505512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6" name=""/>
            <p:cNvGrpSpPr/>
            <p:nvPr/>
          </p:nvGrpSpPr>
          <p:grpSpPr>
            <a:xfrm>
              <a:off x="6862680" y="4659120"/>
              <a:ext cx="379440" cy="376200"/>
              <a:chOff x="6862680" y="4659120"/>
              <a:chExt cx="379440" cy="376200"/>
            </a:xfrm>
          </p:grpSpPr>
          <p:pic>
            <p:nvPicPr>
              <p:cNvPr id="447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62680" y="4659120"/>
                <a:ext cx="379440" cy="3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6972840" y="4791240"/>
                <a:ext cx="267480" cy="244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7169040" y="45622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7889760" y="3985920"/>
              <a:ext cx="208080" cy="409680"/>
              <a:chOff x="7889760" y="3985920"/>
              <a:chExt cx="208080" cy="409680"/>
            </a:xfrm>
          </p:grpSpPr>
          <p:sp>
            <p:nvSpPr>
              <p:cNvPr id="451" name=""/>
              <p:cNvSpPr/>
              <p:nvPr/>
            </p:nvSpPr>
            <p:spPr>
              <a:xfrm>
                <a:off x="7889760" y="430092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994880" y="398844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890840" y="407772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889760" y="398592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097840" y="399240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8022600" y="430092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907400" y="4119120"/>
                <a:ext cx="87480" cy="1814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920000" y="417384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7877160" y="4430520"/>
              <a:ext cx="207720" cy="409680"/>
              <a:chOff x="7877160" y="4430520"/>
              <a:chExt cx="207720" cy="409680"/>
            </a:xfrm>
          </p:grpSpPr>
          <p:sp>
            <p:nvSpPr>
              <p:cNvPr id="460" name=""/>
              <p:cNvSpPr/>
              <p:nvPr/>
            </p:nvSpPr>
            <p:spPr>
              <a:xfrm>
                <a:off x="7877160" y="4745520"/>
                <a:ext cx="207720" cy="94680"/>
              </a:xfrm>
              <a:prstGeom prst="parallelogram">
                <a:avLst>
                  <a:gd name="adj" fmla="val 8451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982280" y="443304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878240" y="4522320"/>
                <a:ext cx="13140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877160" y="4430520"/>
                <a:ext cx="207720" cy="94680"/>
              </a:xfrm>
              <a:prstGeom prst="parallelogram">
                <a:avLst>
                  <a:gd name="adj" fmla="val 8451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084880" y="443700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8009640" y="4745520"/>
                <a:ext cx="7452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894800" y="4563720"/>
                <a:ext cx="87120" cy="1814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907400" y="461844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 flipV="1">
              <a:off x="7808760" y="4054320"/>
              <a:ext cx="0" cy="6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805520" y="4663800"/>
              <a:ext cx="1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02280" y="41875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6526080" y="2284200"/>
              <a:ext cx="45864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61000" y="2268360"/>
              <a:ext cx="48600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979760" y="2604960"/>
              <a:ext cx="241560" cy="6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10440" y="238104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35640" y="3028680"/>
              <a:ext cx="5349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7695720" y="3493800"/>
              <a:ext cx="26676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468560" y="2573280"/>
              <a:ext cx="56052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7478640" y="2012760"/>
              <a:ext cx="35064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8196120" y="2189160"/>
              <a:ext cx="20160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6006960" y="2381040"/>
              <a:ext cx="501480" cy="232920"/>
              <a:chOff x="6006960" y="2381040"/>
              <a:chExt cx="501480" cy="232920"/>
            </a:xfrm>
          </p:grpSpPr>
          <p:sp>
            <p:nvSpPr>
              <p:cNvPr id="481" name=""/>
              <p:cNvSpPr/>
              <p:nvPr/>
            </p:nvSpPr>
            <p:spPr>
              <a:xfrm>
                <a:off x="6010920" y="2485080"/>
                <a:ext cx="497160" cy="1288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010920" y="2473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508440" y="2473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010920" y="2473920"/>
                <a:ext cx="49284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006960" y="2381040"/>
                <a:ext cx="496800" cy="1504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6" name=""/>
              <p:cNvGrpSpPr/>
              <p:nvPr/>
            </p:nvGrpSpPr>
            <p:grpSpPr>
              <a:xfrm>
                <a:off x="6126480" y="2413800"/>
                <a:ext cx="246240" cy="88200"/>
                <a:chOff x="6126480" y="2413800"/>
                <a:chExt cx="246240" cy="88200"/>
              </a:xfrm>
            </p:grpSpPr>
            <p:sp>
              <p:nvSpPr>
                <p:cNvPr id="487" name=""/>
                <p:cNvSpPr/>
                <p:nvPr/>
              </p:nvSpPr>
              <p:spPr>
                <a:xfrm flipV="1">
                  <a:off x="6126480" y="24138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295320" y="2502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207480" y="24159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6126480" y="2413080"/>
                <a:ext cx="246240" cy="88200"/>
                <a:chOff x="6126480" y="2413080"/>
                <a:chExt cx="246240" cy="882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6126480" y="2499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295320" y="2413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>
                  <a:off x="6207480" y="24130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4" name=""/>
            <p:cNvGrpSpPr/>
            <p:nvPr/>
          </p:nvGrpSpPr>
          <p:grpSpPr>
            <a:xfrm>
              <a:off x="6959520" y="2152440"/>
              <a:ext cx="501480" cy="232920"/>
              <a:chOff x="6959520" y="2152440"/>
              <a:chExt cx="501480" cy="232920"/>
            </a:xfrm>
          </p:grpSpPr>
          <p:sp>
            <p:nvSpPr>
              <p:cNvPr id="495" name=""/>
              <p:cNvSpPr/>
              <p:nvPr/>
            </p:nvSpPr>
            <p:spPr>
              <a:xfrm>
                <a:off x="6963480" y="2256480"/>
                <a:ext cx="497160" cy="1288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963480" y="2245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461000" y="2245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963480" y="2245320"/>
                <a:ext cx="49284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959520" y="2152440"/>
                <a:ext cx="496800" cy="1504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7079040" y="2185200"/>
                <a:ext cx="246240" cy="88200"/>
                <a:chOff x="7079040" y="2185200"/>
                <a:chExt cx="246240" cy="88200"/>
              </a:xfrm>
            </p:grpSpPr>
            <p:sp>
              <p:nvSpPr>
                <p:cNvPr id="501" name=""/>
                <p:cNvSpPr/>
                <p:nvPr/>
              </p:nvSpPr>
              <p:spPr>
                <a:xfrm flipV="1">
                  <a:off x="7079040" y="2185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247880" y="2273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160040" y="2187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7079040" y="2184480"/>
                <a:ext cx="246240" cy="88200"/>
                <a:chOff x="7079040" y="2184480"/>
                <a:chExt cx="246240" cy="882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7079040" y="22708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247880" y="2184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V="1">
                  <a:off x="7160040" y="21844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8" name=""/>
            <p:cNvGrpSpPr/>
            <p:nvPr/>
          </p:nvGrpSpPr>
          <p:grpSpPr>
            <a:xfrm>
              <a:off x="6976800" y="2809800"/>
              <a:ext cx="501840" cy="232920"/>
              <a:chOff x="6976800" y="2809800"/>
              <a:chExt cx="501840" cy="232920"/>
            </a:xfrm>
          </p:grpSpPr>
          <p:sp>
            <p:nvSpPr>
              <p:cNvPr id="509" name=""/>
              <p:cNvSpPr/>
              <p:nvPr/>
            </p:nvSpPr>
            <p:spPr>
              <a:xfrm>
                <a:off x="6980760" y="2913840"/>
                <a:ext cx="497520" cy="1288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80760" y="29026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478640" y="29026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80760" y="2902680"/>
                <a:ext cx="49320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976800" y="2809800"/>
                <a:ext cx="497160" cy="1504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4" name=""/>
              <p:cNvGrpSpPr/>
              <p:nvPr/>
            </p:nvGrpSpPr>
            <p:grpSpPr>
              <a:xfrm>
                <a:off x="7096320" y="2842560"/>
                <a:ext cx="246240" cy="88200"/>
                <a:chOff x="7096320" y="2842560"/>
                <a:chExt cx="246240" cy="88200"/>
              </a:xfrm>
            </p:grpSpPr>
            <p:sp>
              <p:nvSpPr>
                <p:cNvPr id="515" name=""/>
                <p:cNvSpPr/>
                <p:nvPr/>
              </p:nvSpPr>
              <p:spPr>
                <a:xfrm flipV="1">
                  <a:off x="7096320" y="28425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265160" y="29307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177320" y="28447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7096320" y="2841840"/>
                <a:ext cx="246240" cy="88200"/>
                <a:chOff x="7096320" y="2841840"/>
                <a:chExt cx="246240" cy="8820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7096320" y="2928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265160" y="2841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V="1">
                  <a:off x="7177320" y="28418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2" name=""/>
            <p:cNvGrpSpPr/>
            <p:nvPr/>
          </p:nvGrpSpPr>
          <p:grpSpPr>
            <a:xfrm>
              <a:off x="7947000" y="2360520"/>
              <a:ext cx="500040" cy="232920"/>
              <a:chOff x="7947000" y="2360520"/>
              <a:chExt cx="500040" cy="232920"/>
            </a:xfrm>
          </p:grpSpPr>
          <p:sp>
            <p:nvSpPr>
              <p:cNvPr id="523" name=""/>
              <p:cNvSpPr/>
              <p:nvPr/>
            </p:nvSpPr>
            <p:spPr>
              <a:xfrm>
                <a:off x="7950960" y="2464560"/>
                <a:ext cx="495720" cy="1288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950960" y="24534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447040" y="24534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950960" y="2453400"/>
                <a:ext cx="49140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947000" y="2360520"/>
                <a:ext cx="495360" cy="1504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8066160" y="2393280"/>
                <a:ext cx="245520" cy="88200"/>
                <a:chOff x="8066160" y="2393280"/>
                <a:chExt cx="245520" cy="88200"/>
              </a:xfrm>
            </p:grpSpPr>
            <p:sp>
              <p:nvSpPr>
                <p:cNvPr id="529" name=""/>
                <p:cNvSpPr/>
                <p:nvPr/>
              </p:nvSpPr>
              <p:spPr>
                <a:xfrm flipV="1">
                  <a:off x="8066160" y="23932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234640" y="24814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146800" y="23954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8066160" y="2392560"/>
                <a:ext cx="245520" cy="88200"/>
                <a:chOff x="8066160" y="2392560"/>
                <a:chExt cx="245520" cy="882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8066160" y="24789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8234640" y="23925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8146800" y="23925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7753320" y="3257280"/>
              <a:ext cx="501480" cy="233280"/>
              <a:chOff x="7753320" y="3257280"/>
              <a:chExt cx="501480" cy="233280"/>
            </a:xfrm>
          </p:grpSpPr>
          <p:sp>
            <p:nvSpPr>
              <p:cNvPr id="537" name=""/>
              <p:cNvSpPr/>
              <p:nvPr/>
            </p:nvSpPr>
            <p:spPr>
              <a:xfrm>
                <a:off x="7757280" y="3361320"/>
                <a:ext cx="497160" cy="1292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757280" y="3350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254800" y="33505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757280" y="3350520"/>
                <a:ext cx="49284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753320" y="3257280"/>
                <a:ext cx="496800" cy="1508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7872840" y="3290040"/>
                <a:ext cx="246240" cy="88560"/>
                <a:chOff x="7872840" y="3290040"/>
                <a:chExt cx="246240" cy="88560"/>
              </a:xfrm>
            </p:grpSpPr>
            <p:sp>
              <p:nvSpPr>
                <p:cNvPr id="543" name=""/>
                <p:cNvSpPr/>
                <p:nvPr/>
              </p:nvSpPr>
              <p:spPr>
                <a:xfrm flipV="1">
                  <a:off x="7872840" y="3290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041680" y="3378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953840" y="32922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7872840" y="3288960"/>
                <a:ext cx="246240" cy="88560"/>
                <a:chOff x="7872840" y="3288960"/>
                <a:chExt cx="246240" cy="885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7872840" y="3375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041680" y="32889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V="1">
                  <a:off x="7953840" y="328896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0" name=""/>
            <p:cNvGrpSpPr/>
            <p:nvPr/>
          </p:nvGrpSpPr>
          <p:grpSpPr>
            <a:xfrm>
              <a:off x="7419960" y="3841560"/>
              <a:ext cx="501480" cy="234720"/>
              <a:chOff x="7419960" y="3841560"/>
              <a:chExt cx="501480" cy="234720"/>
            </a:xfrm>
          </p:grpSpPr>
          <p:sp>
            <p:nvSpPr>
              <p:cNvPr id="551" name=""/>
              <p:cNvSpPr/>
              <p:nvPr/>
            </p:nvSpPr>
            <p:spPr>
              <a:xfrm>
                <a:off x="7423920" y="3946320"/>
                <a:ext cx="497160" cy="12996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423920" y="393516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921440" y="393516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423920" y="3935160"/>
                <a:ext cx="492840" cy="7956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419960" y="3841560"/>
                <a:ext cx="496800" cy="15156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7539480" y="3874680"/>
                <a:ext cx="246240" cy="88920"/>
                <a:chOff x="7539480" y="3874680"/>
                <a:chExt cx="246240" cy="88920"/>
              </a:xfrm>
            </p:grpSpPr>
            <p:sp>
              <p:nvSpPr>
                <p:cNvPr id="557" name=""/>
                <p:cNvSpPr/>
                <p:nvPr/>
              </p:nvSpPr>
              <p:spPr>
                <a:xfrm flipV="1">
                  <a:off x="7539480" y="3874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708320" y="3963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620480" y="387684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539480" y="3873600"/>
                <a:ext cx="246240" cy="88920"/>
                <a:chOff x="7539480" y="3873600"/>
                <a:chExt cx="246240" cy="8892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539480" y="3960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708320" y="3873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V="1">
                  <a:off x="7620480" y="387360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4" name=""/>
            <p:cNvGrpSpPr/>
            <p:nvPr/>
          </p:nvGrpSpPr>
          <p:grpSpPr>
            <a:xfrm>
              <a:off x="6810120" y="4330440"/>
              <a:ext cx="500040" cy="233280"/>
              <a:chOff x="6810120" y="4330440"/>
              <a:chExt cx="500040" cy="233280"/>
            </a:xfrm>
          </p:grpSpPr>
          <p:sp>
            <p:nvSpPr>
              <p:cNvPr id="565" name=""/>
              <p:cNvSpPr/>
              <p:nvPr/>
            </p:nvSpPr>
            <p:spPr>
              <a:xfrm>
                <a:off x="6814080" y="4434480"/>
                <a:ext cx="495720" cy="1292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814080" y="442368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10160" y="442368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814080" y="4423680"/>
                <a:ext cx="49140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810120" y="4330440"/>
                <a:ext cx="495360" cy="1508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0" name=""/>
              <p:cNvGrpSpPr/>
              <p:nvPr/>
            </p:nvGrpSpPr>
            <p:grpSpPr>
              <a:xfrm>
                <a:off x="6929280" y="4363200"/>
                <a:ext cx="245520" cy="88560"/>
                <a:chOff x="6929280" y="4363200"/>
                <a:chExt cx="245520" cy="88560"/>
              </a:xfrm>
            </p:grpSpPr>
            <p:sp>
              <p:nvSpPr>
                <p:cNvPr id="571" name=""/>
                <p:cNvSpPr/>
                <p:nvPr/>
              </p:nvSpPr>
              <p:spPr>
                <a:xfrm flipV="1">
                  <a:off x="6929280" y="43632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097760" y="44517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009920" y="436536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6929280" y="4362120"/>
                <a:ext cx="245520" cy="88560"/>
                <a:chOff x="6929280" y="4362120"/>
                <a:chExt cx="245520" cy="8856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6929280" y="44488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097760" y="43621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V="1">
                  <a:off x="7009920" y="43621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8" name=""/>
            <p:cNvGrpSpPr/>
            <p:nvPr/>
          </p:nvGrpSpPr>
          <p:grpSpPr>
            <a:xfrm>
              <a:off x="6006960" y="3954240"/>
              <a:ext cx="501480" cy="232920"/>
              <a:chOff x="6006960" y="3954240"/>
              <a:chExt cx="501480" cy="232920"/>
            </a:xfrm>
          </p:grpSpPr>
          <p:sp>
            <p:nvSpPr>
              <p:cNvPr id="579" name=""/>
              <p:cNvSpPr/>
              <p:nvPr/>
            </p:nvSpPr>
            <p:spPr>
              <a:xfrm>
                <a:off x="6010920" y="4058280"/>
                <a:ext cx="497160" cy="1288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010920" y="4047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508440" y="4047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010920" y="4047120"/>
                <a:ext cx="49284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006960" y="3954240"/>
                <a:ext cx="496800" cy="1504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6126480" y="3987000"/>
                <a:ext cx="246240" cy="88200"/>
                <a:chOff x="6126480" y="3987000"/>
                <a:chExt cx="246240" cy="88200"/>
              </a:xfrm>
            </p:grpSpPr>
            <p:sp>
              <p:nvSpPr>
                <p:cNvPr id="585" name=""/>
                <p:cNvSpPr/>
                <p:nvPr/>
              </p:nvSpPr>
              <p:spPr>
                <a:xfrm flipV="1">
                  <a:off x="6126480" y="39870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295320" y="4075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6207480" y="39891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6126480" y="3986280"/>
                <a:ext cx="246240" cy="88200"/>
                <a:chOff x="6126480" y="3986280"/>
                <a:chExt cx="246240" cy="882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6126480" y="4072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6295320" y="3986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V="1">
                  <a:off x="6207480" y="39862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2" name=""/>
            <p:cNvSpPr/>
            <p:nvPr/>
          </p:nvSpPr>
          <p:spPr>
            <a:xfrm flipV="1">
              <a:off x="6262560" y="4185720"/>
              <a:ext cx="144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0" y="25776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00"/>
                </a:solidFill>
                <a:latin typeface="Arial Black"/>
              </a:rPr>
              <a:t>Adresiranje na Internetu: IP-adresa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04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Adrese iznad 223 rezervisane su za buduće upotrebe (klase D i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2" name=""/>
          <p:cNvGraphicFramePr/>
          <p:nvPr/>
        </p:nvGraphicFramePr>
        <p:xfrm>
          <a:off x="1332000" y="3141720"/>
          <a:ext cx="6192720" cy="574560"/>
        </p:xfrm>
        <a:graphic>
          <a:graphicData uri="http://schemas.openxmlformats.org/drawingml/2006/table">
            <a:tbl>
              <a:tblPr/>
              <a:tblGrid>
                <a:gridCol w="863640"/>
                <a:gridCol w="5329080"/>
              </a:tblGrid>
              <a:tr h="574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ervisano za buduću upotreb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3" name=""/>
          <p:cNvGraphicFramePr/>
          <p:nvPr/>
        </p:nvGraphicFramePr>
        <p:xfrm>
          <a:off x="4500720" y="2492280"/>
          <a:ext cx="3023640" cy="4316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4" name=""/>
          <p:cNvGraphicFramePr/>
          <p:nvPr/>
        </p:nvGraphicFramePr>
        <p:xfrm>
          <a:off x="1332000" y="2492280"/>
          <a:ext cx="3165480" cy="432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85" name=""/>
          <p:cNvGrpSpPr/>
          <p:nvPr/>
        </p:nvGrpSpPr>
        <p:grpSpPr>
          <a:xfrm>
            <a:off x="1332000" y="1916280"/>
            <a:ext cx="6192720" cy="368280"/>
            <a:chOff x="1332000" y="1916280"/>
            <a:chExt cx="6192720" cy="368280"/>
          </a:xfrm>
        </p:grpSpPr>
        <p:sp>
          <p:nvSpPr>
            <p:cNvPr id="1086" name=""/>
            <p:cNvSpPr/>
            <p:nvPr/>
          </p:nvSpPr>
          <p:spPr>
            <a:xfrm>
              <a:off x="1332000" y="2203200"/>
              <a:ext cx="619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06080" y="191628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imes New Roman"/>
                </a:rPr>
                <a:t>32-bi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8" name=""/>
          <p:cNvSpPr/>
          <p:nvPr/>
        </p:nvSpPr>
        <p:spPr>
          <a:xfrm>
            <a:off x="7812000" y="321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9" name=""/>
          <p:cNvGraphicFramePr/>
          <p:nvPr/>
        </p:nvGraphicFramePr>
        <p:xfrm>
          <a:off x="1332000" y="3933720"/>
          <a:ext cx="6192720" cy="574560"/>
        </p:xfrm>
        <a:graphic>
          <a:graphicData uri="http://schemas.openxmlformats.org/drawingml/2006/table">
            <a:tbl>
              <a:tblPr/>
              <a:tblGrid>
                <a:gridCol w="863640"/>
                <a:gridCol w="5329080"/>
              </a:tblGrid>
              <a:tr h="574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ervisano za buduću upotreb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0" name=""/>
          <p:cNvSpPr/>
          <p:nvPr/>
        </p:nvSpPr>
        <p:spPr>
          <a:xfrm>
            <a:off x="7812000" y="400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24000" y="479736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Brojevi 0 i 255 imaju specijalno znač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 – rezervisana za mašine koje ne znaju svoju adre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55 – “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broadcas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” adresa  - podaci upućeni na ovu adresu prosleđuju se svim računarima u mrež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0" y="25776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00"/>
                </a:solidFill>
                <a:latin typeface="Arial Black"/>
              </a:rPr>
              <a:t>Adresiranje na Internetu: IP-adresa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0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Pregled IPv4 Internet – adesne š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4" name=""/>
          <p:cNvGraphicFramePr/>
          <p:nvPr/>
        </p:nvGraphicFramePr>
        <p:xfrm>
          <a:off x="539640" y="2781360"/>
          <a:ext cx="7777440" cy="1655640"/>
        </p:xfrm>
        <a:graphic>
          <a:graphicData uri="http://schemas.openxmlformats.org/drawingml/2006/table">
            <a:tbl>
              <a:tblPr/>
              <a:tblGrid>
                <a:gridCol w="1008000"/>
                <a:gridCol w="1440000"/>
                <a:gridCol w="1440000"/>
                <a:gridCol w="1296720"/>
                <a:gridCol w="1295640"/>
                <a:gridCol w="1297080"/>
              </a:tblGrid>
              <a:tr h="55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-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,777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-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3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2-2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97.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5" name=""/>
          <p:cNvGraphicFramePr/>
          <p:nvPr/>
        </p:nvGraphicFramePr>
        <p:xfrm>
          <a:off x="539640" y="1989000"/>
          <a:ext cx="7777440" cy="792360"/>
        </p:xfrm>
        <a:graphic>
          <a:graphicData uri="http://schemas.openxmlformats.org/drawingml/2006/table">
            <a:tbl>
              <a:tblPr/>
              <a:tblGrid>
                <a:gridCol w="1008000"/>
                <a:gridCol w="1440000"/>
                <a:gridCol w="1441440"/>
                <a:gridCol w="1295280"/>
                <a:gridCol w="1297080"/>
                <a:gridCol w="1295640"/>
              </a:tblGrid>
              <a:tr h="3970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j k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sim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j bita 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ež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o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-mrež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-host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0" y="25776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00"/>
                </a:solidFill>
                <a:latin typeface="Arial Black"/>
              </a:rPr>
              <a:t>Adresiranje na Internetu: Imenom domena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DNS -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(Domen Name System) – uveden radi olakšanja baratanja sa numeričkim adresama host-ova (IP-adr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Pretstavlja mehanizam za HIJERARHIJSKO RAZREŠAVANJ IMENA host-a unutar neke Internet adrese. (ime domena je karakteristično za WWW sajto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Primer:     www.ftn.ns.ac.y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TLD – (Top Level Internet Domen) – poslednji deo imena domena (.com; .org; .edu; .gov; .mil; .net; .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0" y="25776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00"/>
                </a:solidFill>
                <a:latin typeface="Arial Black"/>
              </a:rPr>
              <a:t>Adresiranje na Internetu: Imenom domena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DNS -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(Domen Name System) -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0" name=""/>
          <p:cNvGraphicFramePr/>
          <p:nvPr/>
        </p:nvGraphicFramePr>
        <p:xfrm>
          <a:off x="1476360" y="1844640"/>
          <a:ext cx="6095880" cy="4429080"/>
        </p:xfrm>
        <a:graphic>
          <a:graphicData uri="http://schemas.openxmlformats.org/drawingml/2006/table">
            <a:tbl>
              <a:tblPr/>
              <a:tblGrid>
                <a:gridCol w="1584000"/>
                <a:gridCol w="4511880"/>
              </a:tblGrid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e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brazovne ustano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c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mercijalne organizaci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ladine agenci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m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ojne agenci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n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vajderi mrežnih uslu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or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profitne organizaci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ganizacije ustanovljene međunarodnim ugovori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0" y="25776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00"/>
                </a:solidFill>
                <a:latin typeface="Arial Black"/>
              </a:rPr>
              <a:t>Adresiranje na Internetu: Imenom domena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DNS -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(Domen Name System) –u 2000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1116000" y="1844640"/>
          <a:ext cx="6456240" cy="4064040"/>
        </p:xfrm>
        <a:graphic>
          <a:graphicData uri="http://schemas.openxmlformats.org/drawingml/2006/table">
            <a:tbl>
              <a:tblPr/>
              <a:tblGrid>
                <a:gridCol w="1677960"/>
                <a:gridCol w="4778280"/>
              </a:tblGrid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b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slovni sistemi (profitne org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muse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zej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inf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pšta upotre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p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fesional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jedin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a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zduhoplovna industr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co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operac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0" y="25776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00"/>
                </a:solidFill>
                <a:latin typeface="Arial Black"/>
              </a:rPr>
              <a:t>Adresiranje na Internetu: Imenom domena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RNIDS -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(Registar Nacionalnog Domena Srbije) –u 2006.g. (.rs – do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6" name=""/>
          <p:cNvGraphicFramePr/>
          <p:nvPr/>
        </p:nvGraphicFramePr>
        <p:xfrm>
          <a:off x="1187280" y="2276640"/>
          <a:ext cx="7104240" cy="3638520"/>
        </p:xfrm>
        <a:graphic>
          <a:graphicData uri="http://schemas.openxmlformats.org/drawingml/2006/table">
            <a:tbl>
              <a:tblPr/>
              <a:tblGrid>
                <a:gridCol w="1511640"/>
                <a:gridCol w="1512720"/>
                <a:gridCol w="407988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ac.y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ac.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kademske ustanove, registrovane od strane Ministarstva za nauku i tehnologiju  i prosvetu RS (držav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co.y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co.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duzeća (privatna, društvena, mešovita, javna), registrovana u skladu sa Zakonom o preduzećima (korporativni dom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org.y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org.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ganizacije i udruženja građana, kulturne ustanove i druga neprofitna pravna lica (namenski dom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edu.y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edu.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itucije koje se bave obrazovanjem a nisu registrovane kod Ministarstva prosvete, privatne škole i s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gov.y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gov.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lada i ministarstva Republike Srb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755280" y="2592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DNS: Domain Name System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40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judi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ogo identifikato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o kojima se razlikuj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ur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a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rnet host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-ov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ruter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a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32 bit) 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rišćena za adresiranje data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.yahoo.com 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riste lju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P adresa: 121.7.106.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0000"/>
                </a:solidFill>
                <a:uFillTx/>
                <a:latin typeface="Arial"/>
              </a:rPr>
              <a:t>Pitanje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ranje izmeđ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se i im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284720" y="112500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main Name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distribu</a:t>
            </a:r>
            <a:r>
              <a:rPr b="1" i="1" lang="sr-Latn-CS" sz="2400" spc="-1" strike="noStrike">
                <a:solidFill>
                  <a:srgbClr val="cc9900"/>
                </a:solidFill>
                <a:latin typeface="Arial"/>
              </a:rPr>
              <a:t>irana baza podata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lemen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rana preko hijerarhi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cc9900"/>
                </a:solidFill>
                <a:latin typeface="Arial"/>
              </a:rPr>
              <a:t>DNS servera</a:t>
            </a:r>
            <a:r>
              <a:rPr b="0" i="1" lang="en-GB" sz="2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to su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sto UNIX ma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šine koje rade sa BIND-Berkeley Internet Name Domain softverom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9900"/>
                </a:solidFill>
                <a:latin typeface="Arial"/>
              </a:rPr>
              <a:t>protokol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ap</a:t>
            </a:r>
            <a:r>
              <a:rPr b="1" i="1" lang="sr-Latn-CS" sz="2400" spc="-1" strike="noStrike">
                <a:solidFill>
                  <a:srgbClr val="cc9900"/>
                </a:solidFill>
                <a:latin typeface="Arial"/>
              </a:rPr>
              <a:t>likacionog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-</a:t>
            </a:r>
            <a:r>
              <a:rPr b="1" i="1" lang="sr-Latn-CS" sz="2400" spc="-1" strike="noStrike">
                <a:solidFill>
                  <a:srgbClr val="cc9900"/>
                </a:solidFill>
                <a:latin typeface="Arial"/>
              </a:rPr>
              <a:t>slo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s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v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ut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rveri im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municiraju da bi </a:t>
            </a:r>
            <a:r>
              <a:rPr b="0" i="1" lang="sr-Latn-CS" sz="2400" spc="-1" strike="noStrike">
                <a:solidFill>
                  <a:srgbClr val="cc9900"/>
                </a:solidFill>
                <a:latin typeface="Arial"/>
              </a:rPr>
              <a:t>razrešil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me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anslacija: adresa/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FC 1034 i RFC 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 i dodatni RFC-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28240" y="6120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DNS 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858920" y="1052280"/>
            <a:ext cx="40338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Zašto ne centralizovan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na tačka sa greškom, pad celog Internet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eličina saobrać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daljene centralizovane baze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drža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-360" y="907560"/>
            <a:ext cx="4716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NS servis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anslaci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nam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aliasin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promenjeno - drugo ime-pseudon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anonical-utvrđena i alias-promenjena imena lakša za upotre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 server ali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distrib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j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opte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e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b serv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et IP a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sa za jed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nonsk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cn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"/>
          <p:cNvGrpSpPr/>
          <p:nvPr/>
        </p:nvGrpSpPr>
        <p:grpSpPr>
          <a:xfrm>
            <a:off x="440640" y="1093680"/>
            <a:ext cx="8199360" cy="2445840"/>
            <a:chOff x="440640" y="1093680"/>
            <a:chExt cx="8199360" cy="2445840"/>
          </a:xfrm>
        </p:grpSpPr>
        <p:sp>
          <p:nvSpPr>
            <p:cNvPr id="1114" name=""/>
            <p:cNvSpPr/>
            <p:nvPr/>
          </p:nvSpPr>
          <p:spPr>
            <a:xfrm>
              <a:off x="3460320" y="1093680"/>
              <a:ext cx="208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oot DNS Server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84520" y="216216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 DNS server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532680" y="2095200"/>
              <a:ext cx="190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g DNS server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108840" y="209520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du DNS server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2098440" y="1494360"/>
              <a:ext cx="2074680" cy="60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459680" y="142740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817520" y="1494360"/>
              <a:ext cx="2146320" cy="60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78800" y="2729880"/>
              <a:ext cx="147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y.ed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S server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166880" y="2729880"/>
              <a:ext cx="147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mass.ed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S server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6391440" y="2429280"/>
              <a:ext cx="50040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321320" y="2429280"/>
              <a:ext cx="42912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40640" y="2863440"/>
              <a:ext cx="147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S server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956600" y="2896920"/>
              <a:ext cx="156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mazon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S server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1240200" y="2496240"/>
              <a:ext cx="285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170080" y="2496240"/>
              <a:ext cx="357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875400" y="2795040"/>
              <a:ext cx="147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bs.or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S server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459680" y="242928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0" y="25884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Distribu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irane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,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hijerarhijske baze podataka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68360" y="3860640"/>
            <a:ext cx="835344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0000"/>
                </a:solidFill>
                <a:uFillTx/>
                <a:latin typeface="Arial"/>
              </a:rPr>
              <a:t>Klijent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ff0000"/>
                </a:solidFill>
                <a:uFillTx/>
                <a:latin typeface="Arial"/>
              </a:rPr>
              <a:t>želi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P </a:t>
            </a:r>
            <a:r>
              <a:rPr b="0" lang="sr-Latn-CS" sz="2400" spc="-1" strike="noStrike" u="sng">
                <a:solidFill>
                  <a:srgbClr val="ff0000"/>
                </a:solidFill>
                <a:uFillTx/>
                <a:latin typeface="Arial"/>
              </a:rPr>
              <a:t>za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ww.amazon.com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; </a:t>
            </a:r>
            <a:r>
              <a:rPr b="0" lang="sr-Latn-CS" sz="2400" spc="-1" strike="noStrike" u="sng">
                <a:solidFill>
                  <a:srgbClr val="ff0000"/>
                </a:solidFill>
                <a:uFillTx/>
                <a:latin typeface="Arial"/>
              </a:rPr>
              <a:t>prva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ap</a:t>
            </a:r>
            <a:r>
              <a:rPr b="0" lang="sr-Latn-CS" sz="2400" spc="-1" strike="noStrike" u="sng">
                <a:solidFill>
                  <a:srgbClr val="ff0000"/>
                </a:solidFill>
                <a:uFillTx/>
                <a:latin typeface="Arial"/>
              </a:rPr>
              <a:t>roksimacija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ijen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je upit root serv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u da nađ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NS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lijent šalje up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NS serv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TopLevelDomain) da nađ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azon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NS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lijent šalje up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azon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NS serv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 (authoritative server) da uz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su hosta sa imen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ww.amazo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4000" y="1807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Lo</a:t>
            </a: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kalni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 Name Server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Ne pripada striktno hijerarh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vak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S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za stanovništv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pan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niv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it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a lokalni server im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kođe nazv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default name serv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da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av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p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pit se šalje na lokaln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 serv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šalje se UDPdatagram kroz port 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adi ka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osleđuje upit hijerarhijs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6280" y="-11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Predistorija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Internet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-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547640" y="1844640"/>
            <a:ext cx="5904000" cy="316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9900"/>
                </a:solidFill>
                <a:latin typeface="Arial"/>
              </a:rPr>
              <a:t>1858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uspešan pokušaj polaganja transatlanskog kabla između USA i Europe. (24 d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1</a:t>
            </a:r>
            <a:r>
              <a:rPr b="1" lang="sr-Latn-CS" sz="2400" spc="-1" strike="noStrike">
                <a:solidFill>
                  <a:srgbClr val="cc99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6</a:t>
            </a:r>
            <a:r>
              <a:rPr b="1" lang="sr-Latn-CS" sz="2400" spc="-1" strike="noStrike">
                <a:solidFill>
                  <a:srgbClr val="cc99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ovi pokuša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ešno polaganje i operativni rad (100 god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9900"/>
                </a:solidFill>
                <a:latin typeface="Arial"/>
              </a:rPr>
              <a:t>1957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ansiranje prvog veštačkog satelita u Zemljinu orbitu – (Sputn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95280" y="620640"/>
            <a:ext cx="836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0000"/>
                </a:solidFill>
                <a:latin typeface="Arial Black"/>
              </a:rPr>
              <a:t>Period do 1961.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11280" y="3573360"/>
            <a:ext cx="7934400" cy="2508480"/>
            <a:chOff x="611280" y="3573360"/>
            <a:chExt cx="7934400" cy="2508480"/>
          </a:xfrm>
        </p:grpSpPr>
        <p:sp>
          <p:nvSpPr>
            <p:cNvPr id="597" name=""/>
            <p:cNvSpPr/>
            <p:nvPr/>
          </p:nvSpPr>
          <p:spPr>
            <a:xfrm>
              <a:off x="1258920" y="3573360"/>
              <a:ext cx="2016000" cy="1440000"/>
            </a:xfrm>
            <a:prstGeom prst="ellipse">
              <a:avLst/>
            </a:prstGeom>
            <a:solidFill>
              <a:srgbClr val="ff0000">
                <a:alpha val="3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611280" y="5373720"/>
              <a:ext cx="7934400" cy="708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Uzrok pokretanja ARPAnet projekta u SAD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2771640" y="6165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vanced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search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ojects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" descr=""/>
          <p:cNvPicPr/>
          <p:nvPr/>
        </p:nvPicPr>
        <p:blipFill>
          <a:blip r:embed="rId1"/>
          <a:stretch/>
        </p:blipFill>
        <p:spPr>
          <a:xfrm>
            <a:off x="4989600" y="4303800"/>
            <a:ext cx="833400" cy="637920"/>
          </a:xfrm>
          <a:prstGeom prst="rect">
            <a:avLst/>
          </a:prstGeom>
          <a:ln w="0">
            <a:noFill/>
          </a:ln>
        </p:spPr>
      </p:pic>
      <p:sp>
        <p:nvSpPr>
          <p:cNvPr id="1136" name=""/>
          <p:cNvSpPr/>
          <p:nvPr/>
        </p:nvSpPr>
        <p:spPr>
          <a:xfrm>
            <a:off x="4139280" y="4881600"/>
            <a:ext cx="1881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487560" y="56707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2"/>
          <a:stretch/>
        </p:blipFill>
        <p:spPr>
          <a:xfrm>
            <a:off x="7113600" y="5103720"/>
            <a:ext cx="833400" cy="638280"/>
          </a:xfrm>
          <a:prstGeom prst="rect">
            <a:avLst/>
          </a:prstGeom>
          <a:ln w="0">
            <a:noFill/>
          </a:ln>
        </p:spPr>
      </p:pic>
      <p:grpSp>
        <p:nvGrpSpPr>
          <p:cNvPr id="1139" name=""/>
          <p:cNvGrpSpPr/>
          <p:nvPr/>
        </p:nvGrpSpPr>
        <p:grpSpPr>
          <a:xfrm>
            <a:off x="5237280" y="2228760"/>
            <a:ext cx="369360" cy="657000"/>
            <a:chOff x="5237280" y="2228760"/>
            <a:chExt cx="369360" cy="657000"/>
          </a:xfrm>
        </p:grpSpPr>
        <p:sp>
          <p:nvSpPr>
            <p:cNvPr id="1140" name=""/>
            <p:cNvSpPr/>
            <p:nvPr/>
          </p:nvSpPr>
          <p:spPr>
            <a:xfrm>
              <a:off x="5237280" y="273384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424480" y="223308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39440" y="237600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37280" y="222876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06640" y="22392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5473080" y="273384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68960" y="2442600"/>
              <a:ext cx="155160" cy="2912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91280" y="25304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5400720" y="122040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686560" y="2382840"/>
            <a:ext cx="148572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5686560" y="2554200"/>
            <a:ext cx="1419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5609880" y="1449360"/>
            <a:ext cx="7333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477040" y="294480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4162320" y="3062160"/>
            <a:ext cx="1935000" cy="611640"/>
            <a:chOff x="4162320" y="3062160"/>
            <a:chExt cx="1935000" cy="611640"/>
          </a:xfrm>
        </p:grpSpPr>
        <p:sp>
          <p:nvSpPr>
            <p:cNvPr id="1156" name="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162320" y="3062160"/>
              <a:ext cx="1935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294600" y="20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324840" y="257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921720" y="36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6351480" y="809640"/>
            <a:ext cx="369720" cy="657000"/>
            <a:chOff x="6351480" y="809640"/>
            <a:chExt cx="369720" cy="657000"/>
          </a:xfrm>
        </p:grpSpPr>
        <p:sp>
          <p:nvSpPr>
            <p:cNvPr id="1165" name=""/>
            <p:cNvSpPr/>
            <p:nvPr/>
          </p:nvSpPr>
          <p:spPr>
            <a:xfrm>
              <a:off x="6351480" y="13147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538680" y="81396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353640" y="95688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351480" y="8096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721200" y="82008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6587640" y="13147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83160" y="1023480"/>
              <a:ext cx="155520" cy="2912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05480" y="111132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7180200" y="2238480"/>
            <a:ext cx="369720" cy="656280"/>
            <a:chOff x="7180200" y="2238480"/>
            <a:chExt cx="369720" cy="656280"/>
          </a:xfrm>
        </p:grpSpPr>
        <p:sp>
          <p:nvSpPr>
            <p:cNvPr id="1174" name=""/>
            <p:cNvSpPr/>
            <p:nvPr/>
          </p:nvSpPr>
          <p:spPr>
            <a:xfrm>
              <a:off x="7180200" y="274320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367400" y="224280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182360" y="238572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180200" y="22384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549920" y="22489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7416360" y="27432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211880" y="2452320"/>
              <a:ext cx="155520" cy="29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234200" y="25401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7161120" y="3857760"/>
            <a:ext cx="369720" cy="656280"/>
            <a:chOff x="7161120" y="3857760"/>
            <a:chExt cx="369720" cy="656280"/>
          </a:xfrm>
        </p:grpSpPr>
        <p:sp>
          <p:nvSpPr>
            <p:cNvPr id="1183" name=""/>
            <p:cNvSpPr/>
            <p:nvPr/>
          </p:nvSpPr>
          <p:spPr>
            <a:xfrm>
              <a:off x="7161120" y="43624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348320" y="38620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163280" y="400500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161120" y="385776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530840" y="38682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7397280" y="43624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192800" y="4071600"/>
              <a:ext cx="155520" cy="29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215120" y="41594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1" name=""/>
          <p:cNvSpPr/>
          <p:nvPr/>
        </p:nvSpPr>
        <p:spPr>
          <a:xfrm>
            <a:off x="6290640" y="4429080"/>
            <a:ext cx="25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2946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551920" y="37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619600" y="2714760"/>
            <a:ext cx="1494000" cy="131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 flipV="1">
            <a:off x="5580000" y="2830680"/>
            <a:ext cx="1494000" cy="130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551640" y="18525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LD DNS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50560" y="514080"/>
            <a:ext cx="478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Primer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140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.poly.e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e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P ad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su z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95280" y="4005360"/>
            <a:ext cx="323856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terat</a:t>
            </a:r>
            <a:r>
              <a:rPr b="0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ivni upiti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ntaktirani serveri odgovaraju dajući ime serv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nam ovo ime, ali pitaj ovaj ser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"/>
          <p:cNvGrpSpPr/>
          <p:nvPr/>
        </p:nvGrpSpPr>
        <p:grpSpPr>
          <a:xfrm>
            <a:off x="3440880" y="790560"/>
            <a:ext cx="5718960" cy="5526720"/>
            <a:chOff x="3440880" y="790560"/>
            <a:chExt cx="5718960" cy="5526720"/>
          </a:xfrm>
        </p:grpSpPr>
        <p:pic>
          <p:nvPicPr>
            <p:cNvPr id="1201" name="" descr=""/>
            <p:cNvPicPr/>
            <p:nvPr/>
          </p:nvPicPr>
          <p:blipFill>
            <a:blip r:embed="rId1"/>
            <a:stretch/>
          </p:blipFill>
          <p:spPr>
            <a:xfrm>
              <a:off x="4291200" y="4613040"/>
              <a:ext cx="83340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2" name=""/>
            <p:cNvSpPr/>
            <p:nvPr/>
          </p:nvSpPr>
          <p:spPr>
            <a:xfrm>
              <a:off x="3440880" y="5190840"/>
              <a:ext cx="18813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questing 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s.poly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789160" y="5979960"/>
              <a:ext cx="225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aia.cs.umass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4" name="" descr=""/>
            <p:cNvPicPr/>
            <p:nvPr/>
          </p:nvPicPr>
          <p:blipFill>
            <a:blip r:embed="rId2"/>
            <a:stretch/>
          </p:blipFill>
          <p:spPr>
            <a:xfrm>
              <a:off x="6415200" y="5412960"/>
              <a:ext cx="833400" cy="63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5" name=""/>
            <p:cNvGrpSpPr/>
            <p:nvPr/>
          </p:nvGrpSpPr>
          <p:grpSpPr>
            <a:xfrm>
              <a:off x="4538880" y="2538000"/>
              <a:ext cx="369360" cy="656280"/>
              <a:chOff x="4538880" y="2538000"/>
              <a:chExt cx="369360" cy="656280"/>
            </a:xfrm>
          </p:grpSpPr>
          <p:sp>
            <p:nvSpPr>
              <p:cNvPr id="1206" name=""/>
              <p:cNvSpPr/>
              <p:nvPr/>
            </p:nvSpPr>
            <p:spPr>
              <a:xfrm>
                <a:off x="4538880" y="3042720"/>
                <a:ext cx="369360" cy="151560"/>
              </a:xfrm>
              <a:prstGeom prst="parallelogram">
                <a:avLst>
                  <a:gd name="adj" fmla="val 9388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726080" y="2542320"/>
                <a:ext cx="169920" cy="5043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541040" y="2685240"/>
                <a:ext cx="234000" cy="504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538880" y="2538000"/>
                <a:ext cx="369360" cy="151560"/>
              </a:xfrm>
              <a:prstGeom prst="parallelogram">
                <a:avLst>
                  <a:gd name="adj" fmla="val 9388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908240" y="2548440"/>
                <a:ext cx="0" cy="49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4774680" y="304272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570560" y="2751840"/>
                <a:ext cx="155160" cy="2908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592880" y="283968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4" name=""/>
            <p:cNvSpPr/>
            <p:nvPr/>
          </p:nvSpPr>
          <p:spPr>
            <a:xfrm>
              <a:off x="5092920" y="790560"/>
              <a:ext cx="201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oot DNS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4587840" y="3225600"/>
              <a:ext cx="0" cy="1314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702320" y="1530000"/>
              <a:ext cx="914400" cy="97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778640" y="3254040"/>
              <a:ext cx="9360" cy="132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8" name=""/>
            <p:cNvGrpSpPr/>
            <p:nvPr/>
          </p:nvGrpSpPr>
          <p:grpSpPr>
            <a:xfrm>
              <a:off x="3463920" y="3371760"/>
              <a:ext cx="1935000" cy="611640"/>
              <a:chOff x="3463920" y="3371760"/>
              <a:chExt cx="1935000" cy="611640"/>
            </a:xfrm>
          </p:grpSpPr>
          <p:sp>
            <p:nvSpPr>
              <p:cNvPr id="1219" name=""/>
              <p:cNvSpPr/>
              <p:nvPr/>
            </p:nvSpPr>
            <p:spPr>
              <a:xfrm>
                <a:off x="3492720" y="3444120"/>
                <a:ext cx="1876320" cy="47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463920" y="3371760"/>
                <a:ext cx="19350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ocal DNS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dns.poly.ed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1" name=""/>
            <p:cNvSpPr/>
            <p:nvPr/>
          </p:nvSpPr>
          <p:spPr>
            <a:xfrm>
              <a:off x="4300920" y="4081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843800" y="1747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769440" y="3533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312240" y="360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007680" y="2238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5653080" y="1118880"/>
              <a:ext cx="369720" cy="656280"/>
              <a:chOff x="5653080" y="1118880"/>
              <a:chExt cx="369720" cy="656280"/>
            </a:xfrm>
          </p:grpSpPr>
          <p:sp>
            <p:nvSpPr>
              <p:cNvPr id="1227" name=""/>
              <p:cNvSpPr/>
              <p:nvPr/>
            </p:nvSpPr>
            <p:spPr>
              <a:xfrm>
                <a:off x="5653080" y="162360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840280" y="1123200"/>
                <a:ext cx="169920" cy="5043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655240" y="1266120"/>
                <a:ext cx="234360" cy="504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653080" y="111888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022800" y="1129320"/>
                <a:ext cx="0" cy="49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>
                <a:off x="5889240" y="162360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684760" y="1332720"/>
                <a:ext cx="155520" cy="2908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707080" y="142056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6481800" y="2547720"/>
              <a:ext cx="369720" cy="656280"/>
              <a:chOff x="6481800" y="2547720"/>
              <a:chExt cx="369720" cy="656280"/>
            </a:xfrm>
          </p:grpSpPr>
          <p:sp>
            <p:nvSpPr>
              <p:cNvPr id="1236" name=""/>
              <p:cNvSpPr/>
              <p:nvPr/>
            </p:nvSpPr>
            <p:spPr>
              <a:xfrm>
                <a:off x="6481800" y="305244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669000" y="2552040"/>
                <a:ext cx="169920" cy="5043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483960" y="2694960"/>
                <a:ext cx="234360" cy="504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481800" y="254772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851520" y="2558160"/>
                <a:ext cx="0" cy="49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H="1">
                <a:off x="6717960" y="305244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513480" y="2761560"/>
                <a:ext cx="155520" cy="2908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535800" y="284940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6462720" y="4167000"/>
              <a:ext cx="369720" cy="656280"/>
              <a:chOff x="6462720" y="4167000"/>
              <a:chExt cx="369720" cy="656280"/>
            </a:xfrm>
          </p:grpSpPr>
          <p:sp>
            <p:nvSpPr>
              <p:cNvPr id="1245" name=""/>
              <p:cNvSpPr/>
              <p:nvPr/>
            </p:nvSpPr>
            <p:spPr>
              <a:xfrm>
                <a:off x="6462720" y="467172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649920" y="4171320"/>
                <a:ext cx="169920" cy="5040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464880" y="4314240"/>
                <a:ext cx="234360" cy="504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462720" y="416700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832440" y="4177440"/>
                <a:ext cx="0" cy="49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6698880" y="467172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494400" y="4380480"/>
                <a:ext cx="155520" cy="2908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516720" y="446832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3" name=""/>
            <p:cNvSpPr/>
            <p:nvPr/>
          </p:nvSpPr>
          <p:spPr>
            <a:xfrm>
              <a:off x="5592600" y="4738320"/>
              <a:ext cx="252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uthoritative DNS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cs.umass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169240" y="2314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853520" y="4100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005520" y="1400040"/>
              <a:ext cx="685800" cy="1142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148520" y="2619000"/>
              <a:ext cx="201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LD DNS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67640" y="31525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6615360" y="3228480"/>
              <a:ext cx="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5929200" y="1780560"/>
              <a:ext cx="53316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464880" y="178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4938480" y="1780920"/>
              <a:ext cx="762120" cy="837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78920" y="331560"/>
            <a:ext cx="4537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Re</a:t>
            </a: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k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ur</a:t>
            </a: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zivni upit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4" name=""/>
          <p:cNvSpPr/>
          <p:nvPr/>
        </p:nvSpPr>
        <p:spPr>
          <a:xfrm>
            <a:off x="291960" y="1438200"/>
            <a:ext cx="323856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</a:t>
            </a:r>
            <a:r>
              <a:rPr b="0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kurzivni upiti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ežište razrešenja imen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j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na kontaktiran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serv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eško optereć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68000" y="331560"/>
            <a:ext cx="83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DNS: </a:t>
            </a: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keširanje i ažuriranje zapis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393480" y="1438200"/>
            <a:ext cx="832644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d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ilo ko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ame server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či-zna mapira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i="1" lang="sr-Latn-CS" sz="2800" spc="-1" strike="noStrike">
                <a:solidFill>
                  <a:srgbClr val="cc9900"/>
                </a:solidFill>
                <a:latin typeface="Arial"/>
              </a:rPr>
              <a:t>keši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p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eširani upi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ščeznu nakon određenog vrem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D serve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 su tipično keširani u lokalni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serve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ako 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ame serv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 posećuju č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žurira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gla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anizme koje dizajni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21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etf.org/html.charters/dnsind-charte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10920" y="38016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DNS proto</a:t>
            </a: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kol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, </a:t>
            </a: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poruk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777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cc9900"/>
                </a:solidFill>
                <a:uFillTx/>
                <a:latin typeface="Arial"/>
              </a:rPr>
              <a:t>DNS proto</a:t>
            </a:r>
            <a:r>
              <a:rPr b="0" lang="sr-Latn-CS" sz="2800" spc="-1" strike="noStrike" u="sng">
                <a:solidFill>
                  <a:srgbClr val="cc9900"/>
                </a:solidFill>
                <a:uFillTx/>
                <a:latin typeface="Arial"/>
              </a:rPr>
              <a:t>k</a:t>
            </a:r>
            <a:r>
              <a:rPr b="0" lang="en-US" sz="2800" spc="-1" strike="noStrike" u="sng">
                <a:solidFill>
                  <a:srgbClr val="cc9900"/>
                </a:solidFill>
                <a:uFillTx/>
                <a:latin typeface="Arial"/>
              </a:rPr>
              <a:t>ol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ff0000"/>
                </a:solidFill>
                <a:latin typeface="Arial"/>
              </a:rPr>
              <a:t>upi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ff0000"/>
                </a:solidFill>
                <a:latin typeface="Arial"/>
              </a:rPr>
              <a:t>odgov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ru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 isti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format</a:t>
            </a:r>
            <a:r>
              <a:rPr b="0" i="1" lang="sr-Latn-CS" sz="2800" spc="-1" strike="noStrike">
                <a:solidFill>
                  <a:srgbClr val="ff0000"/>
                </a:solidFill>
                <a:latin typeface="Arial"/>
              </a:rPr>
              <a:t>om poru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90520" y="2352600"/>
            <a:ext cx="38178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g h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identifi</a:t>
            </a:r>
            <a:r>
              <a:rPr b="1" lang="sr-Latn-CS" sz="2400" spc="-1" strike="noStrike">
                <a:solidFill>
                  <a:srgbClr val="cc9900"/>
                </a:solidFill>
                <a:latin typeface="Arial"/>
              </a:rPr>
              <a:t>kacija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vo polje 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bi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ni broj koji identifikuje up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9900"/>
                </a:solidFill>
                <a:latin typeface="Arial"/>
              </a:rPr>
              <a:t>zastavice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pit (0) ili odgovor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eljena rekurzi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koristljiva rekurz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0" name="" descr=""/>
          <p:cNvPicPr/>
          <p:nvPr/>
        </p:nvPicPr>
        <p:blipFill>
          <a:blip r:embed="rId1"/>
          <a:stretch/>
        </p:blipFill>
        <p:spPr>
          <a:xfrm>
            <a:off x="4181400" y="2228760"/>
            <a:ext cx="49626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68000" y="33156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DNS proto</a:t>
            </a: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kol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, </a:t>
            </a: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poruk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272" name="" descr=""/>
          <p:cNvPicPr/>
          <p:nvPr/>
        </p:nvPicPr>
        <p:blipFill>
          <a:blip r:embed="rId1"/>
          <a:stretch/>
        </p:blipFill>
        <p:spPr>
          <a:xfrm>
            <a:off x="4403880" y="1509840"/>
            <a:ext cx="4387680" cy="35622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/>
          <p:nvPr/>
        </p:nvSpPr>
        <p:spPr>
          <a:xfrm>
            <a:off x="1464480" y="1829520"/>
            <a:ext cx="17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I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t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ip pol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za up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558080" y="2829600"/>
            <a:ext cx="168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Rs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u odzi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na up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022040" y="3715200"/>
            <a:ext cx="222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zapisi 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nadležne serv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360" y="4515480"/>
            <a:ext cx="324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dodat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omoć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rmacij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koj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se m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u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koristi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152880" y="2171880"/>
            <a:ext cx="14475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52880" y="3200400"/>
            <a:ext cx="1514520" cy="371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181320" y="4076640"/>
            <a:ext cx="1447920" cy="133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3191040" y="4743360"/>
            <a:ext cx="143820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927160" y="586476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nslookup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0" y="25776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00"/>
                </a:solidFill>
                <a:latin typeface="Arial Black"/>
              </a:rPr>
              <a:t>Adresiranje na Internetu: URL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URL -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(Uniform Resource Lokator) – IP adresa i ime domena identifikuju određeni računar na Internetu ali ništa ne govore o RESURSIMA koji su na njemu na raspolaganju (npr. datotek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Radi jedinstvene identifikacije Web-stranice, Web-pretraživač se oslanja na URL (stranica=U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ČETVORODELNA ADRESNA ŠE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Oznaku prenosnog proto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Ime domena računara na kome je datoteka smešt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Putanja do direktorij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Ime datoteke sa odgovarajućim sufiks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ourier New"/>
              </a:rPr>
              <a:t>protocol://ime_domena/putanja/ime_datoteke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0" y="25776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00"/>
                </a:solidFill>
                <a:latin typeface="Arial Black"/>
              </a:rPr>
              <a:t>Adresiranje na Internetu: URL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ourier New"/>
              </a:rPr>
              <a:t>protocol://ime_domena/putanja/ime_datoteke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http://www.ftn.ns.ac.yu/stud_servis/rang_lista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79280" y="403200"/>
            <a:ext cx="8569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Detaljnije razmatranje mrežne struktur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4932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mrežna grana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(kraj mre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že, ivica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plikacije i host-račun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jezgro mrež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ut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reža mre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pristup mrežama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fizički medij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un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cioni ka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946920" y="219240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067360" y="204948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435640" y="35002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5184720" y="2184480"/>
            <a:ext cx="732960" cy="318960"/>
            <a:chOff x="5184720" y="2184480"/>
            <a:chExt cx="732960" cy="318960"/>
          </a:xfrm>
        </p:grpSpPr>
        <p:pic>
          <p:nvPicPr>
            <p:cNvPr id="1292" name="" descr=""/>
            <p:cNvPicPr/>
            <p:nvPr/>
          </p:nvPicPr>
          <p:blipFill>
            <a:blip r:embed="rId1"/>
            <a:stretch/>
          </p:blipFill>
          <p:spPr>
            <a:xfrm>
              <a:off x="5184720" y="218448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3" name="" descr=""/>
            <p:cNvPicPr/>
            <p:nvPr/>
          </p:nvPicPr>
          <p:blipFill>
            <a:blip r:embed="rId2"/>
            <a:stretch/>
          </p:blipFill>
          <p:spPr>
            <a:xfrm>
              <a:off x="5638320" y="230256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4" name=""/>
            <p:cNvSpPr/>
            <p:nvPr/>
          </p:nvSpPr>
          <p:spPr>
            <a:xfrm flipV="1">
              <a:off x="5591160" y="24260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5184720" y="2779560"/>
            <a:ext cx="732960" cy="319320"/>
            <a:chOff x="5184720" y="2779560"/>
            <a:chExt cx="732960" cy="319320"/>
          </a:xfrm>
        </p:grpSpPr>
        <p:pic>
          <p:nvPicPr>
            <p:cNvPr id="1296" name="" descr=""/>
            <p:cNvPicPr/>
            <p:nvPr/>
          </p:nvPicPr>
          <p:blipFill>
            <a:blip r:embed="rId3"/>
            <a:stretch/>
          </p:blipFill>
          <p:spPr>
            <a:xfrm>
              <a:off x="5184720" y="277956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" descr=""/>
            <p:cNvPicPr/>
            <p:nvPr/>
          </p:nvPicPr>
          <p:blipFill>
            <a:blip r:embed="rId4"/>
            <a:stretch/>
          </p:blipFill>
          <p:spPr>
            <a:xfrm>
              <a:off x="5638320" y="2897640"/>
              <a:ext cx="27936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 flipV="1">
              <a:off x="5591160" y="30211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560920" y="2567160"/>
            <a:ext cx="69480" cy="214200"/>
            <a:chOff x="5560920" y="2567160"/>
            <a:chExt cx="69480" cy="214200"/>
          </a:xfrm>
        </p:grpSpPr>
        <p:sp>
          <p:nvSpPr>
            <p:cNvPr id="1300" name=""/>
            <p:cNvSpPr/>
            <p:nvPr/>
          </p:nvSpPr>
          <p:spPr>
            <a:xfrm>
              <a:off x="5560920" y="2567160"/>
              <a:ext cx="64080" cy="601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563440" y="2644200"/>
              <a:ext cx="64080" cy="601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566320" y="2721240"/>
              <a:ext cx="64080" cy="601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6031080" y="3070080"/>
            <a:ext cx="209520" cy="394920"/>
            <a:chOff x="6031080" y="3070080"/>
            <a:chExt cx="209520" cy="394920"/>
          </a:xfrm>
        </p:grpSpPr>
        <p:sp>
          <p:nvSpPr>
            <p:cNvPr id="1304" name=""/>
            <p:cNvSpPr/>
            <p:nvPr/>
          </p:nvSpPr>
          <p:spPr>
            <a:xfrm>
              <a:off x="6031080" y="33739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137280" y="30726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032160" y="31586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031080" y="30700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40600" y="30762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6164640" y="33739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049080" y="3198600"/>
              <a:ext cx="87840" cy="1749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061680" y="32515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6267600" y="3223800"/>
            <a:ext cx="233280" cy="81000"/>
            <a:chOff x="6267600" y="3223800"/>
            <a:chExt cx="233280" cy="81000"/>
          </a:xfrm>
        </p:grpSpPr>
        <p:sp>
          <p:nvSpPr>
            <p:cNvPr id="1313" name=""/>
            <p:cNvSpPr/>
            <p:nvPr/>
          </p:nvSpPr>
          <p:spPr>
            <a:xfrm rot="16200000">
              <a:off x="6262920" y="3234600"/>
              <a:ext cx="74520" cy="65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rot="16200000">
              <a:off x="6346800" y="3231360"/>
              <a:ext cx="74520" cy="65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rot="16200000">
              <a:off x="6430680" y="3228120"/>
              <a:ext cx="74520" cy="65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6167520" y="297828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70760" y="297504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65760" y="2973240"/>
            <a:ext cx="180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867280" y="2438280"/>
            <a:ext cx="2890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5880240" y="272376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6407280" y="28098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6526080" y="3048120"/>
            <a:ext cx="209520" cy="394920"/>
            <a:chOff x="6526080" y="3048120"/>
            <a:chExt cx="209520" cy="394920"/>
          </a:xfrm>
        </p:grpSpPr>
        <p:sp>
          <p:nvSpPr>
            <p:cNvPr id="1323" name=""/>
            <p:cNvSpPr/>
            <p:nvPr/>
          </p:nvSpPr>
          <p:spPr>
            <a:xfrm>
              <a:off x="6526080" y="33519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632280" y="305064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27160" y="313668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26080" y="30481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735600" y="305424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6659640" y="335196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44080" y="3176640"/>
              <a:ext cx="87840" cy="1749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556680" y="322956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5568840" y="3666960"/>
            <a:ext cx="479160" cy="925200"/>
            <a:chOff x="5568840" y="3666960"/>
            <a:chExt cx="479160" cy="925200"/>
          </a:xfrm>
        </p:grpSpPr>
        <p:pic>
          <p:nvPicPr>
            <p:cNvPr id="1332" name="" descr=""/>
            <p:cNvPicPr/>
            <p:nvPr/>
          </p:nvPicPr>
          <p:blipFill>
            <a:blip r:embed="rId5"/>
            <a:stretch/>
          </p:blipFill>
          <p:spPr>
            <a:xfrm>
              <a:off x="5568840" y="36669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"/>
            <p:cNvSpPr/>
            <p:nvPr/>
          </p:nvSpPr>
          <p:spPr>
            <a:xfrm flipV="1">
              <a:off x="5975640" y="39135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4" name="" descr=""/>
            <p:cNvPicPr/>
            <p:nvPr/>
          </p:nvPicPr>
          <p:blipFill>
            <a:blip r:embed="rId6"/>
            <a:stretch/>
          </p:blipFill>
          <p:spPr>
            <a:xfrm>
              <a:off x="5568840" y="42616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5" name=""/>
            <p:cNvSpPr/>
            <p:nvPr/>
          </p:nvSpPr>
          <p:spPr>
            <a:xfrm flipV="1">
              <a:off x="5975640" y="45118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5694120" y="4008240"/>
              <a:ext cx="70560" cy="222480"/>
              <a:chOff x="5694120" y="4008240"/>
              <a:chExt cx="70560" cy="222480"/>
            </a:xfrm>
          </p:grpSpPr>
          <p:sp>
            <p:nvSpPr>
              <p:cNvPr id="1337" name=""/>
              <p:cNvSpPr/>
              <p:nvPr/>
            </p:nvSpPr>
            <p:spPr>
              <a:xfrm>
                <a:off x="5694120" y="4008240"/>
                <a:ext cx="65160" cy="6264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696640" y="4088160"/>
                <a:ext cx="65160" cy="6228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699520" y="4168440"/>
                <a:ext cx="65160" cy="6228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0" name=""/>
            <p:cNvSpPr/>
            <p:nvPr/>
          </p:nvSpPr>
          <p:spPr>
            <a:xfrm>
              <a:off x="6042600" y="39106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1" name="" descr=""/>
          <p:cNvPicPr/>
          <p:nvPr/>
        </p:nvPicPr>
        <p:blipFill>
          <a:blip r:embed="rId7"/>
          <a:stretch/>
        </p:blipFill>
        <p:spPr>
          <a:xfrm>
            <a:off x="6437160" y="4676760"/>
            <a:ext cx="417600" cy="331920"/>
          </a:xfrm>
          <a:prstGeom prst="rect">
            <a:avLst/>
          </a:prstGeom>
          <a:ln w="0">
            <a:noFill/>
          </a:ln>
        </p:spPr>
      </p:pic>
      <p:pic>
        <p:nvPicPr>
          <p:cNvPr id="1342" name="" descr=""/>
          <p:cNvPicPr/>
          <p:nvPr/>
        </p:nvPicPr>
        <p:blipFill>
          <a:blip r:embed="rId8"/>
          <a:stretch/>
        </p:blipFill>
        <p:spPr>
          <a:xfrm>
            <a:off x="5823000" y="466560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/>
          <p:nvPr/>
        </p:nvSpPr>
        <p:spPr>
          <a:xfrm rot="16200000">
            <a:off x="6239520" y="4769280"/>
            <a:ext cx="63720" cy="651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rot="16200000">
            <a:off x="6324480" y="4767120"/>
            <a:ext cx="63360" cy="666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rot="16200000">
            <a:off x="6402240" y="4771800"/>
            <a:ext cx="61920" cy="651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6691320" y="4622760"/>
            <a:ext cx="14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6067440" y="461124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6068880" y="461808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6048360" y="424296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649920" y="428940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7445520" y="428616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2" name="" descr=""/>
          <p:cNvPicPr/>
          <p:nvPr/>
        </p:nvPicPr>
        <p:blipFill>
          <a:blip r:embed="rId9"/>
          <a:stretch/>
        </p:blipFill>
        <p:spPr>
          <a:xfrm>
            <a:off x="7623000" y="3838680"/>
            <a:ext cx="203400" cy="241200"/>
          </a:xfrm>
          <a:prstGeom prst="rect">
            <a:avLst/>
          </a:prstGeom>
          <a:ln w="0">
            <a:noFill/>
          </a:ln>
        </p:spPr>
      </p:pic>
      <p:pic>
        <p:nvPicPr>
          <p:cNvPr id="1353" name="" descr=""/>
          <p:cNvPicPr/>
          <p:nvPr/>
        </p:nvPicPr>
        <p:blipFill>
          <a:blip r:embed="rId10"/>
          <a:stretch/>
        </p:blipFill>
        <p:spPr>
          <a:xfrm>
            <a:off x="6286680" y="3919680"/>
            <a:ext cx="203040" cy="239400"/>
          </a:xfrm>
          <a:prstGeom prst="rect">
            <a:avLst/>
          </a:prstGeom>
          <a:ln w="0">
            <a:noFill/>
          </a:ln>
        </p:spPr>
      </p:pic>
      <p:sp>
        <p:nvSpPr>
          <p:cNvPr id="1354" name=""/>
          <p:cNvSpPr/>
          <p:nvPr/>
        </p:nvSpPr>
        <p:spPr>
          <a:xfrm>
            <a:off x="6367320" y="3693960"/>
            <a:ext cx="135432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6634080" y="5116680"/>
            <a:ext cx="406080" cy="426960"/>
            <a:chOff x="6634080" y="5116680"/>
            <a:chExt cx="406080" cy="426960"/>
          </a:xfrm>
        </p:grpSpPr>
        <p:pic>
          <p:nvPicPr>
            <p:cNvPr id="1356" name="" descr=""/>
            <p:cNvPicPr/>
            <p:nvPr/>
          </p:nvPicPr>
          <p:blipFill>
            <a:blip r:embed="rId11"/>
            <a:stretch/>
          </p:blipFill>
          <p:spPr>
            <a:xfrm>
              <a:off x="6634080" y="51166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7" name="" descr=""/>
            <p:cNvPicPr/>
            <p:nvPr/>
          </p:nvPicPr>
          <p:blipFill>
            <a:blip r:embed="rId12"/>
            <a:stretch/>
          </p:blipFill>
          <p:spPr>
            <a:xfrm>
              <a:off x="6693840" y="52286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8" name=""/>
          <p:cNvGrpSpPr/>
          <p:nvPr/>
        </p:nvGrpSpPr>
        <p:grpSpPr>
          <a:xfrm>
            <a:off x="7412040" y="5148360"/>
            <a:ext cx="406080" cy="426960"/>
            <a:chOff x="7412040" y="5148360"/>
            <a:chExt cx="406080" cy="426960"/>
          </a:xfrm>
        </p:grpSpPr>
        <p:pic>
          <p:nvPicPr>
            <p:cNvPr id="1359" name="" descr=""/>
            <p:cNvPicPr/>
            <p:nvPr/>
          </p:nvPicPr>
          <p:blipFill>
            <a:blip r:embed="rId13"/>
            <a:stretch/>
          </p:blipFill>
          <p:spPr>
            <a:xfrm>
              <a:off x="7412040" y="514836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" descr=""/>
            <p:cNvPicPr/>
            <p:nvPr/>
          </p:nvPicPr>
          <p:blipFill>
            <a:blip r:embed="rId14"/>
            <a:stretch/>
          </p:blipFill>
          <p:spPr>
            <a:xfrm>
              <a:off x="7471800" y="526032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1" name=""/>
          <p:cNvGrpSpPr/>
          <p:nvPr/>
        </p:nvGrpSpPr>
        <p:grpSpPr>
          <a:xfrm>
            <a:off x="6997680" y="4863960"/>
            <a:ext cx="379440" cy="376200"/>
            <a:chOff x="6997680" y="4863960"/>
            <a:chExt cx="379440" cy="376200"/>
          </a:xfrm>
        </p:grpSpPr>
        <p:pic>
          <p:nvPicPr>
            <p:cNvPr id="1362" name="" descr=""/>
            <p:cNvPicPr/>
            <p:nvPr/>
          </p:nvPicPr>
          <p:blipFill>
            <a:blip r:embed="rId15"/>
            <a:stretch/>
          </p:blipFill>
          <p:spPr>
            <a:xfrm>
              <a:off x="6997680" y="48639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3" name=""/>
            <p:cNvSpPr/>
            <p:nvPr/>
          </p:nvSpPr>
          <p:spPr>
            <a:xfrm>
              <a:off x="7107840" y="49960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4" name=""/>
          <p:cNvSpPr/>
          <p:nvPr/>
        </p:nvSpPr>
        <p:spPr>
          <a:xfrm>
            <a:off x="7304040" y="476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8024760" y="4191120"/>
            <a:ext cx="208080" cy="408960"/>
            <a:chOff x="8024760" y="4191120"/>
            <a:chExt cx="208080" cy="408960"/>
          </a:xfrm>
        </p:grpSpPr>
        <p:sp>
          <p:nvSpPr>
            <p:cNvPr id="1366" name=""/>
            <p:cNvSpPr/>
            <p:nvPr/>
          </p:nvSpPr>
          <p:spPr>
            <a:xfrm>
              <a:off x="8024760" y="450576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129880" y="419364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025840" y="428292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8024760" y="419112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8232840" y="419760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8157600" y="45057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042400" y="4324320"/>
              <a:ext cx="87480" cy="181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055000" y="43790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8012160" y="4635360"/>
            <a:ext cx="208080" cy="409680"/>
            <a:chOff x="8012160" y="4635360"/>
            <a:chExt cx="208080" cy="409680"/>
          </a:xfrm>
        </p:grpSpPr>
        <p:sp>
          <p:nvSpPr>
            <p:cNvPr id="1375" name=""/>
            <p:cNvSpPr/>
            <p:nvPr/>
          </p:nvSpPr>
          <p:spPr>
            <a:xfrm>
              <a:off x="8012160" y="49503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117280" y="46378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013240" y="47271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012160" y="46353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220240" y="46418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8145000" y="49503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029800" y="4768560"/>
              <a:ext cx="87480" cy="181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042400" y="48232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 flipV="1">
            <a:off x="7943760" y="425916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940520" y="486900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937640" y="43927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6661080" y="2489040"/>
            <a:ext cx="459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596360" y="247320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8115480" y="280980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345440" y="258588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370640" y="323388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7830720" y="369900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7604280" y="2778120"/>
            <a:ext cx="56016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7613280" y="221760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8331120" y="239400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6141960" y="2585880"/>
            <a:ext cx="501840" cy="233280"/>
            <a:chOff x="6141960" y="2585880"/>
            <a:chExt cx="501840" cy="233280"/>
          </a:xfrm>
        </p:grpSpPr>
        <p:sp>
          <p:nvSpPr>
            <p:cNvPr id="1396" name=""/>
            <p:cNvSpPr/>
            <p:nvPr/>
          </p:nvSpPr>
          <p:spPr>
            <a:xfrm>
              <a:off x="6145920" y="2689920"/>
              <a:ext cx="497520" cy="129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45920" y="26791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643800" y="26791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145920" y="2679120"/>
              <a:ext cx="493200" cy="78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141960" y="2585880"/>
              <a:ext cx="497160" cy="1508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1" name=""/>
            <p:cNvGrpSpPr/>
            <p:nvPr/>
          </p:nvGrpSpPr>
          <p:grpSpPr>
            <a:xfrm>
              <a:off x="6261480" y="2618640"/>
              <a:ext cx="246240" cy="88560"/>
              <a:chOff x="6261480" y="2618640"/>
              <a:chExt cx="246240" cy="88560"/>
            </a:xfrm>
          </p:grpSpPr>
          <p:sp>
            <p:nvSpPr>
              <p:cNvPr id="1402" name=""/>
              <p:cNvSpPr/>
              <p:nvPr/>
            </p:nvSpPr>
            <p:spPr>
              <a:xfrm flipV="1">
                <a:off x="6261480" y="2618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430320" y="2707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342480" y="26208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6261480" y="2617560"/>
              <a:ext cx="246240" cy="88560"/>
              <a:chOff x="6261480" y="2617560"/>
              <a:chExt cx="246240" cy="88560"/>
            </a:xfrm>
          </p:grpSpPr>
          <p:sp>
            <p:nvSpPr>
              <p:cNvPr id="1406" name=""/>
              <p:cNvSpPr/>
              <p:nvPr/>
            </p:nvSpPr>
            <p:spPr>
              <a:xfrm>
                <a:off x="6261480" y="2704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430320" y="2617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6342480" y="26175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9" name=""/>
          <p:cNvGrpSpPr/>
          <p:nvPr/>
        </p:nvGrpSpPr>
        <p:grpSpPr>
          <a:xfrm>
            <a:off x="7094520" y="2357280"/>
            <a:ext cx="501840" cy="233280"/>
            <a:chOff x="7094520" y="2357280"/>
            <a:chExt cx="501840" cy="233280"/>
          </a:xfrm>
        </p:grpSpPr>
        <p:sp>
          <p:nvSpPr>
            <p:cNvPr id="1410" name=""/>
            <p:cNvSpPr/>
            <p:nvPr/>
          </p:nvSpPr>
          <p:spPr>
            <a:xfrm>
              <a:off x="7098480" y="2461320"/>
              <a:ext cx="497520" cy="129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098480" y="24505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596360" y="24505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098480" y="2450520"/>
              <a:ext cx="493200" cy="78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094520" y="2357280"/>
              <a:ext cx="497160" cy="1508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5" name=""/>
            <p:cNvGrpSpPr/>
            <p:nvPr/>
          </p:nvGrpSpPr>
          <p:grpSpPr>
            <a:xfrm>
              <a:off x="7214040" y="2390040"/>
              <a:ext cx="246240" cy="88560"/>
              <a:chOff x="7214040" y="2390040"/>
              <a:chExt cx="246240" cy="88560"/>
            </a:xfrm>
          </p:grpSpPr>
          <p:sp>
            <p:nvSpPr>
              <p:cNvPr id="1416" name=""/>
              <p:cNvSpPr/>
              <p:nvPr/>
            </p:nvSpPr>
            <p:spPr>
              <a:xfrm flipV="1">
                <a:off x="7214040" y="2390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382880" y="2478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295040" y="23922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7214040" y="2388960"/>
              <a:ext cx="246240" cy="88560"/>
              <a:chOff x="7214040" y="2388960"/>
              <a:chExt cx="246240" cy="88560"/>
            </a:xfrm>
          </p:grpSpPr>
          <p:sp>
            <p:nvSpPr>
              <p:cNvPr id="1420" name=""/>
              <p:cNvSpPr/>
              <p:nvPr/>
            </p:nvSpPr>
            <p:spPr>
              <a:xfrm>
                <a:off x="7214040" y="2475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382880" y="2388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V="1">
                <a:off x="7295040" y="23889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3" name=""/>
          <p:cNvGrpSpPr/>
          <p:nvPr/>
        </p:nvGrpSpPr>
        <p:grpSpPr>
          <a:xfrm>
            <a:off x="7112160" y="3014640"/>
            <a:ext cx="501480" cy="232920"/>
            <a:chOff x="7112160" y="3014640"/>
            <a:chExt cx="501480" cy="232920"/>
          </a:xfrm>
        </p:grpSpPr>
        <p:sp>
          <p:nvSpPr>
            <p:cNvPr id="1424" name=""/>
            <p:cNvSpPr/>
            <p:nvPr/>
          </p:nvSpPr>
          <p:spPr>
            <a:xfrm>
              <a:off x="7116120" y="3118680"/>
              <a:ext cx="497160" cy="1288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116120" y="3107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613640" y="3107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116120" y="3107520"/>
              <a:ext cx="492840" cy="78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112160" y="3014640"/>
              <a:ext cx="496800" cy="1504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7231680" y="3047400"/>
              <a:ext cx="246240" cy="88200"/>
              <a:chOff x="7231680" y="3047400"/>
              <a:chExt cx="246240" cy="88200"/>
            </a:xfrm>
          </p:grpSpPr>
          <p:sp>
            <p:nvSpPr>
              <p:cNvPr id="1430" name=""/>
              <p:cNvSpPr/>
              <p:nvPr/>
            </p:nvSpPr>
            <p:spPr>
              <a:xfrm flipV="1">
                <a:off x="7231680" y="3047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400520" y="3135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312680" y="3049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3" name=""/>
            <p:cNvGrpSpPr/>
            <p:nvPr/>
          </p:nvGrpSpPr>
          <p:grpSpPr>
            <a:xfrm>
              <a:off x="7231680" y="3046680"/>
              <a:ext cx="246240" cy="88200"/>
              <a:chOff x="7231680" y="3046680"/>
              <a:chExt cx="246240" cy="88200"/>
            </a:xfrm>
          </p:grpSpPr>
          <p:sp>
            <p:nvSpPr>
              <p:cNvPr id="1434" name=""/>
              <p:cNvSpPr/>
              <p:nvPr/>
            </p:nvSpPr>
            <p:spPr>
              <a:xfrm>
                <a:off x="7231680" y="3133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400520" y="3046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V="1">
                <a:off x="7312680" y="3046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7" name=""/>
          <p:cNvGrpSpPr/>
          <p:nvPr/>
        </p:nvGrpSpPr>
        <p:grpSpPr>
          <a:xfrm>
            <a:off x="8082000" y="2565360"/>
            <a:ext cx="500040" cy="232920"/>
            <a:chOff x="8082000" y="2565360"/>
            <a:chExt cx="500040" cy="232920"/>
          </a:xfrm>
        </p:grpSpPr>
        <p:sp>
          <p:nvSpPr>
            <p:cNvPr id="1438" name=""/>
            <p:cNvSpPr/>
            <p:nvPr/>
          </p:nvSpPr>
          <p:spPr>
            <a:xfrm>
              <a:off x="8085960" y="2669400"/>
              <a:ext cx="495720" cy="1288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085960" y="2658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582040" y="2658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085960" y="2658240"/>
              <a:ext cx="491400" cy="78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082000" y="2565360"/>
              <a:ext cx="495360" cy="1504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3" name=""/>
            <p:cNvGrpSpPr/>
            <p:nvPr/>
          </p:nvGrpSpPr>
          <p:grpSpPr>
            <a:xfrm>
              <a:off x="8201160" y="2598120"/>
              <a:ext cx="245520" cy="88200"/>
              <a:chOff x="8201160" y="2598120"/>
              <a:chExt cx="245520" cy="88200"/>
            </a:xfrm>
          </p:grpSpPr>
          <p:sp>
            <p:nvSpPr>
              <p:cNvPr id="1444" name=""/>
              <p:cNvSpPr/>
              <p:nvPr/>
            </p:nvSpPr>
            <p:spPr>
              <a:xfrm flipV="1">
                <a:off x="8201160" y="25981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369640" y="2686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281800" y="26002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8201160" y="2597400"/>
              <a:ext cx="245520" cy="88200"/>
              <a:chOff x="8201160" y="2597400"/>
              <a:chExt cx="245520" cy="88200"/>
            </a:xfrm>
          </p:grpSpPr>
          <p:sp>
            <p:nvSpPr>
              <p:cNvPr id="1448" name=""/>
              <p:cNvSpPr/>
              <p:nvPr/>
            </p:nvSpPr>
            <p:spPr>
              <a:xfrm>
                <a:off x="8201160" y="26838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8369640" y="25974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V="1">
                <a:off x="8281800" y="25974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1" name=""/>
          <p:cNvGrpSpPr/>
          <p:nvPr/>
        </p:nvGrpSpPr>
        <p:grpSpPr>
          <a:xfrm>
            <a:off x="7888320" y="3462480"/>
            <a:ext cx="501480" cy="232920"/>
            <a:chOff x="7888320" y="3462480"/>
            <a:chExt cx="501480" cy="232920"/>
          </a:xfrm>
        </p:grpSpPr>
        <p:sp>
          <p:nvSpPr>
            <p:cNvPr id="1452" name=""/>
            <p:cNvSpPr/>
            <p:nvPr/>
          </p:nvSpPr>
          <p:spPr>
            <a:xfrm>
              <a:off x="7892280" y="3566520"/>
              <a:ext cx="497160" cy="1288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892280" y="35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389800" y="35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892280" y="3555360"/>
              <a:ext cx="492840" cy="78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888320" y="3462480"/>
              <a:ext cx="496800" cy="1504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7" name=""/>
            <p:cNvGrpSpPr/>
            <p:nvPr/>
          </p:nvGrpSpPr>
          <p:grpSpPr>
            <a:xfrm>
              <a:off x="8007840" y="3495240"/>
              <a:ext cx="246240" cy="88200"/>
              <a:chOff x="8007840" y="3495240"/>
              <a:chExt cx="246240" cy="88200"/>
            </a:xfrm>
          </p:grpSpPr>
          <p:sp>
            <p:nvSpPr>
              <p:cNvPr id="1458" name=""/>
              <p:cNvSpPr/>
              <p:nvPr/>
            </p:nvSpPr>
            <p:spPr>
              <a:xfrm flipV="1">
                <a:off x="8007840" y="3495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8176680" y="358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8088840" y="3497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8007840" y="3494520"/>
              <a:ext cx="246240" cy="88200"/>
              <a:chOff x="8007840" y="3494520"/>
              <a:chExt cx="246240" cy="88200"/>
            </a:xfrm>
          </p:grpSpPr>
          <p:sp>
            <p:nvSpPr>
              <p:cNvPr id="1462" name=""/>
              <p:cNvSpPr/>
              <p:nvPr/>
            </p:nvSpPr>
            <p:spPr>
              <a:xfrm>
                <a:off x="8007840" y="3580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176680" y="3494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V="1">
                <a:off x="8088840" y="3494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5" name=""/>
          <p:cNvGrpSpPr/>
          <p:nvPr/>
        </p:nvGrpSpPr>
        <p:grpSpPr>
          <a:xfrm>
            <a:off x="7554960" y="4046400"/>
            <a:ext cx="501480" cy="234720"/>
            <a:chOff x="7554960" y="4046400"/>
            <a:chExt cx="501480" cy="234720"/>
          </a:xfrm>
        </p:grpSpPr>
        <p:sp>
          <p:nvSpPr>
            <p:cNvPr id="1466" name=""/>
            <p:cNvSpPr/>
            <p:nvPr/>
          </p:nvSpPr>
          <p:spPr>
            <a:xfrm>
              <a:off x="7558920" y="4151160"/>
              <a:ext cx="497160" cy="1299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558920" y="41400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056440" y="41400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558920" y="4140000"/>
              <a:ext cx="492840" cy="795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554960" y="4046400"/>
              <a:ext cx="496800" cy="151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1" name=""/>
            <p:cNvGrpSpPr/>
            <p:nvPr/>
          </p:nvGrpSpPr>
          <p:grpSpPr>
            <a:xfrm>
              <a:off x="7674480" y="4079520"/>
              <a:ext cx="246240" cy="88920"/>
              <a:chOff x="7674480" y="4079520"/>
              <a:chExt cx="246240" cy="88920"/>
            </a:xfrm>
          </p:grpSpPr>
          <p:sp>
            <p:nvSpPr>
              <p:cNvPr id="1472" name=""/>
              <p:cNvSpPr/>
              <p:nvPr/>
            </p:nvSpPr>
            <p:spPr>
              <a:xfrm flipV="1">
                <a:off x="7674480" y="4079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843320" y="4168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755480" y="40816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7674480" y="4078440"/>
              <a:ext cx="246240" cy="88920"/>
              <a:chOff x="7674480" y="4078440"/>
              <a:chExt cx="246240" cy="88920"/>
            </a:xfrm>
          </p:grpSpPr>
          <p:sp>
            <p:nvSpPr>
              <p:cNvPr id="1476" name=""/>
              <p:cNvSpPr/>
              <p:nvPr/>
            </p:nvSpPr>
            <p:spPr>
              <a:xfrm>
                <a:off x="7674480" y="4165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843320" y="4078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V="1">
                <a:off x="7755480" y="4078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9" name=""/>
          <p:cNvGrpSpPr/>
          <p:nvPr/>
        </p:nvGrpSpPr>
        <p:grpSpPr>
          <a:xfrm>
            <a:off x="6945480" y="4535640"/>
            <a:ext cx="500040" cy="232920"/>
            <a:chOff x="6945480" y="4535640"/>
            <a:chExt cx="500040" cy="232920"/>
          </a:xfrm>
        </p:grpSpPr>
        <p:sp>
          <p:nvSpPr>
            <p:cNvPr id="1480" name=""/>
            <p:cNvSpPr/>
            <p:nvPr/>
          </p:nvSpPr>
          <p:spPr>
            <a:xfrm>
              <a:off x="6949440" y="4639680"/>
              <a:ext cx="495720" cy="1288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949440" y="462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445520" y="462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949440" y="4628520"/>
              <a:ext cx="491400" cy="78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45480" y="4535640"/>
              <a:ext cx="495360" cy="1504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5" name=""/>
            <p:cNvGrpSpPr/>
            <p:nvPr/>
          </p:nvGrpSpPr>
          <p:grpSpPr>
            <a:xfrm>
              <a:off x="7064640" y="4568400"/>
              <a:ext cx="245520" cy="88200"/>
              <a:chOff x="7064640" y="4568400"/>
              <a:chExt cx="245520" cy="88200"/>
            </a:xfrm>
          </p:grpSpPr>
          <p:sp>
            <p:nvSpPr>
              <p:cNvPr id="1486" name=""/>
              <p:cNvSpPr/>
              <p:nvPr/>
            </p:nvSpPr>
            <p:spPr>
              <a:xfrm flipV="1">
                <a:off x="7064640" y="45684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233120" y="46566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145280" y="45705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"/>
            <p:cNvGrpSpPr/>
            <p:nvPr/>
          </p:nvGrpSpPr>
          <p:grpSpPr>
            <a:xfrm>
              <a:off x="7064640" y="4567680"/>
              <a:ext cx="245520" cy="88200"/>
              <a:chOff x="7064640" y="4567680"/>
              <a:chExt cx="245520" cy="88200"/>
            </a:xfrm>
          </p:grpSpPr>
          <p:sp>
            <p:nvSpPr>
              <p:cNvPr id="1490" name=""/>
              <p:cNvSpPr/>
              <p:nvPr/>
            </p:nvSpPr>
            <p:spPr>
              <a:xfrm>
                <a:off x="7064640" y="46540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233120" y="45676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V="1">
                <a:off x="7145280" y="45676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3" name=""/>
          <p:cNvGrpSpPr/>
          <p:nvPr/>
        </p:nvGrpSpPr>
        <p:grpSpPr>
          <a:xfrm>
            <a:off x="6141960" y="4159080"/>
            <a:ext cx="501840" cy="233280"/>
            <a:chOff x="6141960" y="4159080"/>
            <a:chExt cx="501840" cy="233280"/>
          </a:xfrm>
        </p:grpSpPr>
        <p:sp>
          <p:nvSpPr>
            <p:cNvPr id="1494" name=""/>
            <p:cNvSpPr/>
            <p:nvPr/>
          </p:nvSpPr>
          <p:spPr>
            <a:xfrm>
              <a:off x="6145920" y="4263120"/>
              <a:ext cx="497520" cy="129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145920" y="42523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643800" y="42523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145920" y="4252320"/>
              <a:ext cx="493200" cy="78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141960" y="4159080"/>
              <a:ext cx="497160" cy="1508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9" name=""/>
            <p:cNvGrpSpPr/>
            <p:nvPr/>
          </p:nvGrpSpPr>
          <p:grpSpPr>
            <a:xfrm>
              <a:off x="6261480" y="4191840"/>
              <a:ext cx="246240" cy="88560"/>
              <a:chOff x="6261480" y="4191840"/>
              <a:chExt cx="246240" cy="88560"/>
            </a:xfrm>
          </p:grpSpPr>
          <p:sp>
            <p:nvSpPr>
              <p:cNvPr id="1500" name=""/>
              <p:cNvSpPr/>
              <p:nvPr/>
            </p:nvSpPr>
            <p:spPr>
              <a:xfrm flipV="1">
                <a:off x="6261480" y="4191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430320" y="4280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342480" y="41940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6261480" y="4190760"/>
              <a:ext cx="246240" cy="88560"/>
              <a:chOff x="6261480" y="4190760"/>
              <a:chExt cx="246240" cy="88560"/>
            </a:xfrm>
          </p:grpSpPr>
          <p:sp>
            <p:nvSpPr>
              <p:cNvPr id="1504" name=""/>
              <p:cNvSpPr/>
              <p:nvPr/>
            </p:nvSpPr>
            <p:spPr>
              <a:xfrm>
                <a:off x="6261480" y="4277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430320" y="4190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V="1">
                <a:off x="6342480" y="41907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7" name=""/>
          <p:cNvSpPr/>
          <p:nvPr/>
        </p:nvSpPr>
        <p:spPr>
          <a:xfrm flipV="1">
            <a:off x="6378480" y="4381200"/>
            <a:ext cx="1800" cy="2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539640" y="5832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Mrežna grana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: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5435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krajevi sistem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(host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-ov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vode aplikacione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ra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, 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rani-ivici mrež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nt/serv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 hos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hte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ma servis uvek od serv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browser/server; 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 client/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er-peer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li nikak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rišćenje posvećenih serv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pr. Skyp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utella, KaZ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769080" y="220032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889520" y="205740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257800" y="350820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4316400" y="1785960"/>
            <a:ext cx="1100160" cy="874800"/>
            <a:chOff x="4316400" y="1785960"/>
            <a:chExt cx="1100160" cy="874800"/>
          </a:xfrm>
        </p:grpSpPr>
        <p:sp>
          <p:nvSpPr>
            <p:cNvPr id="1514" name=""/>
            <p:cNvSpPr/>
            <p:nvPr/>
          </p:nvSpPr>
          <p:spPr>
            <a:xfrm>
              <a:off x="4316400" y="1785960"/>
              <a:ext cx="1100160" cy="874800"/>
            </a:xfrm>
            <a:custGeom>
              <a:avLst/>
              <a:gdLst/>
              <a:ahLst/>
              <a:rect l="l" t="t" r="r" b="b"/>
              <a:pathLst>
                <a:path w="693" h="551">
                  <a:moveTo>
                    <a:pt x="77" y="63"/>
                  </a:moveTo>
                  <a:cubicBezTo>
                    <a:pt x="31" y="105"/>
                    <a:pt x="42" y="191"/>
                    <a:pt x="35" y="255"/>
                  </a:cubicBezTo>
                  <a:cubicBezTo>
                    <a:pt x="28" y="319"/>
                    <a:pt x="0" y="404"/>
                    <a:pt x="35" y="447"/>
                  </a:cubicBezTo>
                  <a:cubicBezTo>
                    <a:pt x="70" y="490"/>
                    <a:pt x="179" y="497"/>
                    <a:pt x="245" y="513"/>
                  </a:cubicBezTo>
                  <a:cubicBezTo>
                    <a:pt x="311" y="529"/>
                    <a:pt x="364" y="551"/>
                    <a:pt x="431" y="543"/>
                  </a:cubicBezTo>
                  <a:cubicBezTo>
                    <a:pt x="498" y="535"/>
                    <a:pt x="604" y="505"/>
                    <a:pt x="647" y="465"/>
                  </a:cubicBezTo>
                  <a:cubicBezTo>
                    <a:pt x="690" y="425"/>
                    <a:pt x="685" y="363"/>
                    <a:pt x="689" y="303"/>
                  </a:cubicBezTo>
                  <a:cubicBezTo>
                    <a:pt x="693" y="243"/>
                    <a:pt x="683" y="149"/>
                    <a:pt x="671" y="105"/>
                  </a:cubicBezTo>
                  <a:cubicBezTo>
                    <a:pt x="659" y="61"/>
                    <a:pt x="677" y="56"/>
                    <a:pt x="617" y="39"/>
                  </a:cubicBezTo>
                  <a:cubicBezTo>
                    <a:pt x="557" y="22"/>
                    <a:pt x="401" y="0"/>
                    <a:pt x="311" y="3"/>
                  </a:cubicBezTo>
                  <a:cubicBezTo>
                    <a:pt x="221" y="6"/>
                    <a:pt x="123" y="21"/>
                    <a:pt x="77" y="6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5" name="" descr=""/>
            <p:cNvPicPr/>
            <p:nvPr/>
          </p:nvPicPr>
          <p:blipFill>
            <a:blip r:embed="rId1"/>
            <a:stretch/>
          </p:blipFill>
          <p:spPr>
            <a:xfrm>
              <a:off x="4397400" y="1863720"/>
              <a:ext cx="93024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6" name="" descr=""/>
          <p:cNvPicPr/>
          <p:nvPr/>
        </p:nvPicPr>
        <p:blipFill>
          <a:blip r:embed="rId2"/>
          <a:stretch/>
        </p:blipFill>
        <p:spPr>
          <a:xfrm>
            <a:off x="5460840" y="2311560"/>
            <a:ext cx="279720" cy="183960"/>
          </a:xfrm>
          <a:prstGeom prst="rect">
            <a:avLst/>
          </a:prstGeom>
          <a:ln w="0">
            <a:noFill/>
          </a:ln>
        </p:spPr>
      </p:pic>
      <p:sp>
        <p:nvSpPr>
          <p:cNvPr id="1517" name=""/>
          <p:cNvSpPr/>
          <p:nvPr/>
        </p:nvSpPr>
        <p:spPr>
          <a:xfrm flipV="1">
            <a:off x="5413320" y="2433240"/>
            <a:ext cx="114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5006880" y="2787480"/>
            <a:ext cx="733680" cy="319320"/>
            <a:chOff x="5006880" y="2787480"/>
            <a:chExt cx="733680" cy="319320"/>
          </a:xfrm>
        </p:grpSpPr>
        <p:pic>
          <p:nvPicPr>
            <p:cNvPr id="1519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74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0" name="" descr=""/>
            <p:cNvPicPr/>
            <p:nvPr/>
          </p:nvPicPr>
          <p:blipFill>
            <a:blip r:embed="rId4"/>
            <a:stretch/>
          </p:blipFill>
          <p:spPr>
            <a:xfrm>
              <a:off x="5460840" y="290556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1" name=""/>
            <p:cNvSpPr/>
            <p:nvPr/>
          </p:nvSpPr>
          <p:spPr>
            <a:xfrm flipV="1">
              <a:off x="5413320" y="30290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5383080" y="2575080"/>
            <a:ext cx="69480" cy="214200"/>
            <a:chOff x="5383080" y="2575080"/>
            <a:chExt cx="69480" cy="214200"/>
          </a:xfrm>
        </p:grpSpPr>
        <p:sp>
          <p:nvSpPr>
            <p:cNvPr id="1523" name=""/>
            <p:cNvSpPr/>
            <p:nvPr/>
          </p:nvSpPr>
          <p:spPr>
            <a:xfrm>
              <a:off x="5383080" y="2575080"/>
              <a:ext cx="64080" cy="601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385600" y="2652120"/>
              <a:ext cx="64080" cy="601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388480" y="2729160"/>
              <a:ext cx="64080" cy="601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5853240" y="3078000"/>
            <a:ext cx="209520" cy="394920"/>
            <a:chOff x="5853240" y="3078000"/>
            <a:chExt cx="209520" cy="394920"/>
          </a:xfrm>
        </p:grpSpPr>
        <p:sp>
          <p:nvSpPr>
            <p:cNvPr id="1527" name=""/>
            <p:cNvSpPr/>
            <p:nvPr/>
          </p:nvSpPr>
          <p:spPr>
            <a:xfrm>
              <a:off x="5853240" y="3381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959440" y="308052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854320" y="316656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853240" y="30780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062760" y="308412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986800" y="338184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871240" y="3206520"/>
              <a:ext cx="87840" cy="1749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883840" y="325944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6089760" y="3231720"/>
            <a:ext cx="233280" cy="81000"/>
            <a:chOff x="6089760" y="3231720"/>
            <a:chExt cx="233280" cy="81000"/>
          </a:xfrm>
        </p:grpSpPr>
        <p:sp>
          <p:nvSpPr>
            <p:cNvPr id="1536" name=""/>
            <p:cNvSpPr/>
            <p:nvPr/>
          </p:nvSpPr>
          <p:spPr>
            <a:xfrm rot="16200000">
              <a:off x="6085080" y="3242520"/>
              <a:ext cx="74520" cy="65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16200000">
              <a:off x="6168960" y="3239280"/>
              <a:ext cx="74520" cy="65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rot="16200000">
              <a:off x="6252840" y="3236040"/>
              <a:ext cx="74520" cy="65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"/>
          <p:cNvSpPr/>
          <p:nvPr/>
        </p:nvSpPr>
        <p:spPr>
          <a:xfrm>
            <a:off x="5989680" y="298620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992920" y="29829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488280" y="2981160"/>
            <a:ext cx="144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689440" y="2446200"/>
            <a:ext cx="2890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5702400" y="273168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6229440" y="281772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6348240" y="3056040"/>
            <a:ext cx="209880" cy="394920"/>
            <a:chOff x="6348240" y="3056040"/>
            <a:chExt cx="209880" cy="394920"/>
          </a:xfrm>
        </p:grpSpPr>
        <p:sp>
          <p:nvSpPr>
            <p:cNvPr id="1546" name=""/>
            <p:cNvSpPr/>
            <p:nvPr/>
          </p:nvSpPr>
          <p:spPr>
            <a:xfrm>
              <a:off x="6348240" y="335988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454440" y="305856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349320" y="314460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348240" y="305604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558120" y="30621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6482160" y="33598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366240" y="3184560"/>
              <a:ext cx="88200" cy="1749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378840" y="323748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5391000" y="3675240"/>
            <a:ext cx="479160" cy="924840"/>
            <a:chOff x="5391000" y="3675240"/>
            <a:chExt cx="479160" cy="924840"/>
          </a:xfrm>
        </p:grpSpPr>
        <p:pic>
          <p:nvPicPr>
            <p:cNvPr id="1555" name="" descr=""/>
            <p:cNvPicPr/>
            <p:nvPr/>
          </p:nvPicPr>
          <p:blipFill>
            <a:blip r:embed="rId5"/>
            <a:stretch/>
          </p:blipFill>
          <p:spPr>
            <a:xfrm>
              <a:off x="5391000" y="36752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flipV="1">
              <a:off x="5797800" y="39218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7" name="" descr=""/>
            <p:cNvPicPr/>
            <p:nvPr/>
          </p:nvPicPr>
          <p:blipFill>
            <a:blip r:embed="rId6"/>
            <a:stretch/>
          </p:blipFill>
          <p:spPr>
            <a:xfrm>
              <a:off x="5391000" y="426960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8" name=""/>
            <p:cNvSpPr/>
            <p:nvPr/>
          </p:nvSpPr>
          <p:spPr>
            <a:xfrm flipV="1">
              <a:off x="5797800" y="451980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9" name=""/>
            <p:cNvGrpSpPr/>
            <p:nvPr/>
          </p:nvGrpSpPr>
          <p:grpSpPr>
            <a:xfrm>
              <a:off x="5516280" y="4016160"/>
              <a:ext cx="70560" cy="222120"/>
              <a:chOff x="5516280" y="4016160"/>
              <a:chExt cx="70560" cy="222120"/>
            </a:xfrm>
          </p:grpSpPr>
          <p:sp>
            <p:nvSpPr>
              <p:cNvPr id="1560" name=""/>
              <p:cNvSpPr/>
              <p:nvPr/>
            </p:nvSpPr>
            <p:spPr>
              <a:xfrm>
                <a:off x="5516280" y="4016160"/>
                <a:ext cx="65160" cy="6264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518800" y="4096080"/>
                <a:ext cx="65160" cy="6228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521680" y="4176000"/>
                <a:ext cx="65160" cy="6228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3" name=""/>
            <p:cNvSpPr/>
            <p:nvPr/>
          </p:nvSpPr>
          <p:spPr>
            <a:xfrm>
              <a:off x="5864760" y="3918960"/>
              <a:ext cx="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4" name="" descr=""/>
          <p:cNvPicPr/>
          <p:nvPr/>
        </p:nvPicPr>
        <p:blipFill>
          <a:blip r:embed="rId7"/>
          <a:stretch/>
        </p:blipFill>
        <p:spPr>
          <a:xfrm>
            <a:off x="6259680" y="468468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1565" name="" descr=""/>
          <p:cNvPicPr/>
          <p:nvPr/>
        </p:nvPicPr>
        <p:blipFill>
          <a:blip r:embed="rId8"/>
          <a:stretch/>
        </p:blipFill>
        <p:spPr>
          <a:xfrm>
            <a:off x="5645160" y="46735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 rot="16200000">
            <a:off x="6061680" y="4777200"/>
            <a:ext cx="63720" cy="651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rot="16200000">
            <a:off x="6146640" y="4775040"/>
            <a:ext cx="63360" cy="666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rot="16200000">
            <a:off x="6224400" y="4779720"/>
            <a:ext cx="61920" cy="651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6513480" y="4630680"/>
            <a:ext cx="180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5889600" y="46191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5891040" y="46260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5870520" y="42508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472080" y="429732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7267680" y="429408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5" name="" descr=""/>
          <p:cNvPicPr/>
          <p:nvPr/>
        </p:nvPicPr>
        <p:blipFill>
          <a:blip r:embed="rId9"/>
          <a:stretch/>
        </p:blipFill>
        <p:spPr>
          <a:xfrm>
            <a:off x="7445520" y="384660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1576" name="" descr=""/>
          <p:cNvPicPr/>
          <p:nvPr/>
        </p:nvPicPr>
        <p:blipFill>
          <a:blip r:embed="rId10"/>
          <a:stretch/>
        </p:blipFill>
        <p:spPr>
          <a:xfrm>
            <a:off x="6108840" y="392760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1577" name=""/>
          <p:cNvSpPr/>
          <p:nvPr/>
        </p:nvSpPr>
        <p:spPr>
          <a:xfrm>
            <a:off x="6189840" y="370188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8" name=""/>
          <p:cNvGrpSpPr/>
          <p:nvPr/>
        </p:nvGrpSpPr>
        <p:grpSpPr>
          <a:xfrm>
            <a:off x="6456240" y="5124600"/>
            <a:ext cx="406080" cy="426960"/>
            <a:chOff x="6456240" y="5124600"/>
            <a:chExt cx="406080" cy="426960"/>
          </a:xfrm>
        </p:grpSpPr>
        <p:pic>
          <p:nvPicPr>
            <p:cNvPr id="1579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246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0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65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1" name=""/>
          <p:cNvGrpSpPr/>
          <p:nvPr/>
        </p:nvGrpSpPr>
        <p:grpSpPr>
          <a:xfrm>
            <a:off x="7234200" y="5156280"/>
            <a:ext cx="406080" cy="426960"/>
            <a:chOff x="7234200" y="5156280"/>
            <a:chExt cx="406080" cy="426960"/>
          </a:xfrm>
        </p:grpSpPr>
        <p:pic>
          <p:nvPicPr>
            <p:cNvPr id="1582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562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3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82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4" name=""/>
          <p:cNvGrpSpPr/>
          <p:nvPr/>
        </p:nvGrpSpPr>
        <p:grpSpPr>
          <a:xfrm>
            <a:off x="6819840" y="4871880"/>
            <a:ext cx="379440" cy="376560"/>
            <a:chOff x="6819840" y="4871880"/>
            <a:chExt cx="379440" cy="376560"/>
          </a:xfrm>
        </p:grpSpPr>
        <p:pic>
          <p:nvPicPr>
            <p:cNvPr id="1585" name="" descr=""/>
            <p:cNvPicPr/>
            <p:nvPr/>
          </p:nvPicPr>
          <p:blipFill>
            <a:blip r:embed="rId15"/>
            <a:stretch/>
          </p:blipFill>
          <p:spPr>
            <a:xfrm>
              <a:off x="6819840" y="4871880"/>
              <a:ext cx="37944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6" name=""/>
            <p:cNvSpPr/>
            <p:nvPr/>
          </p:nvSpPr>
          <p:spPr>
            <a:xfrm>
              <a:off x="6930000" y="500400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7" name=""/>
          <p:cNvSpPr/>
          <p:nvPr/>
        </p:nvSpPr>
        <p:spPr>
          <a:xfrm>
            <a:off x="7126200" y="47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7846920" y="4199040"/>
            <a:ext cx="208080" cy="408960"/>
            <a:chOff x="7846920" y="4199040"/>
            <a:chExt cx="208080" cy="408960"/>
          </a:xfrm>
        </p:grpSpPr>
        <p:sp>
          <p:nvSpPr>
            <p:cNvPr id="1589" name=""/>
            <p:cNvSpPr/>
            <p:nvPr/>
          </p:nvSpPr>
          <p:spPr>
            <a:xfrm>
              <a:off x="7846920" y="451368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952040" y="42015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848000" y="429084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846920" y="41990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055000" y="42055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7979760" y="45136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864560" y="4332240"/>
              <a:ext cx="87480" cy="181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877160" y="43869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7808760" y="4653000"/>
            <a:ext cx="797040" cy="1260360"/>
            <a:chOff x="7808760" y="4653000"/>
            <a:chExt cx="797040" cy="1260360"/>
          </a:xfrm>
        </p:grpSpPr>
        <p:sp>
          <p:nvSpPr>
            <p:cNvPr id="1598" name=""/>
            <p:cNvSpPr/>
            <p:nvPr/>
          </p:nvSpPr>
          <p:spPr>
            <a:xfrm>
              <a:off x="7808760" y="4653000"/>
              <a:ext cx="797040" cy="1260360"/>
            </a:xfrm>
            <a:custGeom>
              <a:avLst/>
              <a:gdLst/>
              <a:ahLst/>
              <a:rect l="l" t="t" r="r" b="b"/>
              <a:pathLst>
                <a:path w="502" h="794">
                  <a:moveTo>
                    <a:pt x="289" y="9"/>
                  </a:moveTo>
                  <a:cubicBezTo>
                    <a:pt x="232" y="0"/>
                    <a:pt x="171" y="0"/>
                    <a:pt x="127" y="33"/>
                  </a:cubicBezTo>
                  <a:cubicBezTo>
                    <a:pt x="83" y="66"/>
                    <a:pt x="44" y="109"/>
                    <a:pt x="25" y="207"/>
                  </a:cubicBezTo>
                  <a:cubicBezTo>
                    <a:pt x="6" y="305"/>
                    <a:pt x="0" y="527"/>
                    <a:pt x="13" y="621"/>
                  </a:cubicBezTo>
                  <a:cubicBezTo>
                    <a:pt x="26" y="715"/>
                    <a:pt x="60" y="748"/>
                    <a:pt x="103" y="771"/>
                  </a:cubicBezTo>
                  <a:cubicBezTo>
                    <a:pt x="146" y="794"/>
                    <a:pt x="218" y="765"/>
                    <a:pt x="271" y="759"/>
                  </a:cubicBezTo>
                  <a:cubicBezTo>
                    <a:pt x="324" y="753"/>
                    <a:pt x="388" y="765"/>
                    <a:pt x="421" y="735"/>
                  </a:cubicBezTo>
                  <a:cubicBezTo>
                    <a:pt x="454" y="705"/>
                    <a:pt x="458" y="623"/>
                    <a:pt x="469" y="579"/>
                  </a:cubicBezTo>
                  <a:cubicBezTo>
                    <a:pt x="480" y="535"/>
                    <a:pt x="487" y="553"/>
                    <a:pt x="487" y="471"/>
                  </a:cubicBezTo>
                  <a:cubicBezTo>
                    <a:pt x="487" y="389"/>
                    <a:pt x="502" y="164"/>
                    <a:pt x="469" y="87"/>
                  </a:cubicBezTo>
                  <a:cubicBezTo>
                    <a:pt x="436" y="10"/>
                    <a:pt x="346" y="18"/>
                    <a:pt x="289" y="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9" name=""/>
            <p:cNvGrpSpPr/>
            <p:nvPr/>
          </p:nvGrpSpPr>
          <p:grpSpPr>
            <a:xfrm>
              <a:off x="7920000" y="4748400"/>
              <a:ext cx="550800" cy="1038240"/>
              <a:chOff x="7920000" y="4748400"/>
              <a:chExt cx="550800" cy="1038240"/>
            </a:xfrm>
          </p:grpSpPr>
          <p:sp>
            <p:nvSpPr>
              <p:cNvPr id="1600" name=""/>
              <p:cNvSpPr/>
              <p:nvPr/>
            </p:nvSpPr>
            <p:spPr>
              <a:xfrm>
                <a:off x="7920000" y="5547240"/>
                <a:ext cx="550800" cy="239400"/>
              </a:xfrm>
              <a:prstGeom prst="parallelogram">
                <a:avLst>
                  <a:gd name="adj" fmla="val 8863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199360" y="4754880"/>
                <a:ext cx="262080" cy="798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923240" y="4982040"/>
                <a:ext cx="349200" cy="798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920000" y="4748400"/>
                <a:ext cx="550800" cy="239760"/>
              </a:xfrm>
              <a:prstGeom prst="parallelogram">
                <a:avLst>
                  <a:gd name="adj" fmla="val 8849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8470800" y="4766040"/>
                <a:ext cx="0" cy="78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H="1">
                <a:off x="8272080" y="5547240"/>
                <a:ext cx="19836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967520" y="5086800"/>
                <a:ext cx="231840" cy="4604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8001000" y="5224680"/>
                <a:ext cx="176040" cy="16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8" name=""/>
          <p:cNvSpPr/>
          <p:nvPr/>
        </p:nvSpPr>
        <p:spPr>
          <a:xfrm flipV="1">
            <a:off x="7765920" y="42670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763040" y="487692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7759800" y="44006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6483240" y="2496960"/>
            <a:ext cx="459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7418520" y="248112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7937640" y="281772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167600" y="2593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192800" y="3241800"/>
            <a:ext cx="53532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7652880" y="37069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7426440" y="2786040"/>
            <a:ext cx="56016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7435440" y="222552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8153280" y="240192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5964120" y="2593800"/>
            <a:ext cx="501840" cy="233280"/>
            <a:chOff x="5964120" y="2593800"/>
            <a:chExt cx="501840" cy="233280"/>
          </a:xfrm>
        </p:grpSpPr>
        <p:sp>
          <p:nvSpPr>
            <p:cNvPr id="1621" name=""/>
            <p:cNvSpPr/>
            <p:nvPr/>
          </p:nvSpPr>
          <p:spPr>
            <a:xfrm>
              <a:off x="5968080" y="2697840"/>
              <a:ext cx="497520" cy="129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96808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46596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968080" y="2687040"/>
              <a:ext cx="493200" cy="78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964120" y="2593800"/>
              <a:ext cx="497160" cy="1508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6" name=""/>
            <p:cNvGrpSpPr/>
            <p:nvPr/>
          </p:nvGrpSpPr>
          <p:grpSpPr>
            <a:xfrm>
              <a:off x="6083640" y="2626560"/>
              <a:ext cx="246240" cy="88560"/>
              <a:chOff x="6083640" y="2626560"/>
              <a:chExt cx="246240" cy="88560"/>
            </a:xfrm>
          </p:grpSpPr>
          <p:sp>
            <p:nvSpPr>
              <p:cNvPr id="1627" name=""/>
              <p:cNvSpPr/>
              <p:nvPr/>
            </p:nvSpPr>
            <p:spPr>
              <a:xfrm flipV="1">
                <a:off x="6083640" y="2626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252480" y="271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164640" y="2628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6083640" y="2625480"/>
              <a:ext cx="246240" cy="88560"/>
              <a:chOff x="6083640" y="2625480"/>
              <a:chExt cx="246240" cy="88560"/>
            </a:xfrm>
          </p:grpSpPr>
          <p:sp>
            <p:nvSpPr>
              <p:cNvPr id="1631" name=""/>
              <p:cNvSpPr/>
              <p:nvPr/>
            </p:nvSpPr>
            <p:spPr>
              <a:xfrm>
                <a:off x="6083640" y="2712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252480" y="2625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6164640" y="2625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4" name=""/>
          <p:cNvGrpSpPr/>
          <p:nvPr/>
        </p:nvGrpSpPr>
        <p:grpSpPr>
          <a:xfrm>
            <a:off x="6916680" y="2365200"/>
            <a:ext cx="501840" cy="233280"/>
            <a:chOff x="6916680" y="2365200"/>
            <a:chExt cx="501840" cy="233280"/>
          </a:xfrm>
        </p:grpSpPr>
        <p:sp>
          <p:nvSpPr>
            <p:cNvPr id="1635" name=""/>
            <p:cNvSpPr/>
            <p:nvPr/>
          </p:nvSpPr>
          <p:spPr>
            <a:xfrm>
              <a:off x="6920640" y="2469240"/>
              <a:ext cx="497520" cy="129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92064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1852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20640" y="2458440"/>
              <a:ext cx="493200" cy="78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16680" y="2365200"/>
              <a:ext cx="497160" cy="1508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0" name=""/>
            <p:cNvGrpSpPr/>
            <p:nvPr/>
          </p:nvGrpSpPr>
          <p:grpSpPr>
            <a:xfrm>
              <a:off x="7036200" y="2397960"/>
              <a:ext cx="246240" cy="88560"/>
              <a:chOff x="7036200" y="2397960"/>
              <a:chExt cx="246240" cy="88560"/>
            </a:xfrm>
          </p:grpSpPr>
          <p:sp>
            <p:nvSpPr>
              <p:cNvPr id="1641" name=""/>
              <p:cNvSpPr/>
              <p:nvPr/>
            </p:nvSpPr>
            <p:spPr>
              <a:xfrm flipV="1">
                <a:off x="7036200" y="2397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205040" y="248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117200" y="24001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7036200" y="2396880"/>
              <a:ext cx="246240" cy="88560"/>
              <a:chOff x="7036200" y="2396880"/>
              <a:chExt cx="246240" cy="88560"/>
            </a:xfrm>
          </p:grpSpPr>
          <p:sp>
            <p:nvSpPr>
              <p:cNvPr id="1645" name=""/>
              <p:cNvSpPr/>
              <p:nvPr/>
            </p:nvSpPr>
            <p:spPr>
              <a:xfrm>
                <a:off x="7036200" y="2483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205040" y="239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V="1">
                <a:off x="7117200" y="23968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8" name=""/>
          <p:cNvGrpSpPr/>
          <p:nvPr/>
        </p:nvGrpSpPr>
        <p:grpSpPr>
          <a:xfrm>
            <a:off x="6934320" y="3022560"/>
            <a:ext cx="501480" cy="232920"/>
            <a:chOff x="6934320" y="3022560"/>
            <a:chExt cx="501480" cy="232920"/>
          </a:xfrm>
        </p:grpSpPr>
        <p:sp>
          <p:nvSpPr>
            <p:cNvPr id="1649" name=""/>
            <p:cNvSpPr/>
            <p:nvPr/>
          </p:nvSpPr>
          <p:spPr>
            <a:xfrm>
              <a:off x="6938280" y="3126600"/>
              <a:ext cx="497160" cy="1288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93828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43580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938280" y="3115440"/>
              <a:ext cx="492840" cy="78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934320" y="3022560"/>
              <a:ext cx="496800" cy="1504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4" name=""/>
            <p:cNvGrpSpPr/>
            <p:nvPr/>
          </p:nvGrpSpPr>
          <p:grpSpPr>
            <a:xfrm>
              <a:off x="7053840" y="3055320"/>
              <a:ext cx="246240" cy="88200"/>
              <a:chOff x="7053840" y="3055320"/>
              <a:chExt cx="246240" cy="88200"/>
            </a:xfrm>
          </p:grpSpPr>
          <p:sp>
            <p:nvSpPr>
              <p:cNvPr id="1655" name=""/>
              <p:cNvSpPr/>
              <p:nvPr/>
            </p:nvSpPr>
            <p:spPr>
              <a:xfrm flipV="1">
                <a:off x="7053840" y="3055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222680" y="3143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134840" y="3057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7053840" y="3054600"/>
              <a:ext cx="246240" cy="88200"/>
              <a:chOff x="7053840" y="3054600"/>
              <a:chExt cx="246240" cy="88200"/>
            </a:xfrm>
          </p:grpSpPr>
          <p:sp>
            <p:nvSpPr>
              <p:cNvPr id="1659" name=""/>
              <p:cNvSpPr/>
              <p:nvPr/>
            </p:nvSpPr>
            <p:spPr>
              <a:xfrm>
                <a:off x="7053840" y="3141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222680" y="3054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7134840" y="3054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2" name=""/>
          <p:cNvGrpSpPr/>
          <p:nvPr/>
        </p:nvGrpSpPr>
        <p:grpSpPr>
          <a:xfrm>
            <a:off x="7904160" y="2573280"/>
            <a:ext cx="500040" cy="232920"/>
            <a:chOff x="7904160" y="2573280"/>
            <a:chExt cx="500040" cy="232920"/>
          </a:xfrm>
        </p:grpSpPr>
        <p:sp>
          <p:nvSpPr>
            <p:cNvPr id="1663" name=""/>
            <p:cNvSpPr/>
            <p:nvPr/>
          </p:nvSpPr>
          <p:spPr>
            <a:xfrm>
              <a:off x="7908120" y="2677320"/>
              <a:ext cx="495720" cy="1288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90812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40420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908120" y="2666160"/>
              <a:ext cx="491400" cy="78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904160" y="2573280"/>
              <a:ext cx="495360" cy="1504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8" name=""/>
            <p:cNvGrpSpPr/>
            <p:nvPr/>
          </p:nvGrpSpPr>
          <p:grpSpPr>
            <a:xfrm>
              <a:off x="8023320" y="2606040"/>
              <a:ext cx="245520" cy="88200"/>
              <a:chOff x="8023320" y="2606040"/>
              <a:chExt cx="245520" cy="88200"/>
            </a:xfrm>
          </p:grpSpPr>
          <p:sp>
            <p:nvSpPr>
              <p:cNvPr id="1669" name=""/>
              <p:cNvSpPr/>
              <p:nvPr/>
            </p:nvSpPr>
            <p:spPr>
              <a:xfrm flipV="1">
                <a:off x="8023320" y="2606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8191800" y="2694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8103960" y="2608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8023320" y="2605320"/>
              <a:ext cx="245520" cy="88200"/>
              <a:chOff x="8023320" y="2605320"/>
              <a:chExt cx="245520" cy="88200"/>
            </a:xfrm>
          </p:grpSpPr>
          <p:sp>
            <p:nvSpPr>
              <p:cNvPr id="1673" name=""/>
              <p:cNvSpPr/>
              <p:nvPr/>
            </p:nvSpPr>
            <p:spPr>
              <a:xfrm>
                <a:off x="8023320" y="2691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8191800" y="2605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V="1">
                <a:off x="8103960" y="2605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6" name=""/>
          <p:cNvGrpSpPr/>
          <p:nvPr/>
        </p:nvGrpSpPr>
        <p:grpSpPr>
          <a:xfrm>
            <a:off x="7710480" y="3470400"/>
            <a:ext cx="501480" cy="232920"/>
            <a:chOff x="7710480" y="3470400"/>
            <a:chExt cx="501480" cy="232920"/>
          </a:xfrm>
        </p:grpSpPr>
        <p:sp>
          <p:nvSpPr>
            <p:cNvPr id="1677" name=""/>
            <p:cNvSpPr/>
            <p:nvPr/>
          </p:nvSpPr>
          <p:spPr>
            <a:xfrm>
              <a:off x="7714440" y="3574440"/>
              <a:ext cx="497160" cy="1288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71444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21196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714440" y="3563280"/>
              <a:ext cx="492840" cy="78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710480" y="3470400"/>
              <a:ext cx="496800" cy="1504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2" name=""/>
            <p:cNvGrpSpPr/>
            <p:nvPr/>
          </p:nvGrpSpPr>
          <p:grpSpPr>
            <a:xfrm>
              <a:off x="7830000" y="3503160"/>
              <a:ext cx="246240" cy="88200"/>
              <a:chOff x="7830000" y="3503160"/>
              <a:chExt cx="246240" cy="88200"/>
            </a:xfrm>
          </p:grpSpPr>
          <p:sp>
            <p:nvSpPr>
              <p:cNvPr id="1683" name=""/>
              <p:cNvSpPr/>
              <p:nvPr/>
            </p:nvSpPr>
            <p:spPr>
              <a:xfrm flipV="1">
                <a:off x="783000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99884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791100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6" name=""/>
            <p:cNvGrpSpPr/>
            <p:nvPr/>
          </p:nvGrpSpPr>
          <p:grpSpPr>
            <a:xfrm>
              <a:off x="7830000" y="3502440"/>
              <a:ext cx="246240" cy="88200"/>
              <a:chOff x="7830000" y="3502440"/>
              <a:chExt cx="246240" cy="88200"/>
            </a:xfrm>
          </p:grpSpPr>
          <p:sp>
            <p:nvSpPr>
              <p:cNvPr id="1687" name=""/>
              <p:cNvSpPr/>
              <p:nvPr/>
            </p:nvSpPr>
            <p:spPr>
              <a:xfrm>
                <a:off x="783000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9884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V="1">
                <a:off x="791100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0" name=""/>
          <p:cNvGrpSpPr/>
          <p:nvPr/>
        </p:nvGrpSpPr>
        <p:grpSpPr>
          <a:xfrm>
            <a:off x="7377120" y="4054320"/>
            <a:ext cx="501480" cy="234720"/>
            <a:chOff x="7377120" y="4054320"/>
            <a:chExt cx="501480" cy="234720"/>
          </a:xfrm>
        </p:grpSpPr>
        <p:sp>
          <p:nvSpPr>
            <p:cNvPr id="1691" name=""/>
            <p:cNvSpPr/>
            <p:nvPr/>
          </p:nvSpPr>
          <p:spPr>
            <a:xfrm>
              <a:off x="7381080" y="4159080"/>
              <a:ext cx="497160" cy="1299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38108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87860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381080" y="4147920"/>
              <a:ext cx="492840" cy="795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377120" y="4054320"/>
              <a:ext cx="496800" cy="1515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6" name=""/>
            <p:cNvGrpSpPr/>
            <p:nvPr/>
          </p:nvGrpSpPr>
          <p:grpSpPr>
            <a:xfrm>
              <a:off x="7496640" y="4087440"/>
              <a:ext cx="246240" cy="88920"/>
              <a:chOff x="7496640" y="4087440"/>
              <a:chExt cx="246240" cy="88920"/>
            </a:xfrm>
          </p:grpSpPr>
          <p:sp>
            <p:nvSpPr>
              <p:cNvPr id="1697" name=""/>
              <p:cNvSpPr/>
              <p:nvPr/>
            </p:nvSpPr>
            <p:spPr>
              <a:xfrm flipV="1">
                <a:off x="7496640" y="4087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665480" y="417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577640" y="40896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7496640" y="4086360"/>
              <a:ext cx="246240" cy="88920"/>
              <a:chOff x="7496640" y="4086360"/>
              <a:chExt cx="246240" cy="88920"/>
            </a:xfrm>
          </p:grpSpPr>
          <p:sp>
            <p:nvSpPr>
              <p:cNvPr id="1701" name=""/>
              <p:cNvSpPr/>
              <p:nvPr/>
            </p:nvSpPr>
            <p:spPr>
              <a:xfrm>
                <a:off x="7496640" y="417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665480" y="408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7577640" y="4086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4" name=""/>
          <p:cNvGrpSpPr/>
          <p:nvPr/>
        </p:nvGrpSpPr>
        <p:grpSpPr>
          <a:xfrm>
            <a:off x="6767640" y="4543560"/>
            <a:ext cx="500040" cy="232920"/>
            <a:chOff x="6767640" y="4543560"/>
            <a:chExt cx="500040" cy="232920"/>
          </a:xfrm>
        </p:grpSpPr>
        <p:sp>
          <p:nvSpPr>
            <p:cNvPr id="1705" name=""/>
            <p:cNvSpPr/>
            <p:nvPr/>
          </p:nvSpPr>
          <p:spPr>
            <a:xfrm>
              <a:off x="6771600" y="4647600"/>
              <a:ext cx="495720" cy="1288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77160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26768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771600" y="4636440"/>
              <a:ext cx="491400" cy="78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767640" y="4543560"/>
              <a:ext cx="495360" cy="1504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0" name=""/>
            <p:cNvGrpSpPr/>
            <p:nvPr/>
          </p:nvGrpSpPr>
          <p:grpSpPr>
            <a:xfrm>
              <a:off x="6886800" y="4576320"/>
              <a:ext cx="245520" cy="88200"/>
              <a:chOff x="6886800" y="4576320"/>
              <a:chExt cx="245520" cy="88200"/>
            </a:xfrm>
          </p:grpSpPr>
          <p:sp>
            <p:nvSpPr>
              <p:cNvPr id="1711" name=""/>
              <p:cNvSpPr/>
              <p:nvPr/>
            </p:nvSpPr>
            <p:spPr>
              <a:xfrm flipV="1">
                <a:off x="6886800" y="45763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055280" y="466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967440" y="45784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4" name=""/>
            <p:cNvGrpSpPr/>
            <p:nvPr/>
          </p:nvGrpSpPr>
          <p:grpSpPr>
            <a:xfrm>
              <a:off x="6886800" y="4575600"/>
              <a:ext cx="245520" cy="88200"/>
              <a:chOff x="6886800" y="4575600"/>
              <a:chExt cx="245520" cy="88200"/>
            </a:xfrm>
          </p:grpSpPr>
          <p:sp>
            <p:nvSpPr>
              <p:cNvPr id="1715" name=""/>
              <p:cNvSpPr/>
              <p:nvPr/>
            </p:nvSpPr>
            <p:spPr>
              <a:xfrm>
                <a:off x="6886800" y="4662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055280" y="45756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6967440" y="45756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8" name=""/>
          <p:cNvGrpSpPr/>
          <p:nvPr/>
        </p:nvGrpSpPr>
        <p:grpSpPr>
          <a:xfrm>
            <a:off x="5964120" y="4167360"/>
            <a:ext cx="501840" cy="232920"/>
            <a:chOff x="5964120" y="4167360"/>
            <a:chExt cx="501840" cy="232920"/>
          </a:xfrm>
        </p:grpSpPr>
        <p:sp>
          <p:nvSpPr>
            <p:cNvPr id="1719" name=""/>
            <p:cNvSpPr/>
            <p:nvPr/>
          </p:nvSpPr>
          <p:spPr>
            <a:xfrm>
              <a:off x="5968080" y="4271400"/>
              <a:ext cx="497520" cy="1288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96808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46596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968080" y="4260240"/>
              <a:ext cx="493200" cy="78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64120" y="4167360"/>
              <a:ext cx="497160" cy="1504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4" name=""/>
            <p:cNvGrpSpPr/>
            <p:nvPr/>
          </p:nvGrpSpPr>
          <p:grpSpPr>
            <a:xfrm>
              <a:off x="6083640" y="4200120"/>
              <a:ext cx="246240" cy="88200"/>
              <a:chOff x="6083640" y="4200120"/>
              <a:chExt cx="246240" cy="88200"/>
            </a:xfrm>
          </p:grpSpPr>
          <p:sp>
            <p:nvSpPr>
              <p:cNvPr id="1725" name=""/>
              <p:cNvSpPr/>
              <p:nvPr/>
            </p:nvSpPr>
            <p:spPr>
              <a:xfrm flipV="1">
                <a:off x="6083640" y="4200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252480" y="428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164640" y="4202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8" name=""/>
            <p:cNvGrpSpPr/>
            <p:nvPr/>
          </p:nvGrpSpPr>
          <p:grpSpPr>
            <a:xfrm>
              <a:off x="6083640" y="4199400"/>
              <a:ext cx="246240" cy="88200"/>
              <a:chOff x="6083640" y="4199400"/>
              <a:chExt cx="246240" cy="88200"/>
            </a:xfrm>
          </p:grpSpPr>
          <p:sp>
            <p:nvSpPr>
              <p:cNvPr id="1729" name=""/>
              <p:cNvSpPr/>
              <p:nvPr/>
            </p:nvSpPr>
            <p:spPr>
              <a:xfrm>
                <a:off x="6083640" y="42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252480" y="4199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6164640" y="419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2" name=""/>
          <p:cNvSpPr/>
          <p:nvPr/>
        </p:nvSpPr>
        <p:spPr>
          <a:xfrm>
            <a:off x="5391000" y="2266920"/>
            <a:ext cx="2724480" cy="2448000"/>
          </a:xfrm>
          <a:custGeom>
            <a:avLst/>
            <a:gdLst/>
            <a:ahLst/>
            <a:rect l="l" t="t" r="r" b="b"/>
            <a:pathLst>
              <a:path w="1716" h="1542">
                <a:moveTo>
                  <a:pt x="0" y="0"/>
                </a:moveTo>
                <a:cubicBezTo>
                  <a:pt x="62" y="7"/>
                  <a:pt x="230" y="4"/>
                  <a:pt x="372" y="42"/>
                </a:cubicBezTo>
                <a:cubicBezTo>
                  <a:pt x="514" y="80"/>
                  <a:pt x="672" y="114"/>
                  <a:pt x="852" y="228"/>
                </a:cubicBezTo>
                <a:cubicBezTo>
                  <a:pt x="1032" y="342"/>
                  <a:pt x="1308" y="507"/>
                  <a:pt x="1452" y="726"/>
                </a:cubicBezTo>
                <a:cubicBezTo>
                  <a:pt x="1596" y="945"/>
                  <a:pt x="1661" y="1372"/>
                  <a:pt x="1716" y="154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V="1">
            <a:off x="6210360" y="4398480"/>
            <a:ext cx="144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 txBox="1"/>
          <p:nvPr/>
        </p:nvSpPr>
        <p:spPr>
          <a:xfrm>
            <a:off x="5508720" y="1197000"/>
            <a:ext cx="1218960" cy="70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Klijen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7020000" y="5950080"/>
            <a:ext cx="1218960" cy="707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erv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0" y="25776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00"/>
                </a:solidFill>
                <a:latin typeface="Arial Black"/>
              </a:rPr>
              <a:t>Mrežna grana</a:t>
            </a: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: </a:t>
            </a:r>
            <a:r>
              <a:rPr b="0" lang="sr-Latn-CS" sz="2400" spc="-1" strike="noStrike">
                <a:solidFill>
                  <a:srgbClr val="003300"/>
                </a:solidFill>
                <a:latin typeface="Arial Black"/>
              </a:rPr>
              <a:t>konekciono-orijentisani servi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572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 u="sng">
                <a:solidFill>
                  <a:srgbClr val="ff0000"/>
                </a:solidFill>
                <a:uFillTx/>
                <a:latin typeface="Arial"/>
              </a:rPr>
              <a:t>Cilj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odata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među krajeva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ndshaking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(rukovanje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avlj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pr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ataka unap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hello back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judski protok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postavljamo "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ta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nje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va komunikaciona host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ransmission Control Protoco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protokol kontrole prenos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nekciono-orijentisani servis 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535280" y="836640"/>
            <a:ext cx="460836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CP servi</a:t>
            </a:r>
            <a:r>
              <a:rPr b="1" lang="sr-Latn-CS" sz="24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RFC 79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pouzda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transfer uređenih bajtova toka podat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ubit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vrde i ponovna transmis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kontrola tok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šiljalac neće p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eret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ma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kontrola zagušenj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šiljao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manjuje brzinu sla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a je mreža zaguš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500"/>
                                        <p:tgtEl>
                                          <p:spTgt spid="1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500"/>
                                        <p:tgtEl>
                                          <p:spTgt spid="1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500"/>
                                        <p:tgtEl>
                                          <p:spTgt spid="1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500"/>
                                        <p:tgtEl>
                                          <p:spTgt spid="1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500"/>
                                        <p:tgtEl>
                                          <p:spTgt spid="1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500"/>
                                        <p:tgtEl>
                                          <p:spTgt spid="1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500"/>
                                        <p:tgtEl>
                                          <p:spTgt spid="17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76280" y="-11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Istorija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Internet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-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03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1961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leinro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eorija korišćenja redova pokazuje efikasnost komutiranja pak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196</a:t>
            </a:r>
            <a:r>
              <a:rPr b="1" lang="sr-Latn-CS" sz="2800" spc="-1" strike="noStrike">
                <a:solidFill>
                  <a:srgbClr val="cc9900"/>
                </a:solidFill>
                <a:latin typeface="Arial"/>
              </a:rPr>
              <a:t>2/64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omutiranje paket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u vojnim mrežama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tivacija – prenos poruka između učesnika u ambijentu mogučeg uništenja čvorova i vez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95280" y="620640"/>
            <a:ext cx="836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 Black"/>
              </a:rPr>
              <a:t>1961-1972: </a:t>
            </a:r>
            <a:r>
              <a:rPr b="0" i="1" lang="sr-Latn-CS" sz="2800" spc="-1" strike="noStrike">
                <a:solidFill>
                  <a:srgbClr val="ff0000"/>
                </a:solidFill>
                <a:latin typeface="Arial Black"/>
              </a:rPr>
              <a:t>Rani principi</a:t>
            </a:r>
            <a:r>
              <a:rPr b="0" i="1" lang="en-US" sz="2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i="1" lang="sr-Latn-CS" sz="2400" spc="-1" strike="noStrike">
                <a:solidFill>
                  <a:srgbClr val="ff0000"/>
                </a:solidFill>
                <a:latin typeface="Arial Black"/>
              </a:rPr>
              <a:t>komutiranja-pak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859280" y="1628280"/>
            <a:ext cx="3889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1967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PA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dvanced Research Projects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9900"/>
                </a:solidFill>
                <a:latin typeface="Arial"/>
              </a:rPr>
              <a:t>1968 –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olt, Beranak i Newman – (BBN)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angažovani da realizuju paketsku mrež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1969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v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PAne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vor postaje operaciona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Mrežna grana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: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servis bez uspostavljanja konekcij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643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Cilj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odataka između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to kao rani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D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User Datagram Protoco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protokol korisničkog datagram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RFC 768]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z uspostavljanja kone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pouzdan transfer podat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ma kontrole to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ma kontrole zaguš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50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Aplikacije koje koriste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TCP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 (Web), FTP (file transfer), Telnet (remote login), SMTP (em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Aplikacije koje korist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UD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diji koji koriste tokove podata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el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nferen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NS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elefoniranje prek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558720" y="61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Mrežna taksonomij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3" name=""/>
          <p:cNvSpPr/>
          <p:nvPr/>
        </p:nvSpPr>
        <p:spPr>
          <a:xfrm>
            <a:off x="3235320" y="1190520"/>
            <a:ext cx="2360520" cy="758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ele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komunikac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mrež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692280" y="2521080"/>
            <a:ext cx="3433680" cy="1957320"/>
            <a:chOff x="692280" y="2521080"/>
            <a:chExt cx="3433680" cy="1957320"/>
          </a:xfrm>
        </p:grpSpPr>
        <p:sp>
          <p:nvSpPr>
            <p:cNvPr id="1745" name=""/>
            <p:cNvSpPr/>
            <p:nvPr/>
          </p:nvSpPr>
          <p:spPr>
            <a:xfrm>
              <a:off x="1349280" y="2521080"/>
              <a:ext cx="2360880" cy="7588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ffff"/>
                  </a:solidFill>
                  <a:latin typeface="Comic Sans MS"/>
                </a:rPr>
                <a:t>Mreže s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ffff"/>
                  </a:solidFill>
                  <a:latin typeface="Comic Sans MS"/>
                </a:rPr>
                <a:t>komutiranim k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anali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2280" y="3819600"/>
              <a:ext cx="1274760" cy="633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FD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851200" y="3845160"/>
              <a:ext cx="1274760" cy="6332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TD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1585800" y="3286440"/>
              <a:ext cx="1879920" cy="573120"/>
              <a:chOff x="1585800" y="3286440"/>
              <a:chExt cx="1879920" cy="573120"/>
            </a:xfrm>
          </p:grpSpPr>
          <p:grpSp>
            <p:nvGrpSpPr>
              <p:cNvPr id="1749" name=""/>
              <p:cNvGrpSpPr/>
              <p:nvPr/>
            </p:nvGrpSpPr>
            <p:grpSpPr>
              <a:xfrm>
                <a:off x="1585800" y="3540240"/>
                <a:ext cx="1879920" cy="319320"/>
                <a:chOff x="1585800" y="3540240"/>
                <a:chExt cx="1879920" cy="319320"/>
              </a:xfrm>
            </p:grpSpPr>
            <p:sp>
              <p:nvSpPr>
                <p:cNvPr id="1750" name=""/>
                <p:cNvSpPr/>
                <p:nvPr/>
              </p:nvSpPr>
              <p:spPr>
                <a:xfrm>
                  <a:off x="1585800" y="3546720"/>
                  <a:ext cx="187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3465720" y="3564000"/>
                  <a:ext cx="0" cy="29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1587600" y="3540240"/>
                  <a:ext cx="0" cy="29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3" name=""/>
              <p:cNvSpPr/>
              <p:nvPr/>
            </p:nvSpPr>
            <p:spPr>
              <a:xfrm>
                <a:off x="2505240" y="3286440"/>
                <a:ext cx="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4" name=""/>
          <p:cNvGrpSpPr/>
          <p:nvPr/>
        </p:nvGrpSpPr>
        <p:grpSpPr>
          <a:xfrm>
            <a:off x="4788000" y="2492280"/>
            <a:ext cx="3823920" cy="1981440"/>
            <a:chOff x="4788000" y="2492280"/>
            <a:chExt cx="3823920" cy="1981440"/>
          </a:xfrm>
        </p:grpSpPr>
        <p:sp>
          <p:nvSpPr>
            <p:cNvPr id="1755" name=""/>
            <p:cNvSpPr/>
            <p:nvPr/>
          </p:nvSpPr>
          <p:spPr>
            <a:xfrm>
              <a:off x="5400000" y="2492280"/>
              <a:ext cx="2453040" cy="7588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ffff"/>
                  </a:solidFill>
                  <a:latin typeface="Comic Sans MS"/>
                </a:rPr>
                <a:t>Mreže s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ffff"/>
                  </a:solidFill>
                  <a:latin typeface="Comic Sans MS"/>
                </a:rPr>
                <a:t>komutiranim paketi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788000" y="3840120"/>
              <a:ext cx="1657800" cy="633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ffff"/>
                  </a:solidFill>
                  <a:latin typeface="Comic Sans MS"/>
                </a:rPr>
                <a:t>Mreže 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300" spc="-1" strike="noStrike">
                  <a:solidFill>
                    <a:srgbClr val="ffffff"/>
                  </a:solidFill>
                  <a:latin typeface="Comic Sans MS"/>
                </a:rPr>
                <a:t>virtualnim kolom -</a:t>
              </a: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V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954120" y="3832200"/>
              <a:ext cx="1657800" cy="633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ffff"/>
                  </a:solidFill>
                  <a:latin typeface="Comic Sans MS"/>
                </a:rPr>
                <a:t>Data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ffff"/>
                  </a:solidFill>
                  <a:latin typeface="Comic Sans MS"/>
                </a:rPr>
                <a:t>mrež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5715000" y="3265560"/>
              <a:ext cx="1952280" cy="573120"/>
              <a:chOff x="5715000" y="3265560"/>
              <a:chExt cx="1952280" cy="573120"/>
            </a:xfrm>
          </p:grpSpPr>
          <p:grpSp>
            <p:nvGrpSpPr>
              <p:cNvPr id="1759" name=""/>
              <p:cNvGrpSpPr/>
              <p:nvPr/>
            </p:nvGrpSpPr>
            <p:grpSpPr>
              <a:xfrm>
                <a:off x="5715000" y="3519360"/>
                <a:ext cx="1952280" cy="319320"/>
                <a:chOff x="5715000" y="3519360"/>
                <a:chExt cx="1952280" cy="319320"/>
              </a:xfrm>
            </p:grpSpPr>
            <p:sp>
              <p:nvSpPr>
                <p:cNvPr id="1760" name=""/>
                <p:cNvSpPr/>
                <p:nvPr/>
              </p:nvSpPr>
              <p:spPr>
                <a:xfrm>
                  <a:off x="5715000" y="3525840"/>
                  <a:ext cx="194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7667280" y="3543120"/>
                  <a:ext cx="0" cy="29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5716800" y="3519360"/>
                  <a:ext cx="0" cy="29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3" name=""/>
              <p:cNvSpPr/>
              <p:nvPr/>
            </p:nvSpPr>
            <p:spPr>
              <a:xfrm>
                <a:off x="6670080" y="3265560"/>
                <a:ext cx="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4" name=""/>
          <p:cNvGrpSpPr/>
          <p:nvPr/>
        </p:nvGrpSpPr>
        <p:grpSpPr>
          <a:xfrm>
            <a:off x="2589120" y="1947960"/>
            <a:ext cx="3814920" cy="573120"/>
            <a:chOff x="2589120" y="1947960"/>
            <a:chExt cx="3814920" cy="573120"/>
          </a:xfrm>
        </p:grpSpPr>
        <p:grpSp>
          <p:nvGrpSpPr>
            <p:cNvPr id="1765" name=""/>
            <p:cNvGrpSpPr/>
            <p:nvPr/>
          </p:nvGrpSpPr>
          <p:grpSpPr>
            <a:xfrm>
              <a:off x="2589120" y="2201760"/>
              <a:ext cx="3814920" cy="319320"/>
              <a:chOff x="2589120" y="2201760"/>
              <a:chExt cx="3814920" cy="319320"/>
            </a:xfrm>
          </p:grpSpPr>
          <p:sp>
            <p:nvSpPr>
              <p:cNvPr id="1766" name=""/>
              <p:cNvSpPr/>
              <p:nvPr/>
            </p:nvSpPr>
            <p:spPr>
              <a:xfrm>
                <a:off x="2589120" y="2208240"/>
                <a:ext cx="379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404040" y="2225520"/>
                <a:ext cx="0" cy="2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592720" y="2201760"/>
                <a:ext cx="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9" name=""/>
            <p:cNvSpPr/>
            <p:nvPr/>
          </p:nvSpPr>
          <p:spPr>
            <a:xfrm>
              <a:off x="4455360" y="194796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0" name=""/>
          <p:cNvSpPr/>
          <p:nvPr/>
        </p:nvSpPr>
        <p:spPr>
          <a:xfrm>
            <a:off x="304920" y="4997520"/>
            <a:ext cx="883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gram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mreža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omic Sans MS"/>
              </a:rPr>
              <a:t>nije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ni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konekciono orijentisan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"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mrež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ni mreža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be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uspostavljanja konekcij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obezbeđuje aplikacijama i konekciono orijentisani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CP)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servis bez uspostavljanja konekcij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UD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228240" y="21672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Jezgro mrež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752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reža međusobno povezanih rut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osnovno pitanj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ko se prenose podaci kroz mrež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komutiranj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anal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većeno kolo-kanal za pozi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el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onska mre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komutiranje paket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aci poslati kroz mrežu u diskretnim "komadi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- pake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69080" y="219384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89520" y="205092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257800" y="35020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8" name=""/>
          <p:cNvGrpSpPr/>
          <p:nvPr/>
        </p:nvGrpSpPr>
        <p:grpSpPr>
          <a:xfrm>
            <a:off x="5006880" y="2185920"/>
            <a:ext cx="733680" cy="319320"/>
            <a:chOff x="5006880" y="2185920"/>
            <a:chExt cx="733680" cy="319320"/>
          </a:xfrm>
        </p:grpSpPr>
        <p:pic>
          <p:nvPicPr>
            <p:cNvPr id="1779" name="" descr=""/>
            <p:cNvPicPr/>
            <p:nvPr/>
          </p:nvPicPr>
          <p:blipFill>
            <a:blip r:embed="rId1"/>
            <a:stretch/>
          </p:blipFill>
          <p:spPr>
            <a:xfrm>
              <a:off x="5006880" y="218592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0" name="" descr=""/>
            <p:cNvPicPr/>
            <p:nvPr/>
          </p:nvPicPr>
          <p:blipFill>
            <a:blip r:embed="rId2"/>
            <a:stretch/>
          </p:blipFill>
          <p:spPr>
            <a:xfrm>
              <a:off x="5460840" y="230400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1" name=""/>
            <p:cNvSpPr/>
            <p:nvPr/>
          </p:nvSpPr>
          <p:spPr>
            <a:xfrm flipV="1">
              <a:off x="5413320" y="24274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2" name=""/>
          <p:cNvGrpSpPr/>
          <p:nvPr/>
        </p:nvGrpSpPr>
        <p:grpSpPr>
          <a:xfrm>
            <a:off x="5006880" y="2781360"/>
            <a:ext cx="733680" cy="318960"/>
            <a:chOff x="5006880" y="2781360"/>
            <a:chExt cx="733680" cy="318960"/>
          </a:xfrm>
        </p:grpSpPr>
        <p:pic>
          <p:nvPicPr>
            <p:cNvPr id="1783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13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4" name="" descr=""/>
            <p:cNvPicPr/>
            <p:nvPr/>
          </p:nvPicPr>
          <p:blipFill>
            <a:blip r:embed="rId4"/>
            <a:stretch/>
          </p:blipFill>
          <p:spPr>
            <a:xfrm>
              <a:off x="5460840" y="2899440"/>
              <a:ext cx="27972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5" name=""/>
            <p:cNvSpPr/>
            <p:nvPr/>
          </p:nvSpPr>
          <p:spPr>
            <a:xfrm flipV="1">
              <a:off x="5413320" y="30229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5383080" y="2568600"/>
            <a:ext cx="69480" cy="214200"/>
            <a:chOff x="5383080" y="2568600"/>
            <a:chExt cx="69480" cy="214200"/>
          </a:xfrm>
        </p:grpSpPr>
        <p:sp>
          <p:nvSpPr>
            <p:cNvPr id="1787" name=""/>
            <p:cNvSpPr/>
            <p:nvPr/>
          </p:nvSpPr>
          <p:spPr>
            <a:xfrm>
              <a:off x="5383080" y="2568600"/>
              <a:ext cx="64080" cy="601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385600" y="2645640"/>
              <a:ext cx="64080" cy="601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388480" y="2722680"/>
              <a:ext cx="64080" cy="601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5853240" y="3071880"/>
            <a:ext cx="209520" cy="394920"/>
            <a:chOff x="5853240" y="3071880"/>
            <a:chExt cx="209520" cy="394920"/>
          </a:xfrm>
        </p:grpSpPr>
        <p:sp>
          <p:nvSpPr>
            <p:cNvPr id="1791" name=""/>
            <p:cNvSpPr/>
            <p:nvPr/>
          </p:nvSpPr>
          <p:spPr>
            <a:xfrm>
              <a:off x="5853240" y="33757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959440" y="30744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854320" y="31604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853240" y="30718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062760" y="30780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5986800" y="33757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871240" y="3200400"/>
              <a:ext cx="87840" cy="1749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883840" y="32533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6089760" y="3226320"/>
            <a:ext cx="233280" cy="80280"/>
            <a:chOff x="6089760" y="3226320"/>
            <a:chExt cx="233280" cy="80280"/>
          </a:xfrm>
        </p:grpSpPr>
        <p:sp>
          <p:nvSpPr>
            <p:cNvPr id="1800" name=""/>
            <p:cNvSpPr/>
            <p:nvPr/>
          </p:nvSpPr>
          <p:spPr>
            <a:xfrm rot="16200000">
              <a:off x="6085440" y="3236760"/>
              <a:ext cx="74160" cy="65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rot="16200000">
              <a:off x="6169320" y="3233880"/>
              <a:ext cx="74160" cy="65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rot="16200000">
              <a:off x="6253200" y="3230640"/>
              <a:ext cx="74160" cy="65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3" name=""/>
          <p:cNvSpPr/>
          <p:nvPr/>
        </p:nvSpPr>
        <p:spPr>
          <a:xfrm>
            <a:off x="5989680" y="297972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992920" y="29764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488280" y="297504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689440" y="244008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5702400" y="2725560"/>
            <a:ext cx="27612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 flipV="1">
            <a:off x="6229440" y="28116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9" name=""/>
          <p:cNvGrpSpPr/>
          <p:nvPr/>
        </p:nvGrpSpPr>
        <p:grpSpPr>
          <a:xfrm>
            <a:off x="6348240" y="3049560"/>
            <a:ext cx="209880" cy="394920"/>
            <a:chOff x="6348240" y="3049560"/>
            <a:chExt cx="209880" cy="394920"/>
          </a:xfrm>
        </p:grpSpPr>
        <p:sp>
          <p:nvSpPr>
            <p:cNvPr id="1810" name=""/>
            <p:cNvSpPr/>
            <p:nvPr/>
          </p:nvSpPr>
          <p:spPr>
            <a:xfrm>
              <a:off x="6348240" y="335340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454440" y="305208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349320" y="313812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348240" y="304956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558120" y="3055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6482160" y="3353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366240" y="3178080"/>
              <a:ext cx="88200" cy="1749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378840" y="323100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5391000" y="3668760"/>
            <a:ext cx="479160" cy="925200"/>
            <a:chOff x="5391000" y="3668760"/>
            <a:chExt cx="479160" cy="925200"/>
          </a:xfrm>
        </p:grpSpPr>
        <p:pic>
          <p:nvPicPr>
            <p:cNvPr id="1819" name="" descr=""/>
            <p:cNvPicPr/>
            <p:nvPr/>
          </p:nvPicPr>
          <p:blipFill>
            <a:blip r:embed="rId5"/>
            <a:stretch/>
          </p:blipFill>
          <p:spPr>
            <a:xfrm>
              <a:off x="5391000" y="36687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0" name=""/>
            <p:cNvSpPr/>
            <p:nvPr/>
          </p:nvSpPr>
          <p:spPr>
            <a:xfrm flipV="1">
              <a:off x="5797800" y="39153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1" name="" descr=""/>
            <p:cNvPicPr/>
            <p:nvPr/>
          </p:nvPicPr>
          <p:blipFill>
            <a:blip r:embed="rId6"/>
            <a:stretch/>
          </p:blipFill>
          <p:spPr>
            <a:xfrm>
              <a:off x="5391000" y="42634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 flipV="1">
              <a:off x="5797800" y="45136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5516280" y="4010040"/>
              <a:ext cx="70560" cy="222480"/>
              <a:chOff x="5516280" y="4010040"/>
              <a:chExt cx="70560" cy="222480"/>
            </a:xfrm>
          </p:grpSpPr>
          <p:sp>
            <p:nvSpPr>
              <p:cNvPr id="1824" name=""/>
              <p:cNvSpPr/>
              <p:nvPr/>
            </p:nvSpPr>
            <p:spPr>
              <a:xfrm>
                <a:off x="5516280" y="4010040"/>
                <a:ext cx="65160" cy="6264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5518800" y="4089960"/>
                <a:ext cx="65160" cy="6228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521680" y="4170240"/>
                <a:ext cx="65160" cy="6228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7" name=""/>
            <p:cNvSpPr/>
            <p:nvPr/>
          </p:nvSpPr>
          <p:spPr>
            <a:xfrm>
              <a:off x="5864760" y="39124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28" name="" descr=""/>
          <p:cNvPicPr/>
          <p:nvPr/>
        </p:nvPicPr>
        <p:blipFill>
          <a:blip r:embed="rId7"/>
          <a:stretch/>
        </p:blipFill>
        <p:spPr>
          <a:xfrm>
            <a:off x="6259680" y="467820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1829" name="" descr=""/>
          <p:cNvPicPr/>
          <p:nvPr/>
        </p:nvPicPr>
        <p:blipFill>
          <a:blip r:embed="rId8"/>
          <a:stretch/>
        </p:blipFill>
        <p:spPr>
          <a:xfrm>
            <a:off x="5645160" y="466740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1830" name=""/>
          <p:cNvSpPr/>
          <p:nvPr/>
        </p:nvSpPr>
        <p:spPr>
          <a:xfrm rot="16200000">
            <a:off x="6061680" y="4771080"/>
            <a:ext cx="63360" cy="651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rot="16200000">
            <a:off x="6146640" y="4768560"/>
            <a:ext cx="63720" cy="666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rot="16200000">
            <a:off x="6224400" y="4773240"/>
            <a:ext cx="61920" cy="651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6513480" y="4624200"/>
            <a:ext cx="18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5889600" y="461340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H="1">
            <a:off x="5891040" y="46195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5870520" y="4245120"/>
            <a:ext cx="93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472080" y="4290840"/>
            <a:ext cx="303480" cy="38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7267680" y="4287960"/>
            <a:ext cx="27936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9" name="" descr=""/>
          <p:cNvPicPr/>
          <p:nvPr/>
        </p:nvPicPr>
        <p:blipFill>
          <a:blip r:embed="rId9"/>
          <a:stretch/>
        </p:blipFill>
        <p:spPr>
          <a:xfrm>
            <a:off x="7445520" y="384012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1840" name="" descr=""/>
          <p:cNvPicPr/>
          <p:nvPr/>
        </p:nvPicPr>
        <p:blipFill>
          <a:blip r:embed="rId10"/>
          <a:stretch/>
        </p:blipFill>
        <p:spPr>
          <a:xfrm>
            <a:off x="6108840" y="392112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1841" name=""/>
          <p:cNvSpPr/>
          <p:nvPr/>
        </p:nvSpPr>
        <p:spPr>
          <a:xfrm>
            <a:off x="6189840" y="369576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2" name=""/>
          <p:cNvGrpSpPr/>
          <p:nvPr/>
        </p:nvGrpSpPr>
        <p:grpSpPr>
          <a:xfrm>
            <a:off x="6456240" y="5118120"/>
            <a:ext cx="406080" cy="426960"/>
            <a:chOff x="6456240" y="5118120"/>
            <a:chExt cx="406080" cy="426960"/>
          </a:xfrm>
        </p:grpSpPr>
        <p:pic>
          <p:nvPicPr>
            <p:cNvPr id="1843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181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00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5" name=""/>
          <p:cNvGrpSpPr/>
          <p:nvPr/>
        </p:nvGrpSpPr>
        <p:grpSpPr>
          <a:xfrm>
            <a:off x="7234200" y="5149800"/>
            <a:ext cx="406080" cy="426960"/>
            <a:chOff x="7234200" y="5149800"/>
            <a:chExt cx="406080" cy="426960"/>
          </a:xfrm>
        </p:grpSpPr>
        <p:pic>
          <p:nvPicPr>
            <p:cNvPr id="1846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498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7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1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8" name=""/>
          <p:cNvGrpSpPr/>
          <p:nvPr/>
        </p:nvGrpSpPr>
        <p:grpSpPr>
          <a:xfrm>
            <a:off x="6819840" y="4865760"/>
            <a:ext cx="379440" cy="376200"/>
            <a:chOff x="6819840" y="4865760"/>
            <a:chExt cx="379440" cy="376200"/>
          </a:xfrm>
        </p:grpSpPr>
        <p:pic>
          <p:nvPicPr>
            <p:cNvPr id="1849" name="" descr=""/>
            <p:cNvPicPr/>
            <p:nvPr/>
          </p:nvPicPr>
          <p:blipFill>
            <a:blip r:embed="rId15"/>
            <a:stretch/>
          </p:blipFill>
          <p:spPr>
            <a:xfrm>
              <a:off x="6819840" y="48657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0" name=""/>
            <p:cNvSpPr/>
            <p:nvPr/>
          </p:nvSpPr>
          <p:spPr>
            <a:xfrm>
              <a:off x="6930000" y="49978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1" name=""/>
          <p:cNvSpPr/>
          <p:nvPr/>
        </p:nvSpPr>
        <p:spPr>
          <a:xfrm>
            <a:off x="7126200" y="4768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2" name=""/>
          <p:cNvGrpSpPr/>
          <p:nvPr/>
        </p:nvGrpSpPr>
        <p:grpSpPr>
          <a:xfrm>
            <a:off x="7846920" y="4192560"/>
            <a:ext cx="208080" cy="409680"/>
            <a:chOff x="7846920" y="4192560"/>
            <a:chExt cx="208080" cy="409680"/>
          </a:xfrm>
        </p:grpSpPr>
        <p:sp>
          <p:nvSpPr>
            <p:cNvPr id="1853" name=""/>
            <p:cNvSpPr/>
            <p:nvPr/>
          </p:nvSpPr>
          <p:spPr>
            <a:xfrm>
              <a:off x="7846920" y="45075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952040" y="41950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848000" y="42843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846920" y="41925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055000" y="41990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7979760" y="45075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864560" y="4325760"/>
              <a:ext cx="87480" cy="181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877160" y="43804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7834320" y="4637160"/>
            <a:ext cx="208080" cy="409680"/>
            <a:chOff x="7834320" y="4637160"/>
            <a:chExt cx="208080" cy="409680"/>
          </a:xfrm>
        </p:grpSpPr>
        <p:sp>
          <p:nvSpPr>
            <p:cNvPr id="1862" name=""/>
            <p:cNvSpPr/>
            <p:nvPr/>
          </p:nvSpPr>
          <p:spPr>
            <a:xfrm>
              <a:off x="7834320" y="49521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939440" y="46396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835400" y="47289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834320" y="46371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042400" y="46436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7967160" y="49521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851960" y="4770360"/>
              <a:ext cx="87480" cy="181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864560" y="48250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0" name=""/>
          <p:cNvSpPr/>
          <p:nvPr/>
        </p:nvSpPr>
        <p:spPr>
          <a:xfrm flipV="1">
            <a:off x="7765920" y="426060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7763040" y="487044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759800" y="43941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6483240" y="2490840"/>
            <a:ext cx="459000" cy="20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418520" y="2475000"/>
            <a:ext cx="485640" cy="20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H="1">
            <a:off x="7937640" y="2811600"/>
            <a:ext cx="241200" cy="680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167600" y="258768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7192800" y="3235320"/>
            <a:ext cx="535320" cy="36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7652880" y="3700440"/>
            <a:ext cx="2667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 flipH="1">
            <a:off x="7426440" y="2779560"/>
            <a:ext cx="560160" cy="384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H="1">
            <a:off x="7435440" y="2219400"/>
            <a:ext cx="351000" cy="255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H="1">
            <a:off x="8153280" y="2395440"/>
            <a:ext cx="201600" cy="176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7221600" y="4043520"/>
            <a:ext cx="671400" cy="387360"/>
            <a:chOff x="7221600" y="4043520"/>
            <a:chExt cx="671400" cy="387360"/>
          </a:xfrm>
        </p:grpSpPr>
        <p:sp>
          <p:nvSpPr>
            <p:cNvPr id="1883" name=""/>
            <p:cNvSpPr/>
            <p:nvPr/>
          </p:nvSpPr>
          <p:spPr>
            <a:xfrm>
              <a:off x="7221600" y="40435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4" name=""/>
            <p:cNvGrpSpPr/>
            <p:nvPr/>
          </p:nvGrpSpPr>
          <p:grpSpPr>
            <a:xfrm>
              <a:off x="7296120" y="4130640"/>
              <a:ext cx="501120" cy="232920"/>
              <a:chOff x="7296120" y="4130640"/>
              <a:chExt cx="501120" cy="232920"/>
            </a:xfrm>
          </p:grpSpPr>
          <p:sp>
            <p:nvSpPr>
              <p:cNvPr id="1885" name=""/>
              <p:cNvSpPr/>
              <p:nvPr/>
            </p:nvSpPr>
            <p:spPr>
              <a:xfrm>
                <a:off x="7300080" y="4234680"/>
                <a:ext cx="496800" cy="1288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300080" y="4223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797240" y="4223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300080" y="4223520"/>
                <a:ext cx="49248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296120" y="4130640"/>
                <a:ext cx="496440" cy="1504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0" name=""/>
              <p:cNvGrpSpPr/>
              <p:nvPr/>
            </p:nvGrpSpPr>
            <p:grpSpPr>
              <a:xfrm>
                <a:off x="7415640" y="4163400"/>
                <a:ext cx="245880" cy="88200"/>
                <a:chOff x="7415640" y="4163400"/>
                <a:chExt cx="245880" cy="88200"/>
              </a:xfrm>
            </p:grpSpPr>
            <p:sp>
              <p:nvSpPr>
                <p:cNvPr id="1891" name=""/>
                <p:cNvSpPr/>
                <p:nvPr/>
              </p:nvSpPr>
              <p:spPr>
                <a:xfrm flipV="1">
                  <a:off x="7415640" y="41634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7584120" y="4251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7496640" y="41655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4" name=""/>
              <p:cNvGrpSpPr/>
              <p:nvPr/>
            </p:nvGrpSpPr>
            <p:grpSpPr>
              <a:xfrm>
                <a:off x="7415640" y="4162680"/>
                <a:ext cx="245880" cy="88200"/>
                <a:chOff x="7415640" y="4162680"/>
                <a:chExt cx="245880" cy="88200"/>
              </a:xfrm>
            </p:grpSpPr>
            <p:sp>
              <p:nvSpPr>
                <p:cNvPr id="1895" name=""/>
                <p:cNvSpPr/>
                <p:nvPr/>
              </p:nvSpPr>
              <p:spPr>
                <a:xfrm>
                  <a:off x="7415640" y="42490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7584120" y="41626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 flipV="1">
                  <a:off x="7496640" y="41626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98" name=""/>
          <p:cNvGrpSpPr/>
          <p:nvPr/>
        </p:nvGrpSpPr>
        <p:grpSpPr>
          <a:xfrm>
            <a:off x="7574040" y="3386160"/>
            <a:ext cx="671400" cy="387360"/>
            <a:chOff x="7574040" y="3386160"/>
            <a:chExt cx="671400" cy="387360"/>
          </a:xfrm>
        </p:grpSpPr>
        <p:sp>
          <p:nvSpPr>
            <p:cNvPr id="1899" name=""/>
            <p:cNvSpPr/>
            <p:nvPr/>
          </p:nvSpPr>
          <p:spPr>
            <a:xfrm>
              <a:off x="7574040" y="338616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0" name=""/>
            <p:cNvGrpSpPr/>
            <p:nvPr/>
          </p:nvGrpSpPr>
          <p:grpSpPr>
            <a:xfrm>
              <a:off x="7648560" y="3473280"/>
              <a:ext cx="501120" cy="232920"/>
              <a:chOff x="7648560" y="3473280"/>
              <a:chExt cx="501120" cy="232920"/>
            </a:xfrm>
          </p:grpSpPr>
          <p:sp>
            <p:nvSpPr>
              <p:cNvPr id="1901" name=""/>
              <p:cNvSpPr/>
              <p:nvPr/>
            </p:nvSpPr>
            <p:spPr>
              <a:xfrm>
                <a:off x="7652520" y="3577320"/>
                <a:ext cx="496800" cy="1288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652520" y="3566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8149680" y="3566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652520" y="3566160"/>
                <a:ext cx="49248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648560" y="3473280"/>
                <a:ext cx="496440" cy="1504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6" name=""/>
              <p:cNvGrpSpPr/>
              <p:nvPr/>
            </p:nvGrpSpPr>
            <p:grpSpPr>
              <a:xfrm>
                <a:off x="7768080" y="3506040"/>
                <a:ext cx="245880" cy="88200"/>
                <a:chOff x="7768080" y="3506040"/>
                <a:chExt cx="245880" cy="88200"/>
              </a:xfrm>
            </p:grpSpPr>
            <p:sp>
              <p:nvSpPr>
                <p:cNvPr id="1907" name=""/>
                <p:cNvSpPr/>
                <p:nvPr/>
              </p:nvSpPr>
              <p:spPr>
                <a:xfrm flipV="1">
                  <a:off x="7768080" y="35060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7936560" y="3594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7849080" y="35082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0" name=""/>
              <p:cNvGrpSpPr/>
              <p:nvPr/>
            </p:nvGrpSpPr>
            <p:grpSpPr>
              <a:xfrm>
                <a:off x="7768080" y="3505320"/>
                <a:ext cx="245880" cy="88200"/>
                <a:chOff x="7768080" y="3505320"/>
                <a:chExt cx="245880" cy="8820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7768080" y="35917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7936560" y="3505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 flipV="1">
                  <a:off x="7849080" y="35053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14" name=""/>
          <p:cNvGrpSpPr/>
          <p:nvPr/>
        </p:nvGrpSpPr>
        <p:grpSpPr>
          <a:xfrm>
            <a:off x="6926400" y="2938320"/>
            <a:ext cx="671400" cy="387360"/>
            <a:chOff x="6926400" y="2938320"/>
            <a:chExt cx="671400" cy="387360"/>
          </a:xfrm>
        </p:grpSpPr>
        <p:sp>
          <p:nvSpPr>
            <p:cNvPr id="1915" name=""/>
            <p:cNvSpPr/>
            <p:nvPr/>
          </p:nvSpPr>
          <p:spPr>
            <a:xfrm>
              <a:off x="6926400" y="29383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6" name=""/>
            <p:cNvGrpSpPr/>
            <p:nvPr/>
          </p:nvGrpSpPr>
          <p:grpSpPr>
            <a:xfrm>
              <a:off x="7000920" y="3025440"/>
              <a:ext cx="501120" cy="232920"/>
              <a:chOff x="7000920" y="3025440"/>
              <a:chExt cx="501120" cy="232920"/>
            </a:xfrm>
          </p:grpSpPr>
          <p:sp>
            <p:nvSpPr>
              <p:cNvPr id="1917" name=""/>
              <p:cNvSpPr/>
              <p:nvPr/>
            </p:nvSpPr>
            <p:spPr>
              <a:xfrm>
                <a:off x="7004880" y="3129480"/>
                <a:ext cx="496800" cy="1288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004880" y="3118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502040" y="3118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004880" y="3118320"/>
                <a:ext cx="49248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000920" y="3025440"/>
                <a:ext cx="496440" cy="1504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2" name=""/>
              <p:cNvGrpSpPr/>
              <p:nvPr/>
            </p:nvGrpSpPr>
            <p:grpSpPr>
              <a:xfrm>
                <a:off x="7120440" y="3058200"/>
                <a:ext cx="245880" cy="88200"/>
                <a:chOff x="7120440" y="3058200"/>
                <a:chExt cx="245880" cy="88200"/>
              </a:xfrm>
            </p:grpSpPr>
            <p:sp>
              <p:nvSpPr>
                <p:cNvPr id="1923" name=""/>
                <p:cNvSpPr/>
                <p:nvPr/>
              </p:nvSpPr>
              <p:spPr>
                <a:xfrm flipV="1">
                  <a:off x="7120440" y="30582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7288920" y="3146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7201440" y="30603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6" name=""/>
              <p:cNvGrpSpPr/>
              <p:nvPr/>
            </p:nvGrpSpPr>
            <p:grpSpPr>
              <a:xfrm>
                <a:off x="7120440" y="3057480"/>
                <a:ext cx="245880" cy="88200"/>
                <a:chOff x="7120440" y="3057480"/>
                <a:chExt cx="245880" cy="88200"/>
              </a:xfrm>
            </p:grpSpPr>
            <p:sp>
              <p:nvSpPr>
                <p:cNvPr id="1927" name=""/>
                <p:cNvSpPr/>
                <p:nvPr/>
              </p:nvSpPr>
              <p:spPr>
                <a:xfrm>
                  <a:off x="7120440" y="31438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7288920" y="3057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 flipV="1">
                  <a:off x="7201440" y="30574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30" name=""/>
          <p:cNvGrpSpPr/>
          <p:nvPr/>
        </p:nvGrpSpPr>
        <p:grpSpPr>
          <a:xfrm>
            <a:off x="7745400" y="2462040"/>
            <a:ext cx="671400" cy="387360"/>
            <a:chOff x="7745400" y="2462040"/>
            <a:chExt cx="671400" cy="387360"/>
          </a:xfrm>
        </p:grpSpPr>
        <p:sp>
          <p:nvSpPr>
            <p:cNvPr id="1931" name=""/>
            <p:cNvSpPr/>
            <p:nvPr/>
          </p:nvSpPr>
          <p:spPr>
            <a:xfrm>
              <a:off x="7745400" y="246204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2" name=""/>
            <p:cNvGrpSpPr/>
            <p:nvPr/>
          </p:nvGrpSpPr>
          <p:grpSpPr>
            <a:xfrm>
              <a:off x="7819920" y="2549160"/>
              <a:ext cx="501120" cy="232920"/>
              <a:chOff x="7819920" y="2549160"/>
              <a:chExt cx="501120" cy="232920"/>
            </a:xfrm>
          </p:grpSpPr>
          <p:sp>
            <p:nvSpPr>
              <p:cNvPr id="1933" name=""/>
              <p:cNvSpPr/>
              <p:nvPr/>
            </p:nvSpPr>
            <p:spPr>
              <a:xfrm>
                <a:off x="7823880" y="2653200"/>
                <a:ext cx="496800" cy="1288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823880" y="2642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8321040" y="2642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823880" y="2642040"/>
                <a:ext cx="49248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819920" y="2549160"/>
                <a:ext cx="496440" cy="1504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8" name=""/>
              <p:cNvGrpSpPr/>
              <p:nvPr/>
            </p:nvGrpSpPr>
            <p:grpSpPr>
              <a:xfrm>
                <a:off x="7939440" y="2581920"/>
                <a:ext cx="245880" cy="88200"/>
                <a:chOff x="7939440" y="2581920"/>
                <a:chExt cx="245880" cy="88200"/>
              </a:xfrm>
            </p:grpSpPr>
            <p:sp>
              <p:nvSpPr>
                <p:cNvPr id="1939" name=""/>
                <p:cNvSpPr/>
                <p:nvPr/>
              </p:nvSpPr>
              <p:spPr>
                <a:xfrm flipV="1">
                  <a:off x="7939440" y="2581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8107920" y="2670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8020440" y="2584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2" name=""/>
              <p:cNvGrpSpPr/>
              <p:nvPr/>
            </p:nvGrpSpPr>
            <p:grpSpPr>
              <a:xfrm>
                <a:off x="7939440" y="2581200"/>
                <a:ext cx="245880" cy="88200"/>
                <a:chOff x="7939440" y="2581200"/>
                <a:chExt cx="245880" cy="88200"/>
              </a:xfrm>
            </p:grpSpPr>
            <p:sp>
              <p:nvSpPr>
                <p:cNvPr id="1943" name=""/>
                <p:cNvSpPr/>
                <p:nvPr/>
              </p:nvSpPr>
              <p:spPr>
                <a:xfrm>
                  <a:off x="7939440" y="26676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8107920" y="258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 flipV="1">
                  <a:off x="8020440" y="25812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46" name=""/>
          <p:cNvGrpSpPr/>
          <p:nvPr/>
        </p:nvGrpSpPr>
        <p:grpSpPr>
          <a:xfrm>
            <a:off x="6840360" y="2262240"/>
            <a:ext cx="671760" cy="387360"/>
            <a:chOff x="6840360" y="2262240"/>
            <a:chExt cx="671760" cy="387360"/>
          </a:xfrm>
        </p:grpSpPr>
        <p:sp>
          <p:nvSpPr>
            <p:cNvPr id="1947" name=""/>
            <p:cNvSpPr/>
            <p:nvPr/>
          </p:nvSpPr>
          <p:spPr>
            <a:xfrm>
              <a:off x="6840360" y="2262240"/>
              <a:ext cx="67176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8" name=""/>
            <p:cNvGrpSpPr/>
            <p:nvPr/>
          </p:nvGrpSpPr>
          <p:grpSpPr>
            <a:xfrm>
              <a:off x="6915240" y="2349360"/>
              <a:ext cx="501480" cy="232920"/>
              <a:chOff x="6915240" y="2349360"/>
              <a:chExt cx="501480" cy="232920"/>
            </a:xfrm>
          </p:grpSpPr>
          <p:sp>
            <p:nvSpPr>
              <p:cNvPr id="1949" name=""/>
              <p:cNvSpPr/>
              <p:nvPr/>
            </p:nvSpPr>
            <p:spPr>
              <a:xfrm>
                <a:off x="6919200" y="2453400"/>
                <a:ext cx="497160" cy="1288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919200" y="2442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416720" y="2442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919200" y="2442240"/>
                <a:ext cx="49284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915240" y="2349360"/>
                <a:ext cx="496800" cy="1504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4" name=""/>
              <p:cNvGrpSpPr/>
              <p:nvPr/>
            </p:nvGrpSpPr>
            <p:grpSpPr>
              <a:xfrm>
                <a:off x="7034760" y="2382120"/>
                <a:ext cx="246240" cy="88200"/>
                <a:chOff x="7034760" y="2382120"/>
                <a:chExt cx="246240" cy="88200"/>
              </a:xfrm>
            </p:grpSpPr>
            <p:sp>
              <p:nvSpPr>
                <p:cNvPr id="1955" name=""/>
                <p:cNvSpPr/>
                <p:nvPr/>
              </p:nvSpPr>
              <p:spPr>
                <a:xfrm flipV="1">
                  <a:off x="7034760" y="2382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7203600" y="247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7115760" y="23842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8" name=""/>
              <p:cNvGrpSpPr/>
              <p:nvPr/>
            </p:nvGrpSpPr>
            <p:grpSpPr>
              <a:xfrm>
                <a:off x="7034760" y="2381400"/>
                <a:ext cx="246240" cy="88200"/>
                <a:chOff x="7034760" y="2381400"/>
                <a:chExt cx="246240" cy="8820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7034760" y="24678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7203600" y="2381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 flipV="1">
                  <a:off x="7115760" y="2381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62" name=""/>
          <p:cNvGrpSpPr/>
          <p:nvPr/>
        </p:nvGrpSpPr>
        <p:grpSpPr>
          <a:xfrm>
            <a:off x="5897520" y="2471760"/>
            <a:ext cx="671400" cy="387360"/>
            <a:chOff x="5897520" y="2471760"/>
            <a:chExt cx="671400" cy="387360"/>
          </a:xfrm>
        </p:grpSpPr>
        <p:sp>
          <p:nvSpPr>
            <p:cNvPr id="1963" name=""/>
            <p:cNvSpPr/>
            <p:nvPr/>
          </p:nvSpPr>
          <p:spPr>
            <a:xfrm>
              <a:off x="5897520" y="247176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4" name=""/>
            <p:cNvGrpSpPr/>
            <p:nvPr/>
          </p:nvGrpSpPr>
          <p:grpSpPr>
            <a:xfrm>
              <a:off x="5972040" y="2558880"/>
              <a:ext cx="501120" cy="232920"/>
              <a:chOff x="5972040" y="2558880"/>
              <a:chExt cx="501120" cy="232920"/>
            </a:xfrm>
          </p:grpSpPr>
          <p:sp>
            <p:nvSpPr>
              <p:cNvPr id="1965" name=""/>
              <p:cNvSpPr/>
              <p:nvPr/>
            </p:nvSpPr>
            <p:spPr>
              <a:xfrm>
                <a:off x="5976000" y="2662920"/>
                <a:ext cx="496800" cy="1288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5976000" y="2651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473160" y="2651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976000" y="2651760"/>
                <a:ext cx="49248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972040" y="2558880"/>
                <a:ext cx="496440" cy="1504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0" name=""/>
              <p:cNvGrpSpPr/>
              <p:nvPr/>
            </p:nvGrpSpPr>
            <p:grpSpPr>
              <a:xfrm>
                <a:off x="6091560" y="2591640"/>
                <a:ext cx="245880" cy="88200"/>
                <a:chOff x="6091560" y="2591640"/>
                <a:chExt cx="245880" cy="88200"/>
              </a:xfrm>
            </p:grpSpPr>
            <p:sp>
              <p:nvSpPr>
                <p:cNvPr id="1971" name=""/>
                <p:cNvSpPr/>
                <p:nvPr/>
              </p:nvSpPr>
              <p:spPr>
                <a:xfrm flipV="1">
                  <a:off x="6091560" y="2591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6260040" y="2679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6172560" y="25938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4" name=""/>
              <p:cNvGrpSpPr/>
              <p:nvPr/>
            </p:nvGrpSpPr>
            <p:grpSpPr>
              <a:xfrm>
                <a:off x="6091560" y="2590920"/>
                <a:ext cx="245880" cy="88200"/>
                <a:chOff x="6091560" y="2590920"/>
                <a:chExt cx="245880" cy="88200"/>
              </a:xfrm>
            </p:grpSpPr>
            <p:sp>
              <p:nvSpPr>
                <p:cNvPr id="1975" name=""/>
                <p:cNvSpPr/>
                <p:nvPr/>
              </p:nvSpPr>
              <p:spPr>
                <a:xfrm>
                  <a:off x="6091560" y="26773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6260040" y="2590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 flipV="1">
                  <a:off x="6172560" y="25909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78" name=""/>
          <p:cNvGrpSpPr/>
          <p:nvPr/>
        </p:nvGrpSpPr>
        <p:grpSpPr>
          <a:xfrm>
            <a:off x="5878440" y="4129200"/>
            <a:ext cx="671760" cy="387360"/>
            <a:chOff x="5878440" y="4129200"/>
            <a:chExt cx="671760" cy="387360"/>
          </a:xfrm>
        </p:grpSpPr>
        <p:sp>
          <p:nvSpPr>
            <p:cNvPr id="1979" name=""/>
            <p:cNvSpPr/>
            <p:nvPr/>
          </p:nvSpPr>
          <p:spPr>
            <a:xfrm>
              <a:off x="5878440" y="4129200"/>
              <a:ext cx="67176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0" name=""/>
            <p:cNvGrpSpPr/>
            <p:nvPr/>
          </p:nvGrpSpPr>
          <p:grpSpPr>
            <a:xfrm>
              <a:off x="5953320" y="4216320"/>
              <a:ext cx="501480" cy="232920"/>
              <a:chOff x="5953320" y="4216320"/>
              <a:chExt cx="501480" cy="232920"/>
            </a:xfrm>
          </p:grpSpPr>
          <p:sp>
            <p:nvSpPr>
              <p:cNvPr id="1981" name=""/>
              <p:cNvSpPr/>
              <p:nvPr/>
            </p:nvSpPr>
            <p:spPr>
              <a:xfrm>
                <a:off x="5957280" y="4320360"/>
                <a:ext cx="497160" cy="1288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957280" y="430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454800" y="430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957280" y="4309200"/>
                <a:ext cx="49284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953320" y="4216320"/>
                <a:ext cx="496800" cy="1504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6" name=""/>
              <p:cNvGrpSpPr/>
              <p:nvPr/>
            </p:nvGrpSpPr>
            <p:grpSpPr>
              <a:xfrm>
                <a:off x="6072840" y="4249080"/>
                <a:ext cx="246240" cy="88200"/>
                <a:chOff x="6072840" y="4249080"/>
                <a:chExt cx="246240" cy="88200"/>
              </a:xfrm>
            </p:grpSpPr>
            <p:sp>
              <p:nvSpPr>
                <p:cNvPr id="1987" name=""/>
                <p:cNvSpPr/>
                <p:nvPr/>
              </p:nvSpPr>
              <p:spPr>
                <a:xfrm flipV="1">
                  <a:off x="6072840" y="4249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6241680" y="4337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6153840" y="4251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0" name=""/>
              <p:cNvGrpSpPr/>
              <p:nvPr/>
            </p:nvGrpSpPr>
            <p:grpSpPr>
              <a:xfrm>
                <a:off x="6072840" y="4248360"/>
                <a:ext cx="246240" cy="88200"/>
                <a:chOff x="6072840" y="4248360"/>
                <a:chExt cx="246240" cy="8820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6072840" y="4334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6241680" y="4248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 flipV="1">
                  <a:off x="6153840" y="4248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94" name=""/>
          <p:cNvGrpSpPr/>
          <p:nvPr/>
        </p:nvGrpSpPr>
        <p:grpSpPr>
          <a:xfrm>
            <a:off x="6688080" y="4471920"/>
            <a:ext cx="671400" cy="387360"/>
            <a:chOff x="6688080" y="4471920"/>
            <a:chExt cx="671400" cy="387360"/>
          </a:xfrm>
        </p:grpSpPr>
        <p:sp>
          <p:nvSpPr>
            <p:cNvPr id="1995" name=""/>
            <p:cNvSpPr/>
            <p:nvPr/>
          </p:nvSpPr>
          <p:spPr>
            <a:xfrm>
              <a:off x="6688080" y="44719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6" name=""/>
            <p:cNvGrpSpPr/>
            <p:nvPr/>
          </p:nvGrpSpPr>
          <p:grpSpPr>
            <a:xfrm>
              <a:off x="6762600" y="4559040"/>
              <a:ext cx="501120" cy="232920"/>
              <a:chOff x="6762600" y="4559040"/>
              <a:chExt cx="501120" cy="232920"/>
            </a:xfrm>
          </p:grpSpPr>
          <p:sp>
            <p:nvSpPr>
              <p:cNvPr id="1997" name=""/>
              <p:cNvSpPr/>
              <p:nvPr/>
            </p:nvSpPr>
            <p:spPr>
              <a:xfrm>
                <a:off x="6766560" y="4663080"/>
                <a:ext cx="496800" cy="1288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6766560" y="465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263720" y="465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6766560" y="4651920"/>
                <a:ext cx="492480" cy="788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6762600" y="4559040"/>
                <a:ext cx="496440" cy="1504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2" name=""/>
              <p:cNvGrpSpPr/>
              <p:nvPr/>
            </p:nvGrpSpPr>
            <p:grpSpPr>
              <a:xfrm>
                <a:off x="6882120" y="4591800"/>
                <a:ext cx="245880" cy="88200"/>
                <a:chOff x="6882120" y="4591800"/>
                <a:chExt cx="245880" cy="88200"/>
              </a:xfrm>
            </p:grpSpPr>
            <p:sp>
              <p:nvSpPr>
                <p:cNvPr id="2003" name=""/>
                <p:cNvSpPr/>
                <p:nvPr/>
              </p:nvSpPr>
              <p:spPr>
                <a:xfrm flipV="1">
                  <a:off x="6882120" y="4591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7050600" y="468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6963120" y="4593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6" name=""/>
              <p:cNvGrpSpPr/>
              <p:nvPr/>
            </p:nvGrpSpPr>
            <p:grpSpPr>
              <a:xfrm>
                <a:off x="6882120" y="4591080"/>
                <a:ext cx="245880" cy="88200"/>
                <a:chOff x="6882120" y="4591080"/>
                <a:chExt cx="245880" cy="88200"/>
              </a:xfrm>
            </p:grpSpPr>
            <p:sp>
              <p:nvSpPr>
                <p:cNvPr id="2007" name=""/>
                <p:cNvSpPr/>
                <p:nvPr/>
              </p:nvSpPr>
              <p:spPr>
                <a:xfrm>
                  <a:off x="6882120" y="46774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7050600" y="4591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 flipV="1">
                  <a:off x="6963120" y="4591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10" name=""/>
          <p:cNvSpPr/>
          <p:nvPr/>
        </p:nvSpPr>
        <p:spPr>
          <a:xfrm flipV="1">
            <a:off x="6210360" y="445932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539640" y="28440"/>
            <a:ext cx="74678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Jezgro mreže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: 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komutiranje</a:t>
            </a:r>
            <a:r>
              <a:rPr b="0" lang="en-GB" sz="4000" spc="-1" strike="noStrike">
                <a:solidFill>
                  <a:srgbClr val="003300"/>
                </a:solidFill>
                <a:latin typeface="Arial Black"/>
              </a:rPr>
              <a:t> kanal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220680" y="1600200"/>
            <a:ext cx="471168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Krajnji resursi rezervisani za "poziv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pusni opseg lin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pacitet komuta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većeni resur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ez delj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rantova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forma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hteva se podešavanje poz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6711840" y="1717560"/>
            <a:ext cx="2046240" cy="20494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4575240" y="1542960"/>
            <a:ext cx="2122560" cy="194328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994280" y="3317760"/>
            <a:ext cx="3382920" cy="271476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6" name=""/>
          <p:cNvGrpSpPr/>
          <p:nvPr/>
        </p:nvGrpSpPr>
        <p:grpSpPr>
          <a:xfrm>
            <a:off x="4708440" y="1708200"/>
            <a:ext cx="834840" cy="390600"/>
            <a:chOff x="4708440" y="1708200"/>
            <a:chExt cx="834840" cy="390600"/>
          </a:xfrm>
        </p:grpSpPr>
        <p:pic>
          <p:nvPicPr>
            <p:cNvPr id="2017" name="" descr=""/>
            <p:cNvPicPr/>
            <p:nvPr/>
          </p:nvPicPr>
          <p:blipFill>
            <a:blip r:embed="rId1"/>
            <a:stretch/>
          </p:blipFill>
          <p:spPr>
            <a:xfrm>
              <a:off x="4708440" y="1708200"/>
              <a:ext cx="47376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8" name="" descr=""/>
            <p:cNvPicPr/>
            <p:nvPr/>
          </p:nvPicPr>
          <p:blipFill>
            <a:blip r:embed="rId2"/>
            <a:stretch/>
          </p:blipFill>
          <p:spPr>
            <a:xfrm>
              <a:off x="5225040" y="1852920"/>
              <a:ext cx="31824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9" name=""/>
            <p:cNvSpPr/>
            <p:nvPr/>
          </p:nvSpPr>
          <p:spPr>
            <a:xfrm flipV="1">
              <a:off x="5171040" y="2004120"/>
              <a:ext cx="1299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4708440" y="2436840"/>
            <a:ext cx="834840" cy="390600"/>
            <a:chOff x="4708440" y="2436840"/>
            <a:chExt cx="834840" cy="390600"/>
          </a:xfrm>
        </p:grpSpPr>
        <p:pic>
          <p:nvPicPr>
            <p:cNvPr id="2021" name="" descr=""/>
            <p:cNvPicPr/>
            <p:nvPr/>
          </p:nvPicPr>
          <p:blipFill>
            <a:blip r:embed="rId3"/>
            <a:stretch/>
          </p:blipFill>
          <p:spPr>
            <a:xfrm>
              <a:off x="4708440" y="2436840"/>
              <a:ext cx="47376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2" name="" descr=""/>
            <p:cNvPicPr/>
            <p:nvPr/>
          </p:nvPicPr>
          <p:blipFill>
            <a:blip r:embed="rId4"/>
            <a:stretch/>
          </p:blipFill>
          <p:spPr>
            <a:xfrm>
              <a:off x="5225040" y="2581560"/>
              <a:ext cx="31824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3" name=""/>
            <p:cNvSpPr/>
            <p:nvPr/>
          </p:nvSpPr>
          <p:spPr>
            <a:xfrm flipV="1">
              <a:off x="5171040" y="2732760"/>
              <a:ext cx="1299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5137200" y="2176560"/>
            <a:ext cx="78840" cy="261360"/>
            <a:chOff x="5137200" y="2176560"/>
            <a:chExt cx="78840" cy="261360"/>
          </a:xfrm>
        </p:grpSpPr>
        <p:sp>
          <p:nvSpPr>
            <p:cNvPr id="2025" name=""/>
            <p:cNvSpPr/>
            <p:nvPr/>
          </p:nvSpPr>
          <p:spPr>
            <a:xfrm>
              <a:off x="5137200" y="2176560"/>
              <a:ext cx="72720" cy="738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140080" y="2270520"/>
              <a:ext cx="72720" cy="73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143320" y="2364480"/>
              <a:ext cx="72720" cy="73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5670720" y="2792520"/>
            <a:ext cx="237960" cy="482040"/>
            <a:chOff x="5670720" y="2792520"/>
            <a:chExt cx="237960" cy="482040"/>
          </a:xfrm>
        </p:grpSpPr>
        <p:sp>
          <p:nvSpPr>
            <p:cNvPr id="2029" name=""/>
            <p:cNvSpPr/>
            <p:nvPr/>
          </p:nvSpPr>
          <p:spPr>
            <a:xfrm>
              <a:off x="5670720" y="3163320"/>
              <a:ext cx="237960" cy="111240"/>
            </a:xfrm>
            <a:prstGeom prst="parallelogram">
              <a:avLst>
                <a:gd name="adj" fmla="val 8240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791320" y="2795400"/>
              <a:ext cx="109440" cy="3704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672160" y="2900520"/>
              <a:ext cx="150840" cy="3708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670720" y="2792520"/>
              <a:ext cx="237960" cy="111240"/>
            </a:xfrm>
            <a:prstGeom prst="parallelogram">
              <a:avLst>
                <a:gd name="adj" fmla="val 8240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908680" y="2800080"/>
              <a:ext cx="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5823000" y="3163320"/>
              <a:ext cx="8568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691240" y="2949480"/>
              <a:ext cx="100080" cy="213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705640" y="3013920"/>
              <a:ext cx="759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7" name=""/>
          <p:cNvGrpSpPr/>
          <p:nvPr/>
        </p:nvGrpSpPr>
        <p:grpSpPr>
          <a:xfrm>
            <a:off x="5940360" y="2980080"/>
            <a:ext cx="265320" cy="99720"/>
            <a:chOff x="5940360" y="2980080"/>
            <a:chExt cx="265320" cy="99720"/>
          </a:xfrm>
        </p:grpSpPr>
        <p:sp>
          <p:nvSpPr>
            <p:cNvPr id="2038" name=""/>
            <p:cNvSpPr/>
            <p:nvPr/>
          </p:nvSpPr>
          <p:spPr>
            <a:xfrm rot="16200000">
              <a:off x="5931720" y="2996280"/>
              <a:ext cx="91800" cy="74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rot="16200000">
              <a:off x="6027120" y="2992680"/>
              <a:ext cx="91800" cy="74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rot="16200000">
              <a:off x="6122520" y="2988720"/>
              <a:ext cx="91800" cy="74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1" name=""/>
          <p:cNvSpPr/>
          <p:nvPr/>
        </p:nvSpPr>
        <p:spPr>
          <a:xfrm>
            <a:off x="5826240" y="2679840"/>
            <a:ext cx="563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829480" y="2674800"/>
            <a:ext cx="2880" cy="1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392880" y="267336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484960" y="2019240"/>
            <a:ext cx="328320" cy="3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5499000" y="2368440"/>
            <a:ext cx="31428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 flipV="1">
            <a:off x="6099120" y="2473200"/>
            <a:ext cx="18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7" name=""/>
          <p:cNvGrpSpPr/>
          <p:nvPr/>
        </p:nvGrpSpPr>
        <p:grpSpPr>
          <a:xfrm>
            <a:off x="6234120" y="2763720"/>
            <a:ext cx="237960" cy="483840"/>
            <a:chOff x="6234120" y="2763720"/>
            <a:chExt cx="237960" cy="483840"/>
          </a:xfrm>
        </p:grpSpPr>
        <p:sp>
          <p:nvSpPr>
            <p:cNvPr id="2048" name=""/>
            <p:cNvSpPr/>
            <p:nvPr/>
          </p:nvSpPr>
          <p:spPr>
            <a:xfrm>
              <a:off x="6234120" y="313596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54720" y="276660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235560" y="287208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234120" y="276372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472080" y="277128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>
              <a:off x="6386400" y="313596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254640" y="2921400"/>
              <a:ext cx="100080" cy="214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269040" y="298584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6" name=""/>
          <p:cNvGrpSpPr/>
          <p:nvPr/>
        </p:nvGrpSpPr>
        <p:grpSpPr>
          <a:xfrm>
            <a:off x="5145120" y="3521160"/>
            <a:ext cx="546120" cy="1132920"/>
            <a:chOff x="5145120" y="3521160"/>
            <a:chExt cx="546120" cy="1132920"/>
          </a:xfrm>
        </p:grpSpPr>
        <p:pic>
          <p:nvPicPr>
            <p:cNvPr id="2057" name="" descr=""/>
            <p:cNvPicPr/>
            <p:nvPr/>
          </p:nvPicPr>
          <p:blipFill>
            <a:blip r:embed="rId5"/>
            <a:stretch/>
          </p:blipFill>
          <p:spPr>
            <a:xfrm>
              <a:off x="5145120" y="352116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8" name=""/>
            <p:cNvSpPr/>
            <p:nvPr/>
          </p:nvSpPr>
          <p:spPr>
            <a:xfrm flipV="1">
              <a:off x="5608440" y="3823200"/>
              <a:ext cx="8280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9" name="" descr=""/>
            <p:cNvPicPr/>
            <p:nvPr/>
          </p:nvPicPr>
          <p:blipFill>
            <a:blip r:embed="rId6"/>
            <a:stretch/>
          </p:blipFill>
          <p:spPr>
            <a:xfrm>
              <a:off x="5145120" y="424908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0" name=""/>
            <p:cNvSpPr/>
            <p:nvPr/>
          </p:nvSpPr>
          <p:spPr>
            <a:xfrm flipV="1">
              <a:off x="5608440" y="4555800"/>
              <a:ext cx="82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5288040" y="3939120"/>
              <a:ext cx="81000" cy="272160"/>
              <a:chOff x="5288040" y="3939120"/>
              <a:chExt cx="81000" cy="272160"/>
            </a:xfrm>
          </p:grpSpPr>
          <p:sp>
            <p:nvSpPr>
              <p:cNvPr id="2062" name=""/>
              <p:cNvSpPr/>
              <p:nvPr/>
            </p:nvSpPr>
            <p:spPr>
              <a:xfrm>
                <a:off x="5288040" y="3939120"/>
                <a:ext cx="74520" cy="7668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291280" y="4037040"/>
                <a:ext cx="74520" cy="763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294520" y="4134960"/>
                <a:ext cx="74520" cy="763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5" name=""/>
            <p:cNvSpPr/>
            <p:nvPr/>
          </p:nvSpPr>
          <p:spPr>
            <a:xfrm>
              <a:off x="5684760" y="3819600"/>
              <a:ext cx="0" cy="73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66" name="" descr=""/>
          <p:cNvPicPr/>
          <p:nvPr/>
        </p:nvPicPr>
        <p:blipFill>
          <a:blip r:embed="rId7"/>
          <a:stretch/>
        </p:blipFill>
        <p:spPr>
          <a:xfrm>
            <a:off x="6132600" y="4756320"/>
            <a:ext cx="476280" cy="406080"/>
          </a:xfrm>
          <a:prstGeom prst="rect">
            <a:avLst/>
          </a:prstGeom>
          <a:ln w="0">
            <a:noFill/>
          </a:ln>
        </p:spPr>
      </p:pic>
      <p:pic>
        <p:nvPicPr>
          <p:cNvPr id="2067" name="" descr=""/>
          <p:cNvPicPr/>
          <p:nvPr/>
        </p:nvPicPr>
        <p:blipFill>
          <a:blip r:embed="rId8"/>
          <a:stretch/>
        </p:blipFill>
        <p:spPr>
          <a:xfrm>
            <a:off x="5433840" y="4743360"/>
            <a:ext cx="473400" cy="403200"/>
          </a:xfrm>
          <a:prstGeom prst="rect">
            <a:avLst/>
          </a:prstGeom>
          <a:ln w="0">
            <a:noFill/>
          </a:ln>
        </p:spPr>
      </p:pic>
      <p:sp>
        <p:nvSpPr>
          <p:cNvPr id="2068" name=""/>
          <p:cNvSpPr/>
          <p:nvPr/>
        </p:nvSpPr>
        <p:spPr>
          <a:xfrm rot="16200000">
            <a:off x="5906160" y="4872600"/>
            <a:ext cx="76320" cy="7452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rot="16200000">
            <a:off x="6002280" y="4870440"/>
            <a:ext cx="77760" cy="7452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 rot="16200000">
            <a:off x="6090120" y="4875840"/>
            <a:ext cx="76320" cy="7452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 flipV="1">
            <a:off x="6421320" y="4690800"/>
            <a:ext cx="324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 flipV="1">
            <a:off x="5711760" y="4676760"/>
            <a:ext cx="0" cy="7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 flipH="1">
            <a:off x="5715000" y="4684680"/>
            <a:ext cx="71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flipV="1">
            <a:off x="5691240" y="4225680"/>
            <a:ext cx="1062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6375240" y="4282920"/>
            <a:ext cx="34452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H="1">
            <a:off x="7280280" y="4278240"/>
            <a:ext cx="31752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7" name="" descr=""/>
          <p:cNvPicPr/>
          <p:nvPr/>
        </p:nvPicPr>
        <p:blipFill>
          <a:blip r:embed="rId9"/>
          <a:stretch/>
        </p:blipFill>
        <p:spPr>
          <a:xfrm>
            <a:off x="7481880" y="3732120"/>
            <a:ext cx="231840" cy="293760"/>
          </a:xfrm>
          <a:prstGeom prst="rect">
            <a:avLst/>
          </a:prstGeom>
          <a:ln w="0">
            <a:noFill/>
          </a:ln>
        </p:spPr>
      </p:pic>
      <p:pic>
        <p:nvPicPr>
          <p:cNvPr id="2078" name="" descr=""/>
          <p:cNvPicPr/>
          <p:nvPr/>
        </p:nvPicPr>
        <p:blipFill>
          <a:blip r:embed="rId10"/>
          <a:stretch/>
        </p:blipFill>
        <p:spPr>
          <a:xfrm>
            <a:off x="5961240" y="3830760"/>
            <a:ext cx="231480" cy="293400"/>
          </a:xfrm>
          <a:prstGeom prst="rect">
            <a:avLst/>
          </a:prstGeom>
          <a:ln w="0">
            <a:noFill/>
          </a:ln>
        </p:spPr>
      </p:pic>
      <p:sp>
        <p:nvSpPr>
          <p:cNvPr id="2079" name=""/>
          <p:cNvSpPr/>
          <p:nvPr/>
        </p:nvSpPr>
        <p:spPr>
          <a:xfrm>
            <a:off x="6053040" y="3554280"/>
            <a:ext cx="1540080" cy="3733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0" name=""/>
          <p:cNvGrpSpPr/>
          <p:nvPr/>
        </p:nvGrpSpPr>
        <p:grpSpPr>
          <a:xfrm>
            <a:off x="6356520" y="5294160"/>
            <a:ext cx="462960" cy="522000"/>
            <a:chOff x="6356520" y="5294160"/>
            <a:chExt cx="462960" cy="522000"/>
          </a:xfrm>
        </p:grpSpPr>
        <p:pic>
          <p:nvPicPr>
            <p:cNvPr id="2081" name="" descr=""/>
            <p:cNvPicPr/>
            <p:nvPr/>
          </p:nvPicPr>
          <p:blipFill>
            <a:blip r:embed="rId11"/>
            <a:stretch/>
          </p:blipFill>
          <p:spPr>
            <a:xfrm>
              <a:off x="6356520" y="5294160"/>
              <a:ext cx="43128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2" name="" descr=""/>
            <p:cNvPicPr/>
            <p:nvPr/>
          </p:nvPicPr>
          <p:blipFill>
            <a:blip r:embed="rId12"/>
            <a:stretch/>
          </p:blipFill>
          <p:spPr>
            <a:xfrm>
              <a:off x="6424560" y="5430960"/>
              <a:ext cx="394920" cy="38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3" name=""/>
          <p:cNvGrpSpPr/>
          <p:nvPr/>
        </p:nvGrpSpPr>
        <p:grpSpPr>
          <a:xfrm>
            <a:off x="7242120" y="5334120"/>
            <a:ext cx="461520" cy="521640"/>
            <a:chOff x="7242120" y="5334120"/>
            <a:chExt cx="461520" cy="521640"/>
          </a:xfrm>
        </p:grpSpPr>
        <p:pic>
          <p:nvPicPr>
            <p:cNvPr id="2084" name="" descr=""/>
            <p:cNvPicPr/>
            <p:nvPr/>
          </p:nvPicPr>
          <p:blipFill>
            <a:blip r:embed="rId13"/>
            <a:stretch/>
          </p:blipFill>
          <p:spPr>
            <a:xfrm>
              <a:off x="7242120" y="5334120"/>
              <a:ext cx="42984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5" name="" descr=""/>
            <p:cNvPicPr/>
            <p:nvPr/>
          </p:nvPicPr>
          <p:blipFill>
            <a:blip r:embed="rId14"/>
            <a:stretch/>
          </p:blipFill>
          <p:spPr>
            <a:xfrm>
              <a:off x="7310160" y="5470920"/>
              <a:ext cx="393480" cy="38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6" name=""/>
          <p:cNvGrpSpPr/>
          <p:nvPr/>
        </p:nvGrpSpPr>
        <p:grpSpPr>
          <a:xfrm>
            <a:off x="6770520" y="4986360"/>
            <a:ext cx="432000" cy="460080"/>
            <a:chOff x="6770520" y="4986360"/>
            <a:chExt cx="432000" cy="460080"/>
          </a:xfrm>
        </p:grpSpPr>
        <p:pic>
          <p:nvPicPr>
            <p:cNvPr id="2087" name="" descr=""/>
            <p:cNvPicPr/>
            <p:nvPr/>
          </p:nvPicPr>
          <p:blipFill>
            <a:blip r:embed="rId15"/>
            <a:stretch/>
          </p:blipFill>
          <p:spPr>
            <a:xfrm>
              <a:off x="6770520" y="4986360"/>
              <a:ext cx="43200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8" name=""/>
            <p:cNvSpPr/>
            <p:nvPr/>
          </p:nvSpPr>
          <p:spPr>
            <a:xfrm>
              <a:off x="6896160" y="5148000"/>
              <a:ext cx="304560" cy="298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9" name=""/>
          <p:cNvSpPr/>
          <p:nvPr/>
        </p:nvSpPr>
        <p:spPr>
          <a:xfrm>
            <a:off x="7118280" y="48672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0" name=""/>
          <p:cNvGrpSpPr/>
          <p:nvPr/>
        </p:nvGrpSpPr>
        <p:grpSpPr>
          <a:xfrm>
            <a:off x="7939080" y="4162320"/>
            <a:ext cx="236520" cy="501480"/>
            <a:chOff x="7939080" y="4162320"/>
            <a:chExt cx="236520" cy="501480"/>
          </a:xfrm>
        </p:grpSpPr>
        <p:sp>
          <p:nvSpPr>
            <p:cNvPr id="2091" name=""/>
            <p:cNvSpPr/>
            <p:nvPr/>
          </p:nvSpPr>
          <p:spPr>
            <a:xfrm>
              <a:off x="7939080" y="454788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8058600" y="4165560"/>
              <a:ext cx="108720" cy="385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940160" y="4274640"/>
              <a:ext cx="149760" cy="385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939080" y="416232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175600" y="41702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8090280" y="4547880"/>
              <a:ext cx="8496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959240" y="4325760"/>
              <a:ext cx="99360" cy="2221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973640" y="4392720"/>
              <a:ext cx="7524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9" name=""/>
          <p:cNvGrpSpPr/>
          <p:nvPr/>
        </p:nvGrpSpPr>
        <p:grpSpPr>
          <a:xfrm>
            <a:off x="7924680" y="4707000"/>
            <a:ext cx="236520" cy="499680"/>
            <a:chOff x="7924680" y="4707000"/>
            <a:chExt cx="236520" cy="499680"/>
          </a:xfrm>
        </p:grpSpPr>
        <p:sp>
          <p:nvSpPr>
            <p:cNvPr id="2100" name=""/>
            <p:cNvSpPr/>
            <p:nvPr/>
          </p:nvSpPr>
          <p:spPr>
            <a:xfrm>
              <a:off x="7924680" y="509112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044200" y="4710240"/>
              <a:ext cx="108720" cy="383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925760" y="4818960"/>
              <a:ext cx="149760" cy="384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924680" y="470700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8161200" y="471492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8075880" y="5091120"/>
              <a:ext cx="84960" cy="11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944840" y="4869720"/>
              <a:ext cx="99360" cy="221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959240" y="4936680"/>
              <a:ext cx="7524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8" name=""/>
          <p:cNvSpPr/>
          <p:nvPr/>
        </p:nvSpPr>
        <p:spPr>
          <a:xfrm flipV="1">
            <a:off x="7846920" y="424620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7842240" y="4991040"/>
            <a:ext cx="11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7839000" y="440856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V="1">
            <a:off x="6388200" y="2081160"/>
            <a:ext cx="52056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7451640" y="2062080"/>
            <a:ext cx="55260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 flipH="1">
            <a:off x="8042400" y="2473200"/>
            <a:ext cx="27288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7165800" y="219852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194600" y="2990880"/>
            <a:ext cx="60804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H="1">
            <a:off x="7718400" y="3560760"/>
            <a:ext cx="30312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flipH="1">
            <a:off x="7459200" y="2433600"/>
            <a:ext cx="6382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 flipH="1">
            <a:off x="7470360" y="1749600"/>
            <a:ext cx="39852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H="1">
            <a:off x="8286480" y="1963800"/>
            <a:ext cx="2300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5797440" y="2198520"/>
            <a:ext cx="569880" cy="285480"/>
            <a:chOff x="5797440" y="2198520"/>
            <a:chExt cx="569880" cy="285480"/>
          </a:xfrm>
        </p:grpSpPr>
        <p:sp>
          <p:nvSpPr>
            <p:cNvPr id="2121" name=""/>
            <p:cNvSpPr/>
            <p:nvPr/>
          </p:nvSpPr>
          <p:spPr>
            <a:xfrm>
              <a:off x="5801760" y="2325960"/>
              <a:ext cx="565200" cy="1580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80176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36732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801760" y="2312640"/>
              <a:ext cx="560160" cy="96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797440" y="2198520"/>
              <a:ext cx="564840" cy="1843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6" name=""/>
            <p:cNvGrpSpPr/>
            <p:nvPr/>
          </p:nvGrpSpPr>
          <p:grpSpPr>
            <a:xfrm>
              <a:off x="5933160" y="2239200"/>
              <a:ext cx="279720" cy="107640"/>
              <a:chOff x="5933160" y="2239200"/>
              <a:chExt cx="279720" cy="107640"/>
            </a:xfrm>
          </p:grpSpPr>
          <p:sp>
            <p:nvSpPr>
              <p:cNvPr id="2127" name=""/>
              <p:cNvSpPr/>
              <p:nvPr/>
            </p:nvSpPr>
            <p:spPr>
              <a:xfrm flipV="1">
                <a:off x="5933160" y="22392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125040" y="23468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024960" y="22413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0" name=""/>
            <p:cNvGrpSpPr/>
            <p:nvPr/>
          </p:nvGrpSpPr>
          <p:grpSpPr>
            <a:xfrm>
              <a:off x="5933160" y="2237400"/>
              <a:ext cx="279720" cy="107640"/>
              <a:chOff x="5933160" y="2237400"/>
              <a:chExt cx="279720" cy="107640"/>
            </a:xfrm>
          </p:grpSpPr>
          <p:sp>
            <p:nvSpPr>
              <p:cNvPr id="2131" name=""/>
              <p:cNvSpPr/>
              <p:nvPr/>
            </p:nvSpPr>
            <p:spPr>
              <a:xfrm>
                <a:off x="5933160" y="23428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6125040" y="22374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V="1">
                <a:off x="6024960" y="22374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4" name=""/>
          <p:cNvGrpSpPr/>
          <p:nvPr/>
        </p:nvGrpSpPr>
        <p:grpSpPr>
          <a:xfrm>
            <a:off x="6880320" y="1919160"/>
            <a:ext cx="571320" cy="285480"/>
            <a:chOff x="6880320" y="1919160"/>
            <a:chExt cx="571320" cy="285480"/>
          </a:xfrm>
        </p:grpSpPr>
        <p:sp>
          <p:nvSpPr>
            <p:cNvPr id="2135" name=""/>
            <p:cNvSpPr/>
            <p:nvPr/>
          </p:nvSpPr>
          <p:spPr>
            <a:xfrm>
              <a:off x="6884640" y="2046600"/>
              <a:ext cx="566640" cy="1580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84640" y="203328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451640" y="203328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884640" y="2033280"/>
              <a:ext cx="561600" cy="96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80320" y="1919160"/>
              <a:ext cx="566280" cy="1843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0" name=""/>
            <p:cNvGrpSpPr/>
            <p:nvPr/>
          </p:nvGrpSpPr>
          <p:grpSpPr>
            <a:xfrm>
              <a:off x="7016400" y="1959840"/>
              <a:ext cx="280440" cy="107640"/>
              <a:chOff x="7016400" y="1959840"/>
              <a:chExt cx="280440" cy="107640"/>
            </a:xfrm>
          </p:grpSpPr>
          <p:sp>
            <p:nvSpPr>
              <p:cNvPr id="2141" name=""/>
              <p:cNvSpPr/>
              <p:nvPr/>
            </p:nvSpPr>
            <p:spPr>
              <a:xfrm flipV="1">
                <a:off x="7016400" y="1959840"/>
                <a:ext cx="100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208640" y="2067480"/>
                <a:ext cx="8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108560" y="1962000"/>
                <a:ext cx="104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4" name=""/>
            <p:cNvGrpSpPr/>
            <p:nvPr/>
          </p:nvGrpSpPr>
          <p:grpSpPr>
            <a:xfrm>
              <a:off x="7016400" y="1958040"/>
              <a:ext cx="280440" cy="107640"/>
              <a:chOff x="7016400" y="1958040"/>
              <a:chExt cx="280440" cy="107640"/>
            </a:xfrm>
          </p:grpSpPr>
          <p:sp>
            <p:nvSpPr>
              <p:cNvPr id="2145" name=""/>
              <p:cNvSpPr/>
              <p:nvPr/>
            </p:nvSpPr>
            <p:spPr>
              <a:xfrm>
                <a:off x="7016400" y="2063520"/>
                <a:ext cx="100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208640" y="1958040"/>
                <a:ext cx="8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7108560" y="1958040"/>
                <a:ext cx="104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8" name=""/>
          <p:cNvGrpSpPr/>
          <p:nvPr/>
        </p:nvGrpSpPr>
        <p:grpSpPr>
          <a:xfrm>
            <a:off x="6900840" y="2724120"/>
            <a:ext cx="569880" cy="285480"/>
            <a:chOff x="6900840" y="2724120"/>
            <a:chExt cx="569880" cy="285480"/>
          </a:xfrm>
        </p:grpSpPr>
        <p:sp>
          <p:nvSpPr>
            <p:cNvPr id="2149" name=""/>
            <p:cNvSpPr/>
            <p:nvPr/>
          </p:nvSpPr>
          <p:spPr>
            <a:xfrm>
              <a:off x="6905160" y="2851560"/>
              <a:ext cx="565200" cy="1580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905160" y="28382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470720" y="28382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905160" y="2838240"/>
              <a:ext cx="560160" cy="96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00840" y="2724120"/>
              <a:ext cx="564840" cy="1843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4" name=""/>
            <p:cNvGrpSpPr/>
            <p:nvPr/>
          </p:nvGrpSpPr>
          <p:grpSpPr>
            <a:xfrm>
              <a:off x="7036560" y="2764800"/>
              <a:ext cx="279720" cy="107640"/>
              <a:chOff x="7036560" y="2764800"/>
              <a:chExt cx="279720" cy="107640"/>
            </a:xfrm>
          </p:grpSpPr>
          <p:sp>
            <p:nvSpPr>
              <p:cNvPr id="2155" name=""/>
              <p:cNvSpPr/>
              <p:nvPr/>
            </p:nvSpPr>
            <p:spPr>
              <a:xfrm flipV="1">
                <a:off x="7036560" y="27648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228440" y="28724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128360" y="27669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8" name=""/>
            <p:cNvGrpSpPr/>
            <p:nvPr/>
          </p:nvGrpSpPr>
          <p:grpSpPr>
            <a:xfrm>
              <a:off x="7036560" y="2763000"/>
              <a:ext cx="279720" cy="107640"/>
              <a:chOff x="7036560" y="2763000"/>
              <a:chExt cx="279720" cy="107640"/>
            </a:xfrm>
          </p:grpSpPr>
          <p:sp>
            <p:nvSpPr>
              <p:cNvPr id="2159" name=""/>
              <p:cNvSpPr/>
              <p:nvPr/>
            </p:nvSpPr>
            <p:spPr>
              <a:xfrm>
                <a:off x="7036560" y="2868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228440" y="27630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7128360" y="27630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2" name=""/>
          <p:cNvGrpSpPr/>
          <p:nvPr/>
        </p:nvGrpSpPr>
        <p:grpSpPr>
          <a:xfrm>
            <a:off x="8004240" y="2174760"/>
            <a:ext cx="568440" cy="284040"/>
            <a:chOff x="8004240" y="2174760"/>
            <a:chExt cx="568440" cy="284040"/>
          </a:xfrm>
        </p:grpSpPr>
        <p:sp>
          <p:nvSpPr>
            <p:cNvPr id="2163" name=""/>
            <p:cNvSpPr/>
            <p:nvPr/>
          </p:nvSpPr>
          <p:spPr>
            <a:xfrm>
              <a:off x="8008560" y="2301480"/>
              <a:ext cx="563760" cy="1573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008560" y="22881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572680" y="22881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8008560" y="2288160"/>
              <a:ext cx="558720" cy="961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8004240" y="2174760"/>
              <a:ext cx="563400" cy="183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8" name=""/>
            <p:cNvGrpSpPr/>
            <p:nvPr/>
          </p:nvGrpSpPr>
          <p:grpSpPr>
            <a:xfrm>
              <a:off x="8139600" y="2215080"/>
              <a:ext cx="278640" cy="107280"/>
              <a:chOff x="8139600" y="2215080"/>
              <a:chExt cx="278640" cy="107280"/>
            </a:xfrm>
          </p:grpSpPr>
          <p:sp>
            <p:nvSpPr>
              <p:cNvPr id="2169" name=""/>
              <p:cNvSpPr/>
              <p:nvPr/>
            </p:nvSpPr>
            <p:spPr>
              <a:xfrm flipV="1">
                <a:off x="8139600" y="221508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8330760" y="232236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8231400" y="2217240"/>
                <a:ext cx="10332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2" name=""/>
            <p:cNvGrpSpPr/>
            <p:nvPr/>
          </p:nvGrpSpPr>
          <p:grpSpPr>
            <a:xfrm>
              <a:off x="8139600" y="2213640"/>
              <a:ext cx="278640" cy="107280"/>
              <a:chOff x="8139600" y="2213640"/>
              <a:chExt cx="278640" cy="107280"/>
            </a:xfrm>
          </p:grpSpPr>
          <p:sp>
            <p:nvSpPr>
              <p:cNvPr id="2173" name=""/>
              <p:cNvSpPr/>
              <p:nvPr/>
            </p:nvSpPr>
            <p:spPr>
              <a:xfrm>
                <a:off x="8139600" y="231876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8330760" y="22136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V="1">
                <a:off x="8231400" y="2213640"/>
                <a:ext cx="10332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6" name=""/>
          <p:cNvGrpSpPr/>
          <p:nvPr/>
        </p:nvGrpSpPr>
        <p:grpSpPr>
          <a:xfrm>
            <a:off x="7783560" y="3271680"/>
            <a:ext cx="569880" cy="284040"/>
            <a:chOff x="7783560" y="3271680"/>
            <a:chExt cx="569880" cy="284040"/>
          </a:xfrm>
        </p:grpSpPr>
        <p:sp>
          <p:nvSpPr>
            <p:cNvPr id="2177" name=""/>
            <p:cNvSpPr/>
            <p:nvPr/>
          </p:nvSpPr>
          <p:spPr>
            <a:xfrm>
              <a:off x="7787880" y="3398400"/>
              <a:ext cx="565200" cy="1573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7787880" y="338508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8353440" y="338508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787880" y="3385080"/>
              <a:ext cx="560160" cy="961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783560" y="3271680"/>
              <a:ext cx="564840" cy="183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2" name=""/>
            <p:cNvGrpSpPr/>
            <p:nvPr/>
          </p:nvGrpSpPr>
          <p:grpSpPr>
            <a:xfrm>
              <a:off x="7919280" y="3312000"/>
              <a:ext cx="279720" cy="107280"/>
              <a:chOff x="7919280" y="3312000"/>
              <a:chExt cx="279720" cy="107280"/>
            </a:xfrm>
          </p:grpSpPr>
          <p:sp>
            <p:nvSpPr>
              <p:cNvPr id="2183" name=""/>
              <p:cNvSpPr/>
              <p:nvPr/>
            </p:nvSpPr>
            <p:spPr>
              <a:xfrm flipV="1">
                <a:off x="7919280" y="33120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8111160" y="34192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8011080" y="331416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6" name=""/>
            <p:cNvGrpSpPr/>
            <p:nvPr/>
          </p:nvGrpSpPr>
          <p:grpSpPr>
            <a:xfrm>
              <a:off x="7919280" y="3310560"/>
              <a:ext cx="279720" cy="107280"/>
              <a:chOff x="7919280" y="3310560"/>
              <a:chExt cx="279720" cy="107280"/>
            </a:xfrm>
          </p:grpSpPr>
          <p:sp>
            <p:nvSpPr>
              <p:cNvPr id="2187" name=""/>
              <p:cNvSpPr/>
              <p:nvPr/>
            </p:nvSpPr>
            <p:spPr>
              <a:xfrm>
                <a:off x="7919280" y="34156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8111160" y="33105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V="1">
                <a:off x="8011080" y="331056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0" name=""/>
          <p:cNvGrpSpPr/>
          <p:nvPr/>
        </p:nvGrpSpPr>
        <p:grpSpPr>
          <a:xfrm>
            <a:off x="7404120" y="3986280"/>
            <a:ext cx="569880" cy="286920"/>
            <a:chOff x="7404120" y="3986280"/>
            <a:chExt cx="569880" cy="286920"/>
          </a:xfrm>
        </p:grpSpPr>
        <p:sp>
          <p:nvSpPr>
            <p:cNvPr id="2191" name=""/>
            <p:cNvSpPr/>
            <p:nvPr/>
          </p:nvSpPr>
          <p:spPr>
            <a:xfrm>
              <a:off x="7408440" y="4114440"/>
              <a:ext cx="565200" cy="1587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40844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97400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408440" y="4100760"/>
              <a:ext cx="560160" cy="972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404120" y="3986280"/>
              <a:ext cx="564840" cy="1854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6" name=""/>
            <p:cNvGrpSpPr/>
            <p:nvPr/>
          </p:nvGrpSpPr>
          <p:grpSpPr>
            <a:xfrm>
              <a:off x="7539840" y="4026960"/>
              <a:ext cx="279720" cy="108360"/>
              <a:chOff x="7539840" y="4026960"/>
              <a:chExt cx="279720" cy="108360"/>
            </a:xfrm>
          </p:grpSpPr>
          <p:sp>
            <p:nvSpPr>
              <p:cNvPr id="2197" name=""/>
              <p:cNvSpPr/>
              <p:nvPr/>
            </p:nvSpPr>
            <p:spPr>
              <a:xfrm flipV="1">
                <a:off x="7539840" y="40269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731720" y="413532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631640" y="4029120"/>
                <a:ext cx="1036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0" name=""/>
            <p:cNvGrpSpPr/>
            <p:nvPr/>
          </p:nvGrpSpPr>
          <p:grpSpPr>
            <a:xfrm>
              <a:off x="7539840" y="4025160"/>
              <a:ext cx="279720" cy="108360"/>
              <a:chOff x="7539840" y="4025160"/>
              <a:chExt cx="279720" cy="108360"/>
            </a:xfrm>
          </p:grpSpPr>
          <p:sp>
            <p:nvSpPr>
              <p:cNvPr id="2201" name=""/>
              <p:cNvSpPr/>
              <p:nvPr/>
            </p:nvSpPr>
            <p:spPr>
              <a:xfrm>
                <a:off x="7539840" y="41313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7731720" y="40251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V="1">
                <a:off x="7631640" y="4025160"/>
                <a:ext cx="1036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4" name=""/>
          <p:cNvGrpSpPr/>
          <p:nvPr/>
        </p:nvGrpSpPr>
        <p:grpSpPr>
          <a:xfrm>
            <a:off x="6710400" y="4584600"/>
            <a:ext cx="569880" cy="284040"/>
            <a:chOff x="6710400" y="4584600"/>
            <a:chExt cx="569880" cy="284040"/>
          </a:xfrm>
        </p:grpSpPr>
        <p:sp>
          <p:nvSpPr>
            <p:cNvPr id="2205" name=""/>
            <p:cNvSpPr/>
            <p:nvPr/>
          </p:nvSpPr>
          <p:spPr>
            <a:xfrm>
              <a:off x="6714720" y="4711320"/>
              <a:ext cx="565200" cy="1573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71472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28028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714720" y="4698000"/>
              <a:ext cx="560160" cy="961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710400" y="4584600"/>
              <a:ext cx="564840" cy="183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0" name=""/>
            <p:cNvGrpSpPr/>
            <p:nvPr/>
          </p:nvGrpSpPr>
          <p:grpSpPr>
            <a:xfrm>
              <a:off x="6846120" y="4624920"/>
              <a:ext cx="279720" cy="107280"/>
              <a:chOff x="6846120" y="4624920"/>
              <a:chExt cx="279720" cy="107280"/>
            </a:xfrm>
          </p:grpSpPr>
          <p:sp>
            <p:nvSpPr>
              <p:cNvPr id="2211" name=""/>
              <p:cNvSpPr/>
              <p:nvPr/>
            </p:nvSpPr>
            <p:spPr>
              <a:xfrm flipV="1">
                <a:off x="6846120" y="462492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038000" y="47322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937920" y="46270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4" name=""/>
            <p:cNvGrpSpPr/>
            <p:nvPr/>
          </p:nvGrpSpPr>
          <p:grpSpPr>
            <a:xfrm>
              <a:off x="6846120" y="4623480"/>
              <a:ext cx="279720" cy="107280"/>
              <a:chOff x="6846120" y="4623480"/>
              <a:chExt cx="279720" cy="107280"/>
            </a:xfrm>
          </p:grpSpPr>
          <p:sp>
            <p:nvSpPr>
              <p:cNvPr id="2215" name=""/>
              <p:cNvSpPr/>
              <p:nvPr/>
            </p:nvSpPr>
            <p:spPr>
              <a:xfrm>
                <a:off x="6846120" y="47286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038000" y="46234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V="1">
                <a:off x="6937920" y="46234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8" name=""/>
          <p:cNvGrpSpPr/>
          <p:nvPr/>
        </p:nvGrpSpPr>
        <p:grpSpPr>
          <a:xfrm>
            <a:off x="5797440" y="4124160"/>
            <a:ext cx="569880" cy="284040"/>
            <a:chOff x="5797440" y="4124160"/>
            <a:chExt cx="569880" cy="284040"/>
          </a:xfrm>
        </p:grpSpPr>
        <p:sp>
          <p:nvSpPr>
            <p:cNvPr id="2219" name=""/>
            <p:cNvSpPr/>
            <p:nvPr/>
          </p:nvSpPr>
          <p:spPr>
            <a:xfrm>
              <a:off x="5801760" y="4250880"/>
              <a:ext cx="565200" cy="1573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80176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36732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801760" y="4237560"/>
              <a:ext cx="560160" cy="961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797440" y="4124160"/>
              <a:ext cx="564840" cy="183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4" name=""/>
            <p:cNvGrpSpPr/>
            <p:nvPr/>
          </p:nvGrpSpPr>
          <p:grpSpPr>
            <a:xfrm>
              <a:off x="5933160" y="4164480"/>
              <a:ext cx="279720" cy="107280"/>
              <a:chOff x="5933160" y="4164480"/>
              <a:chExt cx="279720" cy="107280"/>
            </a:xfrm>
          </p:grpSpPr>
          <p:sp>
            <p:nvSpPr>
              <p:cNvPr id="2225" name=""/>
              <p:cNvSpPr/>
              <p:nvPr/>
            </p:nvSpPr>
            <p:spPr>
              <a:xfrm flipV="1">
                <a:off x="5933160" y="4164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125040" y="42717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024960" y="41666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8" name=""/>
            <p:cNvGrpSpPr/>
            <p:nvPr/>
          </p:nvGrpSpPr>
          <p:grpSpPr>
            <a:xfrm>
              <a:off x="5933160" y="4163040"/>
              <a:ext cx="279720" cy="107280"/>
              <a:chOff x="5933160" y="4163040"/>
              <a:chExt cx="279720" cy="107280"/>
            </a:xfrm>
          </p:grpSpPr>
          <p:sp>
            <p:nvSpPr>
              <p:cNvPr id="2229" name=""/>
              <p:cNvSpPr/>
              <p:nvPr/>
            </p:nvSpPr>
            <p:spPr>
              <a:xfrm>
                <a:off x="5933160" y="42681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125040" y="41630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 flipV="1">
                <a:off x="6024960" y="41630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2" name=""/>
          <p:cNvSpPr/>
          <p:nvPr/>
        </p:nvSpPr>
        <p:spPr>
          <a:xfrm>
            <a:off x="5148360" y="1916280"/>
            <a:ext cx="3038400" cy="3114360"/>
          </a:xfrm>
          <a:custGeom>
            <a:avLst/>
            <a:gdLst/>
            <a:ahLst/>
            <a:rect l="l" t="t" r="r" b="b"/>
            <a:pathLst>
              <a:path w="1914" h="1962">
                <a:moveTo>
                  <a:pt x="0" y="0"/>
                </a:moveTo>
                <a:lnTo>
                  <a:pt x="258" y="12"/>
                </a:lnTo>
                <a:lnTo>
                  <a:pt x="426" y="198"/>
                </a:lnTo>
                <a:lnTo>
                  <a:pt x="768" y="204"/>
                </a:lnTo>
                <a:lnTo>
                  <a:pt x="1086" y="48"/>
                </a:lnTo>
                <a:lnTo>
                  <a:pt x="1326" y="48"/>
                </a:lnTo>
                <a:lnTo>
                  <a:pt x="1326" y="588"/>
                </a:lnTo>
                <a:lnTo>
                  <a:pt x="1890" y="990"/>
                </a:lnTo>
                <a:lnTo>
                  <a:pt x="1662" y="1320"/>
                </a:lnTo>
                <a:lnTo>
                  <a:pt x="1662" y="1944"/>
                </a:lnTo>
                <a:lnTo>
                  <a:pt x="1914" y="1962"/>
                </a:lnTo>
              </a:path>
            </a:pathLst>
          </a:custGeom>
          <a:noFill/>
          <a:ln w="57240">
            <a:solidFill>
              <a:srgbClr val="cc99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012000" y="2133720"/>
            <a:ext cx="1923840" cy="2990880"/>
          </a:xfrm>
          <a:custGeom>
            <a:avLst/>
            <a:gdLst/>
            <a:ahLst/>
            <a:rect l="l" t="t" r="r" b="b"/>
            <a:pathLst>
              <a:path w="1212" h="1884">
                <a:moveTo>
                  <a:pt x="0" y="702"/>
                </a:moveTo>
                <a:lnTo>
                  <a:pt x="0" y="228"/>
                </a:lnTo>
                <a:lnTo>
                  <a:pt x="156" y="228"/>
                </a:lnTo>
                <a:lnTo>
                  <a:pt x="612" y="0"/>
                </a:lnTo>
                <a:lnTo>
                  <a:pt x="714" y="0"/>
                </a:lnTo>
                <a:lnTo>
                  <a:pt x="714" y="558"/>
                </a:lnTo>
                <a:lnTo>
                  <a:pt x="1212" y="912"/>
                </a:lnTo>
                <a:lnTo>
                  <a:pt x="720" y="1668"/>
                </a:lnTo>
                <a:lnTo>
                  <a:pt x="720" y="1884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080040" y="4416480"/>
            <a:ext cx="180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23640" y="118800"/>
            <a:ext cx="746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Jezgro mreže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: 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komutiranje</a:t>
            </a:r>
            <a:r>
              <a:rPr b="0" lang="en-GB" sz="4000" spc="-1" strike="noStrike">
                <a:solidFill>
                  <a:srgbClr val="003300"/>
                </a:solidFill>
                <a:latin typeface="Arial Black"/>
              </a:rPr>
              <a:t> kanal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432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režni resur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j. širina opseg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 deli n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elov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lovi se dodeljuju pozi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o resursa je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</a:rPr>
              <a:t>bespos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nije korišćen od vlasnika poziva (nema delje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4932360" y="1700280"/>
            <a:ext cx="42116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ela širine opsega 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l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rekventna podela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divisio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FD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remenska podela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ivisio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250920" y="187200"/>
            <a:ext cx="8462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K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omutiranje</a:t>
            </a: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 kanala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 : FDM 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i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 TDM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2239" name=""/>
          <p:cNvGrpSpPr/>
          <p:nvPr/>
        </p:nvGrpSpPr>
        <p:grpSpPr>
          <a:xfrm>
            <a:off x="395640" y="1585800"/>
            <a:ext cx="7237080" cy="2440800"/>
            <a:chOff x="395640" y="1585800"/>
            <a:chExt cx="7237080" cy="2440800"/>
          </a:xfrm>
        </p:grpSpPr>
        <p:sp>
          <p:nvSpPr>
            <p:cNvPr id="2240" name=""/>
            <p:cNvSpPr/>
            <p:nvPr/>
          </p:nvSpPr>
          <p:spPr>
            <a:xfrm>
              <a:off x="395640" y="15858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D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1" name=""/>
            <p:cNvGrpSpPr/>
            <p:nvPr/>
          </p:nvGrpSpPr>
          <p:grpSpPr>
            <a:xfrm>
              <a:off x="1082880" y="2196360"/>
              <a:ext cx="6549840" cy="1830240"/>
              <a:chOff x="1082880" y="2196360"/>
              <a:chExt cx="6549840" cy="1830240"/>
            </a:xfrm>
          </p:grpSpPr>
          <p:sp>
            <p:nvSpPr>
              <p:cNvPr id="2242" name=""/>
              <p:cNvSpPr/>
              <p:nvPr/>
            </p:nvSpPr>
            <p:spPr>
              <a:xfrm flipV="1">
                <a:off x="2679840" y="219636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082880" y="265392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Arial"/>
                  </a:rPr>
                  <a:t>frekvencij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2679840" y="3492360"/>
                <a:ext cx="4952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4777200" y="3566880"/>
                <a:ext cx="102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Arial"/>
                  </a:rPr>
                  <a:t>vre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2756160" y="2501640"/>
                <a:ext cx="4572000" cy="914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7" name=""/>
          <p:cNvSpPr/>
          <p:nvPr/>
        </p:nvSpPr>
        <p:spPr>
          <a:xfrm>
            <a:off x="2743200" y="2514600"/>
            <a:ext cx="45720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2743200" y="2743200"/>
            <a:ext cx="45720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2743200" y="2971800"/>
            <a:ext cx="45720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2743200" y="3200400"/>
            <a:ext cx="45720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1" name=""/>
          <p:cNvGrpSpPr/>
          <p:nvPr/>
        </p:nvGrpSpPr>
        <p:grpSpPr>
          <a:xfrm>
            <a:off x="382680" y="4037040"/>
            <a:ext cx="7237080" cy="2518560"/>
            <a:chOff x="382680" y="4037040"/>
            <a:chExt cx="7237080" cy="2518560"/>
          </a:xfrm>
        </p:grpSpPr>
        <p:sp>
          <p:nvSpPr>
            <p:cNvPr id="2252" name=""/>
            <p:cNvSpPr/>
            <p:nvPr/>
          </p:nvSpPr>
          <p:spPr>
            <a:xfrm>
              <a:off x="382680" y="403704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D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V="1">
              <a:off x="2666880" y="4726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069920" y="5183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frekvenci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666880" y="602136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764240" y="609588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vre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743200" y="5029200"/>
              <a:ext cx="4572000" cy="914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2743200" y="5029200"/>
            <a:ext cx="3886200" cy="914400"/>
            <a:chOff x="2743200" y="5029200"/>
            <a:chExt cx="3886200" cy="914400"/>
          </a:xfrm>
        </p:grpSpPr>
        <p:sp>
          <p:nvSpPr>
            <p:cNvPr id="2259" name=""/>
            <p:cNvSpPr/>
            <p:nvPr/>
          </p:nvSpPr>
          <p:spPr>
            <a:xfrm>
              <a:off x="27432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5720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4864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4008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2971800" y="5029200"/>
            <a:ext cx="3886200" cy="914400"/>
            <a:chOff x="2971800" y="5029200"/>
            <a:chExt cx="3886200" cy="914400"/>
          </a:xfrm>
        </p:grpSpPr>
        <p:sp>
          <p:nvSpPr>
            <p:cNvPr id="2265" name=""/>
            <p:cNvSpPr/>
            <p:nvPr/>
          </p:nvSpPr>
          <p:spPr>
            <a:xfrm>
              <a:off x="29718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8862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8006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7150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6294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0" name=""/>
          <p:cNvGrpSpPr/>
          <p:nvPr/>
        </p:nvGrpSpPr>
        <p:grpSpPr>
          <a:xfrm>
            <a:off x="3200400" y="5029200"/>
            <a:ext cx="3886200" cy="914400"/>
            <a:chOff x="3200400" y="5029200"/>
            <a:chExt cx="3886200" cy="914400"/>
          </a:xfrm>
        </p:grpSpPr>
        <p:sp>
          <p:nvSpPr>
            <p:cNvPr id="2271" name=""/>
            <p:cNvSpPr/>
            <p:nvPr/>
          </p:nvSpPr>
          <p:spPr>
            <a:xfrm>
              <a:off x="32004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1148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0292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9436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8580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6" name=""/>
          <p:cNvGrpSpPr/>
          <p:nvPr/>
        </p:nvGrpSpPr>
        <p:grpSpPr>
          <a:xfrm>
            <a:off x="3429000" y="5029200"/>
            <a:ext cx="3886200" cy="914400"/>
            <a:chOff x="3429000" y="5029200"/>
            <a:chExt cx="3886200" cy="914400"/>
          </a:xfrm>
        </p:grpSpPr>
        <p:sp>
          <p:nvSpPr>
            <p:cNvPr id="2277" name=""/>
            <p:cNvSpPr/>
            <p:nvPr/>
          </p:nvSpPr>
          <p:spPr>
            <a:xfrm>
              <a:off x="34290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3434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2578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1722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0866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2" name=""/>
          <p:cNvGrpSpPr/>
          <p:nvPr/>
        </p:nvGrpSpPr>
        <p:grpSpPr>
          <a:xfrm>
            <a:off x="2743200" y="2743200"/>
            <a:ext cx="4572000" cy="457200"/>
            <a:chOff x="2743200" y="2743200"/>
            <a:chExt cx="4572000" cy="457200"/>
          </a:xfrm>
        </p:grpSpPr>
        <p:sp>
          <p:nvSpPr>
            <p:cNvPr id="2283" name=""/>
            <p:cNvSpPr/>
            <p:nvPr/>
          </p:nvSpPr>
          <p:spPr>
            <a:xfrm>
              <a:off x="2743200" y="2743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743200" y="29718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2743200" y="32004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6" name=""/>
          <p:cNvGrpSpPr/>
          <p:nvPr/>
        </p:nvGrpSpPr>
        <p:grpSpPr>
          <a:xfrm>
            <a:off x="2971800" y="5029200"/>
            <a:ext cx="4114800" cy="914400"/>
            <a:chOff x="2971800" y="5029200"/>
            <a:chExt cx="4114800" cy="914400"/>
          </a:xfrm>
        </p:grpSpPr>
        <p:sp>
          <p:nvSpPr>
            <p:cNvPr id="2287" name=""/>
            <p:cNvSpPr/>
            <p:nvPr/>
          </p:nvSpPr>
          <p:spPr>
            <a:xfrm>
              <a:off x="2971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200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3429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3657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3886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114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343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572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800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257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486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15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943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172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400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629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858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086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6" name=""/>
          <p:cNvGrpSpPr/>
          <p:nvPr/>
        </p:nvGrpSpPr>
        <p:grpSpPr>
          <a:xfrm>
            <a:off x="2743200" y="2629080"/>
            <a:ext cx="4572000" cy="685800"/>
            <a:chOff x="2743200" y="2629080"/>
            <a:chExt cx="4572000" cy="685800"/>
          </a:xfrm>
        </p:grpSpPr>
        <p:sp>
          <p:nvSpPr>
            <p:cNvPr id="2307" name=""/>
            <p:cNvSpPr/>
            <p:nvPr/>
          </p:nvSpPr>
          <p:spPr>
            <a:xfrm>
              <a:off x="2743200" y="26290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2743200" y="2857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743200" y="30862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743200" y="33148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1" name=""/>
          <p:cNvGrpSpPr/>
          <p:nvPr/>
        </p:nvGrpSpPr>
        <p:grpSpPr>
          <a:xfrm>
            <a:off x="2857680" y="5029200"/>
            <a:ext cx="4343400" cy="914400"/>
            <a:chOff x="2857680" y="5029200"/>
            <a:chExt cx="4343400" cy="914400"/>
          </a:xfrm>
        </p:grpSpPr>
        <p:sp>
          <p:nvSpPr>
            <p:cNvPr id="2312" name=""/>
            <p:cNvSpPr/>
            <p:nvPr/>
          </p:nvSpPr>
          <p:spPr>
            <a:xfrm>
              <a:off x="2857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3086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314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3543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772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000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229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457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686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915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143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372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600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829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058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2866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5152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7438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9724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20108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2" name=""/>
          <p:cNvGrpSpPr/>
          <p:nvPr/>
        </p:nvGrpSpPr>
        <p:grpSpPr>
          <a:xfrm>
            <a:off x="5372280" y="1257480"/>
            <a:ext cx="2706480" cy="954720"/>
            <a:chOff x="5372280" y="1257480"/>
            <a:chExt cx="2706480" cy="954720"/>
          </a:xfrm>
        </p:grpSpPr>
        <p:grpSp>
          <p:nvGrpSpPr>
            <p:cNvPr id="2333" name=""/>
            <p:cNvGrpSpPr/>
            <p:nvPr/>
          </p:nvGrpSpPr>
          <p:grpSpPr>
            <a:xfrm>
              <a:off x="5372280" y="1752480"/>
              <a:ext cx="2706480" cy="459720"/>
              <a:chOff x="5372280" y="1752480"/>
              <a:chExt cx="2706480" cy="459720"/>
            </a:xfrm>
          </p:grpSpPr>
          <p:sp>
            <p:nvSpPr>
              <p:cNvPr id="2334" name=""/>
              <p:cNvSpPr/>
              <p:nvPr/>
            </p:nvSpPr>
            <p:spPr>
              <a:xfrm>
                <a:off x="5372280" y="175248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 </a:t>
                </a:r>
                <a:r>
                  <a:rPr b="0" lang="sr-Latn-CS" sz="2400" spc="-1" strike="noStrike">
                    <a:solidFill>
                      <a:srgbClr val="000000"/>
                    </a:solidFill>
                    <a:latin typeface="Arial"/>
                  </a:rPr>
                  <a:t>korisnik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935760" y="1854000"/>
                <a:ext cx="228600" cy="228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240680" y="1854000"/>
                <a:ext cx="228600" cy="2286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545240" y="185400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50160" y="185400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9" name=""/>
            <p:cNvSpPr/>
            <p:nvPr/>
          </p:nvSpPr>
          <p:spPr>
            <a:xfrm>
              <a:off x="5375160" y="1257480"/>
              <a:ext cx="116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Prime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Jezgro mreže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: 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komutiranje</a:t>
            </a: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 paketa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4488120" cy="27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svaki tok podataka od kraja do kraja podeljen je na pak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keti korisni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, B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de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režne res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i paket koristi punu širinu opsega lin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ursi se koriste po potreb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4788000" y="1268280"/>
            <a:ext cx="4356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Arial"/>
              </a:rPr>
              <a:t>"sukob" oko resursa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ukupni zahtevi za resursima mogu da premaše količinu koja je na raspolaganj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"sukob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ket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i u red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čekaju na korišćenje lin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uskladišti i prosled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aketi se kreću po jedan sko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u jednom trenut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vor (switch) prima kompletan paket pre nego što ga prosl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09440" y="330840"/>
            <a:ext cx="90345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00"/>
                </a:solidFill>
                <a:latin typeface="Arial Black"/>
              </a:rPr>
              <a:t>Komutiranje paketa</a:t>
            </a: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: </a:t>
            </a:r>
            <a:r>
              <a:rPr b="0" lang="sr-Latn-CS" sz="2400" spc="-1" strike="noStrike">
                <a:solidFill>
                  <a:srgbClr val="003300"/>
                </a:solidFill>
                <a:latin typeface="Arial Black"/>
              </a:rPr>
              <a:t>Statističko multipleksiranje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24000" y="4876560"/>
            <a:ext cx="8820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&amp; B pake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 nema fiksni šablon, delj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na zaht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atisti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</a:rPr>
              <a:t>čko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multiple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</a:rPr>
              <a:t>ksira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M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vaki host dobija isti sl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"koji se ok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će"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M f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j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5" name="" descr=""/>
          <p:cNvPicPr/>
          <p:nvPr/>
        </p:nvPicPr>
        <p:blipFill>
          <a:blip r:embed="rId1"/>
          <a:stretch/>
        </p:blipFill>
        <p:spPr>
          <a:xfrm>
            <a:off x="1203480" y="2470320"/>
            <a:ext cx="645840" cy="533160"/>
          </a:xfrm>
          <a:prstGeom prst="rect">
            <a:avLst/>
          </a:prstGeom>
          <a:ln w="0">
            <a:noFill/>
          </a:ln>
        </p:spPr>
      </p:pic>
      <p:sp>
        <p:nvSpPr>
          <p:cNvPr id="2346" name=""/>
          <p:cNvSpPr/>
          <p:nvPr/>
        </p:nvSpPr>
        <p:spPr>
          <a:xfrm>
            <a:off x="3538440" y="230364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2320920" y="2333520"/>
            <a:ext cx="1198440" cy="3700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2320920" y="2265480"/>
            <a:ext cx="1198440" cy="2635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2330280" y="2036880"/>
            <a:ext cx="1198800" cy="430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0" name=""/>
          <p:cNvGrpSpPr/>
          <p:nvPr/>
        </p:nvGrpSpPr>
        <p:grpSpPr>
          <a:xfrm>
            <a:off x="2676600" y="2066760"/>
            <a:ext cx="497160" cy="118800"/>
            <a:chOff x="2676600" y="2066760"/>
            <a:chExt cx="497160" cy="118800"/>
          </a:xfrm>
        </p:grpSpPr>
        <p:grpSp>
          <p:nvGrpSpPr>
            <p:cNvPr id="2351" name=""/>
            <p:cNvGrpSpPr/>
            <p:nvPr/>
          </p:nvGrpSpPr>
          <p:grpSpPr>
            <a:xfrm>
              <a:off x="2676600" y="2068200"/>
              <a:ext cx="497160" cy="117360"/>
              <a:chOff x="2676600" y="2068200"/>
              <a:chExt cx="497160" cy="117360"/>
            </a:xfrm>
          </p:grpSpPr>
          <p:sp>
            <p:nvSpPr>
              <p:cNvPr id="2352" name=""/>
              <p:cNvSpPr/>
              <p:nvPr/>
            </p:nvSpPr>
            <p:spPr>
              <a:xfrm flipV="1">
                <a:off x="2676600" y="206820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017520" y="21855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2840040" y="207036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5" name=""/>
            <p:cNvGrpSpPr/>
            <p:nvPr/>
          </p:nvGrpSpPr>
          <p:grpSpPr>
            <a:xfrm>
              <a:off x="2676600" y="2066760"/>
              <a:ext cx="497160" cy="117360"/>
              <a:chOff x="2676600" y="2066760"/>
              <a:chExt cx="497160" cy="117360"/>
            </a:xfrm>
          </p:grpSpPr>
          <p:sp>
            <p:nvSpPr>
              <p:cNvPr id="2356" name=""/>
              <p:cNvSpPr/>
              <p:nvPr/>
            </p:nvSpPr>
            <p:spPr>
              <a:xfrm>
                <a:off x="2676600" y="218196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017520" y="20667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V="1">
                <a:off x="2840040" y="206712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9" name=""/>
          <p:cNvSpPr/>
          <p:nvPr/>
        </p:nvSpPr>
        <p:spPr>
          <a:xfrm>
            <a:off x="5416560" y="2352600"/>
            <a:ext cx="1198440" cy="3700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425920" y="2332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5425920" y="2293920"/>
            <a:ext cx="1198800" cy="2635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35640" y="2065320"/>
            <a:ext cx="1198440" cy="430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2"/>
          <a:stretch/>
        </p:blipFill>
        <p:spPr>
          <a:xfrm>
            <a:off x="7004160" y="1546200"/>
            <a:ext cx="645840" cy="533520"/>
          </a:xfrm>
          <a:prstGeom prst="rect">
            <a:avLst/>
          </a:prstGeom>
          <a:ln w="0">
            <a:noFill/>
          </a:ln>
        </p:spPr>
      </p:pic>
      <p:pic>
        <p:nvPicPr>
          <p:cNvPr id="2364" name="" descr=""/>
          <p:cNvPicPr/>
          <p:nvPr/>
        </p:nvPicPr>
        <p:blipFill>
          <a:blip r:embed="rId3"/>
          <a:stretch/>
        </p:blipFill>
        <p:spPr>
          <a:xfrm>
            <a:off x="965160" y="1565280"/>
            <a:ext cx="646200" cy="533520"/>
          </a:xfrm>
          <a:prstGeom prst="rect">
            <a:avLst/>
          </a:prstGeom>
          <a:ln w="0">
            <a:noFill/>
          </a:ln>
        </p:spPr>
      </p:pic>
      <p:sp>
        <p:nvSpPr>
          <p:cNvPr id="2365" name=""/>
          <p:cNvSpPr/>
          <p:nvPr/>
        </p:nvSpPr>
        <p:spPr>
          <a:xfrm>
            <a:off x="1590840" y="19717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 flipV="1">
            <a:off x="1895400" y="2957400"/>
            <a:ext cx="1954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3514680" y="2390760"/>
            <a:ext cx="1933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 flipV="1">
            <a:off x="5619600" y="2724120"/>
            <a:ext cx="142920" cy="65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 flipV="1">
            <a:off x="6591240" y="1952280"/>
            <a:ext cx="50472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2095560" y="1962000"/>
            <a:ext cx="0" cy="100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2104920" y="2395440"/>
            <a:ext cx="20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548160" y="218592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3710160" y="2185920"/>
            <a:ext cx="147600" cy="200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871800" y="218592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4033800" y="218592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4195800" y="2185920"/>
            <a:ext cx="147600" cy="200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567320" y="2185920"/>
            <a:ext cx="147600" cy="200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5005440" y="218124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9" name=""/>
          <p:cNvGrpSpPr/>
          <p:nvPr/>
        </p:nvGrpSpPr>
        <p:grpSpPr>
          <a:xfrm>
            <a:off x="2857680" y="2262240"/>
            <a:ext cx="633240" cy="199800"/>
            <a:chOff x="2857680" y="2262240"/>
            <a:chExt cx="633240" cy="199800"/>
          </a:xfrm>
        </p:grpSpPr>
        <p:sp>
          <p:nvSpPr>
            <p:cNvPr id="2380" name=""/>
            <p:cNvSpPr/>
            <p:nvPr/>
          </p:nvSpPr>
          <p:spPr>
            <a:xfrm>
              <a:off x="2857680" y="2262240"/>
              <a:ext cx="147600" cy="1998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019320" y="2262240"/>
              <a:ext cx="147600" cy="199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181320" y="2262240"/>
              <a:ext cx="147600" cy="1998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343320" y="2262240"/>
              <a:ext cx="147600" cy="1998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4" name=""/>
          <p:cNvSpPr/>
          <p:nvPr/>
        </p:nvSpPr>
        <p:spPr>
          <a:xfrm>
            <a:off x="2128680" y="2162160"/>
            <a:ext cx="14796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09800" y="2733840"/>
            <a:ext cx="147600" cy="199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305080" y="2266920"/>
            <a:ext cx="2430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 flipV="1">
            <a:off x="1971720" y="2543040"/>
            <a:ext cx="0" cy="1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929040" y="207648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627840" y="15890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887760" y="26082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602040" y="14652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638360" y="131292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Mb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3761640" y="2427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5 Mb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022800" y="299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5467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5629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791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8" name=""/>
          <p:cNvGrpSpPr/>
          <p:nvPr/>
        </p:nvGrpSpPr>
        <p:grpSpPr>
          <a:xfrm>
            <a:off x="5711400" y="2268720"/>
            <a:ext cx="640800" cy="510480"/>
            <a:chOff x="5711400" y="2268720"/>
            <a:chExt cx="640800" cy="510480"/>
          </a:xfrm>
        </p:grpSpPr>
        <p:sp>
          <p:nvSpPr>
            <p:cNvPr id="2399" name=""/>
            <p:cNvSpPr/>
            <p:nvPr/>
          </p:nvSpPr>
          <p:spPr>
            <a:xfrm rot="19637400">
              <a:off x="5753520" y="255528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rot="19637400">
              <a:off x="5889600" y="246780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rot="19637400">
              <a:off x="6026040" y="238032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rot="19637400">
              <a:off x="6162120" y="229284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3" name=""/>
          <p:cNvGrpSpPr/>
          <p:nvPr/>
        </p:nvGrpSpPr>
        <p:grpSpPr>
          <a:xfrm>
            <a:off x="3680640" y="3341520"/>
            <a:ext cx="3104280" cy="1471680"/>
            <a:chOff x="3680640" y="3341520"/>
            <a:chExt cx="3104280" cy="1471680"/>
          </a:xfrm>
        </p:grpSpPr>
        <p:pic>
          <p:nvPicPr>
            <p:cNvPr id="2404" name="" descr=""/>
            <p:cNvPicPr/>
            <p:nvPr/>
          </p:nvPicPr>
          <p:blipFill>
            <a:blip r:embed="rId4"/>
            <a:stretch/>
          </p:blipFill>
          <p:spPr>
            <a:xfrm>
              <a:off x="5765760" y="427968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5" name=""/>
            <p:cNvGrpSpPr/>
            <p:nvPr/>
          </p:nvGrpSpPr>
          <p:grpSpPr>
            <a:xfrm>
              <a:off x="4921200" y="3341520"/>
              <a:ext cx="1207440" cy="666720"/>
              <a:chOff x="4921200" y="3341520"/>
              <a:chExt cx="1207440" cy="666720"/>
            </a:xfrm>
          </p:grpSpPr>
          <p:sp>
            <p:nvSpPr>
              <p:cNvPr id="2406" name=""/>
              <p:cNvSpPr/>
              <p:nvPr/>
            </p:nvSpPr>
            <p:spPr>
              <a:xfrm>
                <a:off x="4921200" y="3638160"/>
                <a:ext cx="1198080" cy="37008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4921200" y="36082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4921200" y="3570120"/>
                <a:ext cx="1198080" cy="2635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4930200" y="3341520"/>
                <a:ext cx="1198440" cy="4302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0" name=""/>
              <p:cNvGrpSpPr/>
              <p:nvPr/>
            </p:nvGrpSpPr>
            <p:grpSpPr>
              <a:xfrm>
                <a:off x="5276520" y="3371400"/>
                <a:ext cx="496800" cy="118800"/>
                <a:chOff x="5276520" y="3371400"/>
                <a:chExt cx="496800" cy="118800"/>
              </a:xfrm>
            </p:grpSpPr>
            <p:grpSp>
              <p:nvGrpSpPr>
                <p:cNvPr id="2411" name=""/>
                <p:cNvGrpSpPr/>
                <p:nvPr/>
              </p:nvGrpSpPr>
              <p:grpSpPr>
                <a:xfrm>
                  <a:off x="5276520" y="3372840"/>
                  <a:ext cx="496800" cy="117360"/>
                  <a:chOff x="5276520" y="3372840"/>
                  <a:chExt cx="496800" cy="117360"/>
                </a:xfrm>
              </p:grpSpPr>
              <p:sp>
                <p:nvSpPr>
                  <p:cNvPr id="2412" name=""/>
                  <p:cNvSpPr/>
                  <p:nvPr/>
                </p:nvSpPr>
                <p:spPr>
                  <a:xfrm flipV="1">
                    <a:off x="5276520" y="3372840"/>
                    <a:ext cx="17712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3" name=""/>
                  <p:cNvSpPr/>
                  <p:nvPr/>
                </p:nvSpPr>
                <p:spPr>
                  <a:xfrm>
                    <a:off x="5617080" y="3490200"/>
                    <a:ext cx="156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4" name=""/>
                  <p:cNvSpPr/>
                  <p:nvPr/>
                </p:nvSpPr>
                <p:spPr>
                  <a:xfrm>
                    <a:off x="5439960" y="3375000"/>
                    <a:ext cx="18432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5" name=""/>
                <p:cNvGrpSpPr/>
                <p:nvPr/>
              </p:nvGrpSpPr>
              <p:grpSpPr>
                <a:xfrm>
                  <a:off x="5276520" y="3371400"/>
                  <a:ext cx="496800" cy="117360"/>
                  <a:chOff x="5276520" y="3371400"/>
                  <a:chExt cx="496800" cy="117360"/>
                </a:xfrm>
              </p:grpSpPr>
              <p:sp>
                <p:nvSpPr>
                  <p:cNvPr id="2416" name=""/>
                  <p:cNvSpPr/>
                  <p:nvPr/>
                </p:nvSpPr>
                <p:spPr>
                  <a:xfrm>
                    <a:off x="5276520" y="3486600"/>
                    <a:ext cx="17712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7" name=""/>
                  <p:cNvSpPr/>
                  <p:nvPr/>
                </p:nvSpPr>
                <p:spPr>
                  <a:xfrm>
                    <a:off x="5617080" y="3371400"/>
                    <a:ext cx="156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8" name=""/>
                  <p:cNvSpPr/>
                  <p:nvPr/>
                </p:nvSpPr>
                <p:spPr>
                  <a:xfrm flipV="1">
                    <a:off x="5439960" y="3371760"/>
                    <a:ext cx="18432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2419" name="" descr=""/>
            <p:cNvPicPr/>
            <p:nvPr/>
          </p:nvPicPr>
          <p:blipFill>
            <a:blip r:embed="rId5"/>
            <a:stretch/>
          </p:blipFill>
          <p:spPr>
            <a:xfrm>
              <a:off x="4041720" y="419400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V="1">
              <a:off x="4581360" y="3914280"/>
              <a:ext cx="46656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5771520" y="3971880"/>
              <a:ext cx="33300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680640" y="41986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435000" y="4265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4" name=""/>
            <p:cNvGrpSpPr/>
            <p:nvPr/>
          </p:nvGrpSpPr>
          <p:grpSpPr>
            <a:xfrm>
              <a:off x="5407560" y="3389400"/>
              <a:ext cx="637560" cy="517320"/>
              <a:chOff x="5407560" y="3389400"/>
              <a:chExt cx="637560" cy="517320"/>
            </a:xfrm>
          </p:grpSpPr>
          <p:sp>
            <p:nvSpPr>
              <p:cNvPr id="2425" name=""/>
              <p:cNvSpPr/>
              <p:nvPr/>
            </p:nvSpPr>
            <p:spPr>
              <a:xfrm rot="19581000">
                <a:off x="5450400" y="368244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rot="19581000">
                <a:off x="5585040" y="359280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rot="19581000">
                <a:off x="5720040" y="350280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rot="19581000">
                <a:off x="5854320" y="341352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29" name=""/>
          <p:cNvSpPr/>
          <p:nvPr/>
        </p:nvSpPr>
        <p:spPr>
          <a:xfrm>
            <a:off x="2881440" y="1636560"/>
            <a:ext cx="349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statisti</a:t>
            </a:r>
            <a:r>
              <a:rPr b="1" i="1" lang="sr-Latn-CS" sz="2000" spc="-1" strike="noStrike">
                <a:solidFill>
                  <a:srgbClr val="ff0000"/>
                </a:solidFill>
                <a:latin typeface="Comic Sans MS"/>
              </a:rPr>
              <a:t>čko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 multiple</a:t>
            </a:r>
            <a:r>
              <a:rPr b="1" i="1" lang="sr-Latn-CS" sz="2000" spc="-1" strike="noStrike">
                <a:solidFill>
                  <a:srgbClr val="ff0000"/>
                </a:solidFill>
                <a:latin typeface="Comic Sans MS"/>
              </a:rPr>
              <a:t>ksir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278440" y="2984400"/>
            <a:ext cx="14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red čekanj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pak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 flipV="1">
            <a:off x="2890800" y="2514240"/>
            <a:ext cx="16668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0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300" spc="-1" strike="noStrike">
                <a:solidFill>
                  <a:srgbClr val="003300"/>
                </a:solidFill>
                <a:latin typeface="Arial Black"/>
              </a:rPr>
              <a:t>Poređenje komutiranja paketa i kola za komutiranje</a:t>
            </a:r>
            <a:endParaRPr b="0" lang="en-US" sz="33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210960" y="1981080"/>
            <a:ext cx="8737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mutiranje paketa alocira link na zahtev - statističko multipleks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b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 za prenos podataka “u naletu” (burs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eljenje resu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dnostavni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ma setup poz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Prekomerni "sukob-takmičenje"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šnjenje paketa i gub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li potrebni za pouzdani prenos podata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ntrola suk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Kako obezbediti ponašanje slično komutiranju k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nal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arantovana širina opsega za potrebe audio/video aplik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533520" y="13712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Da li je komutiranje paket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bolj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0" y="25884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Komutiranje paketa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: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uskladišti-i-prosled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464000" cy="395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eb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/R 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undi za pren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baciv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ake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el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bi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ova na link brz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 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eo paket mora da stigne na switch pre nego što može biti prenešen na sledeći l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uskladišti i prosle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šnje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L/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pretpostavljajući da je kašnjenje usled prostiranja jednak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5003280" y="2492280"/>
            <a:ext cx="369756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Primer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= 7.5 M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1.5 Mb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šnjenj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5 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8" name=""/>
          <p:cNvGrpSpPr/>
          <p:nvPr/>
        </p:nvGrpSpPr>
        <p:grpSpPr>
          <a:xfrm>
            <a:off x="2044800" y="1382760"/>
            <a:ext cx="4263840" cy="735480"/>
            <a:chOff x="2044800" y="1382760"/>
            <a:chExt cx="4263840" cy="735480"/>
          </a:xfrm>
        </p:grpSpPr>
        <p:sp>
          <p:nvSpPr>
            <p:cNvPr id="2439" name=""/>
            <p:cNvSpPr/>
            <p:nvPr/>
          </p:nvSpPr>
          <p:spPr>
            <a:xfrm>
              <a:off x="2643120" y="1744560"/>
              <a:ext cx="30956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40" name="" descr=""/>
            <p:cNvPicPr/>
            <p:nvPr/>
          </p:nvPicPr>
          <p:blipFill>
            <a:blip r:embed="rId1"/>
            <a:stretch/>
          </p:blipFill>
          <p:spPr>
            <a:xfrm>
              <a:off x="2044800" y="138276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1" name="" descr=""/>
            <p:cNvPicPr/>
            <p:nvPr/>
          </p:nvPicPr>
          <p:blipFill>
            <a:blip r:embed="rId2"/>
            <a:stretch/>
          </p:blipFill>
          <p:spPr>
            <a:xfrm>
              <a:off x="5662440" y="1425600"/>
              <a:ext cx="64620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2" name=""/>
            <p:cNvGrpSpPr/>
            <p:nvPr/>
          </p:nvGrpSpPr>
          <p:grpSpPr>
            <a:xfrm>
              <a:off x="3406680" y="1576440"/>
              <a:ext cx="568080" cy="284040"/>
              <a:chOff x="3406680" y="1576440"/>
              <a:chExt cx="568080" cy="284040"/>
            </a:xfrm>
          </p:grpSpPr>
          <p:sp>
            <p:nvSpPr>
              <p:cNvPr id="2443" name=""/>
              <p:cNvSpPr/>
              <p:nvPr/>
            </p:nvSpPr>
            <p:spPr>
              <a:xfrm>
                <a:off x="3411360" y="1703520"/>
                <a:ext cx="563400" cy="1569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3411360" y="1690920"/>
                <a:ext cx="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3974760" y="1690920"/>
                <a:ext cx="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3411360" y="1690920"/>
                <a:ext cx="558720" cy="9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3406680" y="1576440"/>
                <a:ext cx="563400" cy="184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8" name=""/>
              <p:cNvGrpSpPr/>
              <p:nvPr/>
            </p:nvGrpSpPr>
            <p:grpSpPr>
              <a:xfrm>
                <a:off x="3543120" y="1617840"/>
                <a:ext cx="278640" cy="106200"/>
                <a:chOff x="3543120" y="1617840"/>
                <a:chExt cx="278640" cy="106200"/>
              </a:xfrm>
            </p:grpSpPr>
            <p:sp>
              <p:nvSpPr>
                <p:cNvPr id="2449" name=""/>
                <p:cNvSpPr/>
                <p:nvPr/>
              </p:nvSpPr>
              <p:spPr>
                <a:xfrm flipV="1">
                  <a:off x="3543120" y="16178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3734280" y="172404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3634920" y="1620000"/>
                  <a:ext cx="103320" cy="104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2" name=""/>
              <p:cNvGrpSpPr/>
              <p:nvPr/>
            </p:nvGrpSpPr>
            <p:grpSpPr>
              <a:xfrm>
                <a:off x="3543120" y="1616040"/>
                <a:ext cx="278640" cy="106560"/>
                <a:chOff x="3543120" y="1616040"/>
                <a:chExt cx="278640" cy="106560"/>
              </a:xfrm>
            </p:grpSpPr>
            <p:sp>
              <p:nvSpPr>
                <p:cNvPr id="2453" name=""/>
                <p:cNvSpPr/>
                <p:nvPr/>
              </p:nvSpPr>
              <p:spPr>
                <a:xfrm>
                  <a:off x="3543120" y="17204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3734280" y="161604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 flipV="1">
                  <a:off x="3634920" y="1616040"/>
                  <a:ext cx="103320" cy="10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56" name=""/>
            <p:cNvGrpSpPr/>
            <p:nvPr/>
          </p:nvGrpSpPr>
          <p:grpSpPr>
            <a:xfrm>
              <a:off x="4532400" y="1574640"/>
              <a:ext cx="568080" cy="284040"/>
              <a:chOff x="4532400" y="1574640"/>
              <a:chExt cx="568080" cy="284040"/>
            </a:xfrm>
          </p:grpSpPr>
          <p:sp>
            <p:nvSpPr>
              <p:cNvPr id="2457" name=""/>
              <p:cNvSpPr/>
              <p:nvPr/>
            </p:nvSpPr>
            <p:spPr>
              <a:xfrm>
                <a:off x="4537080" y="1701720"/>
                <a:ext cx="563400" cy="1569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4537080" y="1689120"/>
                <a:ext cx="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5100480" y="1689120"/>
                <a:ext cx="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537080" y="1689120"/>
                <a:ext cx="558720" cy="9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532400" y="1574640"/>
                <a:ext cx="563400" cy="184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2" name=""/>
              <p:cNvGrpSpPr/>
              <p:nvPr/>
            </p:nvGrpSpPr>
            <p:grpSpPr>
              <a:xfrm>
                <a:off x="4668840" y="1616040"/>
                <a:ext cx="278640" cy="106200"/>
                <a:chOff x="4668840" y="1616040"/>
                <a:chExt cx="278640" cy="106200"/>
              </a:xfrm>
            </p:grpSpPr>
            <p:sp>
              <p:nvSpPr>
                <p:cNvPr id="2463" name=""/>
                <p:cNvSpPr/>
                <p:nvPr/>
              </p:nvSpPr>
              <p:spPr>
                <a:xfrm flipV="1">
                  <a:off x="4668840" y="16160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4860000" y="172224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4760640" y="1618200"/>
                  <a:ext cx="103320" cy="104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6" name=""/>
              <p:cNvGrpSpPr/>
              <p:nvPr/>
            </p:nvGrpSpPr>
            <p:grpSpPr>
              <a:xfrm>
                <a:off x="4668840" y="1614240"/>
                <a:ext cx="278640" cy="106560"/>
                <a:chOff x="4668840" y="1614240"/>
                <a:chExt cx="278640" cy="106560"/>
              </a:xfrm>
            </p:grpSpPr>
            <p:sp>
              <p:nvSpPr>
                <p:cNvPr id="2467" name=""/>
                <p:cNvSpPr/>
                <p:nvPr/>
              </p:nvSpPr>
              <p:spPr>
                <a:xfrm>
                  <a:off x="4668840" y="17186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4860000" y="161424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 flipV="1">
                  <a:off x="4760640" y="1614240"/>
                  <a:ext cx="103320" cy="10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70" name=""/>
            <p:cNvSpPr/>
            <p:nvPr/>
          </p:nvSpPr>
          <p:spPr>
            <a:xfrm>
              <a:off x="2851920" y="171936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025160" y="170352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204880" y="170964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476440" y="1395360"/>
              <a:ext cx="486000" cy="29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9:51:55Z</dcterms:created>
  <dc:creator>xx</dc:creator>
  <dc:description/>
  <dc:language>en-US</dc:language>
  <cp:lastModifiedBy>Branko Perišić</cp:lastModifiedBy>
  <dcterms:modified xsi:type="dcterms:W3CDTF">2009-02-24T13:42:40Z</dcterms:modified>
  <cp:revision>380</cp:revision>
  <dc:subject/>
  <dc:title>PowerPoint Presentation</dc:title>
</cp:coreProperties>
</file>