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2.png" ContentType="image/png"/>
  <Override PartName="/ppt/media/image21.png" ContentType="image/png"/>
  <Override PartName="/ppt/media/image23.png" ContentType="image/png"/>
  <Override PartName="/ppt/media/image20.gif" ContentType="image/gif"/>
  <Override PartName="/ppt/media/image11.wmf" ContentType="image/x-wmf"/>
  <Override PartName="/ppt/media/image3.png" ContentType="image/png"/>
  <Override PartName="/ppt/media/image33.png" ContentType="image/png"/>
  <Override PartName="/ppt/media/image16.png" ContentType="image/png"/>
  <Override PartName="/ppt/media/image7.wmf" ContentType="image/x-wmf"/>
  <Override PartName="/ppt/media/image12.wmf" ContentType="image/x-wmf"/>
  <Override PartName="/ppt/media/image27.png" ContentType="image/png"/>
  <Override PartName="/ppt/media/image8.wmf" ContentType="image/x-wmf"/>
  <Override PartName="/ppt/media/image13.wmf" ContentType="image/x-wmf"/>
  <Override PartName="/ppt/media/image30.png" ContentType="image/png"/>
  <Override PartName="/ppt/media/image9.wmf" ContentType="image/x-wmf"/>
  <Override PartName="/ppt/media/image34.png" ContentType="image/png"/>
  <Override PartName="/ppt/media/image35.png" ContentType="image/png"/>
  <Override PartName="/ppt/media/image36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5.wmf" ContentType="image/x-wmf"/>
  <Override PartName="/ppt/media/image4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9.gif" ContentType="image/gif"/>
  <Override PartName="/ppt/media/image24.png" ContentType="image/png"/>
  <Override PartName="/ppt/media/image17.png" ContentType="image/png"/>
  <Override PartName="/ppt/media/image18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21A5-9C45-418E-98C6-3EA962C8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B5AE-431D-47DA-8FD8-F3641384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A1CA-7241-4444-8D09-155CF7AB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5AA-E460-4596-A5D3-116C033E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AB19-4C0F-41AF-B7D1-823AF5FC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E150-3B95-4C35-A780-60FECB9D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E3A5-35D1-4FED-8ACA-9B6259EB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365F-6363-4EE1-B0AD-D089BC28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AF0A-7BE1-4255-99FD-3AE2B48D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2164-E6DC-4A95-8CD6-82B2791C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E702-4A5D-4EDC-931C-410862FD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C79-17ED-4457-8382-3D19DD5B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E759-ECB7-48C7-97FD-773BBDCC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31F7-260B-43CE-AAF3-2F19F88A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5F2F-C170-44E1-B855-799B5F5B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1A4D-F857-4360-821F-A6B6C513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D402-1249-4CAC-A5AD-0263AED3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CE05-127B-4043-A771-574E2A5F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C84-7758-4FEF-84D7-79705D49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61E2-E70B-4E53-B367-F68CAC60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889-FB58-495E-AF50-5D21C497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352E-9508-4CA6-9BAF-C9CF476F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E69-5697-471F-9818-61560FD6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9B6-E5C7-48F0-9017-9A9E7312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0C31-F318-44B3-9B64-0D9F0C508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ED5D-871B-48A8-A931-A9E1B659E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image" Target="../media/image4.wmf"/><Relationship Id="rId32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2706480"/>
            <a:ext cx="8353440" cy="1312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Policijska informatika</a:t>
            </a:r>
            <a:br>
              <a:rPr sz="4400"/>
            </a:b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Poglavlje.01 Upotreba IT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85" name="ftn_znak" descr=""/>
          <p:cNvPicPr/>
          <p:nvPr/>
        </p:nvPicPr>
        <p:blipFill>
          <a:blip r:embed="rId1"/>
          <a:stretch/>
        </p:blipFill>
        <p:spPr>
          <a:xfrm>
            <a:off x="0" y="0"/>
            <a:ext cx="1276200" cy="1341360"/>
          </a:xfrm>
          <a:prstGeom prst="rect">
            <a:avLst/>
          </a:prstGeom>
          <a:ln w="0">
            <a:noFill/>
          </a:ln>
        </p:spPr>
      </p:pic>
      <p:pic>
        <p:nvPicPr>
          <p:cNvPr id="86" name="cezar_new" descr=""/>
          <p:cNvPicPr/>
          <p:nvPr/>
        </p:nvPicPr>
        <p:blipFill>
          <a:blip r:embed="rId2"/>
          <a:stretch/>
        </p:blipFill>
        <p:spPr>
          <a:xfrm>
            <a:off x="802476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8360" y="5661000"/>
            <a:ext cx="8351640" cy="429120"/>
          </a:xfrm>
          <a:prstGeom prst="rect">
            <a:avLst/>
          </a:prstGeom>
          <a:solidFill>
            <a:srgbClr val="cc99ff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Predmetni nastavnik: Prof. dr Branko Perišić  FTN 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334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1512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Informacija</a:t>
            </a: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 - 0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371600"/>
            <a:ext cx="7772400" cy="4055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sklopu konvencionalnog komuniciranja pojam “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ormacij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se često koristi u kontekstu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cenjivanja neke poruke ili vesti primljenje posretstvom nekog od nosilac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 čemu je često prate neodređeni atributi tipa “malo”, “mnogo”, “nedovoljno”, “tačno”, “netačno”, “javno”, “privatno”  i s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njenica da u navedenoj formulaciji figuriše </a:t>
            </a:r>
            <a:r>
              <a:rPr b="1" i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nosila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osrednik) </a:t>
            </a:r>
            <a:r>
              <a:rPr b="1" i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informacij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vodi </a:t>
            </a:r>
            <a:r>
              <a:rPr b="1" i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roblem komunikacij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o fundamentalne kategorije u sklopu teorije informaci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188200" y="5924520"/>
            <a:ext cx="955800" cy="9334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1512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Informacija</a:t>
            </a: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 - 0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1052640"/>
            <a:ext cx="8229600" cy="4665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ibut “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ormatičk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koji prati savremeno ljudsko društvo, uz sveobuhvatan i brz razvoj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retstava informacionih tehnologij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 mnogome potencira značaj informacija i njihove interpretacije, kao pokretača razvoja ljudskog društ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doks teorije informacija leži u činjenici da 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OČEKIVANA PORUK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i ponašanje nosi 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MALU KOLIČINU INFORMACIJ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dući da je njen uticaj na buduća ponašanja mali)  u odnosu na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OČEKIVANU PORUKU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i ponašanje koje, u opštem slučaju, uzrokuje dramatične promene u budućem ponašanj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33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1512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Informacija</a:t>
            </a: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 - 0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066680"/>
            <a:ext cx="7924680" cy="137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osnovu gornjih razmatranja, opšta teorije informacija informaciju (I) pretstavlja kao 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uređenu četvorku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I = (O,P,S,K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971800"/>
            <a:ext cx="2895480" cy="88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797"/>
                </a:moveTo>
                <a:lnTo>
                  <a:pt x="28966" y="2797"/>
                </a:lnTo>
                <a:lnTo>
                  <a:pt x="28966" y="-6488"/>
                </a:lnTo>
                <a:lnTo>
                  <a:pt x="28966" y="-15773"/>
                </a:lnTo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- objekat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dme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form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114800"/>
            <a:ext cx="350532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70" y="2700"/>
                </a:moveTo>
                <a:lnTo>
                  <a:pt x="25337" y="2700"/>
                </a:lnTo>
                <a:lnTo>
                  <a:pt x="25337" y="-18788"/>
                </a:lnTo>
                <a:lnTo>
                  <a:pt x="25259" y="-40313"/>
                </a:lnTo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- prenosnik informacije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redni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5334120"/>
            <a:ext cx="350532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70" y="2700"/>
                </a:moveTo>
                <a:lnTo>
                  <a:pt x="24192" y="2700"/>
                </a:lnTo>
                <a:lnTo>
                  <a:pt x="24192" y="2700"/>
                </a:lnTo>
                <a:lnTo>
                  <a:pt x="24055" y="-70163"/>
                </a:lnTo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- semantička interpretacija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načenj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306600"/>
            <a:ext cx="3276720" cy="1646280"/>
          </a:xfrm>
          <a:prstGeom prst="borderCallout2">
            <a:avLst>
              <a:gd name="adj1" fmla="val 18750"/>
              <a:gd name="adj2" fmla="val -8333"/>
              <a:gd name="adj3" fmla="val 6944"/>
              <a:gd name="adj4" fmla="val -5282"/>
              <a:gd name="adj5" fmla="val -58532"/>
              <a:gd name="adj6" fmla="val -9254"/>
            </a:avLst>
          </a:prstGeom>
          <a:solidFill>
            <a:srgbClr val="00ffff"/>
          </a:solidFill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 količina informacije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anjenj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pena neodređenosti –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tropij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18720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Informacioni sistemi -0</a:t>
            </a: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33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3680" y="2125800"/>
            <a:ext cx="2286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5840" y="2125800"/>
            <a:ext cx="2286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3573360"/>
            <a:ext cx="38862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2139840" y="2582640"/>
            <a:ext cx="609840" cy="99036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654440" y="2582640"/>
            <a:ext cx="838440" cy="990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3573360"/>
            <a:ext cx="388620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formacioni si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8360" y="6119640"/>
            <a:ext cx="755640" cy="738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3640" y="18720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Informacioni sistemi</a:t>
            </a: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 - 0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125360"/>
            <a:ext cx="8435880" cy="4786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 pojmom INFORMACIONI SISTEM najćešće se podrazumev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o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matranog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SISTEM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manentno snabdeva informacijam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al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oe upravljanja i odlučivanja u sklopu organizacion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trukture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ezentacij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terpretacij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nformacija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ržan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skupom funkcionalnih transformacija nad informacionim resursi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459640" y="6189840"/>
            <a:ext cx="684360" cy="6681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3640" y="18720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Informacioni sistemi</a:t>
            </a: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 - 0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981000"/>
            <a:ext cx="8424720" cy="5761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oni sistem je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STE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kao takav on poseduje sve elemente sistem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jegov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ij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da SNABDEVA INFORMACIJAMA, on poseduje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ORE, PRENOSNIKE i INTERPRETATORE (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ganizaciona struktura i topologiju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e i postupke za ekstrakciju znanja i interpretaciju pre odlučivanja (</a:t>
            </a:r>
            <a:r>
              <a:rPr b="1" i="1" lang="en-US" sz="2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funkcionalna struktur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u podataka nad kojom je izgrađen 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upravljačku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rukturu koja obezbeđuje usklađen rad predmetnog informacionog sistema u funkciji njegove osnovne mis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334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25920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Informacioni sistemi</a:t>
            </a: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 - 0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143000"/>
            <a:ext cx="7467480" cy="4604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oni sistem je </a:t>
            </a:r>
            <a:r>
              <a:rPr b="1" i="1" lang="sr-Latn-C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držano s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ojstvo</a:t>
            </a:r>
            <a:r>
              <a:rPr b="1" i="1" lang="sr-Latn-C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osobina)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kog sistema i mora se posmatrati van konteksta tehničkih sretstava uz oslonac na koja je izvršena njegova implementacij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u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</a:rPr>
              <a:t>čno, mehanografski, računarsk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334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18720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Informacioni sistemi</a:t>
            </a: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 - 04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447920"/>
            <a:ext cx="7848360" cy="3660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i uloga informatike u složenim organizacijama u svetlu primene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pravljačkih informacionih sistema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hnološki bazirani sistemi za podršku odlučivanju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569440" y="6296040"/>
            <a:ext cx="574560" cy="5619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2752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Uloga IS u organizaciji - 5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914400"/>
            <a:ext cx="8686800" cy="5486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NFORMATIČKA FUNKCIJA JE </a:t>
            </a:r>
            <a:r>
              <a:rPr b="1" i="1" lang="en-US" sz="2500" spc="-1" strike="noStrike" u="sng">
                <a:solidFill>
                  <a:srgbClr val="0066ff"/>
                </a:solidFill>
                <a:uFillTx/>
                <a:latin typeface="Arial"/>
                <a:ea typeface="Arial"/>
              </a:rPr>
              <a:t>PRATEĆA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FUNKCIJA</a:t>
            </a:r>
            <a:r>
              <a:rPr b="1" i="1" lang="sr-Latn-C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NJENA </a:t>
            </a:r>
            <a:r>
              <a:rPr b="1" i="1" lang="en-US" sz="2500" spc="-1" strike="noStrike">
                <a:solidFill>
                  <a:srgbClr val="0066ff"/>
                </a:solidFill>
                <a:latin typeface="Arial"/>
                <a:ea typeface="Arial"/>
              </a:rPr>
              <a:t>POZICIJA NIJE ADEKVATNA ZNAČAJU KOJI IMA</a:t>
            </a:r>
            <a:r>
              <a:rPr b="1" i="1" lang="sr-Latn-CS" sz="25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STUP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ENADŽMENT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CION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UNKCIJI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MA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RISTUP </a:t>
            </a:r>
            <a:r>
              <a:rPr b="1" i="1" lang="en-US" sz="2500" spc="-1" strike="noStrike">
                <a:solidFill>
                  <a:srgbClr val="ff66ff"/>
                </a:solidFill>
                <a:latin typeface="Arial"/>
                <a:ea typeface="Arial"/>
              </a:rPr>
              <a:t>INFORMATIČKOG KADRA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MENADŽMENT</a:t>
            </a:r>
            <a:r>
              <a:rPr b="1" i="1" lang="sr-Latn-CS" sz="25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I OPERATIVN</a:t>
            </a:r>
            <a:r>
              <a:rPr b="1" i="1" lang="sr-Latn-CS" sz="2500" spc="-1" strike="noStrike">
                <a:solidFill>
                  <a:srgbClr val="000000"/>
                </a:solidFill>
                <a:latin typeface="Arial"/>
                <a:ea typeface="Arial"/>
              </a:rPr>
              <a:t>IM KORISNICIMA</a:t>
            </a:r>
            <a:r>
              <a:rPr b="1" i="1" lang="sr-Latn-C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ZAŠTO NEPOSREDNI KORISNICI UGLAVNOM SMATRAJU DA “RAČUNAR” NE DOPRINOSI UNAPREĐENJU NIVOA OPERATIVNIH FUNKCIJA? 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cc9900"/>
                </a:solidFill>
                <a:latin typeface="Arial"/>
                <a:ea typeface="Arial"/>
              </a:rPr>
              <a:t>Gde bi informatika trebala biti u sklopu složenog preduzeća</a:t>
            </a:r>
            <a:r>
              <a:rPr b="1" i="1" lang="sr-Latn-CS" sz="2500" spc="-1" strike="noStrike">
                <a:solidFill>
                  <a:srgbClr val="cc9900"/>
                </a:solidFill>
                <a:latin typeface="Arial"/>
                <a:ea typeface="Arial"/>
              </a:rPr>
              <a:t> ili ustanove</a:t>
            </a:r>
            <a:r>
              <a:rPr b="1" i="1" lang="en-US" sz="2500" spc="-1" strike="noStrike">
                <a:solidFill>
                  <a:srgbClr val="cc9900"/>
                </a:solidFill>
                <a:latin typeface="Arial"/>
                <a:ea typeface="Arial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89000"/>
            <a:ext cx="2305080" cy="657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3.11.2008.g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33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27520"/>
            <a:ext cx="83818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Koncept savremene organizacije upravljačkih informacionih sistema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01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447920"/>
            <a:ext cx="7848360" cy="4359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 pojmom AUTOMATIZOVANI INFORMACIONI SISTEM podrazumevamo informacioni sistem za čiju implementaciju se koriste automatizovana (nemanuelna) tehnička sretstv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visno od stepena složenosti i inteligencije koju je moguće ugraditi u tehnička sretstva za podršku implementaciji informacionih sistema razlikujemo više evolutivnih faza automatizovanih informacionih sistem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26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00"/>
                </a:solidFill>
                <a:latin typeface="Arial Black"/>
              </a:rPr>
              <a:t>Korpus znanja i veštin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5280" y="1413000"/>
            <a:ext cx="8209080" cy="4705560"/>
            <a:chOff x="395280" y="1413000"/>
            <a:chExt cx="8209080" cy="4705560"/>
          </a:xfrm>
        </p:grpSpPr>
        <p:sp>
          <p:nvSpPr>
            <p:cNvPr id="90" name=""/>
            <p:cNvSpPr/>
            <p:nvPr/>
          </p:nvSpPr>
          <p:spPr>
            <a:xfrm>
              <a:off x="969840" y="1413000"/>
              <a:ext cx="2808360" cy="459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Polici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86200" y="1413000"/>
              <a:ext cx="2808360" cy="459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ffff"/>
                  </a:solidFill>
                  <a:latin typeface="Times New Roman"/>
                </a:rPr>
                <a:t>Informati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11280" y="3284640"/>
              <a:ext cx="4032360" cy="459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Policijska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ffffff"/>
                  </a:solidFill>
                  <a:latin typeface="Times New Roman"/>
                </a:rPr>
                <a:t>Informati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2698200" y="1844280"/>
              <a:ext cx="79236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076720" y="1917360"/>
              <a:ext cx="86364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5280" y="4005360"/>
              <a:ext cx="2089080" cy="2113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Policijsko obrazovanj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Tehnologija procesa rada u policiji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14920" y="4076640"/>
              <a:ext cx="2089440" cy="1747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ffff"/>
                  </a:solidFill>
                  <a:latin typeface="Times New Roman"/>
                </a:rPr>
                <a:t>Informatičko obrazovanj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ffff"/>
                  </a:solidFill>
                  <a:latin typeface="Times New Roman"/>
                </a:rPr>
                <a:t>Informacione tehnologij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6804000" y="1844280"/>
              <a:ext cx="100800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114200" y="1915920"/>
              <a:ext cx="792360" cy="20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645400" y="6370560"/>
            <a:ext cx="498600" cy="4874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-1080"/>
            <a:ext cx="83818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Koncept savremene organizacije upravljačkih informacionih sistema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02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143000"/>
            <a:ext cx="8458200" cy="5212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današnje vreme su jedino od interes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tomatizovani informacioni sistemi oslonjeni na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ačunarske sisteme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kao tehnička sretstva za implementaciju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osnovu toga možemo zaključiti da savremeni informacioni sistemi spadaju u kategoriju </a:t>
            </a:r>
            <a:r>
              <a:rPr b="1" i="1" lang="en-US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na računarima baziranih sistem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omputer-based systems - CBS), pri čemu se kao referentni model koristi </a:t>
            </a:r>
            <a:r>
              <a:rPr b="1" i="1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distribuirani model obradnih jedinic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literaturi poznat pod naziv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Posix-distribuirani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645400" y="6370560"/>
            <a:ext cx="498600" cy="4874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-1080"/>
            <a:ext cx="83818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Koncept savremene organizacije upravljačkih informacionih sistema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03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838080" y="990720"/>
            <a:ext cx="7817040" cy="5638680"/>
            <a:chOff x="838080" y="990720"/>
            <a:chExt cx="7817040" cy="5638680"/>
          </a:xfrm>
        </p:grpSpPr>
        <p:grpSp>
          <p:nvGrpSpPr>
            <p:cNvPr id="182" name=""/>
            <p:cNvGrpSpPr/>
            <p:nvPr/>
          </p:nvGrpSpPr>
          <p:grpSpPr>
            <a:xfrm>
              <a:off x="838080" y="990720"/>
              <a:ext cx="3517920" cy="3441960"/>
              <a:chOff x="838080" y="990720"/>
              <a:chExt cx="3517920" cy="3441960"/>
            </a:xfrm>
          </p:grpSpPr>
          <p:sp>
            <p:nvSpPr>
              <p:cNvPr id="183" name=""/>
              <p:cNvSpPr/>
              <p:nvPr/>
            </p:nvSpPr>
            <p:spPr>
              <a:xfrm>
                <a:off x="1228680" y="990720"/>
                <a:ext cx="1629000" cy="8614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OBRADNA JEDINICA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8080" y="2520000"/>
                <a:ext cx="1042920" cy="4788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ORISNIC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424160" y="1850760"/>
                <a:ext cx="360" cy="67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03240" y="3380040"/>
                <a:ext cx="1563840" cy="10526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OBJEKTI ZA RUKOVANJE INFORMACIJAM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075400" y="1850760"/>
                <a:ext cx="360" cy="153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596680" y="3380040"/>
                <a:ext cx="1759320" cy="7660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OMUNIKACIONI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OBJEKT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27000" y="1850760"/>
                <a:ext cx="360" cy="153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6439320" y="1277280"/>
              <a:ext cx="1629360" cy="861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BRADNA JEDINICA #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12200" y="2806560"/>
              <a:ext cx="1042920" cy="4791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ORISNI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07320" y="2137320"/>
              <a:ext cx="1080" cy="67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5440" y="3666600"/>
              <a:ext cx="1564200" cy="105264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BJEKTI ZA RUKOVANJE INFORMACIJA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86400" y="2137320"/>
              <a:ext cx="360" cy="153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6520" y="3380040"/>
              <a:ext cx="1759320" cy="7657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OMUNIKACIONI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BJEK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99960" y="2137320"/>
              <a:ext cx="1080" cy="124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55280" y="3762360"/>
              <a:ext cx="6523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41240" y="5501160"/>
              <a:ext cx="1654200" cy="1128240"/>
            </a:xfrm>
            <a:solidFill>
              <a:srgbClr val="00ff00"/>
            </a:solidFill>
            <a:ln w="12600">
              <a:solidFill>
                <a:srgbClr val="000000"/>
              </a:solidFill>
              <a:miter/>
              <a:headEnd len="sm" type="triangle" w="sm"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AZME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FORMA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645400" y="6370560"/>
            <a:ext cx="498600" cy="4874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-1080"/>
            <a:ext cx="83818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Koncept savremene organizacije upravljačkih informacionih sistema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04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38080" y="990720"/>
            <a:ext cx="7817040" cy="5638680"/>
            <a:chOff x="838080" y="990720"/>
            <a:chExt cx="7817040" cy="5638680"/>
          </a:xfrm>
        </p:grpSpPr>
        <p:grpSp>
          <p:nvGrpSpPr>
            <p:cNvPr id="202" name=""/>
            <p:cNvGrpSpPr/>
            <p:nvPr/>
          </p:nvGrpSpPr>
          <p:grpSpPr>
            <a:xfrm>
              <a:off x="838080" y="990720"/>
              <a:ext cx="3517920" cy="3441960"/>
              <a:chOff x="838080" y="990720"/>
              <a:chExt cx="3517920" cy="3441960"/>
            </a:xfrm>
          </p:grpSpPr>
          <p:sp>
            <p:nvSpPr>
              <p:cNvPr id="203" name=""/>
              <p:cNvSpPr/>
              <p:nvPr/>
            </p:nvSpPr>
            <p:spPr>
              <a:xfrm>
                <a:off x="1228680" y="990720"/>
                <a:ext cx="1629000" cy="8614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OBRADNA JEDINICA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38080" y="2520000"/>
                <a:ext cx="1042920" cy="4788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ORISNIC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424160" y="1850760"/>
                <a:ext cx="360" cy="67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903240" y="3380040"/>
                <a:ext cx="1563840" cy="10526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OBJEKTI ZA RUKOVANJE INFORMACIJAM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5400" y="1850760"/>
                <a:ext cx="360" cy="153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596680" y="3380040"/>
                <a:ext cx="1759320" cy="7660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OMUNIKACIONI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OBJEKT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27000" y="1850760"/>
                <a:ext cx="360" cy="153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6439320" y="1277280"/>
              <a:ext cx="1629360" cy="861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BRADNA JEDINICA #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12200" y="2806560"/>
              <a:ext cx="1042920" cy="4791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ORISNI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07320" y="2137320"/>
              <a:ext cx="1080" cy="67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5440" y="3666600"/>
              <a:ext cx="1564200" cy="105264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BJEKTI ZA RUKOVANJE INFORMACIJA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86400" y="2137320"/>
              <a:ext cx="360" cy="153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06520" y="3380040"/>
              <a:ext cx="1759320" cy="7657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OMUNIKACIONI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BJEK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99960" y="2137320"/>
              <a:ext cx="1080" cy="124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55280" y="3762360"/>
              <a:ext cx="6523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1240" y="5501160"/>
              <a:ext cx="1654200" cy="1128240"/>
            </a:xfrm>
            <a:solidFill>
              <a:srgbClr val="00ff00"/>
            </a:solidFill>
            <a:ln w="12600">
              <a:solidFill>
                <a:srgbClr val="000000"/>
              </a:solidFill>
              <a:miter/>
              <a:headEnd len="sm" type="triangle" w="sm"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AZME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FORMA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50920" y="2060640"/>
            <a:ext cx="8459640" cy="4648680"/>
          </a:xfrm>
          <a:prstGeom prst="rect">
            <a:avLst/>
          </a:prstGeom>
          <a:solidFill>
            <a:srgbClr val="5f5f5f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akav model proizvoljnog informacionog sistema omogućava izgradnju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zličitih topologija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budući da </a:t>
            </a:r>
            <a:r>
              <a:rPr b="1" i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tstavlja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labo spregnuti komunikaciono orijentisani sistem </a:t>
            </a:r>
            <a:r>
              <a:rPr b="1" i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ocijacij</a:t>
            </a:r>
            <a:r>
              <a:rPr b="1" i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autonomnih obradnih jedinica</a:t>
            </a:r>
            <a:r>
              <a:rPr b="1" i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2" dur="1" fill="hold"/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645400" y="6370560"/>
            <a:ext cx="498600" cy="4874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-1080"/>
            <a:ext cx="83818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Koncept savremene organizacije upravljačkih informacionih sistema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05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838080" y="990720"/>
            <a:ext cx="7817040" cy="5638680"/>
            <a:chOff x="838080" y="990720"/>
            <a:chExt cx="7817040" cy="5638680"/>
          </a:xfrm>
        </p:grpSpPr>
        <p:grpSp>
          <p:nvGrpSpPr>
            <p:cNvPr id="223" name=""/>
            <p:cNvGrpSpPr/>
            <p:nvPr/>
          </p:nvGrpSpPr>
          <p:grpSpPr>
            <a:xfrm>
              <a:off x="838080" y="990720"/>
              <a:ext cx="3517920" cy="3441960"/>
              <a:chOff x="838080" y="990720"/>
              <a:chExt cx="3517920" cy="3441960"/>
            </a:xfrm>
          </p:grpSpPr>
          <p:sp>
            <p:nvSpPr>
              <p:cNvPr id="224" name=""/>
              <p:cNvSpPr/>
              <p:nvPr/>
            </p:nvSpPr>
            <p:spPr>
              <a:xfrm>
                <a:off x="1228680" y="990720"/>
                <a:ext cx="1629000" cy="8614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OBRADNA JEDINICA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38080" y="2520000"/>
                <a:ext cx="1042920" cy="4788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ORISNIC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24160" y="1850760"/>
                <a:ext cx="360" cy="67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903240" y="3380040"/>
                <a:ext cx="1563840" cy="10526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OBJEKTI ZA RUKOVANJE INFORMACIJAM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075400" y="1850760"/>
                <a:ext cx="360" cy="153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96680" y="3380040"/>
                <a:ext cx="1759320" cy="7660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OMUNIKACIONI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OBJEKT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27000" y="1850760"/>
                <a:ext cx="360" cy="153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6439320" y="1277280"/>
              <a:ext cx="1629360" cy="861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BRADNA JEDINICA #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12200" y="2806560"/>
              <a:ext cx="1042920" cy="4791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ORISNI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07320" y="2137320"/>
              <a:ext cx="1080" cy="67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95440" y="3666600"/>
              <a:ext cx="1564200" cy="105264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BJEKTI ZA RUKOVANJE INFORMACIJA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86400" y="2137320"/>
              <a:ext cx="360" cy="153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06520" y="3380040"/>
              <a:ext cx="1759320" cy="7657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OMUNIKACIONI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BJEK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99960" y="2137320"/>
              <a:ext cx="1080" cy="124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55280" y="3762360"/>
              <a:ext cx="6523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41240" y="5501160"/>
              <a:ext cx="1654200" cy="1128240"/>
            </a:xfrm>
            <a:solidFill>
              <a:srgbClr val="00ff00"/>
            </a:solidFill>
            <a:ln w="12600">
              <a:solidFill>
                <a:srgbClr val="000000"/>
              </a:solidFill>
              <a:miter/>
              <a:headEnd len="sm" type="triangle" w="sm"/>
            </a:ln>
            <a:effectLst>
              <a:outerShdw dist="57111" dir="20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AZME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FORMA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50920" y="907920"/>
            <a:ext cx="8458200" cy="5709960"/>
          </a:xfrm>
          <a:prstGeom prst="rect">
            <a:avLst/>
          </a:prstGeom>
          <a:solidFill>
            <a:srgbClr val="5f5f5f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ncept sistema sa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tvorenom arhitekturom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inicijalno nastao u domenu komunikacionih sistema, sve više nalazi primenu u različitim domenima ljudske delatnost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irodna ograničenja čoveka da shvati ponašanje složenih sistema opredeljuju pristup oslonjen na “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krivanje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 od korisnika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ada god je to moguće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unutrašnje složenost razmatranih sistema, kroz njegovo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etstavljanje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korisnicima u formi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ko razumljivih apstrakcij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8569440" y="6296040"/>
            <a:ext cx="574560" cy="5619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aze evolucije informacionih sistema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01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9144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ZA OBRADU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ff66ff"/>
                </a:solidFill>
                <a:latin typeface="Arial"/>
                <a:ea typeface="Arial"/>
              </a:rPr>
              <a:t>Data processing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IČ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PRAVLJAČK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Management I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304812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3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AKTIV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ON-LINE) UPRAVLJAČK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On-line I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41148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4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ZA PODRŠKU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DLUČIVANJU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Decision Support I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51814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5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LIGENT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nteligent I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aze evolucije informacionih sistema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02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9144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ZA OBRADU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ff66ff"/>
                </a:solidFill>
                <a:latin typeface="Arial"/>
                <a:ea typeface="Arial"/>
              </a:rPr>
              <a:t>Data processing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2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KLASIČ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Managemen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304812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3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TERAKTIV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(ON-LINE) 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On-line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41148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4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PODRŠKU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ODLUČIVANJU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ecision Suppor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51814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5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TELIGENT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Inteligent IS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68360" y="1341360"/>
            <a:ext cx="8459640" cy="5311800"/>
            <a:chOff x="468360" y="1341360"/>
            <a:chExt cx="8459640" cy="5311800"/>
          </a:xfrm>
        </p:grpSpPr>
        <p:sp>
          <p:nvSpPr>
            <p:cNvPr id="255" name=""/>
            <p:cNvSpPr/>
            <p:nvPr/>
          </p:nvSpPr>
          <p:spPr>
            <a:xfrm>
              <a:off x="468360" y="1341360"/>
              <a:ext cx="8459640" cy="47689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spcBef>
                  <a:spcPts val="2251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 u="sng">
                  <a:solidFill>
                    <a:srgbClr val="ffff00"/>
                  </a:solidFill>
                  <a:uFillTx/>
                  <a:latin typeface="Times New Roman"/>
                  <a:ea typeface="Times New Roman"/>
                </a:rPr>
                <a:t>U centru:</a:t>
              </a:r>
              <a:r>
                <a:rPr b="1" i="1" lang="sr-Latn-CS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 PODACI i OBRADA podatak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2251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 u="sng">
                  <a:solidFill>
                    <a:srgbClr val="ffff00"/>
                  </a:solidFill>
                  <a:uFillTx/>
                  <a:latin typeface="Times New Roman"/>
                  <a:ea typeface="Times New Roman"/>
                </a:rPr>
                <a:t>Sistemi za obradu podataka</a:t>
              </a:r>
              <a:r>
                <a:rPr b="1" i="1" lang="en-US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pretstavljaju, u današnje vreme, samo </a:t>
              </a:r>
              <a:r>
                <a:rPr b="1" i="1" lang="en-US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storijsku fazu</a:t>
              </a:r>
              <a:r>
                <a:rPr b="0" i="1" lang="en-US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transformacije informacionih sistema, budući da ih, sa aspekta savremene naučne misli u domenu razvoja informacionih tehnologija, </a:t>
              </a:r>
              <a:r>
                <a:rPr b="1" i="1" lang="en-US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otovo i nemožemo smatrati informacionim sistemima.</a:t>
              </a:r>
              <a:r>
                <a:rPr b="0" i="1" lang="en-US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8244000" y="6021360"/>
              <a:ext cx="647640" cy="63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25884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aze evolucije informacionih sistema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03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9144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1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OBRADU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ata proce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IČ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PRAVLJAČK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Management I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304812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3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TERAKTIV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(ON-LINE) 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On-line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41148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4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PODRŠKU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ODLUČIVANJU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ecision Suppor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51814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5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TELIGENT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Inteligent IS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042920" y="404640"/>
            <a:ext cx="8101080" cy="6528240"/>
            <a:chOff x="1042920" y="404640"/>
            <a:chExt cx="8101080" cy="6528240"/>
          </a:xfrm>
        </p:grpSpPr>
        <p:sp>
          <p:nvSpPr>
            <p:cNvPr id="264" name=""/>
            <p:cNvSpPr/>
            <p:nvPr/>
          </p:nvSpPr>
          <p:spPr>
            <a:xfrm>
              <a:off x="1042920" y="404640"/>
              <a:ext cx="8101080" cy="652824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spcBef>
                  <a:spcPts val="1749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 u="sng">
                  <a:solidFill>
                    <a:srgbClr val="ffff00"/>
                  </a:solidFill>
                  <a:uFillTx/>
                  <a:latin typeface="Times New Roman"/>
                  <a:ea typeface="Times New Roman"/>
                </a:rPr>
                <a:t>U centru</a:t>
              </a:r>
              <a:r>
                <a:rPr b="0" i="1" lang="sr-Latn-C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:</a:t>
              </a:r>
              <a:r>
                <a:rPr b="0" i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“proizvodnj</a:t>
              </a:r>
              <a:r>
                <a:rPr b="1" i="1" lang="sr-Latn-C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” informacija</a:t>
              </a:r>
              <a:r>
                <a:rPr b="0" i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1749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U sklopu ovih informacionih sistema izvršena je </a:t>
              </a:r>
              <a:r>
                <a:rPr b="1" i="1" lang="en-US" sz="2800" spc="-1" strike="noStrike" u="sng">
                  <a:solidFill>
                    <a:srgbClr val="ffff00"/>
                  </a:solidFill>
                  <a:uFillTx/>
                  <a:latin typeface="Times New Roman"/>
                  <a:ea typeface="Times New Roman"/>
                </a:rPr>
                <a:t>integracija funkcija</a:t>
              </a:r>
              <a:r>
                <a:rPr b="0" i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i </a:t>
              </a:r>
              <a:r>
                <a:rPr b="1" i="1" lang="en-US" sz="2800" spc="-1" strike="noStrike" u="sng">
                  <a:solidFill>
                    <a:srgbClr val="ffff00"/>
                  </a:solidFill>
                  <a:uFillTx/>
                  <a:latin typeface="Times New Roman"/>
                  <a:ea typeface="Times New Roman"/>
                </a:rPr>
                <a:t>obezbeđeno racionalno korišćenje podataka</a:t>
              </a:r>
              <a:r>
                <a:rPr b="0" i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u svim segmentima organizacione strukture sistema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1749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 u="sng">
                  <a:solidFill>
                    <a:srgbClr val="ffff00"/>
                  </a:solidFill>
                  <a:uFillTx/>
                  <a:latin typeface="Times New Roman"/>
                  <a:ea typeface="Times New Roman"/>
                </a:rPr>
                <a:t>kao oslonac u procesu upravljanja koriste produkte “</a:t>
              </a:r>
              <a:r>
                <a:rPr b="1" i="1" lang="en-US" sz="2800" spc="-1" strike="noStrike" u="sng">
                  <a:solidFill>
                    <a:srgbClr val="ffff00"/>
                  </a:solidFill>
                  <a:uFillTx/>
                  <a:latin typeface="Times New Roman"/>
                  <a:ea typeface="Times New Roman"/>
                </a:rPr>
                <a:t>istorijskih događaja</a:t>
              </a:r>
              <a:r>
                <a:rPr b="0" i="1" lang="en-US" sz="2800" spc="-1" strike="noStrike" u="sng">
                  <a:solidFill>
                    <a:srgbClr val="ffff00"/>
                  </a:solidFill>
                  <a:uFillTx/>
                  <a:latin typeface="Times New Roman"/>
                  <a:ea typeface="Times New Roman"/>
                </a:rPr>
                <a:t>”</a:t>
              </a:r>
              <a:r>
                <a:rPr b="0" i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(</a:t>
              </a:r>
              <a:r>
                <a:rPr b="1" i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upravljanje po posledici</a:t>
              </a:r>
              <a:r>
                <a:rPr b="0" i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)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1749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Ovaj vid informacionih sistema, iako poseduje niz nedostataka sa aspekta savremene teorije upravljanja, pretstavalja u današnje vreme, posebno u našim uslovima, </a:t>
              </a:r>
              <a:r>
                <a:rPr b="1" i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najzastupljeniju formu informacionih sistem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8493120" y="5878440"/>
              <a:ext cx="650880" cy="63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8569440" y="6296040"/>
            <a:ext cx="574560" cy="561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381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aze evolucije informacionih sistema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9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9144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1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OBRADU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ata proce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2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KLASIČ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Managemen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3048120"/>
            <a:ext cx="8458200" cy="9471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5e755e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3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AKTIV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ON-LINE) UPRAVLJAČK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On-line I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41148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4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PODRŠKU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ODLUČIVANJU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ecision Suppor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51814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5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TELIGENT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Inteligent IS)</a:t>
            </a:r>
            <a:r>
              <a:rPr b="1" i="1" lang="en-US" sz="28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00000" y="228600"/>
            <a:ext cx="8244000" cy="642780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seduju sve dobre karakteristike klasičnih upravljačkih informacionih sistem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 podršci večini funkcionalnih transformacija, oslanjaju na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irektnu interakciju čovek-računar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daci, neophodni za formiranje odgovora na proizvoljan informacioni zahtev, 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ktno un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zultati 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rade podataka se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distribuiraju odmah po obradi i ostaju na raspolaganju ovlašćenim korisnicima u režimu direktnih upita posretstvom radnih stanica računarskog sistema koji služi kao tehnička podršk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2" dur="1" fill="hold"/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569440" y="6296040"/>
            <a:ext cx="574560" cy="5619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aze evolucije informacionih sistema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05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9144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1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OBRADU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ata proce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2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KLASIČ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Managemen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" y="3048120"/>
            <a:ext cx="8458200" cy="9471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5e755e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3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AKTIV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ON-LINE) UPRAVLJAČK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On-line I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41148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4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PODRŠKU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ODLUČIVANJU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ecision Suppor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51814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5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TELIGENT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Inteligent IS)</a:t>
            </a:r>
            <a:r>
              <a:rPr b="1" i="1" lang="en-US" sz="28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16000" y="549360"/>
            <a:ext cx="7632720" cy="586188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aj vid informacionih sistema unosi značajne promene na nivou operativnih funkcija organizacionog sistema kroz obezbeđivanje DISTRIBUCIJE PROCESNE MOĆI na mesta nastajanja podataka i direktnog operativnog korišćenja produkata obrade (informacija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kosnicu u projektovanju ovakvih sistema obično pretstavlja TEHNOLOGIJA PROCESA RADA sistema koji je predmet automatizacije, pri čemu se od svih korisnika sistema zahteva poznavanje rada i intenzivno korišćenje savremenih sretstava informacionih tehnologij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8569440" y="6296040"/>
            <a:ext cx="574560" cy="56196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aze evolucije informacionih sistema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06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9144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1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OBRADU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ata proce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2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KLASIČ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Managemen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3048120"/>
            <a:ext cx="8458200" cy="9471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5e755e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3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AKTIV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ON-LINE) UPRAVLJAČK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On-line I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41148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4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PODRŠKU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ODLUČIVANJU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ecision Suppor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51814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5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TELIGENT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Inteligent IS)</a:t>
            </a:r>
            <a:r>
              <a:rPr b="1" i="1" lang="en-US" sz="28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87280" y="907920"/>
            <a:ext cx="7561440" cy="52225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stavljaju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tvoren izazov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danas još uvek značajno zastupljenom načinu rada,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ali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d neposrednih korisnika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VIH PROFILA 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zahtevaju  daleko viši stepen operativnog poznavanja i korišćenja savremenih sretstava informacionih tehnologija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aj drugi aspekt otvara značajne psihološke i organizacione probleme kao izvore rizika u procesu implementacije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40840" y="6073920"/>
            <a:ext cx="803160" cy="784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86480"/>
            <a:ext cx="6480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 Black"/>
              </a:rPr>
              <a:t>Informacioni sistemi –</a:t>
            </a:r>
            <a:r>
              <a:rPr b="1" lang="sr-Latn-CS" sz="32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 Black"/>
              </a:rPr>
              <a:t>0</a:t>
            </a:r>
            <a:r>
              <a:rPr b="1" lang="sr-Latn-CS" sz="3200" spc="-1" strike="noStrike">
                <a:solidFill>
                  <a:srgbClr val="003300"/>
                </a:solidFill>
                <a:latin typeface="Arial Black"/>
              </a:rPr>
              <a:t>0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9280" y="879480"/>
            <a:ext cx="82090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569440" y="6296040"/>
            <a:ext cx="574560" cy="5619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aze evolucije informacionih sistema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07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9144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1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OBRADU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ata proce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2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KLASIČ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Managemen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3048120"/>
            <a:ext cx="8458200" cy="9471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5e755e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3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AKTIV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ON-LINE) UPRAVLJAČK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On-line I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41148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4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PODRŠKU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ODLUČIVANJU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ecision Suppor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51814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5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TELIGENT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Inteligent IS)</a:t>
            </a:r>
            <a:r>
              <a:rPr b="1" i="1" lang="en-US" sz="28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6920" y="260280"/>
            <a:ext cx="8066160" cy="627084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8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epen “informatičke kulture” organizacionog sistema, koji je predmet automatizacije, DIKTIRA uslove primene a vrlo često, </a:t>
            </a:r>
            <a:r>
              <a:rPr b="1" i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ko je nedovoljno visok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 pretstavlja značajan ograničavajući faktor implementaciji </a:t>
            </a:r>
            <a:r>
              <a:rPr b="1" i="1" lang="sr-Latn-CS" sz="3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ed toga ova forma informacionih sistema </a:t>
            </a:r>
            <a:r>
              <a:rPr b="1" i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nedovoljno razmatra potrebe viših nivoa upravljanja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u sklopu proizvoljnog organizacionog sistema, kao i neophodnost postojanja raznih formi AGREGIRANIH INFORMACIJA bez kojih se, na višim nivoima upravljanja, ne</a:t>
            </a:r>
            <a:r>
              <a:rPr b="1" i="1" lang="sr-Latn-CS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že zamisliti proces donošenja odluk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8569440" y="6296040"/>
            <a:ext cx="574560" cy="5619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aze evolucije informacionih sistema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08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9144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1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OBRADU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ata proce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2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KLASIČ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Managemen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304812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3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TERAKTIV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(ON-LINE) 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On-line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4114800"/>
            <a:ext cx="8458200" cy="94716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4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ZA PODRŠKU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DLUČIVANJU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Decision Support I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51814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5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TELIGENT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Inteligent IS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42920" y="765000"/>
            <a:ext cx="7956720" cy="577116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Brz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zvoj komunikacionih sretstava omogućava GLOBALNO POVEZIVANJA udaljenih računarskih sistema, čime se enormno šire mogućnosti pristupa informacionim resursima, bez obzira na njihovu geografsku raspoređeno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avremeno informatičko društvo U CENTAR SVOG RAZMATRANJA STAVLJA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NANJE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kao esenciju semantičke analize potencijalno enormne količine raznorodnih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acij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2" dur="1" fill="hold"/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8569440" y="6296040"/>
            <a:ext cx="574560" cy="5619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aze evolucije informacionih sistema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09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9144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1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OBRADU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ata proce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2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KLASIČ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Managemen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304812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3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TERAKTIV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(ON-LINE) 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On-line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" y="4114800"/>
            <a:ext cx="8458200" cy="94716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4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ZA PODRŠKU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DLUČIVANJU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Decision Support I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51814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5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TELIGENT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Inteligent IS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6560" y="0"/>
            <a:ext cx="8137440" cy="693720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Informacioni sistemi za podršku odlučivanj</a:t>
            </a:r>
            <a:r>
              <a:rPr b="1" i="1" lang="sr-Latn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u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tstavljaju savremenu formu informacionih sistema razvijenu kao logično unapređenje koncepta interaktivnih upravljačkih informacionih sistem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gromna masa analitičkih podataka, i iz njih obradom izvedenih informacija, nije pogodna za BRZO DONOŠENJE ODLUKA i vođenje “politike” sistema u skladu sa njegovom osnovnom misijo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javljuju se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funkcij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GREGACIJE, SEMANTIČKE INTERPRETACIJE i automatizovane podrške generisanju različitih scenarija (varijanti) mogućeg ponašanja upravljanog sistem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8569440" y="6296040"/>
            <a:ext cx="574560" cy="56196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381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aze evolucije informacionih sistema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10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9144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1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OBRADU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ata proce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2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KLASIČ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Managemen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" y="304812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3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TERAKTIV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(ON-LINE) 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On-line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4114800"/>
            <a:ext cx="8458200" cy="94716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4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ZA PODRŠKU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DLUČIVANJU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Decision Support I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51814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5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TELIGENT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Inteligent IS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89000"/>
            <a:ext cx="7624800" cy="651060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zvoj savremenih sretstava informacionih tehnologija omogućio je projektovanje sistema za podršku odlučivanju baziranih na EKSPERTSKIM ZNANJIMA i sistemima veštačke inteligencij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snovna namena je NE DA ZAMENE EKSPERTA već da ga oslobode zamornih i dugotrajnih procedura i postupaka vezanih za obradu velike količine informa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a mu SLUŽE kao podloga za donošenje kvalitativno boljih odluka u uslovima brzih promena u okruženju, odnosno prisutnih neodređenosti ili nepotpune definisanosti ponašanja sistem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569440" y="6296040"/>
            <a:ext cx="574560" cy="56196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aze evolucije informacionih sistema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11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9144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1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OBRADU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ata proce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2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KLASIČ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Managemen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304812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3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TERAKTIV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(ON-LINE) 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On-line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41148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4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PODRŠKU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ODLUČIVANJU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ecision Suppor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5181480"/>
            <a:ext cx="8458200" cy="9471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5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LIGENT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nteligent I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9280" y="765000"/>
            <a:ext cx="8496360" cy="43603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edna od osnovnih karakteristika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inteligentnih informacionih sistema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jeste da oni pretstavljaju objedinjavanje brojnih tehnologija koje su u ranijim fazama korišćene izolovano jedna od druge ili nisu uopšte korišćen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2" dur="1" fill="hold"/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8569440" y="6296040"/>
            <a:ext cx="574560" cy="561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aze evolucije informacionih sistema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12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9144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1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OBRADU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ata proce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2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KLASIČ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Managemen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304812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3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TERAKTIV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(ON-LINE) 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On-line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41148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4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PODRŠKU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ODLUČIVANJU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ecision Suppor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5181480"/>
            <a:ext cx="8458200" cy="9471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5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LIGENT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nteligent I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189000"/>
            <a:ext cx="7777440" cy="654696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ati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 neophodnih za implementaciju inteligentnih informacionih siste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1)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LATI ZA OTKRIVANJE ZNANJA</a:t>
            </a:r>
            <a:r>
              <a:rPr b="1" i="1" lang="sr-Latn-C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Knowledge </a:t>
            </a:r>
            <a:r>
              <a:rPr b="1" i="1" lang="sr-Latn-C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iscovery </a:t>
            </a:r>
            <a:r>
              <a:rPr b="1" i="1" lang="sr-Latn-C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too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2)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LATI ZA OČUVANJE INTEGRITETA I KONTROLU </a:t>
            </a:r>
            <a:r>
              <a:rPr b="1" i="1" lang="sr-Latn-C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KVALITETA (Integrity and quality-control too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3)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LATI ZA RUKOVANJE HIPERMEDIJOM </a:t>
            </a:r>
            <a:r>
              <a:rPr b="1" i="1" lang="sr-Latn-C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MULTIMEDIJ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r-Latn-CS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4)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LATI ZA PODRŠKI PREZENTACIJI I PRIKAZIVANJU </a:t>
            </a:r>
            <a:r>
              <a:rPr b="1" i="1" lang="sr-Latn-C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sr-Latn-C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EMANTIČKIH FORMI ZN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r-Latn-CS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5)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LATI ZA PODRŠKU DONOŠENJU ODLUKA I ANALIZ</a:t>
            </a:r>
            <a:r>
              <a:rPr b="1" i="1" lang="sr-Latn-CS" sz="2000" spc="-1" strike="noStrike">
                <a:solidFill>
                  <a:srgbClr val="ffff00"/>
                </a:solidFill>
                <a:latin typeface="Arial"/>
                <a:ea typeface="Arial"/>
              </a:rPr>
              <a:t>U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r-Latn-C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CENAR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6)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LATI  ZA PODRŠKU FORMATIZACIJI PODA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i="1" lang="sr-Latn-C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preformatizacija i sl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7)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LATI ZA PROJEKTOVANJE INTELIGENTNIH </a:t>
            </a:r>
            <a:r>
              <a:rPr b="1" i="1" lang="sr-Latn-C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569440" y="6296040"/>
            <a:ext cx="574560" cy="5619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aze evolucije informacionih sistema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13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9144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1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OBRADU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ata proce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2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KLASIČ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Managemen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" y="304812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3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TERAKTIV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(ON-LINE) 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On-line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41148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4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PODRŠKU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ODLUČIVANJU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ecision Suppor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" y="5181480"/>
            <a:ext cx="8458200" cy="9471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5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LIGENT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nteligent I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71640" y="1916280"/>
            <a:ext cx="7619760" cy="435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937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0066ff"/>
                </a:solidFill>
                <a:uFillTx/>
                <a:latin typeface="Times New Roman"/>
              </a:rPr>
              <a:t>(1) </a:t>
            </a:r>
            <a:r>
              <a:rPr b="1" i="1" lang="en-US" sz="28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Alati za otkrivanje znanja</a:t>
            </a:r>
            <a:r>
              <a:rPr b="1" i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obuhvataju alate za analizu podataka, mašinsko učenje i statističke analize, a postavljaju potpuno nove granice u domenu semantičkih analiza kroz podršku ekstrakciji ZNANJA</a:t>
            </a:r>
            <a:r>
              <a:rPr b="1" i="1" lang="sr-Latn-C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,</a:t>
            </a:r>
            <a:r>
              <a:rPr b="1" i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često skrivenog iza PODATAKA odnosno INFORMACIJA, kao i skrivenih veza koje mogu postojati između pojedinačnih primeraka strukture podataka nad kojom je izgrađen razmatrani informacioni si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9" dur="1" fill="hold"/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8569440" y="6296040"/>
            <a:ext cx="574560" cy="5619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aze evolucije informacionih sistema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13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9144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1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OBRADU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ata proce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2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KLASIČ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Managemen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304812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3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TERAKTIV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(ON-LINE) 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On-line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41148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4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PODRŠKU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ODLUČIVANJU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ecision Suppor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" y="5181480"/>
            <a:ext cx="8458200" cy="9471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5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LIGENT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nteligent I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26920" y="223920"/>
            <a:ext cx="8317080" cy="6472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937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 u="sng">
                <a:solidFill>
                  <a:srgbClr val="0066ff"/>
                </a:solidFill>
                <a:uFillTx/>
                <a:latin typeface="Times New Roman"/>
              </a:rPr>
              <a:t>(2) </a:t>
            </a:r>
            <a:r>
              <a:rPr b="1" i="1" lang="en-US" sz="28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Alati za očuvanje integriteta i kontrolu kvaliteta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u sklopu složenih informacionih sistema pretstavljaju esencijalne alate budući da se, poveč</a:t>
            </a:r>
            <a:r>
              <a:rPr b="1" i="1" lang="sr-Latn-C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a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njem globalno raspoložive količine informacija i uvođenjem savremenih informacionih sistema, organizacioni sistem u potpunosti oslanja na informacionu infrastrukturu koja ga podržava, pa samim tim postaje izuzetno “ranjiv” upravo preko te infrastruk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37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 obzirom da se niti u jednom realnom sistemu verovatnoća otkaza ne</a:t>
            </a:r>
            <a:r>
              <a:rPr b="1" i="1" lang="sr-Latn-C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može svesti na nulu kao i što se, u bilo kom realnom sistemu </a:t>
            </a:r>
            <a:r>
              <a:rPr b="1" i="1" lang="sr-Latn-C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koji koristi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ČOVEK ne mogu eliminisati greške (bez obzira na motive i uslove pod kojima one nastaju), jasno je da egzistencija </a:t>
            </a:r>
            <a:r>
              <a:rPr b="1" i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ouzdanih alata koji mogu obezbediti konzistentnost informacionog sistema i kontrolu kvaliteta pripadnika njegove infrastrukture ESENCIJAL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9" dur="1" fill="hold"/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8569440" y="6296040"/>
            <a:ext cx="574560" cy="5619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aze evolucije informacionih sistema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14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" y="9144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1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OBRADU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ata proce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2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KLASIČ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Managemen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304812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3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TERAKTIV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(ON-LINE) 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On-line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41148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4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PODRŠKU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ODLUČIVANJU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ecision Suppor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5181480"/>
            <a:ext cx="8458200" cy="9471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5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LIGENT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nteligent I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55640" y="907920"/>
            <a:ext cx="7921800" cy="543528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937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0066ff"/>
                </a:solidFill>
                <a:uFillTx/>
                <a:latin typeface="Times New Roman"/>
              </a:rPr>
              <a:t>(3)</a:t>
            </a:r>
            <a:r>
              <a:rPr b="1" i="1" lang="en-US" sz="28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ipermedija/multimedija</a:t>
            </a:r>
            <a:r>
              <a:rPr b="1" i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pretstavlja savremeno sretstvo integrisanja više raznorodnih nosilaca informacije (slika, zvuk, tekst, slobodno pojmovno povezane tekstualne celine, asocijativne veze među objektima razmatranja i sl.) i formi njenog pretstavljanja, koja omogućava izgradnju individualnih “pogleda” različitih korisnika ili grupa korisnika na isti skup baznih informacij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37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Ovi alati se, u današnje vreme, ne mogu odvojiti od kategorije (4), alata za prezentaciju i prikazivanje različitih semantičkih formi znanja i/ili informacija, i/ili podatak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9" dur="1" fill="hold"/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8569440" y="6296040"/>
            <a:ext cx="574560" cy="5619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aze evolucije informacionih sistema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15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" y="9144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1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OBRADU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ata proce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2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KLASIČ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Managemen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304812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3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TERAKTIV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(ON-LINE) 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On-line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" y="41148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4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PODRŠKU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ODLUČIVANJU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ecision Suppor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5181480"/>
            <a:ext cx="8458200" cy="9471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5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LIGENT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nteligent I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50920" y="907920"/>
            <a:ext cx="8458200" cy="19227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937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(5) </a:t>
            </a: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Alati </a:t>
            </a:r>
            <a:r>
              <a:rPr b="1" i="1" lang="sr-Latn-CS" sz="24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za podršku donošenju odluka i analizu scenarija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omogućavaju podršku odlučivanju uz prezentaciju varijanti, uključivanje stepena neodređenosti (fuzzy) i prezentaciju objektivnih okolnosti pod kojima su razmatrane varijante odluke predlož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00000" y="1557360"/>
            <a:ext cx="8064720" cy="503928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937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(6) </a:t>
            </a:r>
            <a:r>
              <a:rPr b="1" i="1" lang="sr-Latn-CS" sz="24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Alati za podršku formatizaciji podataka</a:t>
            </a: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retstavljaju skup alata čija je osnovna namena podrška konverzijama različitih formata podataka/informacija/znanja, prisutnih u savremenim informacionim sretstvima i podrška postojanju više različitih informacionih platformi koje kooperiraj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37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avremena informatička misao smatra neracionalnim “uništavanje” postojećih formi informacionih sistema i počinjanje procesa projektovanja IZNOVA, budući da je jedan od bitnih preduslova kontrolisanog i uspešnog razvoja informacionih sistema namenjenih podršci složenim organizacionim sistemima, OČUVANJE  DOSADAŠNIJH INVESTICIJA iskazanih kroz sistem vrednosti činilaca informacionog siste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5" dur="1" fill="hold"/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40840" y="6073920"/>
            <a:ext cx="803160" cy="784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86480"/>
            <a:ext cx="6480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 Black"/>
              </a:rPr>
              <a:t>Informacioni sistemi –</a:t>
            </a:r>
            <a:r>
              <a:rPr b="1" lang="sr-Latn-CS" sz="32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 Black"/>
              </a:rPr>
              <a:t>01</a:t>
            </a:r>
            <a:r>
              <a:rPr b="1" lang="sr-Latn-CS" sz="3200" spc="-1" strike="noStrike">
                <a:solidFill>
                  <a:srgbClr val="0033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4005360"/>
            <a:ext cx="800100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i="1" lang="sr-Latn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a se podrazumeva pod pojmo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i="1" lang="sr-Latn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oni siste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907920"/>
            <a:ext cx="8001000" cy="2881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ovanje informacionih sistema pretstavlja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disciplinarnu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tivnost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š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aničnih discip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vara niz problema vezanih 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  <a:tab algn="l" pos="8521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e 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  <a:tab algn="l" pos="852156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8569440" y="6296040"/>
            <a:ext cx="574560" cy="5619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aze evolucije informacionih sistema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16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" y="9144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1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OBRADU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ata proce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2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KLASIČ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Managemen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" y="304812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3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TERAKTIV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(ON-LINE) UPRAVLJAČK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On-line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8600" y="4114800"/>
            <a:ext cx="8458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4)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INFORMACION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 ZA PODRŠKU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ODLUČIVANJU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(Decision Support 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5181480"/>
            <a:ext cx="8458200" cy="9471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5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LIGENT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FORMACION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STEM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nteligent I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16000" y="344520"/>
            <a:ext cx="7559640" cy="651744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937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a aspekta projektanata informacionih sistema uvek je najbolje krenuti iz početka i ne opterećivati se onim što su generacije projektanata pre toga radile i urad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37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i="1" lang="sr-Latn-CS" sz="24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a aspekta onih koji su zaduženi za obezbeđenje materijalnih uslova za razvoj i implementaciju informacionih sistema, troškovi imaju značajan ako ne i preovladavajući uticaj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37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i="1" lang="sr-Latn-CS" sz="24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Zbog toga je neophodno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da metodologija projektovanja informacionih sistema uključi u razmatranje aspekte koegzistencije različitih formi informacionog sistema i različitih platformi na kojima su te forme implementira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37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Tu leži značaj alata </a:t>
            </a:r>
            <a:r>
              <a:rPr b="1" i="1" lang="sr-Latn-C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formatizaciju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jer 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oni omogućavaju TRANSPARENTNOST različitih formi i platformi u  sklopu različitih razvojnih faza informacionih sistema</a:t>
            </a: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5" dur="1" fill="hold"/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8340840" y="6073920"/>
            <a:ext cx="803160" cy="7840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24000" y="-1800"/>
            <a:ext cx="741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00"/>
                </a:solidFill>
                <a:latin typeface="Arial Black"/>
              </a:rPr>
              <a:t>Obrada dokumenata i slika</a:t>
            </a:r>
            <a:r>
              <a:rPr b="1" lang="en-US" sz="3200" spc="-1" strike="noStrike">
                <a:solidFill>
                  <a:srgbClr val="003300"/>
                </a:solidFill>
                <a:latin typeface="Arial Black"/>
              </a:rPr>
              <a:t> –</a:t>
            </a:r>
            <a:r>
              <a:rPr b="1" lang="sr-Latn-CS" sz="32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 Black"/>
              </a:rPr>
              <a:t>0</a:t>
            </a:r>
            <a:r>
              <a:rPr b="1" lang="sr-Latn-CS" sz="3200" spc="-1" strike="noStrike">
                <a:solidFill>
                  <a:srgbClr val="003300"/>
                </a:solidFill>
                <a:latin typeface="Arial Black"/>
              </a:rPr>
              <a:t>0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60501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8721720" y="6445080"/>
            <a:ext cx="422280" cy="4129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Ekspertski sistemi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12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155520" y="836640"/>
            <a:ext cx="89884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8721720" y="6445080"/>
            <a:ext cx="422280" cy="4129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Koncept savremene organizacije upravljačkih informacionih sistema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12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87" name=""/>
          <p:cNvSpPr/>
          <p:nvPr/>
        </p:nvSpPr>
        <p:spPr>
          <a:xfrm>
            <a:off x="179280" y="476280"/>
            <a:ext cx="8686800" cy="2226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zgradnja složenih informacionih sistema jeste KOLEKTIVNI PODUHVAT, 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složeni projeka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za koji postoje 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različite metodologij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pri čemu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iti jedna nije najbolj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li je svaka od njih bolja od </a:t>
            </a:r>
            <a:r>
              <a:rPr b="1" i="1" lang="en-US" sz="2800" spc="-1" strike="noStrike">
                <a:solidFill>
                  <a:srgbClr val="ff66ff"/>
                </a:solidFill>
                <a:latin typeface="Arial"/>
                <a:ea typeface="Arial"/>
              </a:rPr>
              <a:t>nemetodološkog i voluntarističkog pristup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79280" y="2708280"/>
            <a:ext cx="8686800" cy="381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DataBase/OLTP (OnLineTransactionProcessing)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Data-warehous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ehnologije!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e i zašt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Data Mining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ehnologije!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e i za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što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Prostorni (Spatial) I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!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WEB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 i e-poslovanj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!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SOA – Servis OrijentisaneArhitektur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!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9280" y="476280"/>
            <a:ext cx="8686800" cy="2288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Izazovi savremenih tehnologija i koncepata u domenu projektovanja informacionih siste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9280" y="2708280"/>
            <a:ext cx="8964720" cy="381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DataBase/OLTP (OnLineTransactionProcessing)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cc"/>
                </a:solidFill>
                <a:latin typeface="Arial"/>
                <a:ea typeface="Arial"/>
              </a:rPr>
              <a:t>Data-warehouse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 tehnologije! 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cc"/>
                </a:solidFill>
                <a:latin typeface="Arial"/>
                <a:ea typeface="Arial"/>
              </a:rPr>
              <a:t>Data Mining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 tehnologije!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Gde i za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  <a:ea typeface="Arial"/>
              </a:rPr>
              <a:t>što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?</a:t>
            </a:r>
            <a:r>
              <a:rPr b="1" i="1" lang="en-US" sz="32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ccffcc"/>
                </a:solidFill>
                <a:latin typeface="Arial"/>
              </a:rPr>
              <a:t>Prostorni (Spatial) IS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!  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cc"/>
                </a:solidFill>
                <a:latin typeface="Arial"/>
                <a:ea typeface="Arial"/>
              </a:rPr>
              <a:t>WEB</a:t>
            </a:r>
            <a:r>
              <a:rPr b="1" i="1" lang="sr-Latn-CS" sz="3600" spc="-1" strike="noStrike">
                <a:solidFill>
                  <a:srgbClr val="ccffcc"/>
                </a:solidFill>
                <a:latin typeface="Arial"/>
              </a:rPr>
              <a:t> i e-poslovanje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!  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ccffcc"/>
                </a:solidFill>
                <a:latin typeface="Arial"/>
                <a:ea typeface="Arial"/>
              </a:rPr>
              <a:t>SOA – Servis Orijentisane Arhitekture  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334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DataBase/OLTP sistemi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1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93" name=""/>
          <p:cNvSpPr/>
          <p:nvPr/>
        </p:nvSpPr>
        <p:spPr>
          <a:xfrm>
            <a:off x="152280" y="685800"/>
            <a:ext cx="8686800" cy="5823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d pojmom 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Baza Podataka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(DataBase) obično podrazumevamo skup podataka pridružen nekoj organizacij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Za razliku od </a:t>
            </a: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jednostavnog seta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Baza Podataka se obično posmatra preko pridružene STRUKTURE (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Šeme Baze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Za razliku od </a:t>
            </a: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datoteka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Baza Podataka je nezavisna od metode 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fizičkog skladištenja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i="1" lang="sr-Latn-CS" sz="3600" spc="-1" strike="noStrike">
                <a:solidFill>
                  <a:srgbClr val="0066ff"/>
                </a:solidFill>
                <a:latin typeface="Arial"/>
              </a:rPr>
              <a:t>aplikacija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koje joj  pristupaj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66ff"/>
                </a:solidFill>
                <a:latin typeface="Arial"/>
              </a:rPr>
              <a:t>DBMS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(DataBaseManagementSystem) je softver koji obezbeđuje upravljanje bazama podataka uz oslonac na DDL, DML, SQL i HOST jezik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209680" y="1676520"/>
            <a:ext cx="3657600" cy="2590560"/>
            <a:chOff x="2209680" y="1676520"/>
            <a:chExt cx="3657600" cy="2590560"/>
          </a:xfrm>
        </p:grpSpPr>
        <p:sp>
          <p:nvSpPr>
            <p:cNvPr id="395" name=""/>
            <p:cNvSpPr/>
            <p:nvPr/>
          </p:nvSpPr>
          <p:spPr>
            <a:xfrm>
              <a:off x="2209680" y="1676520"/>
              <a:ext cx="3657600" cy="2590560"/>
            </a:xfrm>
            <a:prstGeom prst="cloudCallout">
              <a:avLst>
                <a:gd name="adj1" fmla="val -43750"/>
                <a:gd name="adj2" fmla="val 121199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500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38280" y="266688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sr-Latn-CS" sz="2000" spc="-1" strike="noStrike">
                  <a:solidFill>
                    <a:srgbClr val="ff0000"/>
                  </a:solidFill>
                  <a:latin typeface="Times New Roman"/>
                </a:rPr>
                <a:t>ata</a:t>
              </a:r>
              <a:r>
                <a:rPr b="1" lang="sr-Latn-CS" sz="28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sr-Latn-CS" sz="2000" spc="-1" strike="noStrike">
                  <a:solidFill>
                    <a:srgbClr val="ff0000"/>
                  </a:solidFill>
                  <a:latin typeface="Times New Roman"/>
                </a:rPr>
                <a:t>efinition</a:t>
              </a:r>
              <a:r>
                <a:rPr b="1" lang="sr-Latn-CS" sz="28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sr-Latn-CS" sz="2000" spc="-1" strike="noStrike">
                  <a:solidFill>
                    <a:srgbClr val="ff0000"/>
                  </a:solidFill>
                  <a:latin typeface="Times New Roman"/>
                </a:rPr>
                <a:t>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200400" y="1600200"/>
            <a:ext cx="3733920" cy="2590920"/>
            <a:chOff x="3200400" y="1600200"/>
            <a:chExt cx="3733920" cy="2590920"/>
          </a:xfrm>
        </p:grpSpPr>
        <p:sp>
          <p:nvSpPr>
            <p:cNvPr id="398" name=""/>
            <p:cNvSpPr/>
            <p:nvPr/>
          </p:nvSpPr>
          <p:spPr>
            <a:xfrm>
              <a:off x="3200400" y="1600200"/>
              <a:ext cx="3657600" cy="2590920"/>
            </a:xfrm>
            <a:prstGeom prst="cloudCallout">
              <a:avLst>
                <a:gd name="adj1" fmla="val -43750"/>
                <a:gd name="adj2" fmla="val 121199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500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53040" y="259092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sr-Latn-CS" sz="2000" spc="-1" strike="noStrike">
                  <a:solidFill>
                    <a:srgbClr val="ff0000"/>
                  </a:solidFill>
                  <a:latin typeface="Times New Roman"/>
                </a:rPr>
                <a:t>ata</a:t>
              </a:r>
              <a:r>
                <a:rPr b="1" lang="sr-Latn-CS" sz="28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sr-Latn-CS" sz="2000" spc="-1" strike="noStrike">
                  <a:solidFill>
                    <a:srgbClr val="ff0000"/>
                  </a:solidFill>
                  <a:latin typeface="Times New Roman"/>
                </a:rPr>
                <a:t>anipulation</a:t>
              </a:r>
              <a:r>
                <a:rPr b="1" lang="sr-Latn-CS" sz="28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sr-Latn-CS" sz="2000" spc="-1" strike="noStrike">
                  <a:solidFill>
                    <a:srgbClr val="ff0000"/>
                  </a:solidFill>
                  <a:latin typeface="Times New Roman"/>
                </a:rPr>
                <a:t>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114800" y="1600200"/>
            <a:ext cx="3733920" cy="2590920"/>
            <a:chOff x="4114800" y="1600200"/>
            <a:chExt cx="3733920" cy="2590920"/>
          </a:xfrm>
        </p:grpSpPr>
        <p:sp>
          <p:nvSpPr>
            <p:cNvPr id="401" name=""/>
            <p:cNvSpPr/>
            <p:nvPr/>
          </p:nvSpPr>
          <p:spPr>
            <a:xfrm>
              <a:off x="4114800" y="1600200"/>
              <a:ext cx="3657600" cy="2590920"/>
            </a:xfrm>
            <a:prstGeom prst="cloudCallout">
              <a:avLst>
                <a:gd name="adj1" fmla="val -43750"/>
                <a:gd name="adj2" fmla="val 121199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500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67440" y="259092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sr-Latn-CS" sz="2000" spc="-1" strike="noStrike">
                  <a:solidFill>
                    <a:srgbClr val="ff0000"/>
                  </a:solidFill>
                  <a:latin typeface="Times New Roman"/>
                </a:rPr>
                <a:t>tructured</a:t>
              </a:r>
              <a:r>
                <a:rPr b="1" lang="sr-Latn-C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sr-Latn-CS" sz="2000" spc="-1" strike="noStrike">
                  <a:solidFill>
                    <a:srgbClr val="ff0000"/>
                  </a:solidFill>
                  <a:latin typeface="Times New Roman"/>
                </a:rPr>
                <a:t>uery</a:t>
              </a:r>
              <a:r>
                <a:rPr b="1" lang="sr-Latn-CS" sz="28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sr-Latn-CS" sz="2000" spc="-1" strike="noStrike">
                  <a:solidFill>
                    <a:srgbClr val="ff0000"/>
                  </a:solidFill>
                  <a:latin typeface="Times New Roman"/>
                </a:rPr>
                <a:t>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181480" y="1676520"/>
            <a:ext cx="3733920" cy="2590560"/>
            <a:chOff x="5181480" y="1676520"/>
            <a:chExt cx="3733920" cy="2590560"/>
          </a:xfrm>
        </p:grpSpPr>
        <p:sp>
          <p:nvSpPr>
            <p:cNvPr id="404" name=""/>
            <p:cNvSpPr/>
            <p:nvPr/>
          </p:nvSpPr>
          <p:spPr>
            <a:xfrm>
              <a:off x="5181480" y="1676520"/>
              <a:ext cx="3657600" cy="2590560"/>
            </a:xfrm>
            <a:prstGeom prst="cloudCallout">
              <a:avLst>
                <a:gd name="adj1" fmla="val -43750"/>
                <a:gd name="adj2" fmla="val 121199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500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34120" y="2666880"/>
              <a:ext cx="3581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ff0000"/>
                  </a:solidFill>
                  <a:latin typeface="Times New Roman"/>
                </a:rPr>
                <a:t>4GL, VB, Java, C, C+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334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DataBase/OLTP sistemi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14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" y="1219320"/>
            <a:ext cx="8686800" cy="3750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d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aci uskladišteni u sklopu  baze podataka često se posmatraju preko njihove apstrakcije – 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Modela Podataka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(Data Mode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Mrežn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Hijerarhijsk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Relacion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Objektn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OLTP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(OnLineTransactionProce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8721720" y="6445080"/>
            <a:ext cx="422280" cy="4129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239040"/>
            <a:ext cx="86868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Koncept savremene organizacije upravljačkih informacionih sistema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15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11" name=""/>
          <p:cNvSpPr/>
          <p:nvPr/>
        </p:nvSpPr>
        <p:spPr>
          <a:xfrm>
            <a:off x="228600" y="2743200"/>
            <a:ext cx="8686800" cy="381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cc"/>
                </a:solidFill>
                <a:latin typeface="Arial"/>
                <a:ea typeface="Arial"/>
              </a:rPr>
              <a:t>DataBase/OLTP (OnLineTransactionProcessing)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Data-warehous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ehnologije!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e i zašt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cc"/>
                </a:solidFill>
                <a:latin typeface="Arial"/>
                <a:ea typeface="Arial"/>
              </a:rPr>
              <a:t>Data Mining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 tehnologije!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Gde i za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  <a:ea typeface="Arial"/>
              </a:rPr>
              <a:t>što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?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ccffcc"/>
                </a:solidFill>
                <a:latin typeface="Arial"/>
              </a:rPr>
              <a:t>Prostorni (Spatial) IS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!  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cc"/>
                </a:solidFill>
                <a:latin typeface="Arial"/>
                <a:ea typeface="Arial"/>
              </a:rPr>
              <a:t>WEB</a:t>
            </a:r>
            <a:r>
              <a:rPr b="1" i="1" lang="sr-Latn-CS" sz="3600" spc="-1" strike="noStrike">
                <a:solidFill>
                  <a:srgbClr val="ccffcc"/>
                </a:solidFill>
                <a:latin typeface="Arial"/>
              </a:rPr>
              <a:t> i e-poslovanje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!  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ccffcc"/>
                </a:solidFill>
                <a:latin typeface="Arial"/>
                <a:ea typeface="Arial"/>
              </a:rPr>
              <a:t>SOA – Servis Orijentisane Arhitekture </a:t>
            </a:r>
            <a:r>
              <a:rPr b="1" i="1" lang="en-US" sz="2400" spc="-1" strike="noStrike">
                <a:solidFill>
                  <a:srgbClr val="ccffcc"/>
                </a:solidFill>
                <a:latin typeface="Times New Roman"/>
              </a:rPr>
              <a:t>Gde i zaš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8600" y="762120"/>
            <a:ext cx="8686800" cy="1739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Izazovi savremenih tehnologija i koncepata u domenu projektovanja informacionih siste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Datawarehouse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sistemi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1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6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0" y="762120"/>
            <a:ext cx="20574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perationa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ourc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ystem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286000" y="762120"/>
            <a:ext cx="205740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at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taging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re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724280" y="762120"/>
            <a:ext cx="205740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at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resent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re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086600" y="762120"/>
            <a:ext cx="205740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at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cces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ol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04920" y="2133720"/>
            <a:ext cx="8839080" cy="4514760"/>
            <a:chOff x="304920" y="2133720"/>
            <a:chExt cx="8839080" cy="451476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8381880" y="6086520"/>
              <a:ext cx="574920" cy="561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0" name=""/>
            <p:cNvGrpSpPr/>
            <p:nvPr/>
          </p:nvGrpSpPr>
          <p:grpSpPr>
            <a:xfrm>
              <a:off x="304920" y="2362320"/>
              <a:ext cx="1066680" cy="3200400"/>
              <a:chOff x="304920" y="2362320"/>
              <a:chExt cx="1066680" cy="320040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457200" y="2514600"/>
                <a:ext cx="762120" cy="609840"/>
                <a:chOff x="457200" y="2514600"/>
                <a:chExt cx="762120" cy="60984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457200" y="2514600"/>
                  <a:ext cx="762120" cy="17424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57200" y="2601720"/>
                  <a:ext cx="0" cy="435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219320" y="2601720"/>
                  <a:ext cx="0" cy="435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57200" y="2950200"/>
                  <a:ext cx="762120" cy="17424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457200" y="3429000"/>
                <a:ext cx="762120" cy="609840"/>
                <a:chOff x="457200" y="3429000"/>
                <a:chExt cx="762120" cy="6098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457200" y="3429000"/>
                  <a:ext cx="762120" cy="17424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57200" y="3516120"/>
                  <a:ext cx="0" cy="435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219320" y="3516120"/>
                  <a:ext cx="0" cy="435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57200" y="3864600"/>
                  <a:ext cx="762120" cy="17424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457200" y="4800600"/>
                <a:ext cx="762120" cy="609840"/>
                <a:chOff x="457200" y="4800600"/>
                <a:chExt cx="762120" cy="6098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57200" y="4800600"/>
                  <a:ext cx="762120" cy="17424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57200" y="4887720"/>
                  <a:ext cx="0" cy="435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219320" y="4887720"/>
                  <a:ext cx="0" cy="435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57200" y="5236200"/>
                  <a:ext cx="762120" cy="17424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304920" y="2362320"/>
                <a:ext cx="1066680" cy="3200400"/>
              </a:xfrm>
              <a:prstGeom prst="rect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1447920" y="2590920"/>
              <a:ext cx="838080" cy="2771640"/>
              <a:chOff x="1447920" y="2590920"/>
              <a:chExt cx="838080" cy="2771640"/>
            </a:xfrm>
          </p:grpSpPr>
          <p:sp>
            <p:nvSpPr>
              <p:cNvPr id="438" name=""/>
              <p:cNvSpPr/>
              <p:nvPr/>
            </p:nvSpPr>
            <p:spPr>
              <a:xfrm>
                <a:off x="1447920" y="2590920"/>
                <a:ext cx="826200" cy="485640"/>
              </a:xfrm>
              <a:prstGeom prst="rightArrow">
                <a:avLst>
                  <a:gd name="adj1" fmla="val 50000"/>
                  <a:gd name="adj2" fmla="val 42532"/>
                </a:avLst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447920" y="3505320"/>
                <a:ext cx="826200" cy="485640"/>
              </a:xfrm>
              <a:prstGeom prst="rightArrow">
                <a:avLst>
                  <a:gd name="adj1" fmla="val 50000"/>
                  <a:gd name="adj2" fmla="val 42532"/>
                </a:avLst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447920" y="4876920"/>
                <a:ext cx="826200" cy="485640"/>
              </a:xfrm>
              <a:prstGeom prst="rightArrow">
                <a:avLst>
                  <a:gd name="adj1" fmla="val 50000"/>
                  <a:gd name="adj2" fmla="val 42532"/>
                </a:avLst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447920" y="2666880"/>
                <a:ext cx="83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000" spc="-1" strike="noStrike">
                    <a:solidFill>
                      <a:srgbClr val="000000"/>
                    </a:solidFill>
                    <a:latin typeface="Arial Narrow"/>
                  </a:rPr>
                  <a:t>Extrac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447920" y="3581280"/>
                <a:ext cx="83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000" spc="-1" strike="noStrike">
                    <a:solidFill>
                      <a:srgbClr val="000000"/>
                    </a:solidFill>
                    <a:latin typeface="Arial Narrow"/>
                  </a:rPr>
                  <a:t>Extrac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447920" y="4952880"/>
                <a:ext cx="83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000" spc="-1" strike="noStrike">
                    <a:solidFill>
                      <a:srgbClr val="000000"/>
                    </a:solidFill>
                    <a:latin typeface="Arial Narrow"/>
                  </a:rPr>
                  <a:t>Extrac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2286000" y="2362320"/>
              <a:ext cx="2057400" cy="32004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286000" y="2362320"/>
              <a:ext cx="2057400" cy="9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</a:rPr>
                <a:t>Service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200" spc="-1" strike="noStrike">
                  <a:solidFill>
                    <a:srgbClr val="000000"/>
                  </a:solidFill>
                  <a:latin typeface="Times New Roman"/>
                </a:rPr>
                <a:t>Clean, combine, standardize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200" spc="-1" strike="noStrike">
                  <a:solidFill>
                    <a:srgbClr val="000000"/>
                  </a:solidFill>
                  <a:latin typeface="Times New Roman"/>
                </a:rPr>
                <a:t>Confirm dimen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62320" y="3581280"/>
              <a:ext cx="1523880" cy="9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</a:rPr>
                <a:t>Data store</a:t>
              </a:r>
              <a:r>
                <a:rPr b="0" i="1" lang="sr-Latn-C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200" spc="-1" strike="noStrike">
                  <a:solidFill>
                    <a:srgbClr val="000000"/>
                  </a:solidFill>
                  <a:latin typeface="Times New Roman"/>
                </a:rPr>
                <a:t>Flat files, relat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200" spc="-1" strike="noStrike">
                  <a:solidFill>
                    <a:srgbClr val="000000"/>
                  </a:solidFill>
                  <a:latin typeface="Times New Roman"/>
                </a:rPr>
                <a:t>tab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38280" y="4648320"/>
              <a:ext cx="16765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</a:rPr>
                <a:t>Processing</a:t>
              </a:r>
              <a:r>
                <a:rPr b="0" i="1" lang="sr-Latn-C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200" spc="-1" strike="noStrike">
                  <a:solidFill>
                    <a:srgbClr val="000000"/>
                  </a:solidFill>
                  <a:latin typeface="Times New Roman"/>
                </a:rPr>
                <a:t>Sorting and sequential proce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343400" y="2666880"/>
              <a:ext cx="762120" cy="486000"/>
            </a:xfrm>
            <a:prstGeom prst="rightArrow">
              <a:avLst>
                <a:gd name="adj1" fmla="val 50000"/>
                <a:gd name="adj2" fmla="val 39204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43400" y="4952880"/>
              <a:ext cx="762120" cy="486000"/>
            </a:xfrm>
            <a:prstGeom prst="rightArrow">
              <a:avLst>
                <a:gd name="adj1" fmla="val 50000"/>
                <a:gd name="adj2" fmla="val 39204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95680" y="274320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00"/>
                  </a:solidFill>
                  <a:latin typeface="Arial Narrow"/>
                </a:rPr>
                <a:t>Lo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95680" y="502920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00"/>
                  </a:solidFill>
                  <a:latin typeface="Arial Narrow"/>
                </a:rPr>
                <a:t>Lo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5105520" y="2209680"/>
              <a:ext cx="2133360" cy="3810240"/>
              <a:chOff x="5105520" y="2209680"/>
              <a:chExt cx="2133360" cy="381024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5105520" y="2362320"/>
                <a:ext cx="2057400" cy="3620160"/>
                <a:chOff x="5105520" y="2362320"/>
                <a:chExt cx="2057400" cy="362016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5105520" y="2362320"/>
                  <a:ext cx="1981440" cy="1258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Times New Roman"/>
                    </a:rPr>
                    <a:t>Data Mart #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200" spc="-1" strike="noStrike">
                      <a:solidFill>
                        <a:srgbClr val="000000"/>
                      </a:solidFill>
                      <a:latin typeface="Times New Roman"/>
                    </a:rPr>
                    <a:t>DIMENSIONAL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200" spc="-1" strike="noStrike">
                      <a:solidFill>
                        <a:srgbClr val="000000"/>
                      </a:solidFill>
                      <a:latin typeface="Times New Roman"/>
                    </a:rPr>
                    <a:t>Atomic and summary data based on single business proc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181840" y="4724280"/>
                  <a:ext cx="1981080" cy="1258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Times New Roman"/>
                    </a:rPr>
                    <a:t>Data Mart #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200" spc="-1" strike="noStrike">
                      <a:solidFill>
                        <a:srgbClr val="000000"/>
                      </a:solidFill>
                      <a:latin typeface="Times New Roman"/>
                    </a:rPr>
                    <a:t>DIMENSIONAL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200" spc="-1" strike="noStrike">
                      <a:solidFill>
                        <a:srgbClr val="000000"/>
                      </a:solidFill>
                      <a:latin typeface="Times New Roman"/>
                    </a:rPr>
                    <a:t>Atomic and summary data based on single business proc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105520" y="3657600"/>
                  <a:ext cx="1905120" cy="990720"/>
                </a:xfrm>
                <a:prstGeom prst="upDownArrow">
                  <a:avLst>
                    <a:gd name="adj1" fmla="val 50000"/>
                    <a:gd name="adj2" fmla="val 19907"/>
                  </a:avLst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562720" y="3962520"/>
                  <a:ext cx="1143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Times New Roman"/>
                    </a:rPr>
                    <a:t>DW bus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>
                <a:off x="5105520" y="2209680"/>
                <a:ext cx="2133360" cy="3810240"/>
              </a:xfrm>
              <a:prstGeom prst="rect">
                <a:avLst/>
              </a:pr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7238880" y="2514600"/>
              <a:ext cx="1067040" cy="457200"/>
              <a:chOff x="7238880" y="2514600"/>
              <a:chExt cx="1067040" cy="457200"/>
            </a:xfrm>
          </p:grpSpPr>
          <p:sp>
            <p:nvSpPr>
              <p:cNvPr id="460" name=""/>
              <p:cNvSpPr/>
              <p:nvPr/>
            </p:nvSpPr>
            <p:spPr>
              <a:xfrm>
                <a:off x="7238880" y="2514600"/>
                <a:ext cx="609840" cy="457200"/>
              </a:xfrm>
              <a:prstGeom prst="leftArrow">
                <a:avLst>
                  <a:gd name="adj1" fmla="val 50000"/>
                  <a:gd name="adj2" fmla="val 333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315200" y="2590920"/>
                <a:ext cx="990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000" spc="-1" strike="noStrike">
                    <a:solidFill>
                      <a:srgbClr val="000000"/>
                    </a:solidFill>
                    <a:latin typeface="Arial Narrow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7238880" y="5181480"/>
              <a:ext cx="1067040" cy="457200"/>
              <a:chOff x="7238880" y="5181480"/>
              <a:chExt cx="1067040" cy="457200"/>
            </a:xfrm>
          </p:grpSpPr>
          <p:sp>
            <p:nvSpPr>
              <p:cNvPr id="463" name=""/>
              <p:cNvSpPr/>
              <p:nvPr/>
            </p:nvSpPr>
            <p:spPr>
              <a:xfrm>
                <a:off x="7238880" y="5181480"/>
                <a:ext cx="609840" cy="457200"/>
              </a:xfrm>
              <a:prstGeom prst="leftArrow">
                <a:avLst>
                  <a:gd name="adj1" fmla="val 50000"/>
                  <a:gd name="adj2" fmla="val 33346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15200" y="5257800"/>
                <a:ext cx="990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000" spc="-1" strike="noStrike">
                    <a:solidFill>
                      <a:srgbClr val="000000"/>
                    </a:solidFill>
                    <a:latin typeface="Arial Narrow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7788240" y="2286000"/>
              <a:ext cx="13557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Ad Hoc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Quiry Too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Report Wri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Analytic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Modelling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Forecas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Scor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Data mi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848720" y="2133720"/>
              <a:ext cx="1295280" cy="3886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8721720" y="6445080"/>
            <a:ext cx="422280" cy="4129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8920" y="-428040"/>
            <a:ext cx="87138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Koncept savremene organizacije upravljačkih informacionih sistema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17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" y="2743200"/>
            <a:ext cx="8686800" cy="381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cc"/>
                </a:solidFill>
                <a:latin typeface="Arial"/>
                <a:ea typeface="Arial"/>
              </a:rPr>
              <a:t>DataBase/OLTP (OnLineTransactionProcessing)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cc"/>
                </a:solidFill>
                <a:latin typeface="Arial"/>
                <a:ea typeface="Arial"/>
              </a:rPr>
              <a:t>Data-warehouse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 tehnologije! 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Data Mining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ehnologije!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e i za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što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ccffcc"/>
                </a:solidFill>
                <a:latin typeface="Arial"/>
              </a:rPr>
              <a:t>Prostorni (Spatial) IS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!  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cc"/>
                </a:solidFill>
                <a:latin typeface="Arial"/>
                <a:ea typeface="Arial"/>
              </a:rPr>
              <a:t>WEB</a:t>
            </a:r>
            <a:r>
              <a:rPr b="1" i="1" lang="sr-Latn-CS" sz="3600" spc="-1" strike="noStrike">
                <a:solidFill>
                  <a:srgbClr val="ccffcc"/>
                </a:solidFill>
                <a:latin typeface="Arial"/>
              </a:rPr>
              <a:t> i e-poslovanje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!  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ccffcc"/>
                </a:solidFill>
                <a:latin typeface="Times New Roman"/>
              </a:rPr>
              <a:t>SOA – Servis Orijentisane Arhitekture </a:t>
            </a:r>
            <a:r>
              <a:rPr b="1" i="1" lang="en-US" sz="2800" spc="-1" strike="noStrike">
                <a:solidFill>
                  <a:srgbClr val="ccffcc"/>
                </a:solidFill>
                <a:latin typeface="Times New Roman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" y="762120"/>
            <a:ext cx="8686800" cy="1739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Izazovi savremenih tehnologija i koncepata u domenu projektovanja informacionih siste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334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381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Data Mining tehnologije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1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8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73" name=""/>
          <p:cNvSpPr/>
          <p:nvPr/>
        </p:nvSpPr>
        <p:spPr>
          <a:xfrm>
            <a:off x="152280" y="762120"/>
            <a:ext cx="8839440" cy="1739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Data Mining tehnologije -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rudarenj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)  često se definišu kao tehnologije za </a:t>
            </a:r>
            <a:r>
              <a:rPr b="1" i="1" lang="sr-Latn-CS" sz="3600" spc="-1" strike="noStrike">
                <a:solidFill>
                  <a:srgbClr val="0066ff"/>
                </a:solidFill>
                <a:latin typeface="Arial"/>
              </a:rPr>
              <a:t>traženje skrivenih informacija u podatci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2666880"/>
            <a:ext cx="8839440" cy="44215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Razlike u odnosu na tradicionalne DB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sr-Latn-CS" sz="3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sr-Latn-CS" sz="3600" spc="-1" strike="noStrike">
                <a:solidFill>
                  <a:srgbClr val="0066ff"/>
                </a:solidFill>
                <a:latin typeface="Arial"/>
              </a:rPr>
              <a:t>Upiti – </a:t>
            </a:r>
            <a:r>
              <a:rPr b="1" i="1" lang="sr-Latn-CS" sz="2800" spc="-1" strike="noStrike">
                <a:solidFill>
                  <a:srgbClr val="0066ff"/>
                </a:solidFill>
                <a:latin typeface="Arial"/>
              </a:rPr>
              <a:t>ne moraju biti dobro formirani ili </a:t>
            </a:r>
            <a:r>
              <a:rPr b="1" i="1" lang="sr-Latn-C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0066ff"/>
                </a:solidFill>
                <a:latin typeface="Arial"/>
              </a:rPr>
              <a:t>precizno iskazani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i="1" lang="sr-Latn-CS" sz="3600" spc="-1" strike="noStrike">
                <a:solidFill>
                  <a:srgbClr val="0066ff"/>
                </a:solidFill>
                <a:latin typeface="Arial"/>
              </a:rPr>
              <a:t>Podaci</a:t>
            </a:r>
            <a:r>
              <a:rPr b="1" i="1" lang="sr-Latn-CS" sz="2800" spc="-1" strike="noStrike">
                <a:solidFill>
                  <a:srgbClr val="0066ff"/>
                </a:solidFill>
                <a:latin typeface="Arial"/>
              </a:rPr>
              <a:t> – pristupa se rafiniranim i </a:t>
            </a:r>
            <a:r>
              <a:rPr b="1" i="1" lang="sr-Latn-C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0066ff"/>
                </a:solidFill>
                <a:latin typeface="Arial"/>
              </a:rPr>
              <a:t>postprocesiranim poda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i="1" lang="sr-Latn-CS" sz="3600" spc="-1" strike="noStrike">
                <a:solidFill>
                  <a:srgbClr val="0066ff"/>
                </a:solidFill>
                <a:latin typeface="Arial"/>
              </a:rPr>
              <a:t>Izlazi</a:t>
            </a:r>
            <a:r>
              <a:rPr b="1" i="1" lang="sr-Latn-CS" sz="2800" spc="-1" strike="noStrike">
                <a:solidFill>
                  <a:srgbClr val="0066ff"/>
                </a:solidFill>
                <a:latin typeface="Arial"/>
              </a:rPr>
              <a:t> – ne pretstavljaju podskupove </a:t>
            </a:r>
            <a:r>
              <a:rPr b="1" i="1" lang="sr-Latn-C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0066ff"/>
                </a:solidFill>
                <a:latin typeface="Arial"/>
              </a:rPr>
              <a:t>podataka u bazi već posledicu neke analize </a:t>
            </a:r>
            <a:r>
              <a:rPr b="1" i="1" lang="sr-Latn-C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0066ff"/>
                </a:solidFill>
                <a:latin typeface="Arial"/>
              </a:rPr>
              <a:t>podataka (OLAP – O</a:t>
            </a:r>
            <a:r>
              <a:rPr b="1" i="1" lang="sr-Latn-CS" sz="2400" spc="-1" strike="noStrike">
                <a:solidFill>
                  <a:srgbClr val="0066ff"/>
                </a:solidFill>
                <a:latin typeface="Arial"/>
              </a:rPr>
              <a:t>n</a:t>
            </a:r>
            <a:r>
              <a:rPr b="1" i="1" lang="sr-Latn-CS" sz="28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1" i="1" lang="sr-Latn-CS" sz="2400" spc="-1" strike="noStrike">
                <a:solidFill>
                  <a:srgbClr val="0066ff"/>
                </a:solidFill>
                <a:latin typeface="Arial"/>
              </a:rPr>
              <a:t>ine</a:t>
            </a:r>
            <a:r>
              <a:rPr b="1" i="1" lang="sr-Latn-CS" sz="28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1" i="1" lang="sr-Latn-CS" sz="2400" spc="-1" strike="noStrike">
                <a:solidFill>
                  <a:srgbClr val="0066ff"/>
                </a:solidFill>
                <a:latin typeface="Arial"/>
              </a:rPr>
              <a:t>nalitical</a:t>
            </a:r>
            <a:r>
              <a:rPr b="1" i="1" lang="sr-Latn-CS" sz="2800" spc="-1" strike="noStrike">
                <a:solidFill>
                  <a:srgbClr val="0066ff"/>
                </a:solidFill>
                <a:latin typeface="Arial"/>
              </a:rPr>
              <a:t>P</a:t>
            </a:r>
            <a:r>
              <a:rPr b="1" i="1" lang="sr-Latn-CS" sz="2400" spc="-1" strike="noStrike">
                <a:solidFill>
                  <a:srgbClr val="0066ff"/>
                </a:solidFill>
                <a:latin typeface="Arial"/>
              </a:rPr>
              <a:t>rocessing</a:t>
            </a:r>
            <a:r>
              <a:rPr b="1" i="1" lang="sr-Latn-CS" sz="28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332280"/>
            <a:ext cx="658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Informacioni sistemi -02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33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3680" y="2125800"/>
            <a:ext cx="2286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25840" y="2125800"/>
            <a:ext cx="2286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3573360"/>
            <a:ext cx="38862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139840" y="2582640"/>
            <a:ext cx="609840" cy="99036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654440" y="2582640"/>
            <a:ext cx="838440" cy="990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5840" y="2125800"/>
            <a:ext cx="228600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8458200" y="6161040"/>
            <a:ext cx="498600" cy="4874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Data Mining tehnologije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1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9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531720" y="762120"/>
            <a:ext cx="7774200" cy="5793120"/>
            <a:chOff x="531720" y="762120"/>
            <a:chExt cx="7774200" cy="5793120"/>
          </a:xfrm>
        </p:grpSpPr>
        <p:sp>
          <p:nvSpPr>
            <p:cNvPr id="478" name=""/>
            <p:cNvSpPr/>
            <p:nvPr/>
          </p:nvSpPr>
          <p:spPr>
            <a:xfrm>
              <a:off x="2209680" y="762120"/>
              <a:ext cx="449604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ff0000"/>
                  </a:solidFill>
                  <a:latin typeface="Arial"/>
                </a:rPr>
                <a:t>Data Mining model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43000" y="1828800"/>
              <a:ext cx="327672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ff0000"/>
                  </a:solidFill>
                  <a:latin typeface="Arial"/>
                </a:rPr>
                <a:t>Prediktivn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48320" y="1828800"/>
              <a:ext cx="327636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0066ff"/>
                  </a:solidFill>
                  <a:latin typeface="Arial"/>
                </a:rPr>
                <a:t>Deskriptivn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048120" y="1447920"/>
              <a:ext cx="4856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62720" y="1447920"/>
              <a:ext cx="4856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8080" y="27432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Arial"/>
                </a:rPr>
                <a:t>Klasifikac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34290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Arial"/>
                </a:rPr>
                <a:t>Regres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38080" y="4114800"/>
              <a:ext cx="3276720" cy="1556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Arial"/>
                </a:rPr>
                <a:t>Analiza vremenskih ser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080" y="579132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Arial"/>
                </a:rPr>
                <a:t>Predikc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1720" y="2133720"/>
              <a:ext cx="609840" cy="4038480"/>
            </a:xfrm>
            <a:custGeom>
              <a:avLst/>
              <a:gdLst/>
              <a:ahLst/>
              <a:rect l="l" t="t" r="r" b="b"/>
              <a:pathLst>
                <a:path w="384" h="2544">
                  <a:moveTo>
                    <a:pt x="384" y="0"/>
                  </a:moveTo>
                  <a:lnTo>
                    <a:pt x="0" y="0"/>
                  </a:lnTo>
                  <a:lnTo>
                    <a:pt x="0" y="2544"/>
                  </a:lnTo>
                  <a:lnTo>
                    <a:pt x="192" y="254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3520" y="304812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3520" y="380988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3520" y="502920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29200" y="27432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Klasterovanj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29200" y="350532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Sumiranj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29200" y="4267080"/>
              <a:ext cx="3276720" cy="1068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Asocijativna pravil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29200" y="5486400"/>
              <a:ext cx="3276720" cy="1068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Otkrivanje sekven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00600" y="2438280"/>
              <a:ext cx="228600" cy="3657600"/>
            </a:xfrm>
            <a:custGeom>
              <a:avLst/>
              <a:gdLst/>
              <a:ahLst/>
              <a:rect l="l" t="t" r="r" b="b"/>
              <a:pathLst>
                <a:path w="144" h="2304">
                  <a:moveTo>
                    <a:pt x="0" y="0"/>
                  </a:moveTo>
                  <a:lnTo>
                    <a:pt x="0" y="2304"/>
                  </a:lnTo>
                  <a:lnTo>
                    <a:pt x="144" y="2304"/>
                  </a:lnTo>
                </a:path>
              </a:pathLst>
            </a:custGeom>
            <a:noFill/>
            <a:ln w="25560">
              <a:solidFill>
                <a:srgbClr val="0066ff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00600" y="304812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00600" y="380988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800600" y="487692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8458200" y="6161040"/>
            <a:ext cx="498600" cy="4874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Data Mining tehnologije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1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9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31720" y="762120"/>
            <a:ext cx="7774200" cy="5793120"/>
            <a:chOff x="531720" y="762120"/>
            <a:chExt cx="7774200" cy="5793120"/>
          </a:xfrm>
        </p:grpSpPr>
        <p:sp>
          <p:nvSpPr>
            <p:cNvPr id="502" name=""/>
            <p:cNvSpPr/>
            <p:nvPr/>
          </p:nvSpPr>
          <p:spPr>
            <a:xfrm>
              <a:off x="2209680" y="762120"/>
              <a:ext cx="449604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ff0000"/>
                  </a:solidFill>
                  <a:latin typeface="Arial"/>
                </a:rPr>
                <a:t>Data Mining model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143000" y="1828800"/>
              <a:ext cx="327672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ff0000"/>
                  </a:solidFill>
                  <a:latin typeface="Arial"/>
                </a:rPr>
                <a:t>Prediktivn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48320" y="1828800"/>
              <a:ext cx="327636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0066ff"/>
                  </a:solidFill>
                  <a:latin typeface="Arial"/>
                </a:rPr>
                <a:t>Deskriptivn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048120" y="1447920"/>
              <a:ext cx="4856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562720" y="1447920"/>
              <a:ext cx="4856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8080" y="27432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Arial"/>
                </a:rPr>
                <a:t>Klasifikac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34290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Regres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8080" y="4114800"/>
              <a:ext cx="3276720" cy="1556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Analiza vremenskih ser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38080" y="579132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Predikc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1720" y="2133720"/>
              <a:ext cx="609840" cy="4038480"/>
            </a:xfrm>
            <a:custGeom>
              <a:avLst/>
              <a:gdLst/>
              <a:ahLst/>
              <a:rect l="l" t="t" r="r" b="b"/>
              <a:pathLst>
                <a:path w="384" h="2544">
                  <a:moveTo>
                    <a:pt x="384" y="0"/>
                  </a:moveTo>
                  <a:lnTo>
                    <a:pt x="0" y="0"/>
                  </a:lnTo>
                  <a:lnTo>
                    <a:pt x="0" y="2544"/>
                  </a:lnTo>
                  <a:lnTo>
                    <a:pt x="192" y="254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3520" y="304812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3520" y="380988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3520" y="502920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29200" y="27432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Klasterovanj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29200" y="350532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Sumiranj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29200" y="4267080"/>
              <a:ext cx="3276720" cy="1068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Asocijativna pravil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29200" y="5486400"/>
              <a:ext cx="3276720" cy="1068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Otkrivanje sekven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00600" y="2438280"/>
              <a:ext cx="228600" cy="3657600"/>
            </a:xfrm>
            <a:custGeom>
              <a:avLst/>
              <a:gdLst/>
              <a:ahLst/>
              <a:rect l="l" t="t" r="r" b="b"/>
              <a:pathLst>
                <a:path w="144" h="2304">
                  <a:moveTo>
                    <a:pt x="0" y="0"/>
                  </a:moveTo>
                  <a:lnTo>
                    <a:pt x="0" y="2304"/>
                  </a:lnTo>
                  <a:lnTo>
                    <a:pt x="144" y="2304"/>
                  </a:lnTo>
                </a:path>
              </a:pathLst>
            </a:custGeom>
            <a:noFill/>
            <a:ln w="25560">
              <a:solidFill>
                <a:srgbClr val="0066ff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00600" y="304812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00600" y="380988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00600" y="487692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4030560" y="1844640"/>
            <a:ext cx="5113440" cy="458208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Klasifikacija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– mapira podatke u unapred definisane grupe (klase) (predefined classes). (Klase su definisane pre početka analize podataka na osnovu vrednosti pojedinih atributa podatak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Pattern recognition (prepoznavanje oblik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4" dur="1" fill="hold"/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8458200" y="6161040"/>
            <a:ext cx="498600" cy="48744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Data Mining tehnologije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1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9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31720" y="762120"/>
            <a:ext cx="7774200" cy="5793120"/>
            <a:chOff x="531720" y="762120"/>
            <a:chExt cx="7774200" cy="5793120"/>
          </a:xfrm>
        </p:grpSpPr>
        <p:sp>
          <p:nvSpPr>
            <p:cNvPr id="527" name=""/>
            <p:cNvSpPr/>
            <p:nvPr/>
          </p:nvSpPr>
          <p:spPr>
            <a:xfrm>
              <a:off x="2209680" y="762120"/>
              <a:ext cx="449604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ff0000"/>
                  </a:solidFill>
                  <a:latin typeface="Arial"/>
                </a:rPr>
                <a:t>Data Mining model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43000" y="1828800"/>
              <a:ext cx="327672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ff0000"/>
                  </a:solidFill>
                  <a:latin typeface="Arial"/>
                </a:rPr>
                <a:t>Prediktivn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48320" y="1828800"/>
              <a:ext cx="327636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0066ff"/>
                  </a:solidFill>
                  <a:latin typeface="Arial"/>
                </a:rPr>
                <a:t>Deskriptivn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8120" y="1447920"/>
              <a:ext cx="4856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562720" y="1447920"/>
              <a:ext cx="4856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38080" y="27432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Klasifikac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38080" y="34290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Arial"/>
                </a:rPr>
                <a:t>Regres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38080" y="4114800"/>
              <a:ext cx="3276720" cy="1556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Analiza vremenskih ser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38080" y="579132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Predikc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31720" y="2133720"/>
              <a:ext cx="609840" cy="4038480"/>
            </a:xfrm>
            <a:custGeom>
              <a:avLst/>
              <a:gdLst/>
              <a:ahLst/>
              <a:rect l="l" t="t" r="r" b="b"/>
              <a:pathLst>
                <a:path w="384" h="2544">
                  <a:moveTo>
                    <a:pt x="384" y="0"/>
                  </a:moveTo>
                  <a:lnTo>
                    <a:pt x="0" y="0"/>
                  </a:lnTo>
                  <a:lnTo>
                    <a:pt x="0" y="2544"/>
                  </a:lnTo>
                  <a:lnTo>
                    <a:pt x="192" y="254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3520" y="304812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520" y="380988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3520" y="502920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029200" y="27432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Klasterovanj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029200" y="350532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Sumiranj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029200" y="4267080"/>
              <a:ext cx="3276720" cy="1068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Asocijativna pravil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029200" y="5486400"/>
              <a:ext cx="3276720" cy="1068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Otkrivanje sekven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00600" y="2438280"/>
              <a:ext cx="228600" cy="3657600"/>
            </a:xfrm>
            <a:custGeom>
              <a:avLst/>
              <a:gdLst/>
              <a:ahLst/>
              <a:rect l="l" t="t" r="r" b="b"/>
              <a:pathLst>
                <a:path w="144" h="2304">
                  <a:moveTo>
                    <a:pt x="0" y="0"/>
                  </a:moveTo>
                  <a:lnTo>
                    <a:pt x="0" y="2304"/>
                  </a:lnTo>
                  <a:lnTo>
                    <a:pt x="144" y="2304"/>
                  </a:lnTo>
                </a:path>
              </a:pathLst>
            </a:custGeom>
            <a:noFill/>
            <a:ln w="25560">
              <a:solidFill>
                <a:srgbClr val="0066ff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800600" y="304812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800600" y="380988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00600" y="487692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4356000" y="1557360"/>
            <a:ext cx="4537080" cy="500868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gresija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– obezbeđuje mapiranje podataka na procenjene realne  vrednosti neke promenljive. U stvarnosti regresija podrazumeva utvrđivanje funkcije mapiranj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(Naći funkciju koja najbolje korelira sa pojavama podatak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4" dur="1" fill="hold"/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8458200" y="6161040"/>
            <a:ext cx="498600" cy="48744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Data Mining tehnologije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1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9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31720" y="762120"/>
            <a:ext cx="7774200" cy="5793120"/>
            <a:chOff x="531720" y="762120"/>
            <a:chExt cx="7774200" cy="5793120"/>
          </a:xfrm>
        </p:grpSpPr>
        <p:sp>
          <p:nvSpPr>
            <p:cNvPr id="552" name=""/>
            <p:cNvSpPr/>
            <p:nvPr/>
          </p:nvSpPr>
          <p:spPr>
            <a:xfrm>
              <a:off x="2209680" y="762120"/>
              <a:ext cx="449604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ff0000"/>
                  </a:solidFill>
                  <a:latin typeface="Arial"/>
                </a:rPr>
                <a:t>Data Mining model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43000" y="1828800"/>
              <a:ext cx="327672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ff0000"/>
                  </a:solidFill>
                  <a:latin typeface="Arial"/>
                </a:rPr>
                <a:t>Prediktivn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48320" y="1828800"/>
              <a:ext cx="327636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0066ff"/>
                  </a:solidFill>
                  <a:latin typeface="Arial"/>
                </a:rPr>
                <a:t>Deskriptivn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48120" y="1447920"/>
              <a:ext cx="4856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62720" y="1447920"/>
              <a:ext cx="4856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38080" y="27432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Klasifikac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38080" y="34290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Regres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8080" y="4114800"/>
              <a:ext cx="3276720" cy="1556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Arial"/>
                </a:rPr>
                <a:t>Analiza vremenskih ser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38080" y="579132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Predikc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31720" y="2133720"/>
              <a:ext cx="609840" cy="4038480"/>
            </a:xfrm>
            <a:custGeom>
              <a:avLst/>
              <a:gdLst/>
              <a:ahLst/>
              <a:rect l="l" t="t" r="r" b="b"/>
              <a:pathLst>
                <a:path w="384" h="2544">
                  <a:moveTo>
                    <a:pt x="384" y="0"/>
                  </a:moveTo>
                  <a:lnTo>
                    <a:pt x="0" y="0"/>
                  </a:lnTo>
                  <a:lnTo>
                    <a:pt x="0" y="2544"/>
                  </a:lnTo>
                  <a:lnTo>
                    <a:pt x="192" y="254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3520" y="304812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33520" y="380988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3520" y="502920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29200" y="27432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Klasterovanj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29200" y="350532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Sumiranj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29200" y="4267080"/>
              <a:ext cx="3276720" cy="1068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Asocijativna pravil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029200" y="5486400"/>
              <a:ext cx="3276720" cy="1068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Otkrivanje sekven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00600" y="2438280"/>
              <a:ext cx="228600" cy="3657600"/>
            </a:xfrm>
            <a:custGeom>
              <a:avLst/>
              <a:gdLst/>
              <a:ahLst/>
              <a:rect l="l" t="t" r="r" b="b"/>
              <a:pathLst>
                <a:path w="144" h="2304">
                  <a:moveTo>
                    <a:pt x="0" y="0"/>
                  </a:moveTo>
                  <a:lnTo>
                    <a:pt x="0" y="2304"/>
                  </a:lnTo>
                  <a:lnTo>
                    <a:pt x="144" y="2304"/>
                  </a:lnTo>
                </a:path>
              </a:pathLst>
            </a:custGeom>
            <a:noFill/>
            <a:ln w="25560">
              <a:solidFill>
                <a:srgbClr val="0066ff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800600" y="304812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00600" y="380988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800600" y="487692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3670200" y="747720"/>
            <a:ext cx="5473800" cy="606024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naliza vremenskih serija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– vrednost atributa se posmatra u funkciji vremena. U osnovi postoje tri osnovne funkcije u sklopu analize vremenskih ser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odstupanja 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(distance measure) – provera sličnosti između vremenskih ser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struktura – 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otkrivanje ponaš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predikcija budućeg ponašanja na osnovu istor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4" dur="1" fill="hold"/>
                                  <p:tgtEl>
                                    <p:spTgt spid="5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8458200" y="6161040"/>
            <a:ext cx="498600" cy="48744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Data Mining tehnologije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1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9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531720" y="762120"/>
            <a:ext cx="7774200" cy="5793120"/>
            <a:chOff x="531720" y="762120"/>
            <a:chExt cx="7774200" cy="5793120"/>
          </a:xfrm>
        </p:grpSpPr>
        <p:sp>
          <p:nvSpPr>
            <p:cNvPr id="577" name=""/>
            <p:cNvSpPr/>
            <p:nvPr/>
          </p:nvSpPr>
          <p:spPr>
            <a:xfrm>
              <a:off x="2209680" y="762120"/>
              <a:ext cx="449604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ff0000"/>
                  </a:solidFill>
                  <a:latin typeface="Arial"/>
                </a:rPr>
                <a:t>Data Mining model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43000" y="1828800"/>
              <a:ext cx="327672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ff0000"/>
                  </a:solidFill>
                  <a:latin typeface="Arial"/>
                </a:rPr>
                <a:t>Prediktivn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648320" y="1828800"/>
              <a:ext cx="327636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0066ff"/>
                  </a:solidFill>
                  <a:latin typeface="Arial"/>
                </a:rPr>
                <a:t>Deskriptivn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048120" y="1447920"/>
              <a:ext cx="4856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562720" y="1447920"/>
              <a:ext cx="4856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38080" y="27432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Klasifikac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38080" y="34290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Regres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80" y="4114800"/>
              <a:ext cx="3276720" cy="1556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Analiza vremenskih ser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38080" y="579132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Arial"/>
                </a:rPr>
                <a:t>Predikc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720" y="2133720"/>
              <a:ext cx="609840" cy="4038480"/>
            </a:xfrm>
            <a:custGeom>
              <a:avLst/>
              <a:gdLst/>
              <a:ahLst/>
              <a:rect l="l" t="t" r="r" b="b"/>
              <a:pathLst>
                <a:path w="384" h="2544">
                  <a:moveTo>
                    <a:pt x="384" y="0"/>
                  </a:moveTo>
                  <a:lnTo>
                    <a:pt x="0" y="0"/>
                  </a:lnTo>
                  <a:lnTo>
                    <a:pt x="0" y="2544"/>
                  </a:lnTo>
                  <a:lnTo>
                    <a:pt x="192" y="254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3520" y="304812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3520" y="380988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3520" y="502920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029200" y="27432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Klasterovanj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29200" y="350532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Sumiranj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29200" y="4267080"/>
              <a:ext cx="3276720" cy="1068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Asocijativna pravil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29200" y="5486400"/>
              <a:ext cx="3276720" cy="1068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Otkrivanje sekven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00600" y="2438280"/>
              <a:ext cx="228600" cy="3657600"/>
            </a:xfrm>
            <a:custGeom>
              <a:avLst/>
              <a:gdLst/>
              <a:ahLst/>
              <a:rect l="l" t="t" r="r" b="b"/>
              <a:pathLst>
                <a:path w="144" h="2304">
                  <a:moveTo>
                    <a:pt x="0" y="0"/>
                  </a:moveTo>
                  <a:lnTo>
                    <a:pt x="0" y="2304"/>
                  </a:lnTo>
                  <a:lnTo>
                    <a:pt x="144" y="2304"/>
                  </a:lnTo>
                </a:path>
              </a:pathLst>
            </a:custGeom>
            <a:noFill/>
            <a:ln w="25560">
              <a:solidFill>
                <a:srgbClr val="0066ff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800600" y="304812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00600" y="380988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00600" y="487692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4572000" y="1916280"/>
            <a:ext cx="4392720" cy="7405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Times New Roman"/>
              </a:rPr>
              <a:t>Predikcija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prognoza budućeg stanja podataka na bazi prethodnih i sadašnjeg stanj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mašinsko uč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prepoznavanje 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prepoznavanje obl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4" dur="1" fill="hold"/>
                                  <p:tgtEl>
                                    <p:spTgt spid="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8458200" y="6161040"/>
            <a:ext cx="498600" cy="48744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Data Mining tehnologije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1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9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531720" y="762120"/>
            <a:ext cx="7774200" cy="5793120"/>
            <a:chOff x="531720" y="762120"/>
            <a:chExt cx="7774200" cy="5793120"/>
          </a:xfrm>
        </p:grpSpPr>
        <p:sp>
          <p:nvSpPr>
            <p:cNvPr id="602" name=""/>
            <p:cNvSpPr/>
            <p:nvPr/>
          </p:nvSpPr>
          <p:spPr>
            <a:xfrm>
              <a:off x="2209680" y="762120"/>
              <a:ext cx="449604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ff0000"/>
                  </a:solidFill>
                  <a:latin typeface="Arial"/>
                </a:rPr>
                <a:t>Data Mining model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43000" y="1828800"/>
              <a:ext cx="327672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ff0000"/>
                  </a:solidFill>
                  <a:latin typeface="Arial"/>
                </a:rPr>
                <a:t>Prediktivn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48320" y="1828800"/>
              <a:ext cx="327636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0066ff"/>
                  </a:solidFill>
                  <a:latin typeface="Arial"/>
                </a:rPr>
                <a:t>Deskriptivn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48120" y="1447920"/>
              <a:ext cx="4856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62720" y="1447920"/>
              <a:ext cx="4856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38080" y="27432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Klasifikac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080" y="34290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Regres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8080" y="4114800"/>
              <a:ext cx="3276720" cy="1556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Analiza vremenskih ser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38080" y="579132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Predikc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1720" y="2133720"/>
              <a:ext cx="609840" cy="4038480"/>
            </a:xfrm>
            <a:custGeom>
              <a:avLst/>
              <a:gdLst/>
              <a:ahLst/>
              <a:rect l="l" t="t" r="r" b="b"/>
              <a:pathLst>
                <a:path w="384" h="2544">
                  <a:moveTo>
                    <a:pt x="384" y="0"/>
                  </a:moveTo>
                  <a:lnTo>
                    <a:pt x="0" y="0"/>
                  </a:lnTo>
                  <a:lnTo>
                    <a:pt x="0" y="2544"/>
                  </a:lnTo>
                  <a:lnTo>
                    <a:pt x="192" y="254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3520" y="304812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3520" y="380988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33520" y="502920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29200" y="27432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Klasterovanj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29200" y="350532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Sumiranj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29200" y="4267080"/>
              <a:ext cx="3276720" cy="1068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Asocijativna pravil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029200" y="5486400"/>
              <a:ext cx="3276720" cy="1068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Otkrivanje sekven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00600" y="2438280"/>
              <a:ext cx="228600" cy="3657600"/>
            </a:xfrm>
            <a:custGeom>
              <a:avLst/>
              <a:gdLst/>
              <a:ahLst/>
              <a:rect l="l" t="t" r="r" b="b"/>
              <a:pathLst>
                <a:path w="144" h="2304">
                  <a:moveTo>
                    <a:pt x="0" y="0"/>
                  </a:moveTo>
                  <a:lnTo>
                    <a:pt x="0" y="2304"/>
                  </a:lnTo>
                  <a:lnTo>
                    <a:pt x="144" y="2304"/>
                  </a:lnTo>
                </a:path>
              </a:pathLst>
            </a:custGeom>
            <a:noFill/>
            <a:ln w="25560">
              <a:solidFill>
                <a:srgbClr val="0066ff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800600" y="304812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800600" y="380988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00600" y="487692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324000" y="1844640"/>
            <a:ext cx="4321080" cy="466236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8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000" spc="-1" strike="noStrike" u="sng">
                <a:solidFill>
                  <a:srgbClr val="ffff00"/>
                </a:solidFill>
                <a:uFillTx/>
                <a:latin typeface="Times New Roman"/>
              </a:rPr>
              <a:t>Klasterovanje</a:t>
            </a:r>
            <a:r>
              <a:rPr b="1" i="1" lang="sr-Latn-CS" sz="3000" spc="-1" strike="noStrike">
                <a:solidFill>
                  <a:srgbClr val="ffff00"/>
                </a:solidFill>
                <a:latin typeface="Times New Roman"/>
              </a:rPr>
              <a:t> – slično je klasifikaciji ali sa tom razlikom da grupe nisu unapred definisane. Može se posmatrati kao particioniranje ili segmentiranje podataka u grupe koje mogu ali ne moraju biti u vezi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4" dur="1" fill="hold"/>
                                  <p:tgtEl>
                                    <p:spTgt spid="6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8458200" y="6161040"/>
            <a:ext cx="498600" cy="48744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Data Mining tehnologije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1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9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531720" y="762120"/>
            <a:ext cx="7774200" cy="5793120"/>
            <a:chOff x="531720" y="762120"/>
            <a:chExt cx="7774200" cy="5793120"/>
          </a:xfrm>
        </p:grpSpPr>
        <p:sp>
          <p:nvSpPr>
            <p:cNvPr id="627" name=""/>
            <p:cNvSpPr/>
            <p:nvPr/>
          </p:nvSpPr>
          <p:spPr>
            <a:xfrm>
              <a:off x="2209680" y="762120"/>
              <a:ext cx="449604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ff0000"/>
                  </a:solidFill>
                  <a:latin typeface="Arial"/>
                </a:rPr>
                <a:t>Data Mining model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43000" y="1828800"/>
              <a:ext cx="327672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ff0000"/>
                  </a:solidFill>
                  <a:latin typeface="Arial"/>
                </a:rPr>
                <a:t>Prediktivn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648320" y="1828800"/>
              <a:ext cx="327636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0066ff"/>
                  </a:solidFill>
                  <a:latin typeface="Arial"/>
                </a:rPr>
                <a:t>Deskriptivn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48120" y="1447920"/>
              <a:ext cx="4856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562720" y="1447920"/>
              <a:ext cx="4856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8080" y="27432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Klasifikac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8080" y="34290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Regres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8080" y="4114800"/>
              <a:ext cx="3276720" cy="1556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Analiza vremenskih ser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8080" y="579132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Predikc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1720" y="2133720"/>
              <a:ext cx="609840" cy="4038480"/>
            </a:xfrm>
            <a:custGeom>
              <a:avLst/>
              <a:gdLst/>
              <a:ahLst/>
              <a:rect l="l" t="t" r="r" b="b"/>
              <a:pathLst>
                <a:path w="384" h="2544">
                  <a:moveTo>
                    <a:pt x="384" y="0"/>
                  </a:moveTo>
                  <a:lnTo>
                    <a:pt x="0" y="0"/>
                  </a:lnTo>
                  <a:lnTo>
                    <a:pt x="0" y="2544"/>
                  </a:lnTo>
                  <a:lnTo>
                    <a:pt x="192" y="254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3520" y="304812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3520" y="380988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3520" y="502920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029200" y="27432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Klasterovanj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29200" y="350532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Sumiranj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29200" y="4267080"/>
              <a:ext cx="3276720" cy="1068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Asocijativna pravil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29200" y="5486400"/>
              <a:ext cx="3276720" cy="1068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Otkrivanje sekven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00600" y="2438280"/>
              <a:ext cx="228600" cy="3657600"/>
            </a:xfrm>
            <a:custGeom>
              <a:avLst/>
              <a:gdLst/>
              <a:ahLst/>
              <a:rect l="l" t="t" r="r" b="b"/>
              <a:pathLst>
                <a:path w="144" h="2304">
                  <a:moveTo>
                    <a:pt x="0" y="0"/>
                  </a:moveTo>
                  <a:lnTo>
                    <a:pt x="0" y="2304"/>
                  </a:lnTo>
                  <a:lnTo>
                    <a:pt x="144" y="2304"/>
                  </a:lnTo>
                </a:path>
              </a:pathLst>
            </a:custGeom>
            <a:noFill/>
            <a:ln w="25560">
              <a:solidFill>
                <a:srgbClr val="0066ff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00600" y="304812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00600" y="380988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00600" y="487692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179280" y="1484280"/>
            <a:ext cx="4392720" cy="50695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umiranje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– preslikava podatke na podskupove kojima je pridružen jednostavan op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Obezbeđuje ekstrakciju ili izvođenje reprezentativnih informacija o bazi podataka. (npr. formiranje podskupa podataka ili određivanje srednje vrednosti i sl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4" dur="1" fill="hold"/>
                                  <p:tgtEl>
                                    <p:spTgt spid="6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8458200" y="6161040"/>
            <a:ext cx="498600" cy="48744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Data Mining tehnologije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1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9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531720" y="762120"/>
            <a:ext cx="7774200" cy="5793120"/>
            <a:chOff x="531720" y="762120"/>
            <a:chExt cx="7774200" cy="5793120"/>
          </a:xfrm>
        </p:grpSpPr>
        <p:sp>
          <p:nvSpPr>
            <p:cNvPr id="652" name=""/>
            <p:cNvSpPr/>
            <p:nvPr/>
          </p:nvSpPr>
          <p:spPr>
            <a:xfrm>
              <a:off x="2209680" y="762120"/>
              <a:ext cx="449604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ff0000"/>
                  </a:solidFill>
                  <a:latin typeface="Arial"/>
                </a:rPr>
                <a:t>Data Mining model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43000" y="1828800"/>
              <a:ext cx="327672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ff0000"/>
                  </a:solidFill>
                  <a:latin typeface="Arial"/>
                </a:rPr>
                <a:t>Prediktivn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48320" y="1828800"/>
              <a:ext cx="327636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0066ff"/>
                  </a:solidFill>
                  <a:latin typeface="Arial"/>
                </a:rPr>
                <a:t>Deskriptivn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048120" y="1447920"/>
              <a:ext cx="4856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62720" y="1447920"/>
              <a:ext cx="4856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38080" y="27432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Klasifikac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38080" y="34290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Regres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8080" y="4114800"/>
              <a:ext cx="3276720" cy="1556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Analiza vremenskih ser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38080" y="579132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Predikc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31720" y="2133720"/>
              <a:ext cx="609840" cy="4038480"/>
            </a:xfrm>
            <a:custGeom>
              <a:avLst/>
              <a:gdLst/>
              <a:ahLst/>
              <a:rect l="l" t="t" r="r" b="b"/>
              <a:pathLst>
                <a:path w="384" h="2544">
                  <a:moveTo>
                    <a:pt x="384" y="0"/>
                  </a:moveTo>
                  <a:lnTo>
                    <a:pt x="0" y="0"/>
                  </a:lnTo>
                  <a:lnTo>
                    <a:pt x="0" y="2544"/>
                  </a:lnTo>
                  <a:lnTo>
                    <a:pt x="192" y="254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3520" y="304812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33520" y="380988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520" y="502920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29200" y="27432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Klasterovanj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50532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Sumiranj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267080"/>
              <a:ext cx="3276720" cy="1068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Asocijativna pravil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486400"/>
              <a:ext cx="3276720" cy="1068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Otkrivanje sekven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800600" y="2438280"/>
              <a:ext cx="228600" cy="3657600"/>
            </a:xfrm>
            <a:custGeom>
              <a:avLst/>
              <a:gdLst/>
              <a:ahLst/>
              <a:rect l="l" t="t" r="r" b="b"/>
              <a:pathLst>
                <a:path w="144" h="2304">
                  <a:moveTo>
                    <a:pt x="0" y="0"/>
                  </a:moveTo>
                  <a:lnTo>
                    <a:pt x="0" y="2304"/>
                  </a:lnTo>
                  <a:lnTo>
                    <a:pt x="144" y="2304"/>
                  </a:lnTo>
                </a:path>
              </a:pathLst>
            </a:custGeom>
            <a:noFill/>
            <a:ln w="25560">
              <a:solidFill>
                <a:srgbClr val="0066ff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00600" y="304812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800600" y="380988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800600" y="487692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250920" y="1628640"/>
            <a:ext cx="4321080" cy="478656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Pravila asociranja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– otkrivanje veza među podatcima. Neophodno je biti oprezan kada se uz oslonac na podatke otkrivaju međuzavisnosti budući da se one ne zasnivanju na uzročnim vezama u sklopu stvarne šeme baze podataka ili u sklopu realnog sv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4" dur="1" fill="hold"/>
                                  <p:tgtEl>
                                    <p:spTgt spid="6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8458200" y="6161040"/>
            <a:ext cx="498600" cy="48744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Data Mining tehnologije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1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9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31720" y="762120"/>
            <a:ext cx="7774200" cy="5793120"/>
            <a:chOff x="531720" y="762120"/>
            <a:chExt cx="7774200" cy="5793120"/>
          </a:xfrm>
        </p:grpSpPr>
        <p:sp>
          <p:nvSpPr>
            <p:cNvPr id="677" name=""/>
            <p:cNvSpPr/>
            <p:nvPr/>
          </p:nvSpPr>
          <p:spPr>
            <a:xfrm>
              <a:off x="2209680" y="762120"/>
              <a:ext cx="449604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ff0000"/>
                  </a:solidFill>
                  <a:latin typeface="Arial"/>
                </a:rPr>
                <a:t>Data Mining model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143000" y="1828800"/>
              <a:ext cx="327672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ff0000"/>
                  </a:solidFill>
                  <a:latin typeface="Arial"/>
                </a:rPr>
                <a:t>Prediktivn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48320" y="1828800"/>
              <a:ext cx="327636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0066ff"/>
                  </a:solidFill>
                  <a:latin typeface="Arial"/>
                </a:rPr>
                <a:t>Deskriptivn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048120" y="1447920"/>
              <a:ext cx="4856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62720" y="1447920"/>
              <a:ext cx="4856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38080" y="27432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Klasifikac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8080" y="34290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Regres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8080" y="4114800"/>
              <a:ext cx="3276720" cy="1556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Analiza vremenskih ser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38080" y="579132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Predikcij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31720" y="2133720"/>
              <a:ext cx="609840" cy="4038480"/>
            </a:xfrm>
            <a:custGeom>
              <a:avLst/>
              <a:gdLst/>
              <a:ahLst/>
              <a:rect l="l" t="t" r="r" b="b"/>
              <a:pathLst>
                <a:path w="384" h="2544">
                  <a:moveTo>
                    <a:pt x="384" y="0"/>
                  </a:moveTo>
                  <a:lnTo>
                    <a:pt x="0" y="0"/>
                  </a:lnTo>
                  <a:lnTo>
                    <a:pt x="0" y="2544"/>
                  </a:lnTo>
                  <a:lnTo>
                    <a:pt x="192" y="254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33520" y="304812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33520" y="380988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33520" y="502920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29200" y="274320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Klasterovanj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29200" y="3505320"/>
              <a:ext cx="3276720" cy="581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Sumiranj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29200" y="4267080"/>
              <a:ext cx="3276720" cy="1068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ffcc"/>
                  </a:solidFill>
                  <a:latin typeface="Arial"/>
                </a:rPr>
                <a:t>Asocijativna pravil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29200" y="5486400"/>
              <a:ext cx="3276720" cy="1068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66ff"/>
                  </a:solidFill>
                  <a:latin typeface="Arial"/>
                </a:rPr>
                <a:t>Otkrivanje sekven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00600" y="2438280"/>
              <a:ext cx="228600" cy="3657600"/>
            </a:xfrm>
            <a:custGeom>
              <a:avLst/>
              <a:gdLst/>
              <a:ahLst/>
              <a:rect l="l" t="t" r="r" b="b"/>
              <a:pathLst>
                <a:path w="144" h="2304">
                  <a:moveTo>
                    <a:pt x="0" y="0"/>
                  </a:moveTo>
                  <a:lnTo>
                    <a:pt x="0" y="2304"/>
                  </a:lnTo>
                  <a:lnTo>
                    <a:pt x="144" y="2304"/>
                  </a:lnTo>
                </a:path>
              </a:pathLst>
            </a:custGeom>
            <a:noFill/>
            <a:ln w="25560">
              <a:solidFill>
                <a:srgbClr val="0066ff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00600" y="304812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800600" y="380988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800600" y="4876920"/>
              <a:ext cx="228600" cy="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250920" y="1844640"/>
            <a:ext cx="4249800" cy="46429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Otkrivanje sekvenci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– otkrivanje sekvencijalnih šablona (patterns) u sklopu podatak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Ovi šabloni su bazirani na vremenskim serijama, slični su asocijacijama sa tom razlikom što je povezivanje podataka posledica vremen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4" dur="1" fill="hold"/>
                                  <p:tgtEl>
                                    <p:spTgt spid="6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8721720" y="6445080"/>
            <a:ext cx="422280" cy="41292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560" y="-92880"/>
            <a:ext cx="8381880" cy="6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Koncept savremene organizacije upravljačkih informacionih sistema</a:t>
            </a:r>
            <a:r>
              <a:rPr b="0" lang="en-US" sz="16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1600" spc="-1" strike="noStrike">
                <a:solidFill>
                  <a:srgbClr val="003300"/>
                </a:solidFill>
                <a:latin typeface="Arial Black"/>
              </a:rPr>
              <a:t>- </a:t>
            </a:r>
            <a:r>
              <a:rPr b="0" lang="en-US" sz="1600" spc="-1" strike="noStrike">
                <a:solidFill>
                  <a:srgbClr val="003300"/>
                </a:solidFill>
                <a:latin typeface="Arial Black"/>
              </a:rPr>
              <a:t>20</a:t>
            </a:r>
            <a:endParaRPr b="0" lang="en-US" sz="1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2743200"/>
            <a:ext cx="8686800" cy="381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cc"/>
                </a:solidFill>
                <a:latin typeface="Arial"/>
                <a:ea typeface="Arial"/>
              </a:rPr>
              <a:t>DataBase/OLTP (OnLineTransactionProcessing)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cc"/>
                </a:solidFill>
                <a:latin typeface="Arial"/>
                <a:ea typeface="Arial"/>
              </a:rPr>
              <a:t>Data-warehouse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 tehnologije! 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cc"/>
                </a:solidFill>
                <a:latin typeface="Arial"/>
                <a:ea typeface="Arial"/>
              </a:rPr>
              <a:t>Data Mining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 tehnologije!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Gde i za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  <a:ea typeface="Arial"/>
              </a:rPr>
              <a:t>što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?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Prostorni (Spatial) I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!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cc"/>
                </a:solidFill>
                <a:latin typeface="Arial"/>
                <a:ea typeface="Arial"/>
              </a:rPr>
              <a:t>WEB</a:t>
            </a:r>
            <a:r>
              <a:rPr b="1" i="1" lang="sr-Latn-CS" sz="3600" spc="-1" strike="noStrike">
                <a:solidFill>
                  <a:srgbClr val="ccffcc"/>
                </a:solidFill>
                <a:latin typeface="Arial"/>
              </a:rPr>
              <a:t> i e-poslovanje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!  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ccffcc"/>
                </a:solidFill>
                <a:latin typeface="Times New Roman"/>
              </a:rPr>
              <a:t>SOA – Servis Orijentisane Arhitekture </a:t>
            </a:r>
            <a:r>
              <a:rPr b="1" i="1" lang="en-US" sz="2800" spc="-1" strike="noStrike">
                <a:solidFill>
                  <a:srgbClr val="ccffcc"/>
                </a:solidFill>
                <a:latin typeface="Times New Roman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8600" y="762120"/>
            <a:ext cx="8686800" cy="1739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Izazovi savremenih tehnologija i koncepata u domenu projektovanja informacionih siste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40840" y="6073920"/>
            <a:ext cx="803160" cy="784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30240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00"/>
                </a:solidFill>
                <a:latin typeface="Arial Black"/>
              </a:rPr>
              <a:t>Sistem - 0</a:t>
            </a:r>
            <a:r>
              <a:rPr b="1" lang="en-US" sz="3200" spc="-1" strike="noStrike">
                <a:solidFill>
                  <a:srgbClr val="0033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914400"/>
            <a:ext cx="8686800" cy="1130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d pojmom SISTEM podrazumevamo organizov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kup činila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sa jasno definisanim međusobnim vezama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oji deluj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radi ispunjenja nekog postavljenog cilj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286000"/>
            <a:ext cx="8153280" cy="3930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z obzira na inicijalno uspostavljanje, svaki pojedinačni sistem poseduj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a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SIJ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cilj ili skup ciljeva zbog kojih postoj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b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CIONU STRUKTUR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skup činilaca i veze među njima koje formiraju topologiju sistem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c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UNKCIONALNU STRUKTUR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aktivnosti koje sprovod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d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CIONU STRUKTUR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sveukupnost semantičkih pretstava sa kojima i nad kojima obavlja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unkcionalne transformacije (c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e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PRAVLJAČKU STRUKTUR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prinudu, unutrašnju ili spoljašnju, koja usklađuje ukupno ponašanje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)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8381880" y="6099120"/>
            <a:ext cx="574920" cy="56196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4560" y="-1440"/>
            <a:ext cx="8381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00"/>
                </a:solidFill>
                <a:latin typeface="Arial Black"/>
              </a:rPr>
              <a:t>Prostorni (Spatial) IS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21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5" name=""/>
          <p:cNvSpPr/>
          <p:nvPr/>
        </p:nvSpPr>
        <p:spPr>
          <a:xfrm>
            <a:off x="228600" y="533520"/>
            <a:ext cx="868680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Prostorni informacioni sistemi (GIS)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" y="1447920"/>
            <a:ext cx="8686800" cy="4786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Baziraju se na prostornim podatcima (spatial data). Prostorni podatci se mogu posmatrati kao podatci o objektima koji su, zajedno sa tim objektima, prostorno raspoređe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Geoinformacioni sistem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GPS – sistemi opšteg pozicion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GIS – u sklopu prostorno raspoređenih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tehnoloških  i poslovnih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GIS – u sklopu informacionih sistema sa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radom u realnom vremen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Mobiln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8721720" y="6445080"/>
            <a:ext cx="422280" cy="41292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79280" y="-428040"/>
            <a:ext cx="86868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Koncept savremene organizacije upravljačkih informacionih sistema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22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9" name=""/>
          <p:cNvSpPr/>
          <p:nvPr/>
        </p:nvSpPr>
        <p:spPr>
          <a:xfrm>
            <a:off x="228600" y="2743200"/>
            <a:ext cx="8686800" cy="3812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cc"/>
                </a:solidFill>
                <a:latin typeface="Arial"/>
                <a:ea typeface="Arial"/>
              </a:rPr>
              <a:t>DataBase/OLTP (OnLineTransactionProcessing)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cc"/>
                </a:solidFill>
                <a:latin typeface="Arial"/>
                <a:ea typeface="Arial"/>
              </a:rPr>
              <a:t>Data-warehouse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 tehnologije! 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cc"/>
                </a:solidFill>
                <a:latin typeface="Arial"/>
                <a:ea typeface="Arial"/>
              </a:rPr>
              <a:t>Data Mining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 tehnologije!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Gde i za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  <a:ea typeface="Arial"/>
              </a:rPr>
              <a:t>što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?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ccffcc"/>
                </a:solidFill>
                <a:latin typeface="Arial"/>
              </a:rPr>
              <a:t>Prostorni (Spatial) IS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!  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WEB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 i e-poslovanj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!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ccffcc"/>
                </a:solidFill>
                <a:latin typeface="Times New Roman"/>
              </a:rPr>
              <a:t>SOA – Servis Orijentisane Arhitekture </a:t>
            </a:r>
            <a:r>
              <a:rPr b="1" i="1" lang="en-US" sz="2800" spc="-1" strike="noStrike">
                <a:solidFill>
                  <a:srgbClr val="ccffcc"/>
                </a:solidFill>
                <a:latin typeface="Times New Roman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28600" y="762120"/>
            <a:ext cx="8686800" cy="1739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Izazovi savremenih tehnologija i koncepata u domenu projektovanja informacionih siste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8381880" y="6099120"/>
            <a:ext cx="574920" cy="56196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4560" y="-1440"/>
            <a:ext cx="8381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Web i e-poslovanje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23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13" name=""/>
          <p:cNvSpPr/>
          <p:nvPr/>
        </p:nvSpPr>
        <p:spPr>
          <a:xfrm>
            <a:off x="228600" y="609480"/>
            <a:ext cx="868680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WEB i e-poslovanje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" y="1371600"/>
            <a:ext cx="8686800" cy="149580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WEB 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</a:rPr>
              <a:t>možemo posmatrati kao najveću globalno dostupnu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</a:rPr>
              <a:t>bazu podataka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koja ne poseduje “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</a:rPr>
              <a:t>šemu baze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8600" y="3048120"/>
            <a:ext cx="8686800" cy="106920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WEB 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</a:rPr>
              <a:t>pretraživanje (WEB MINING) još uvek pretstavlja osnovnu aktivnost na globalnoj mrež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8600" y="4267080"/>
            <a:ext cx="8686800" cy="234900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e-poslovanje (e-business) – 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</a:rPr>
              <a:t>pretstavlja danas širi pojam od web-pristupa i, u opštem slučaju, obuhvata razvoj i eksploataciju poslovnih informacionih sistema u ambijentu elektronske razmene podataka i servisa posretstvom WW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8381880" y="6099120"/>
            <a:ext cx="574920" cy="56196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4560" y="-1440"/>
            <a:ext cx="8381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Web i e-poslovanje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2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19" name=""/>
          <p:cNvSpPr/>
          <p:nvPr/>
        </p:nvSpPr>
        <p:spPr>
          <a:xfrm>
            <a:off x="457200" y="533520"/>
            <a:ext cx="83930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rhitektura Web apl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219320" y="1828800"/>
            <a:ext cx="7220160" cy="4347360"/>
            <a:chOff x="1219320" y="1828800"/>
            <a:chExt cx="7220160" cy="4347360"/>
          </a:xfrm>
        </p:grpSpPr>
        <p:grpSp>
          <p:nvGrpSpPr>
            <p:cNvPr id="721" name=""/>
            <p:cNvGrpSpPr/>
            <p:nvPr/>
          </p:nvGrpSpPr>
          <p:grpSpPr>
            <a:xfrm>
              <a:off x="2581200" y="2862720"/>
              <a:ext cx="4563000" cy="2709000"/>
              <a:chOff x="2581200" y="2862720"/>
              <a:chExt cx="4563000" cy="2709000"/>
            </a:xfrm>
          </p:grpSpPr>
          <p:sp>
            <p:nvSpPr>
              <p:cNvPr id="722" name=""/>
              <p:cNvSpPr/>
              <p:nvPr/>
            </p:nvSpPr>
            <p:spPr>
              <a:xfrm flipH="1" flipV="1">
                <a:off x="2581200" y="2862720"/>
                <a:ext cx="4563000" cy="186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648400" y="4654800"/>
                <a:ext cx="127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dgov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HTT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espons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1219320" y="1828800"/>
              <a:ext cx="1662480" cy="2502360"/>
              <a:chOff x="1219320" y="1828800"/>
              <a:chExt cx="1662480" cy="2502360"/>
            </a:xfrm>
          </p:grpSpPr>
          <p:pic>
            <p:nvPicPr>
              <p:cNvPr id="72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1828800"/>
                <a:ext cx="1472760" cy="176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6" name=""/>
              <p:cNvSpPr/>
              <p:nvPr/>
            </p:nvSpPr>
            <p:spPr>
              <a:xfrm>
                <a:off x="1492560" y="3688560"/>
                <a:ext cx="1389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eb klij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brow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6873480" y="3552120"/>
              <a:ext cx="1566000" cy="2624040"/>
              <a:chOff x="6873480" y="3552120"/>
              <a:chExt cx="1566000" cy="2624040"/>
            </a:xfrm>
          </p:grpSpPr>
          <p:pic>
            <p:nvPicPr>
              <p:cNvPr id="7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08840" y="4172400"/>
                <a:ext cx="1201320" cy="200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9" name=""/>
              <p:cNvSpPr/>
              <p:nvPr/>
            </p:nvSpPr>
            <p:spPr>
              <a:xfrm>
                <a:off x="6873480" y="3552120"/>
                <a:ext cx="156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eb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Apache, II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2581560" y="2242440"/>
              <a:ext cx="4495320" cy="2067840"/>
              <a:chOff x="2581560" y="2242440"/>
              <a:chExt cx="4495320" cy="2067840"/>
            </a:xfrm>
          </p:grpSpPr>
          <p:sp>
            <p:nvSpPr>
              <p:cNvPr id="731" name=""/>
              <p:cNvSpPr/>
              <p:nvPr/>
            </p:nvSpPr>
            <p:spPr>
              <a:xfrm>
                <a:off x="2581560" y="2517840"/>
                <a:ext cx="4495320" cy="179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195360" y="2242440"/>
                <a:ext cx="1819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zahte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HTTP reques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3603240" y="2900160"/>
              <a:ext cx="2451960" cy="1617480"/>
              <a:chOff x="3603240" y="2900160"/>
              <a:chExt cx="2451960" cy="1617480"/>
            </a:xfrm>
          </p:grpSpPr>
          <p:sp>
            <p:nvSpPr>
              <p:cNvPr id="734" name="Cloud"/>
              <p:cNvSpPr/>
              <p:nvPr/>
            </p:nvSpPr>
            <p:spPr>
              <a:xfrm>
                <a:off x="3603240" y="2900160"/>
                <a:ext cx="2451960" cy="1617480"/>
              </a:xfrm>
              <a:prstGeom prst="pie">
                <a:avLst/>
              </a:prstGeom>
              <a:solidFill>
                <a:srgbClr val="f0f0f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323600" y="3453120"/>
                <a:ext cx="109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5f5f5f"/>
                    </a:solidFill>
                    <a:latin typeface="Arial Narrow"/>
                  </a:rPr>
                  <a:t>Inter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560" y="-139680"/>
            <a:ext cx="8381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Web </a:t>
            </a:r>
            <a:r>
              <a:rPr b="0" lang="sr-Latn-CS" sz="2000" spc="-1" strike="noStrike">
                <a:solidFill>
                  <a:srgbClr val="003300"/>
                </a:solidFill>
                <a:latin typeface="Arial Black"/>
              </a:rPr>
              <a:t>interakcija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400" spc="-1" strike="noStrike">
                <a:solidFill>
                  <a:srgbClr val="003300"/>
                </a:solidFill>
                <a:latin typeface="Arial Black"/>
              </a:rPr>
              <a:t>- </a:t>
            </a:r>
            <a:r>
              <a:rPr b="0" lang="sr-Latn-CS" sz="2000" spc="-1" strike="noStrike">
                <a:solidFill>
                  <a:srgbClr val="003300"/>
                </a:solidFill>
                <a:latin typeface="Arial Black"/>
              </a:rPr>
              <a:t>2</a:t>
            </a: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5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762120" y="304920"/>
            <a:ext cx="6781320" cy="6324120"/>
            <a:chOff x="762120" y="304920"/>
            <a:chExt cx="6781320" cy="6324120"/>
          </a:xfrm>
        </p:grpSpPr>
        <p:grpSp>
          <p:nvGrpSpPr>
            <p:cNvPr id="738" name=""/>
            <p:cNvGrpSpPr/>
            <p:nvPr/>
          </p:nvGrpSpPr>
          <p:grpSpPr>
            <a:xfrm>
              <a:off x="1218960" y="838080"/>
              <a:ext cx="1142640" cy="456840"/>
              <a:chOff x="1218960" y="838080"/>
              <a:chExt cx="1142640" cy="456840"/>
            </a:xfrm>
          </p:grpSpPr>
          <p:sp>
            <p:nvSpPr>
              <p:cNvPr id="739" name=""/>
              <p:cNvSpPr/>
              <p:nvPr/>
            </p:nvSpPr>
            <p:spPr>
              <a:xfrm>
                <a:off x="1218960" y="838080"/>
                <a:ext cx="1142640" cy="4568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371240" y="914040"/>
                <a:ext cx="837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000" spc="-1" strike="noStrike">
                    <a:solidFill>
                      <a:srgbClr val="000000"/>
                    </a:solidFill>
                    <a:latin typeface="Times New Roman"/>
                  </a:rPr>
                  <a:t>Klik n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2361960" y="1066680"/>
              <a:ext cx="21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495680" y="838080"/>
              <a:ext cx="2742840" cy="1904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05160" y="3808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Website.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143000" y="304920"/>
              <a:ext cx="152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Visitor brow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95680" y="4800600"/>
              <a:ext cx="2742840" cy="129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46" name=""/>
            <p:cNvGraphicFramePr/>
            <p:nvPr/>
          </p:nvGraphicFramePr>
          <p:xfrm>
            <a:off x="3657600" y="838080"/>
            <a:ext cx="416880" cy="41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57600" y="838080"/>
                      <a:ext cx="41688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8" name=""/>
            <p:cNvSpPr/>
            <p:nvPr/>
          </p:nvSpPr>
          <p:spPr>
            <a:xfrm>
              <a:off x="2895480" y="685800"/>
              <a:ext cx="60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U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4572000" y="990360"/>
              <a:ext cx="761040" cy="989640"/>
              <a:chOff x="4572000" y="990360"/>
              <a:chExt cx="761040" cy="989640"/>
            </a:xfrm>
          </p:grpSpPr>
          <p:graphicFrame>
            <p:nvGraphicFramePr>
              <p:cNvPr id="750" name=""/>
              <p:cNvGraphicFramePr/>
              <p:nvPr/>
            </p:nvGraphicFramePr>
            <p:xfrm>
              <a:off x="4572000" y="990360"/>
              <a:ext cx="522360" cy="614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5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572000" y="990360"/>
                        <a:ext cx="522360" cy="614880"/>
                      </a:xfrm>
                      <a:prstGeom prst="rect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52" name=""/>
              <p:cNvGraphicFramePr/>
              <p:nvPr/>
            </p:nvGraphicFramePr>
            <p:xfrm>
              <a:off x="4651560" y="1083960"/>
              <a:ext cx="522360" cy="614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5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651560" y="1083960"/>
                        <a:ext cx="522360" cy="614880"/>
                      </a:xfrm>
                      <a:prstGeom prst="rect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54" name=""/>
              <p:cNvGraphicFramePr/>
              <p:nvPr/>
            </p:nvGraphicFramePr>
            <p:xfrm>
              <a:off x="4810680" y="1365120"/>
              <a:ext cx="522360" cy="6148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5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810680" y="1365120"/>
                        <a:ext cx="522360" cy="614880"/>
                      </a:xfrm>
                      <a:prstGeom prst="rect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756" name=""/>
            <p:cNvGrpSpPr/>
            <p:nvPr/>
          </p:nvGrpSpPr>
          <p:grpSpPr>
            <a:xfrm>
              <a:off x="6019560" y="1981080"/>
              <a:ext cx="931320" cy="702720"/>
              <a:chOff x="6019560" y="1981080"/>
              <a:chExt cx="931320" cy="702720"/>
            </a:xfrm>
          </p:grpSpPr>
          <p:graphicFrame>
            <p:nvGraphicFramePr>
              <p:cNvPr id="757" name=""/>
              <p:cNvGraphicFramePr/>
              <p:nvPr/>
            </p:nvGraphicFramePr>
            <p:xfrm>
              <a:off x="6019560" y="1981080"/>
              <a:ext cx="626760" cy="474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758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019560" y="1981080"/>
                        <a:ext cx="626760" cy="474480"/>
                      </a:xfrm>
                      <a:prstGeom prst="rect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59" name=""/>
              <p:cNvGraphicFramePr/>
              <p:nvPr/>
            </p:nvGraphicFramePr>
            <p:xfrm>
              <a:off x="6171840" y="2057040"/>
              <a:ext cx="626760" cy="4741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76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171840" y="2057040"/>
                        <a:ext cx="626760" cy="474120"/>
                      </a:xfrm>
                      <a:prstGeom prst="rect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61" name=""/>
              <p:cNvGraphicFramePr/>
              <p:nvPr/>
            </p:nvGraphicFramePr>
            <p:xfrm>
              <a:off x="6324120" y="2209320"/>
              <a:ext cx="626760" cy="4744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762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324120" y="2209320"/>
                        <a:ext cx="626760" cy="474480"/>
                      </a:xfrm>
                      <a:prstGeom prst="rect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763" name=""/>
            <p:cNvSpPr/>
            <p:nvPr/>
          </p:nvSpPr>
          <p:spPr>
            <a:xfrm>
              <a:off x="914400" y="1752480"/>
              <a:ext cx="2437920" cy="2819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066680" y="1904760"/>
              <a:ext cx="152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websitepage.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1980720" y="1371600"/>
              <a:ext cx="2742840" cy="60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2133360" y="2286000"/>
              <a:ext cx="1142640" cy="609120"/>
              <a:chOff x="2133360" y="2286000"/>
              <a:chExt cx="1142640" cy="609120"/>
            </a:xfrm>
          </p:grpSpPr>
          <p:sp>
            <p:nvSpPr>
              <p:cNvPr id="767" name=""/>
              <p:cNvSpPr/>
              <p:nvPr/>
            </p:nvSpPr>
            <p:spPr>
              <a:xfrm>
                <a:off x="2133360" y="2286000"/>
                <a:ext cx="1142640" cy="6091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04640" y="2437920"/>
                <a:ext cx="92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400" spc="-1" strike="noStrike">
                    <a:solidFill>
                      <a:srgbClr val="000000"/>
                    </a:solidFill>
                    <a:latin typeface="Times New Roman"/>
                  </a:rPr>
                  <a:t>imma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1371600" y="3200400"/>
              <a:ext cx="1294560" cy="609120"/>
              <a:chOff x="1371600" y="3200400"/>
              <a:chExt cx="1294560" cy="609120"/>
            </a:xfrm>
          </p:grpSpPr>
          <p:sp>
            <p:nvSpPr>
              <p:cNvPr id="770" name=""/>
              <p:cNvSpPr/>
              <p:nvPr/>
            </p:nvSpPr>
            <p:spPr>
              <a:xfrm>
                <a:off x="1371600" y="3200400"/>
                <a:ext cx="1294560" cy="6091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452600" y="3352320"/>
                <a:ext cx="1051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400" spc="-1" strike="noStrike">
                    <a:solidFill>
                      <a:srgbClr val="000000"/>
                    </a:solidFill>
                    <a:latin typeface="Times New Roman"/>
                  </a:rPr>
                  <a:t>Banner 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1614240" y="4038480"/>
              <a:ext cx="117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Times New Roman"/>
                </a:rPr>
                <a:t>Hidden 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52480" y="4343400"/>
              <a:ext cx="9903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3276360" y="2057040"/>
              <a:ext cx="1218960" cy="30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276000" y="2133360"/>
              <a:ext cx="27428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19560" y="10666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000000"/>
                  </a:solidFill>
                  <a:latin typeface="Times New Roman"/>
                </a:rPr>
                <a:t>User Pro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495680" y="3200400"/>
              <a:ext cx="2742840" cy="121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572000" y="4495680"/>
              <a:ext cx="137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Profiller.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647960" y="2819160"/>
              <a:ext cx="137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Banner-ad.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666880" y="3429000"/>
              <a:ext cx="182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1" name=""/>
            <p:cNvGraphicFramePr/>
            <p:nvPr/>
          </p:nvGraphicFramePr>
          <p:xfrm>
            <a:off x="4647960" y="4876560"/>
            <a:ext cx="1218960" cy="358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8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647960" y="4876560"/>
                      <a:ext cx="1218960" cy="358560"/>
                    </a:xfrm>
                    <a:prstGeom prst="rect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783" name=""/>
            <p:cNvGraphicFramePr/>
            <p:nvPr/>
          </p:nvGraphicFramePr>
          <p:xfrm>
            <a:off x="4572000" y="3276360"/>
            <a:ext cx="1218600" cy="3585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8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572000" y="3276360"/>
                      <a:ext cx="1218600" cy="358560"/>
                    </a:xfrm>
                    <a:prstGeom prst="rect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785" name=""/>
            <p:cNvGrpSpPr/>
            <p:nvPr/>
          </p:nvGrpSpPr>
          <p:grpSpPr>
            <a:xfrm>
              <a:off x="5638680" y="3657600"/>
              <a:ext cx="1447200" cy="626400"/>
              <a:chOff x="5638680" y="3657600"/>
              <a:chExt cx="1447200" cy="626400"/>
            </a:xfrm>
          </p:grpSpPr>
          <p:graphicFrame>
            <p:nvGraphicFramePr>
              <p:cNvPr id="786" name=""/>
              <p:cNvGraphicFramePr/>
              <p:nvPr/>
            </p:nvGraphicFramePr>
            <p:xfrm>
              <a:off x="5638680" y="3657600"/>
              <a:ext cx="1218960" cy="47448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787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5638680" y="3657600"/>
                        <a:ext cx="1218960" cy="474480"/>
                      </a:xfrm>
                      <a:prstGeom prst="rect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88" name=""/>
              <p:cNvGraphicFramePr/>
              <p:nvPr/>
            </p:nvGraphicFramePr>
            <p:xfrm>
              <a:off x="5714640" y="3733560"/>
              <a:ext cx="1218600" cy="4744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789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5714640" y="3733560"/>
                        <a:ext cx="1218600" cy="474480"/>
                      </a:xfrm>
                      <a:prstGeom prst="rect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90" name=""/>
              <p:cNvGraphicFramePr/>
              <p:nvPr/>
            </p:nvGraphicFramePr>
            <p:xfrm>
              <a:off x="5866920" y="3809880"/>
              <a:ext cx="1218960" cy="47412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791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5866920" y="3809880"/>
                        <a:ext cx="1218960" cy="474120"/>
                      </a:xfrm>
                      <a:prstGeom prst="rect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792" name=""/>
            <p:cNvSpPr/>
            <p:nvPr/>
          </p:nvSpPr>
          <p:spPr>
            <a:xfrm>
              <a:off x="5943600" y="4952880"/>
              <a:ext cx="1447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000000"/>
                  </a:solidFill>
                  <a:latin typeface="Times New Roman"/>
                </a:rPr>
                <a:t>DemographicDeta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3" name=""/>
            <p:cNvGrpSpPr/>
            <p:nvPr/>
          </p:nvGrpSpPr>
          <p:grpSpPr>
            <a:xfrm>
              <a:off x="6172200" y="5333760"/>
              <a:ext cx="930960" cy="702720"/>
              <a:chOff x="6172200" y="5333760"/>
              <a:chExt cx="930960" cy="702720"/>
            </a:xfrm>
          </p:grpSpPr>
          <p:graphicFrame>
            <p:nvGraphicFramePr>
              <p:cNvPr id="794" name=""/>
              <p:cNvGraphicFramePr/>
              <p:nvPr/>
            </p:nvGraphicFramePr>
            <p:xfrm>
              <a:off x="6172200" y="5333760"/>
              <a:ext cx="626400" cy="47448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795" name="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6172200" y="5333760"/>
                        <a:ext cx="626400" cy="474480"/>
                      </a:xfrm>
                      <a:prstGeom prst="rect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96" name=""/>
              <p:cNvGraphicFramePr/>
              <p:nvPr/>
            </p:nvGraphicFramePr>
            <p:xfrm>
              <a:off x="6324480" y="5409720"/>
              <a:ext cx="626400" cy="47412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797" name="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6324480" y="5409720"/>
                        <a:ext cx="626400" cy="474120"/>
                      </a:xfrm>
                      <a:prstGeom prst="rect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98" name=""/>
              <p:cNvGraphicFramePr/>
              <p:nvPr/>
            </p:nvGraphicFramePr>
            <p:xfrm>
              <a:off x="6476760" y="5562000"/>
              <a:ext cx="626400" cy="47448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799" name="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6476760" y="5562000"/>
                        <a:ext cx="626400" cy="474480"/>
                      </a:xfrm>
                      <a:prstGeom prst="rect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800" name=""/>
            <p:cNvSpPr/>
            <p:nvPr/>
          </p:nvSpPr>
          <p:spPr>
            <a:xfrm>
              <a:off x="7010280" y="1218960"/>
              <a:ext cx="533160" cy="4571640"/>
            </a:xfrm>
            <a:custGeom>
              <a:avLst/>
              <a:gdLst/>
              <a:ahLst/>
              <a:rect l="l" t="t" r="r" b="b"/>
              <a:pathLst>
                <a:path w="336" h="3168">
                  <a:moveTo>
                    <a:pt x="48" y="3168"/>
                  </a:moveTo>
                  <a:lnTo>
                    <a:pt x="336" y="316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43200" y="4343400"/>
              <a:ext cx="1752120" cy="114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2590560" y="3733560"/>
              <a:ext cx="3124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1371600" y="4647960"/>
              <a:ext cx="1523520" cy="1830960"/>
              <a:chOff x="1371600" y="4647960"/>
              <a:chExt cx="1523520" cy="1830960"/>
            </a:xfrm>
          </p:grpSpPr>
          <p:sp>
            <p:nvSpPr>
              <p:cNvPr id="804" name=""/>
              <p:cNvSpPr/>
              <p:nvPr/>
            </p:nvSpPr>
            <p:spPr>
              <a:xfrm>
                <a:off x="1599840" y="4647960"/>
                <a:ext cx="106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Times New Roman"/>
                  </a:rPr>
                  <a:t>Cookie Fi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371600" y="4952520"/>
                <a:ext cx="1523520" cy="3070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400" spc="-1" strike="noStrike">
                    <a:solidFill>
                      <a:srgbClr val="000000"/>
                    </a:solidFill>
                    <a:latin typeface="Times New Roman"/>
                  </a:rPr>
                  <a:t>WebSite.co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371600" y="5257440"/>
                <a:ext cx="1523520" cy="3074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371600" y="5562000"/>
                <a:ext cx="1523520" cy="3070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400" spc="-1" strike="noStrike">
                    <a:solidFill>
                      <a:srgbClr val="000000"/>
                    </a:solidFill>
                    <a:latin typeface="Times New Roman"/>
                  </a:rPr>
                  <a:t>Banner-ad.co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371600" y="5866920"/>
                <a:ext cx="1523520" cy="3074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371600" y="6171840"/>
                <a:ext cx="1523520" cy="3070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400" spc="-1" strike="noStrike">
                    <a:solidFill>
                      <a:srgbClr val="000000"/>
                    </a:solidFill>
                    <a:latin typeface="Times New Roman"/>
                  </a:rPr>
                  <a:t>Profiler.co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762120" y="685800"/>
              <a:ext cx="2819160" cy="59432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2362320" y="0"/>
            <a:ext cx="6781680" cy="6661080"/>
            <a:chOff x="2362320" y="0"/>
            <a:chExt cx="6781680" cy="6661080"/>
          </a:xfrm>
        </p:grpSpPr>
        <p:pic>
          <p:nvPicPr>
            <p:cNvPr id="812" name="" descr=""/>
            <p:cNvPicPr/>
            <p:nvPr/>
          </p:nvPicPr>
          <p:blipFill>
            <a:blip r:embed="rId31"/>
            <a:stretch/>
          </p:blipFill>
          <p:spPr>
            <a:xfrm>
              <a:off x="8381880" y="6099120"/>
              <a:ext cx="574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3124080" y="1295280"/>
              <a:ext cx="4876920" cy="3249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okies omogu</a:t>
              </a:r>
              <a:r>
                <a:rPr b="0" lang="sr-Latn-CS" sz="2400" spc="-1" strike="noStrike">
                  <a:solidFill>
                    <a:srgbClr val="ffffff"/>
                  </a:solidFill>
                  <a:latin typeface="Arial"/>
                </a:rPr>
                <a:t>ćavanju pamćenje malih količina informacija na klijentovom računaru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ff"/>
                  </a:solidFill>
                  <a:latin typeface="Arial"/>
                </a:rPr>
                <a:t>Vrs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ff"/>
                  </a:solidFill>
                  <a:latin typeface="Arial"/>
                </a:rPr>
                <a:t>privremeni (čuva se u memoriji browser-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ff"/>
                  </a:solidFill>
                  <a:latin typeface="Arial"/>
                </a:rPr>
                <a:t>stalni (pamti se na korisnikovom hard disku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62320" y="0"/>
              <a:ext cx="6781680" cy="5943600"/>
            </a:xfrm>
            <a:prstGeom prst="cloudCallout">
              <a:avLst>
                <a:gd name="adj1" fmla="val -58148"/>
                <a:gd name="adj2" fmla="val 57185"/>
              </a:avLst>
            </a:prstGeom>
            <a:solidFill>
              <a:srgbClr val="777777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797040" y="1327320"/>
            <a:ext cx="4052880" cy="4867200"/>
          </a:xfrm>
          <a:prstGeom prst="rect">
            <a:avLst/>
          </a:prstGeom>
          <a:gradFill rotWithShape="0">
            <a:gsLst>
              <a:gs pos="0">
                <a:srgbClr val="6a0046"/>
              </a:gs>
              <a:gs pos="50000">
                <a:srgbClr val="990066"/>
              </a:gs>
              <a:gs pos="100000">
                <a:srgbClr val="6a00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1771560" cy="398124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2766960" y="2070000"/>
            <a:ext cx="1930320" cy="402912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5029200" y="2514600"/>
            <a:ext cx="3409920" cy="284328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80520" y="3790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Nestandardni meniji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920000" cy="4040280"/>
          </a:xfrm>
          <a:prstGeom prst="rect">
            <a:avLst/>
          </a:prstGeom>
          <a:ln w="0">
            <a:noFill/>
          </a:ln>
        </p:spPr>
      </p:pic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302400"/>
            <a:ext cx="6248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WWW-1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950760" cy="112392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168720" cy="96660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3672000" cy="241488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4"/>
          <a:stretch/>
        </p:blipFill>
        <p:spPr>
          <a:xfrm>
            <a:off x="4191120" y="762120"/>
            <a:ext cx="4324320" cy="575928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0520" y="149760"/>
            <a:ext cx="6248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WWW-2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3600720" cy="234792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2"/>
          <a:stretch/>
        </p:blipFill>
        <p:spPr>
          <a:xfrm>
            <a:off x="4282920" y="998640"/>
            <a:ext cx="3838680" cy="212400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3"/>
          <a:stretch/>
        </p:blipFill>
        <p:spPr>
          <a:xfrm>
            <a:off x="682560" y="5732640"/>
            <a:ext cx="5052960" cy="72540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4"/>
          <a:stretch/>
        </p:blipFill>
        <p:spPr>
          <a:xfrm>
            <a:off x="682560" y="3735360"/>
            <a:ext cx="5048280" cy="185724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5"/>
          <a:stretch/>
        </p:blipFill>
        <p:spPr>
          <a:xfrm>
            <a:off x="4786200" y="301464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6"/>
          <a:stretch/>
        </p:blipFill>
        <p:spPr>
          <a:xfrm>
            <a:off x="5867280" y="3232080"/>
            <a:ext cx="2705400" cy="3314880"/>
          </a:xfrm>
          <a:prstGeom prst="rect">
            <a:avLst/>
          </a:prstGeom>
          <a:ln w="0">
            <a:noFill/>
          </a:ln>
        </p:spPr>
      </p:pic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6840" y="149760"/>
            <a:ext cx="6248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WWW-3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8381880" y="6099120"/>
            <a:ext cx="574920" cy="561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4560" y="-1440"/>
            <a:ext cx="8381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Web i e-poslovanje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2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6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6320" y="838080"/>
            <a:ext cx="8991000" cy="4361760"/>
            <a:chOff x="76320" y="838080"/>
            <a:chExt cx="8991000" cy="4361760"/>
          </a:xfrm>
        </p:grpSpPr>
        <p:sp>
          <p:nvSpPr>
            <p:cNvPr id="837" name=""/>
            <p:cNvSpPr/>
            <p:nvPr/>
          </p:nvSpPr>
          <p:spPr>
            <a:xfrm>
              <a:off x="2286000" y="838080"/>
              <a:ext cx="434304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Arial"/>
                </a:rPr>
                <a:t>WEB</a:t>
              </a:r>
              <a:r>
                <a:rPr b="1" i="1" lang="sr-Latn-CS" sz="3600" spc="-1" strike="noStrike">
                  <a:solidFill>
                    <a:srgbClr val="ff0000"/>
                  </a:solidFill>
                  <a:latin typeface="Arial"/>
                </a:rPr>
                <a:t>-pretraživanje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6320" y="1981080"/>
              <a:ext cx="2666880" cy="825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Arial"/>
                </a:rPr>
                <a:t>Pretraživan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Arial"/>
                </a:rPr>
                <a:t>sadržaja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819160" y="1981080"/>
              <a:ext cx="2666880" cy="825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Arial"/>
                </a:rPr>
                <a:t>Pretraživan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Arial"/>
                </a:rPr>
                <a:t>struk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62360" y="1981080"/>
              <a:ext cx="3504960" cy="825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Arial"/>
                </a:rPr>
                <a:t>Pretraživan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Arial"/>
                </a:rPr>
                <a:t>podataka o korišćenj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6320" y="3886200"/>
              <a:ext cx="1904760" cy="1008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000" spc="-1" strike="noStrike">
                  <a:solidFill>
                    <a:srgbClr val="ff0000"/>
                  </a:solidFill>
                  <a:latin typeface="Arial"/>
                </a:rPr>
                <a:t>Pretraživanje sadržaja 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000" spc="-1" strike="noStrike">
                  <a:solidFill>
                    <a:srgbClr val="ff0000"/>
                  </a:solidFill>
                  <a:latin typeface="Arial"/>
                </a:rPr>
                <a:t>STRANICE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86000" y="3886200"/>
              <a:ext cx="2209320" cy="1008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000" spc="-1" strike="noStrike">
                  <a:solidFill>
                    <a:srgbClr val="ff0000"/>
                  </a:solidFill>
                  <a:latin typeface="Arial"/>
                </a:rPr>
                <a:t>Pretraživanje unutar rezultata pretraživan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724280" y="3886200"/>
              <a:ext cx="1904760" cy="1313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000" spc="-1" strike="noStrike">
                  <a:solidFill>
                    <a:srgbClr val="ff0000"/>
                  </a:solidFill>
                  <a:latin typeface="Arial"/>
                </a:rPr>
                <a:t>Praćenje ponašanja u pristupu stranic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933960" y="3886200"/>
              <a:ext cx="1904760" cy="1313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000" spc="-1" strike="noStrike">
                  <a:solidFill>
                    <a:srgbClr val="ff0000"/>
                  </a:solidFill>
                  <a:latin typeface="Arial"/>
                </a:rPr>
                <a:t>Praćenje podešavanja načina pristu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943240" y="2819520"/>
              <a:ext cx="45684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696080" y="2819520"/>
              <a:ext cx="5331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914400" y="2819520"/>
              <a:ext cx="22824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209680" y="2819520"/>
              <a:ext cx="129492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5238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560" y="1752480"/>
              <a:ext cx="5867280" cy="228600"/>
            </a:xfrm>
            <a:custGeom>
              <a:avLst/>
              <a:gdLst/>
              <a:ahLst/>
              <a:rect l="l" t="t" r="r" b="b"/>
              <a:pathLst>
                <a:path w="3696" h="144">
                  <a:moveTo>
                    <a:pt x="0" y="144"/>
                  </a:moveTo>
                  <a:lnTo>
                    <a:pt x="0" y="0"/>
                  </a:lnTo>
                  <a:lnTo>
                    <a:pt x="3696" y="0"/>
                  </a:lnTo>
                  <a:lnTo>
                    <a:pt x="3696" y="14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188200" y="5924520"/>
            <a:ext cx="955800" cy="933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512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Sistem - 02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914400"/>
            <a:ext cx="8305920" cy="5641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graničavanje na sisteme koji su formirani 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acionalnim delovanjem ljudskog u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  otvara problem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ostavljanja ili otkrivanja osnovne “racionalnosti”  inicijalno ugrađene u njegovu formulaciju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udući da su sistemi, u vlastitom životnom ciklusu, podložni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evolucion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revolucionarn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omena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isanje sistema preko pojm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truk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mplicir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dređen stepen uređenos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ko je u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nov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istema organizovanih od strane čoveka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SAM ČOVEK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pontano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nepredvidiv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ovakvi sistemi spadaju u klasu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deterministički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amim tim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loženih sistema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8381880" y="6099120"/>
            <a:ext cx="574920" cy="561960"/>
          </a:xfrm>
          <a:prstGeom prst="rect">
            <a:avLst/>
          </a:prstGeom>
          <a:ln w="0">
            <a:noFill/>
          </a:ln>
        </p:spPr>
      </p:pic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4560" y="-1440"/>
            <a:ext cx="8381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Web i e-poslovanje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2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6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76320" y="838080"/>
            <a:ext cx="8991000" cy="4361760"/>
            <a:chOff x="76320" y="838080"/>
            <a:chExt cx="8991000" cy="4361760"/>
          </a:xfrm>
        </p:grpSpPr>
        <p:sp>
          <p:nvSpPr>
            <p:cNvPr id="854" name=""/>
            <p:cNvSpPr/>
            <p:nvPr/>
          </p:nvSpPr>
          <p:spPr>
            <a:xfrm>
              <a:off x="2286000" y="838080"/>
              <a:ext cx="434304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Arial"/>
                </a:rPr>
                <a:t>WEB</a:t>
              </a:r>
              <a:r>
                <a:rPr b="1" i="1" lang="sr-Latn-CS" sz="3600" spc="-1" strike="noStrike">
                  <a:solidFill>
                    <a:srgbClr val="ff0000"/>
                  </a:solidFill>
                  <a:latin typeface="Arial"/>
                </a:rPr>
                <a:t>-pretraživanje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6320" y="1981080"/>
              <a:ext cx="2666880" cy="825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Arial"/>
                </a:rPr>
                <a:t>Pretraživan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Arial"/>
                </a:rPr>
                <a:t>sadržaja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19160" y="1981080"/>
              <a:ext cx="2666880" cy="825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Arial"/>
                </a:rPr>
                <a:t>Pretraživan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Arial"/>
                </a:rPr>
                <a:t>struk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562360" y="1981080"/>
              <a:ext cx="3504960" cy="825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Arial"/>
                </a:rPr>
                <a:t>Pretraživan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Arial"/>
                </a:rPr>
                <a:t>podataka o korišćenj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6320" y="3886200"/>
              <a:ext cx="1904760" cy="1008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000" spc="-1" strike="noStrike">
                  <a:solidFill>
                    <a:srgbClr val="ff0000"/>
                  </a:solidFill>
                  <a:latin typeface="Arial"/>
                </a:rPr>
                <a:t>Pretraživanje sadržaja 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000" spc="-1" strike="noStrike">
                  <a:solidFill>
                    <a:srgbClr val="ff0000"/>
                  </a:solidFill>
                  <a:latin typeface="Arial"/>
                </a:rPr>
                <a:t>STRANICE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286000" y="3886200"/>
              <a:ext cx="2209320" cy="1008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000" spc="-1" strike="noStrike">
                  <a:solidFill>
                    <a:srgbClr val="ff0000"/>
                  </a:solidFill>
                  <a:latin typeface="Arial"/>
                </a:rPr>
                <a:t>Pretraživanje unutar rezultata pretraživan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24280" y="3886200"/>
              <a:ext cx="1904760" cy="1313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000" spc="-1" strike="noStrike">
                  <a:solidFill>
                    <a:srgbClr val="ff0000"/>
                  </a:solidFill>
                  <a:latin typeface="Arial"/>
                </a:rPr>
                <a:t>Praćenje ponašanja u pristupu stranic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933960" y="3886200"/>
              <a:ext cx="1904760" cy="1313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000" spc="-1" strike="noStrike">
                  <a:solidFill>
                    <a:srgbClr val="ff0000"/>
                  </a:solidFill>
                  <a:latin typeface="Arial"/>
                </a:rPr>
                <a:t>Praćenje podešavanja načina pristu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5943240" y="2819520"/>
              <a:ext cx="45684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2819520"/>
              <a:ext cx="5331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914400" y="2819520"/>
              <a:ext cx="22824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209680" y="2819520"/>
              <a:ext cx="129492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67080" y="15238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447560" y="1752480"/>
              <a:ext cx="5867280" cy="228600"/>
            </a:xfrm>
            <a:custGeom>
              <a:avLst/>
              <a:gdLst/>
              <a:ahLst/>
              <a:rect l="l" t="t" r="r" b="b"/>
              <a:pathLst>
                <a:path w="3696" h="144">
                  <a:moveTo>
                    <a:pt x="0" y="144"/>
                  </a:moveTo>
                  <a:lnTo>
                    <a:pt x="0" y="0"/>
                  </a:lnTo>
                  <a:lnTo>
                    <a:pt x="3696" y="0"/>
                  </a:lnTo>
                  <a:lnTo>
                    <a:pt x="3696" y="14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28080" y="3969000"/>
            <a:ext cx="3664800" cy="2958480"/>
            <a:chOff x="28080" y="3969000"/>
            <a:chExt cx="3664800" cy="2958480"/>
          </a:xfrm>
        </p:grpSpPr>
        <p:sp>
          <p:nvSpPr>
            <p:cNvPr id="869" name=""/>
            <p:cNvSpPr/>
            <p:nvPr/>
          </p:nvSpPr>
          <p:spPr>
            <a:xfrm rot="10119000">
              <a:off x="228240" y="4267080"/>
              <a:ext cx="3263760" cy="2362320"/>
            </a:xfrm>
            <a:prstGeom prst="cloudCallout">
              <a:avLst>
                <a:gd name="adj1" fmla="val -23425"/>
                <a:gd name="adj2" fmla="val 101129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62120" y="556272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Times New Roman"/>
                </a:rPr>
                <a:t>Multimedijalni sadržaj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1752480" y="609480"/>
            <a:ext cx="7391520" cy="547056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Pretraživanje sadržaja na web-u (WEB CONTENT MINING)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pretstavlja proširenj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posla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koji obavljaju mehanizmi traženja (search engin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Ključne reči – klasični mehanizmi traž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Asocijacija pojmova – prošir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Slični sadržaji – similarity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Klasifikacija i klastero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Procesiranje govornog jezika i semantičko pretraživanje (semantic we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76720" y="3246120"/>
            <a:ext cx="4472280" cy="4143240"/>
            <a:chOff x="576720" y="3246120"/>
            <a:chExt cx="4472280" cy="4143240"/>
          </a:xfrm>
        </p:grpSpPr>
        <p:sp>
          <p:nvSpPr>
            <p:cNvPr id="873" name=""/>
            <p:cNvSpPr/>
            <p:nvPr/>
          </p:nvSpPr>
          <p:spPr>
            <a:xfrm rot="8654400">
              <a:off x="907560" y="4136760"/>
              <a:ext cx="3810240" cy="2361960"/>
            </a:xfrm>
            <a:prstGeom prst="cloudCallout">
              <a:avLst>
                <a:gd name="adj1" fmla="val -33805"/>
                <a:gd name="adj2" fmla="val 10405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20135400">
              <a:off x="1605960" y="4654080"/>
              <a:ext cx="259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sr-Latn-CS" sz="1600" spc="-1" strike="noStrike">
                  <a:solidFill>
                    <a:srgbClr val="ff0000"/>
                  </a:solidFill>
                  <a:latin typeface="Times New Roman"/>
                </a:rPr>
                <a:t>HTML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Times New Roman"/>
                </a:rPr>
                <a:t> – polustrukturiran i otežava pretraživan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20135400">
              <a:off x="1370160" y="5543280"/>
              <a:ext cx="320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196920"/>
                  <a:tab algn="l" pos="393840"/>
                  <a:tab algn="l" pos="590400"/>
                  <a:tab algn="l" pos="787320"/>
                  <a:tab algn="l" pos="984240"/>
                  <a:tab algn="l" pos="1181160"/>
                  <a:tab algn="l" pos="1378080"/>
                  <a:tab algn="l" pos="1574640"/>
                  <a:tab algn="l" pos="1771560"/>
                  <a:tab algn="l" pos="1968480"/>
                  <a:tab algn="l" pos="2165400"/>
                  <a:tab algn="l" pos="2362320"/>
                  <a:tab algn="l" pos="2558880"/>
                  <a:tab algn="l" pos="2755800"/>
                  <a:tab algn="l" pos="2952720"/>
                  <a:tab algn="l" pos="3149640"/>
                  <a:tab algn="l" pos="3346560"/>
                  <a:tab algn="l" pos="3543480"/>
                  <a:tab algn="l" pos="3740040"/>
                  <a:tab algn="l" pos="3936960"/>
                </a:tabLst>
              </a:pPr>
              <a:r>
                <a:rPr b="1" lang="sr-Latn-CS" sz="1600" spc="-1" strike="noStrike">
                  <a:solidFill>
                    <a:srgbClr val="008000"/>
                  </a:solidFill>
                  <a:latin typeface="Times New Roman"/>
                </a:rPr>
                <a:t>XML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Times New Roman"/>
                </a:rPr>
                <a:t> – podržava strukturirane dokument i olakšava pretraživan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4" dur="1" fill="hold"/>
                                  <p:tgtEl>
                                    <p:spTgt spid="8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" descr=""/>
          <p:cNvPicPr/>
          <p:nvPr/>
        </p:nvPicPr>
        <p:blipFill>
          <a:blip r:embed="rId1"/>
          <a:stretch/>
        </p:blipFill>
        <p:spPr>
          <a:xfrm>
            <a:off x="8381880" y="6099120"/>
            <a:ext cx="574920" cy="561960"/>
          </a:xfrm>
          <a:prstGeom prst="rect">
            <a:avLst/>
          </a:prstGeom>
          <a:ln w="0">
            <a:noFill/>
          </a:ln>
        </p:spPr>
      </p:pic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4560" y="-1440"/>
            <a:ext cx="8381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Web i e-poslovanje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2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7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8" name=""/>
          <p:cNvSpPr/>
          <p:nvPr/>
        </p:nvSpPr>
        <p:spPr>
          <a:xfrm>
            <a:off x="2286000" y="838080"/>
            <a:ext cx="434340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WEB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-pretraživanje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320" y="1981080"/>
            <a:ext cx="266688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Pretraž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sadržaja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19520" y="1981080"/>
            <a:ext cx="2666880" cy="825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Arial"/>
              </a:rPr>
              <a:t>Pretraž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Arial"/>
              </a:rPr>
              <a:t>struk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562720" y="1981080"/>
            <a:ext cx="350496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Pretraž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podataka o korišćen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6320" y="3886200"/>
            <a:ext cx="190476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0000"/>
                </a:solidFill>
                <a:latin typeface="Arial"/>
              </a:rPr>
              <a:t>Pretraživanje sadržaja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0000"/>
                </a:solidFill>
                <a:latin typeface="Arial"/>
              </a:rPr>
              <a:t>STRANICE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286000" y="3886200"/>
            <a:ext cx="220968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0000"/>
                </a:solidFill>
                <a:latin typeface="Arial"/>
              </a:rPr>
              <a:t>Pretraživanje unutar rezultata pretraživ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724280" y="3886200"/>
            <a:ext cx="190512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0000"/>
                </a:solidFill>
                <a:latin typeface="Arial"/>
              </a:rPr>
              <a:t>Praćenje ponašanja u pristupu stranic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934320" y="3886200"/>
            <a:ext cx="190476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0000"/>
                </a:solidFill>
                <a:latin typeface="Arial"/>
              </a:rPr>
              <a:t>Praćenje podešavanja načina prist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5943600" y="2819520"/>
            <a:ext cx="45720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696080" y="2819520"/>
            <a:ext cx="53352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914040" y="2819520"/>
            <a:ext cx="22860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09680" y="2819520"/>
            <a:ext cx="129564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267080" y="1523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447920" y="1752480"/>
            <a:ext cx="5867280" cy="228600"/>
          </a:xfrm>
          <a:custGeom>
            <a:avLst/>
            <a:gdLst/>
            <a:ahLst/>
            <a:rect l="l" t="t" r="r" b="b"/>
            <a:pathLst>
              <a:path w="3696" h="144">
                <a:moveTo>
                  <a:pt x="0" y="144"/>
                </a:moveTo>
                <a:lnTo>
                  <a:pt x="0" y="0"/>
                </a:lnTo>
                <a:lnTo>
                  <a:pt x="3696" y="0"/>
                </a:lnTo>
                <a:lnTo>
                  <a:pt x="3696" y="144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8600" y="2286000"/>
            <a:ext cx="8610480" cy="4293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že se shvatiti kao KREIRANJE MODELA WEB-organizacije</a:t>
            </a:r>
            <a:r>
              <a:rPr b="1" i="1" lang="sr-Latn-CS" sz="2800" spc="-1" strike="noStrike">
                <a:solidFill>
                  <a:srgbClr val="ffffff"/>
                </a:solidFill>
                <a:latin typeface="Times New Roman"/>
              </a:rPr>
              <a:t> i koristiti za klasifikaciju web-stranica ili kreiranje </a:t>
            </a:r>
            <a:r>
              <a:rPr b="1" i="1" lang="sr-Latn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ra sličnosti</a:t>
            </a:r>
            <a:r>
              <a:rPr b="1" i="1" lang="sr-Latn-CS" sz="2800" spc="-1" strike="noStrike">
                <a:solidFill>
                  <a:srgbClr val="ffffff"/>
                </a:solidFill>
                <a:latin typeface="Times New Roman"/>
              </a:rPr>
              <a:t> između web-dokumen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ffffff"/>
                </a:solidFill>
                <a:latin typeface="Times New Roman"/>
              </a:rPr>
              <a:t>Koriste strukturiranje u cilju povečanja efikasnosti pretraživač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400" spc="-1" strike="noStrike">
                <a:solidFill>
                  <a:srgbClr val="ff0066"/>
                </a:solidFill>
                <a:latin typeface="Times New Roman"/>
              </a:rPr>
              <a:t>PageRank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(računa se na bazi broja stranica koje pokazuju na posmatranu stranicu – Goog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Times New Roman"/>
              </a:rPr>
              <a:t>IBM Clever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(koncept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autoritarnih” stran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ica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i stranica koje sadr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že pokazivače na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autoritarn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”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stranice(hu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4" dur="1" fill="hold"/>
                                  <p:tgtEl>
                                    <p:spTgt spid="8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8381880" y="6099120"/>
            <a:ext cx="574920" cy="561960"/>
          </a:xfrm>
          <a:prstGeom prst="rect">
            <a:avLst/>
          </a:prstGeom>
          <a:ln w="0">
            <a:noFill/>
          </a:ln>
        </p:spPr>
      </p:pic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4560" y="-1440"/>
            <a:ext cx="8381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Web i e-poslovanje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2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8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5" name=""/>
          <p:cNvSpPr/>
          <p:nvPr/>
        </p:nvSpPr>
        <p:spPr>
          <a:xfrm>
            <a:off x="2286000" y="838080"/>
            <a:ext cx="434340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WEB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-pretraživanje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6320" y="1981080"/>
            <a:ext cx="266688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Pretraž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sadržaja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819520" y="1981080"/>
            <a:ext cx="266688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Pretraž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struk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562720" y="1981080"/>
            <a:ext cx="3504960" cy="825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Arial"/>
              </a:rPr>
              <a:t>Pretraž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Arial"/>
              </a:rPr>
              <a:t>podataka o korišćen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6320" y="3886200"/>
            <a:ext cx="190476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0000"/>
                </a:solidFill>
                <a:latin typeface="Arial"/>
              </a:rPr>
              <a:t>Pretraživanje sadržaja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0000"/>
                </a:solidFill>
                <a:latin typeface="Arial"/>
              </a:rPr>
              <a:t>STRANICE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286000" y="3886200"/>
            <a:ext cx="220968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0000"/>
                </a:solidFill>
                <a:latin typeface="Arial"/>
              </a:rPr>
              <a:t>Pretraživanje unutar rezultata pretraživ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724280" y="3886200"/>
            <a:ext cx="190512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0000"/>
                </a:solidFill>
                <a:latin typeface="Arial"/>
              </a:rPr>
              <a:t>Praćenje ponašanja u pristupu stranic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934320" y="3886200"/>
            <a:ext cx="190476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0000"/>
                </a:solidFill>
                <a:latin typeface="Arial"/>
              </a:rPr>
              <a:t>Praćenje podešavanja načina prist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5943600" y="2819520"/>
            <a:ext cx="45720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696080" y="2819520"/>
            <a:ext cx="53352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914040" y="2819520"/>
            <a:ext cx="22860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209680" y="2819520"/>
            <a:ext cx="129564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267080" y="1523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47920" y="1752480"/>
            <a:ext cx="5867280" cy="228600"/>
          </a:xfrm>
          <a:custGeom>
            <a:avLst/>
            <a:gdLst/>
            <a:ahLst/>
            <a:rect l="l" t="t" r="r" b="b"/>
            <a:pathLst>
              <a:path w="3696" h="144">
                <a:moveTo>
                  <a:pt x="0" y="144"/>
                </a:moveTo>
                <a:lnTo>
                  <a:pt x="0" y="0"/>
                </a:lnTo>
                <a:lnTo>
                  <a:pt x="3696" y="0"/>
                </a:lnTo>
                <a:lnTo>
                  <a:pt x="3696" y="144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066680"/>
            <a:ext cx="8610480" cy="261576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ezbeđuje pretraživanje podataka o korišćenju web-a. (clickstream data) </a:t>
            </a:r>
            <a:r>
              <a:rPr b="1" i="1" lang="sr-Latn-CS" sz="2800" spc="-1" strike="noStrike">
                <a:solidFill>
                  <a:srgbClr val="ffffff"/>
                </a:solidFill>
                <a:latin typeface="Times New Roman"/>
              </a:rPr>
              <a:t>Može poslužiti 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Personalizaciju načina pristu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Utvrđivanje frekvencije pristupa stranic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Keširanje najčešće korišćenih stranica (Prox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4" dur="1" fill="hold"/>
                                  <p:tgtEl>
                                    <p:spTgt spid="9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" descr=""/>
          <p:cNvPicPr/>
          <p:nvPr/>
        </p:nvPicPr>
        <p:blipFill>
          <a:blip r:embed="rId1"/>
          <a:stretch/>
        </p:blipFill>
        <p:spPr>
          <a:xfrm>
            <a:off x="0" y="3732120"/>
            <a:ext cx="9144000" cy="312588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 rot="61200">
            <a:off x="3580920" y="5687640"/>
            <a:ext cx="4098960" cy="13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421560" y="1197000"/>
            <a:ext cx="8718840" cy="2815560"/>
            <a:chOff x="421560" y="1197000"/>
            <a:chExt cx="8718840" cy="2815560"/>
          </a:xfrm>
        </p:grpSpPr>
        <p:sp>
          <p:nvSpPr>
            <p:cNvPr id="913" name=""/>
            <p:cNvSpPr/>
            <p:nvPr/>
          </p:nvSpPr>
          <p:spPr>
            <a:xfrm>
              <a:off x="3154320" y="2923920"/>
              <a:ext cx="278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9900"/>
                  </a:solidFill>
                  <a:latin typeface="Arial"/>
                </a:rPr>
                <a:t>Potrošački servi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485960" y="2297160"/>
              <a:ext cx="31813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9900"/>
                  </a:solidFill>
                  <a:latin typeface="Arial"/>
                </a:rPr>
                <a:t>Prodaja i distribuci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21560" y="3552840"/>
              <a:ext cx="373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9900"/>
                  </a:solidFill>
                  <a:latin typeface="Arial"/>
                </a:rPr>
                <a:t>Isporuka preko Interne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675400" y="1585440"/>
              <a:ext cx="34650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Arial"/>
                </a:rPr>
                <a:t>Business-to-Busine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9900"/>
                  </a:solidFill>
                  <a:latin typeface="Arial"/>
                </a:rPr>
                <a:t>Proce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rot="120000">
              <a:off x="1448280" y="2873880"/>
              <a:ext cx="1283760" cy="768960"/>
            </a:xfrm>
            <a:custGeom>
              <a:avLst/>
              <a:gdLst>
                <a:gd name="textAreaLeft" fmla="*/ 0 w 1283760"/>
                <a:gd name="textAreaRight" fmla="*/ 1284120 w 1283760"/>
                <a:gd name="textAreaTop" fmla="*/ 0 h 768960"/>
                <a:gd name="textAreaBottom" fmla="*/ 769320 h 76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120000">
              <a:off x="2732400" y="2175120"/>
              <a:ext cx="1283400" cy="768600"/>
            </a:xfrm>
            <a:custGeom>
              <a:avLst/>
              <a:gdLst>
                <a:gd name="textAreaLeft" fmla="*/ 0 w 1283400"/>
                <a:gd name="textAreaRight" fmla="*/ 1283760 w 1283400"/>
                <a:gd name="textAreaTop" fmla="*/ 0 h 768600"/>
                <a:gd name="textAreaBottom" fmla="*/ 768960 h 76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rot="120000">
              <a:off x="4107600" y="1476000"/>
              <a:ext cx="1283400" cy="768600"/>
            </a:xfrm>
            <a:custGeom>
              <a:avLst/>
              <a:gdLst>
                <a:gd name="textAreaLeft" fmla="*/ 0 w 1283400"/>
                <a:gd name="textAreaRight" fmla="*/ 1283760 w 1283400"/>
                <a:gd name="textAreaTop" fmla="*/ 0 h 768600"/>
                <a:gd name="textAreaBottom" fmla="*/ 768960 h 76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 txBox="1"/>
            <p:nvPr/>
          </p:nvSpPr>
          <p:spPr>
            <a:xfrm>
              <a:off x="1173600" y="1197000"/>
              <a:ext cx="2842560" cy="181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7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Kulturni pomeraj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-360" y="24408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Talas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elektronskog poslovanja - 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eBusines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2"/>
          <a:stretch/>
        </p:blipFill>
        <p:spPr>
          <a:xfrm>
            <a:off x="8569440" y="6296040"/>
            <a:ext cx="574560" cy="561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258560" y="363240"/>
            <a:ext cx="7010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Konkurentsko tržište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4" name=""/>
          <p:cNvSpPr/>
          <p:nvPr/>
        </p:nvSpPr>
        <p:spPr>
          <a:xfrm>
            <a:off x="973080" y="2674800"/>
            <a:ext cx="7205760" cy="609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5e7575"/>
              </a:gs>
              <a:gs pos="100000">
                <a:srgbClr val="cc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119240" y="287028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80 –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819000" y="3505320"/>
            <a:ext cx="7662600" cy="2477880"/>
            <a:chOff x="819000" y="3505320"/>
            <a:chExt cx="7662600" cy="2477880"/>
          </a:xfrm>
        </p:grpSpPr>
        <p:sp>
          <p:nvSpPr>
            <p:cNvPr id="927" name=""/>
            <p:cNvSpPr/>
            <p:nvPr/>
          </p:nvSpPr>
          <p:spPr>
            <a:xfrm>
              <a:off x="819000" y="3517920"/>
              <a:ext cx="2419560" cy="21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oba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utsourced Manufactu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Distribu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hann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creased Partn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205440" y="3505320"/>
              <a:ext cx="3000240" cy="24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>
                <a:lnSpc>
                  <a:spcPct val="14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lining Customer Loyal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4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horter Product Lifecyc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4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ighter Delivery Dead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4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roduct Sophist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4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ventory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4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argin Ero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057360" y="3517920"/>
              <a:ext cx="2424240" cy="21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2120" indent="-222120">
                <a:lnSpc>
                  <a:spcPct val="140000"/>
                </a:lnSpc>
                <a:buClr>
                  <a:srgbClr val="cc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Internet 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2120" indent="-222120">
                <a:lnSpc>
                  <a:spcPct val="140000"/>
                </a:lnSpc>
                <a:buClr>
                  <a:srgbClr val="cc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New Mark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2120" indent="-222120">
                <a:lnSpc>
                  <a:spcPct val="140000"/>
                </a:lnSpc>
                <a:buClr>
                  <a:srgbClr val="cc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New ways to reach customers/suppli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2120" indent="-222120">
                <a:lnSpc>
                  <a:spcPct val="140000"/>
                </a:lnSpc>
                <a:buClr>
                  <a:srgbClr val="cc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New systems requi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932040" y="1479600"/>
            <a:ext cx="7354440" cy="1050840"/>
            <a:chOff x="932040" y="1479600"/>
            <a:chExt cx="7354440" cy="1050840"/>
          </a:xfrm>
        </p:grpSpPr>
        <p:sp>
          <p:nvSpPr>
            <p:cNvPr id="931" name=""/>
            <p:cNvSpPr/>
            <p:nvPr/>
          </p:nvSpPr>
          <p:spPr>
            <a:xfrm>
              <a:off x="932040" y="1479600"/>
              <a:ext cx="2252520" cy="1050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3b893"/>
                </a:gs>
                <a:gs pos="100000">
                  <a:srgbClr val="ccff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cc9900"/>
                  </a:solidFill>
                  <a:latin typeface="Arial"/>
                </a:rPr>
                <a:t>Struktur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cc9900"/>
                  </a:solidFill>
                  <a:latin typeface="Arial"/>
                </a:rPr>
                <a:t>prom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516120" y="1479600"/>
              <a:ext cx="2451240" cy="1050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93b893"/>
                </a:gs>
                <a:gs pos="100000">
                  <a:srgbClr val="ccff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cc9900"/>
                  </a:solidFill>
                  <a:latin typeface="Arial"/>
                </a:rPr>
                <a:t>Pojača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cc9900"/>
                  </a:solidFill>
                  <a:latin typeface="Arial"/>
                </a:rPr>
                <a:t>konkurenci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100200" y="1479600"/>
              <a:ext cx="2186280" cy="1050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81a181"/>
                </a:gs>
                <a:gs pos="100000">
                  <a:srgbClr val="ccff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Int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cc9900"/>
                  </a:solidFill>
                  <a:latin typeface="Arial"/>
                </a:rPr>
                <a:t>Poslovni mode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-1080" y="6613560"/>
            <a:ext cx="24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3300"/>
                </a:solidFill>
                <a:latin typeface="Arial"/>
              </a:rPr>
              <a:t>Source: BancBoston Robertson Stev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683160" y="284940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0 –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80040" y="2844720"/>
            <a:ext cx="18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 –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8381880" y="6099120"/>
            <a:ext cx="574920" cy="5619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" descr=""/>
          <p:cNvPicPr/>
          <p:nvPr/>
        </p:nvPicPr>
        <p:blipFill>
          <a:blip r:embed="rId1"/>
          <a:stretch/>
        </p:blipFill>
        <p:spPr>
          <a:xfrm>
            <a:off x="8721720" y="6445080"/>
            <a:ext cx="422280" cy="412920"/>
          </a:xfrm>
          <a:prstGeom prst="rect">
            <a:avLst/>
          </a:prstGeom>
          <a:ln w="0">
            <a:noFill/>
          </a:ln>
        </p:spPr>
      </p:pic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Koncept savremene organizacije upravljačkih informacionih sistema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 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2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9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2349360"/>
            <a:ext cx="9144000" cy="4361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cc"/>
                </a:solidFill>
                <a:latin typeface="Arial"/>
                <a:ea typeface="Arial"/>
              </a:rPr>
              <a:t>DataBase/OLTP (OnLineTransactionProcessing)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cc"/>
                </a:solidFill>
                <a:latin typeface="Arial"/>
                <a:ea typeface="Arial"/>
              </a:rPr>
              <a:t>Data-warehouse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 tehnologije! 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cc"/>
                </a:solidFill>
                <a:latin typeface="Arial"/>
                <a:ea typeface="Arial"/>
              </a:rPr>
              <a:t>Data Mining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 tehnologije!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Gde i za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  <a:ea typeface="Arial"/>
              </a:rPr>
              <a:t>što</a:t>
            </a:r>
            <a:r>
              <a:rPr b="1" i="1" lang="sr-Latn-CS" sz="2800" spc="-1" strike="noStrike">
                <a:solidFill>
                  <a:srgbClr val="ccffcc"/>
                </a:solidFill>
                <a:latin typeface="Arial"/>
              </a:rPr>
              <a:t>?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ccffcc"/>
                </a:solidFill>
                <a:latin typeface="Arial"/>
              </a:rPr>
              <a:t>Prostorni (Spatial) IS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!  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cc"/>
                </a:solidFill>
                <a:latin typeface="Arial"/>
                <a:ea typeface="Arial"/>
              </a:rPr>
              <a:t>WEB</a:t>
            </a:r>
            <a:r>
              <a:rPr b="1" i="1" lang="sr-Latn-CS" sz="3600" spc="-1" strike="noStrike">
                <a:solidFill>
                  <a:srgbClr val="ccffcc"/>
                </a:solidFill>
                <a:latin typeface="Arial"/>
              </a:rPr>
              <a:t> i e-poslovanje</a:t>
            </a:r>
            <a:r>
              <a:rPr b="1" i="1" lang="en-US" sz="3200" spc="-1" strike="noStrike">
                <a:solidFill>
                  <a:srgbClr val="ccffcc"/>
                </a:solidFill>
                <a:latin typeface="Arial"/>
                <a:ea typeface="Arial"/>
              </a:rPr>
              <a:t>!   </a:t>
            </a:r>
            <a:r>
              <a:rPr b="1" i="1" lang="en-US" sz="2800" spc="-1" strike="noStrike">
                <a:solidFill>
                  <a:srgbClr val="ccffcc"/>
                </a:solidFill>
                <a:latin typeface="Arial"/>
                <a:ea typeface="Arial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Times New Roman"/>
              </a:rPr>
              <a:t>SOA – Servis Orijentisane Arhitekture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Gde i zaš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79280" y="549360"/>
            <a:ext cx="8686800" cy="1739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Izazovi savremenih tehnologija i koncepata u domenu projektovanja informacionih siste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80520" y="342000"/>
            <a:ext cx="851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 Black"/>
              </a:rPr>
              <a:t>Tri razloga za korišćenje servis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28240" y="1290600"/>
            <a:ext cx="8737560" cy="413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utonomija aplik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zavisan razvoj i evolu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asna enkapsulacija i privatnost podata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azdvajanje Poslovnih procesa od Aplikaci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mogućava nezavisan razvoj poslovnih proc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plikacije gravitiraju ka rukovanju resurs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varanje Informatičke Infrastruk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varanje predvidivog okruživanje aplikaci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rv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ključivanje aplikaci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rv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 IT infrastruktu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04560" y="342000"/>
            <a:ext cx="851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 Black"/>
              </a:rPr>
              <a:t>Tri kategorije korišćenja servis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10680" cy="49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zgradnja novih rešenja uz oslonac 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zavisne celine u sklopu aplikaci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zavisan razvoj i održ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gućnost skaliranja aplikacij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aslojavanje postojećih aplik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lag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like prljave ku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vezivanje postojećih aplik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vez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B: Business-to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I: Enterprise Application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lovni proc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ključivanje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Infrastr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152280" y="3968640"/>
            <a:ext cx="4438800" cy="2183040"/>
          </a:xfrm>
          <a:prstGeom prst="rect">
            <a:avLst/>
          </a:prstGeom>
          <a:gradFill rotWithShape="0">
            <a:gsLst>
              <a:gs pos="0">
                <a:srgbClr val="fa3200">
                  <a:alpha val="5098"/>
                </a:srgbClr>
              </a:gs>
              <a:gs pos="100000">
                <a:srgbClr val="ff3300">
                  <a:alpha val="6313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438800" y="3968640"/>
            <a:ext cx="4705200" cy="2183040"/>
          </a:xfrm>
          <a:prstGeom prst="rect">
            <a:avLst/>
          </a:prstGeom>
          <a:solidFill>
            <a:srgbClr val="ffff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79280" y="1835280"/>
            <a:ext cx="4259520" cy="1981080"/>
          </a:xfrm>
          <a:prstGeom prst="rect">
            <a:avLst/>
          </a:prstGeom>
          <a:gradFill rotWithShape="0">
            <a:gsLst>
              <a:gs pos="0">
                <a:srgbClr val="fa3200">
                  <a:alpha val="5098"/>
                </a:srgbClr>
              </a:gs>
              <a:gs pos="100000">
                <a:srgbClr val="ff3300">
                  <a:alpha val="6313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38800" y="1835280"/>
            <a:ext cx="4705200" cy="1981080"/>
          </a:xfrm>
          <a:prstGeom prst="rect">
            <a:avLst/>
          </a:prstGeom>
          <a:solidFill>
            <a:srgbClr val="ffff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13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 Black"/>
              </a:rPr>
              <a:t>Prelazak na servis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68360" y="1910160"/>
            <a:ext cx="3733920" cy="184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06440" indent="-406440"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oš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ijentacija na funk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ajna reš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dužen razv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518480" y="1224000"/>
            <a:ext cx="6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00"/>
                </a:solidFill>
                <a:latin typeface="Franklin Gothic Medium"/>
              </a:rPr>
              <a:t>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27160" y="1214280"/>
            <a:ext cx="7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00"/>
                </a:solidFill>
                <a:latin typeface="Franklin Gothic Medium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5003280" y="1910160"/>
            <a:ext cx="3791160" cy="184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06440" indent="-406440"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ijentacija na proce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menljiva reš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krementalna isporu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3882960" y="3359160"/>
            <a:ext cx="1028880" cy="106668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395280" y="4287600"/>
            <a:ext cx="34560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6440" indent="-406440">
              <a:lnSpc>
                <a:spcPct val="100000"/>
              </a:lnSpc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ovarište apl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vrsta spr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bjekt-orijentis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076720" y="4287600"/>
            <a:ext cx="371484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6440" indent="-406440">
              <a:lnSpc>
                <a:spcPct val="100000"/>
              </a:lnSpc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kestrirana reš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labo spregn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ijentisana na poru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4457880" y="2954160"/>
            <a:ext cx="1241280" cy="408240"/>
          </a:xfrm>
          <a:prstGeom prst="rect">
            <a:avLst/>
          </a:prstGeom>
          <a:gradFill rotWithShape="0">
            <a:gsLst>
              <a:gs pos="0">
                <a:srgbClr val="33cccc">
                  <a:alpha val="22352"/>
                </a:srgbClr>
              </a:gs>
              <a:gs pos="100000">
                <a:srgbClr val="175e5e"/>
              </a:gs>
            </a:gsLst>
            <a:lin ang="13500000"/>
          </a:gra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1979280" y="4371840"/>
            <a:ext cx="3605040" cy="1017360"/>
            <a:chOff x="1979280" y="4371840"/>
            <a:chExt cx="3605040" cy="1017360"/>
          </a:xfrm>
        </p:grpSpPr>
        <p:sp>
          <p:nvSpPr>
            <p:cNvPr id="960" name=""/>
            <p:cNvSpPr/>
            <p:nvPr/>
          </p:nvSpPr>
          <p:spPr>
            <a:xfrm>
              <a:off x="3645720" y="4371840"/>
              <a:ext cx="1938600" cy="500400"/>
            </a:xfrm>
            <a:prstGeom prst="rect">
              <a:avLst/>
            </a:prstGeom>
            <a:gradFill rotWithShape="0">
              <a:gsLst>
                <a:gs pos="0">
                  <a:srgbClr val="33cccc">
                    <a:alpha val="22352"/>
                  </a:srgbClr>
                </a:gs>
                <a:gs pos="100000">
                  <a:srgbClr val="175e5e"/>
                </a:gs>
              </a:gsLst>
              <a:lin ang="13500000"/>
            </a:gra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Šablona z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razmenu poru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1" name=""/>
            <p:cNvCxnSpPr>
              <a:stCxn id="962" idx="3"/>
              <a:endCxn id="963" idx="1"/>
            </p:cNvCxnSpPr>
            <p:nvPr/>
          </p:nvCxnSpPr>
          <p:spPr>
            <a:xfrm flipV="1">
              <a:off x="1979280" y="5198040"/>
              <a:ext cx="71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963" name=""/>
            <p:cNvSpPr/>
            <p:nvPr/>
          </p:nvSpPr>
          <p:spPr>
            <a:xfrm>
              <a:off x="2736720" y="5051880"/>
              <a:ext cx="88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opisu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4" name=""/>
            <p:cNvCxnSpPr>
              <a:stCxn id="963" idx="3"/>
              <a:endCxn id="960" idx="2"/>
            </p:cNvCxnSpPr>
            <p:nvPr/>
          </p:nvCxnSpPr>
          <p:spPr>
            <a:xfrm flipV="1">
              <a:off x="3668400" y="4871880"/>
              <a:ext cx="947520" cy="3268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</p:cxnSp>
      </p:grpSp>
      <p:grpSp>
        <p:nvGrpSpPr>
          <p:cNvPr id="965" name=""/>
          <p:cNvGrpSpPr/>
          <p:nvPr/>
        </p:nvGrpSpPr>
        <p:grpSpPr>
          <a:xfrm>
            <a:off x="493560" y="1557360"/>
            <a:ext cx="1441440" cy="1333440"/>
            <a:chOff x="493560" y="1557360"/>
            <a:chExt cx="1441440" cy="1333440"/>
          </a:xfrm>
        </p:grpSpPr>
        <p:sp>
          <p:nvSpPr>
            <p:cNvPr id="966" name=""/>
            <p:cNvSpPr/>
            <p:nvPr/>
          </p:nvSpPr>
          <p:spPr>
            <a:xfrm>
              <a:off x="493560" y="1557360"/>
              <a:ext cx="1441440" cy="500040"/>
            </a:xfrm>
            <a:prstGeom prst="rect">
              <a:avLst/>
            </a:prstGeom>
            <a:gradFill rotWithShape="0">
              <a:gsLst>
                <a:gs pos="0">
                  <a:srgbClr val="33cccc">
                    <a:alpha val="22352"/>
                  </a:srgbClr>
                </a:gs>
                <a:gs pos="100000">
                  <a:srgbClr val="175e5e"/>
                </a:gs>
              </a:gsLst>
              <a:lin ang="13500000"/>
            </a:gra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Operacio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zahte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7" name=""/>
            <p:cNvCxnSpPr>
              <a:stCxn id="968" idx="2"/>
              <a:endCxn id="969" idx="0"/>
            </p:cNvCxnSpPr>
            <p:nvPr/>
          </p:nvCxnSpPr>
          <p:spPr>
            <a:xfrm rot="5400000">
              <a:off x="1086480" y="2757960"/>
              <a:ext cx="264240" cy="1800"/>
            </a:xfrm>
            <a:prstGeom prst="curvedConnector5">
              <a:avLst>
                <a:gd name="adj1" fmla="val 49658"/>
                <a:gd name="adj2" fmla="val 50000"/>
                <a:gd name="adj3" fmla="val 49658"/>
              </a:avLst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968" name=""/>
            <p:cNvSpPr/>
            <p:nvPr/>
          </p:nvSpPr>
          <p:spPr>
            <a:xfrm>
              <a:off x="756000" y="233388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nameć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0" name=""/>
            <p:cNvCxnSpPr>
              <a:stCxn id="968" idx="0"/>
              <a:endCxn id="966" idx="2"/>
            </p:cNvCxnSpPr>
            <p:nvPr/>
          </p:nvCxnSpPr>
          <p:spPr>
            <a:xfrm flipV="1" rot="16200000">
              <a:off x="1078200" y="2191680"/>
              <a:ext cx="276840" cy="68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</p:cxnSp>
      </p:grpSp>
      <p:grpSp>
        <p:nvGrpSpPr>
          <p:cNvPr id="971" name=""/>
          <p:cNvGrpSpPr/>
          <p:nvPr/>
        </p:nvGrpSpPr>
        <p:grpSpPr>
          <a:xfrm>
            <a:off x="5805000" y="1709640"/>
            <a:ext cx="2571840" cy="1287360"/>
            <a:chOff x="5805000" y="1709640"/>
            <a:chExt cx="2571840" cy="1287360"/>
          </a:xfrm>
        </p:grpSpPr>
        <p:sp>
          <p:nvSpPr>
            <p:cNvPr id="972" name=""/>
            <p:cNvSpPr/>
            <p:nvPr/>
          </p:nvSpPr>
          <p:spPr>
            <a:xfrm>
              <a:off x="7135920" y="1709640"/>
              <a:ext cx="1240920" cy="407160"/>
            </a:xfrm>
            <a:prstGeom prst="rect">
              <a:avLst/>
            </a:prstGeom>
            <a:gradFill rotWithShape="0">
              <a:gsLst>
                <a:gs pos="0">
                  <a:srgbClr val="33cccc">
                    <a:alpha val="22352"/>
                  </a:srgbClr>
                </a:gs>
                <a:gs pos="100000">
                  <a:srgbClr val="175e5e"/>
                </a:gs>
              </a:gsLst>
              <a:lin ang="13500000"/>
            </a:gra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a</a:t>
              </a: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n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3" name=""/>
            <p:cNvCxnSpPr>
              <a:stCxn id="958" idx="3"/>
              <a:endCxn id="974" idx="2"/>
            </p:cNvCxnSpPr>
            <p:nvPr/>
          </p:nvCxnSpPr>
          <p:spPr>
            <a:xfrm flipV="1">
              <a:off x="5805000" y="2626560"/>
              <a:ext cx="701640" cy="37080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974" name=""/>
            <p:cNvSpPr/>
            <p:nvPr/>
          </p:nvSpPr>
          <p:spPr>
            <a:xfrm>
              <a:off x="6112800" y="23342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ruku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5" name=""/>
            <p:cNvCxnSpPr>
              <a:stCxn id="974" idx="0"/>
              <a:endCxn id="972" idx="1"/>
            </p:cNvCxnSpPr>
            <p:nvPr/>
          </p:nvCxnSpPr>
          <p:spPr>
            <a:xfrm flipH="1" flipV="1" rot="5400000">
              <a:off x="6610680" y="1808640"/>
              <a:ext cx="420840" cy="63000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</p:cxnSp>
      </p:grpSp>
      <p:grpSp>
        <p:nvGrpSpPr>
          <p:cNvPr id="976" name=""/>
          <p:cNvGrpSpPr/>
          <p:nvPr/>
        </p:nvGrpSpPr>
        <p:grpSpPr>
          <a:xfrm>
            <a:off x="4296240" y="1268280"/>
            <a:ext cx="1576800" cy="1629000"/>
            <a:chOff x="4296240" y="1268280"/>
            <a:chExt cx="1576800" cy="1629000"/>
          </a:xfrm>
        </p:grpSpPr>
        <p:sp>
          <p:nvSpPr>
            <p:cNvPr id="977" name=""/>
            <p:cNvSpPr/>
            <p:nvPr/>
          </p:nvSpPr>
          <p:spPr>
            <a:xfrm>
              <a:off x="4458240" y="1268280"/>
              <a:ext cx="1239120" cy="407520"/>
            </a:xfrm>
            <a:prstGeom prst="rect">
              <a:avLst/>
            </a:prstGeom>
            <a:gradFill rotWithShape="0">
              <a:gsLst>
                <a:gs pos="0">
                  <a:srgbClr val="cc9900">
                    <a:alpha val="22352"/>
                  </a:srgbClr>
                </a:gs>
                <a:gs pos="100000">
                  <a:srgbClr val="5e4600"/>
                </a:gs>
              </a:gsLst>
              <a:lin ang="13500000"/>
            </a:gra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pli</a:t>
              </a: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8" name=""/>
            <p:cNvCxnSpPr>
              <a:stCxn id="977" idx="2"/>
              <a:endCxn id="979" idx="0"/>
            </p:cNvCxnSpPr>
            <p:nvPr/>
          </p:nvCxnSpPr>
          <p:spPr>
            <a:xfrm flipH="1" rot="16200000">
              <a:off x="4851360" y="1900800"/>
              <a:ext cx="452520" cy="1800"/>
            </a:xfrm>
            <a:prstGeom prst="curvedConnector5">
              <a:avLst>
                <a:gd name="adj1" fmla="val 49840"/>
                <a:gd name="adj2" fmla="val 50000"/>
                <a:gd name="adj3" fmla="val 49840"/>
              </a:avLst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979" name=""/>
            <p:cNvSpPr/>
            <p:nvPr/>
          </p:nvSpPr>
          <p:spPr>
            <a:xfrm>
              <a:off x="4296240" y="2127600"/>
              <a:ext cx="157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sastavljene 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80" name=""/>
            <p:cNvCxnSpPr>
              <a:stCxn id="979" idx="2"/>
              <a:endCxn id="958" idx="0"/>
            </p:cNvCxnSpPr>
            <p:nvPr/>
          </p:nvCxnSpPr>
          <p:spPr>
            <a:xfrm flipH="1" rot="16200000">
              <a:off x="4841640" y="2657520"/>
              <a:ext cx="477360" cy="2160"/>
            </a:xfrm>
            <a:prstGeom prst="curvedConnector5">
              <a:avLst>
                <a:gd name="adj1" fmla="val 49811"/>
                <a:gd name="adj2" fmla="val 40000"/>
                <a:gd name="adj3" fmla="val 49811"/>
              </a:avLst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</p:cxnSp>
      </p:grpSp>
      <p:grpSp>
        <p:nvGrpSpPr>
          <p:cNvPr id="981" name=""/>
          <p:cNvGrpSpPr/>
          <p:nvPr/>
        </p:nvGrpSpPr>
        <p:grpSpPr>
          <a:xfrm>
            <a:off x="5205960" y="3422520"/>
            <a:ext cx="3709080" cy="1333440"/>
            <a:chOff x="5205960" y="3422520"/>
            <a:chExt cx="3709080" cy="1333440"/>
          </a:xfrm>
        </p:grpSpPr>
        <p:sp>
          <p:nvSpPr>
            <p:cNvPr id="982" name=""/>
            <p:cNvSpPr/>
            <p:nvPr/>
          </p:nvSpPr>
          <p:spPr>
            <a:xfrm>
              <a:off x="7674480" y="4348440"/>
              <a:ext cx="1240560" cy="407520"/>
            </a:xfrm>
            <a:prstGeom prst="rect">
              <a:avLst/>
            </a:prstGeom>
            <a:gradFill rotWithShape="0">
              <a:gsLst>
                <a:gs pos="0">
                  <a:srgbClr val="33cccc">
                    <a:alpha val="22352"/>
                  </a:srgbClr>
                </a:gs>
                <a:gs pos="100000">
                  <a:srgbClr val="175e5e"/>
                </a:gs>
              </a:gsLst>
              <a:lin ang="13500000"/>
            </a:gra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Poruk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83" name=""/>
            <p:cNvCxnSpPr>
              <a:stCxn id="958" idx="2"/>
              <a:endCxn id="984" idx="1"/>
            </p:cNvCxnSpPr>
            <p:nvPr/>
          </p:nvCxnSpPr>
          <p:spPr>
            <a:xfrm flipH="1" rot="16200000">
              <a:off x="5447520" y="3180960"/>
              <a:ext cx="409680" cy="89244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984" name=""/>
            <p:cNvSpPr/>
            <p:nvPr/>
          </p:nvSpPr>
          <p:spPr>
            <a:xfrm>
              <a:off x="6028560" y="3684960"/>
              <a:ext cx="121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rarmenju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85" name=""/>
            <p:cNvCxnSpPr>
              <a:stCxn id="984" idx="3"/>
              <a:endCxn id="982" idx="0"/>
            </p:cNvCxnSpPr>
            <p:nvPr/>
          </p:nvCxnSpPr>
          <p:spPr>
            <a:xfrm>
              <a:off x="7173000" y="3831120"/>
              <a:ext cx="1122480" cy="51696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</p:cxnSp>
      </p:grpSp>
      <p:grpSp>
        <p:nvGrpSpPr>
          <p:cNvPr id="986" name=""/>
          <p:cNvGrpSpPr/>
          <p:nvPr/>
        </p:nvGrpSpPr>
        <p:grpSpPr>
          <a:xfrm>
            <a:off x="4663080" y="4903920"/>
            <a:ext cx="3548880" cy="528840"/>
            <a:chOff x="4663080" y="4903920"/>
            <a:chExt cx="3548880" cy="528840"/>
          </a:xfrm>
        </p:grpSpPr>
        <p:cxnSp>
          <p:nvCxnSpPr>
            <p:cNvPr id="987" name=""/>
            <p:cNvCxnSpPr>
              <a:stCxn id="960" idx="2"/>
              <a:endCxn id="988" idx="1"/>
            </p:cNvCxnSpPr>
            <p:nvPr/>
          </p:nvCxnSpPr>
          <p:spPr>
            <a:xfrm flipH="1" rot="16200000">
              <a:off x="5110920" y="4456080"/>
              <a:ext cx="338400" cy="123372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988" name=""/>
            <p:cNvSpPr/>
            <p:nvPr/>
          </p:nvSpPr>
          <p:spPr>
            <a:xfrm>
              <a:off x="6000480" y="509544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je sk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89" name=""/>
            <p:cNvCxnSpPr>
              <a:stCxn id="988" idx="3"/>
              <a:endCxn id="982" idx="2"/>
            </p:cNvCxnSpPr>
            <p:nvPr/>
          </p:nvCxnSpPr>
          <p:spPr>
            <a:xfrm flipV="1">
              <a:off x="6976800" y="4910040"/>
              <a:ext cx="1235520" cy="33156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</p:cxnSp>
      </p:grpSp>
      <p:grpSp>
        <p:nvGrpSpPr>
          <p:cNvPr id="990" name=""/>
          <p:cNvGrpSpPr/>
          <p:nvPr/>
        </p:nvGrpSpPr>
        <p:grpSpPr>
          <a:xfrm>
            <a:off x="684360" y="3429000"/>
            <a:ext cx="4334760" cy="1856880"/>
            <a:chOff x="684360" y="3429000"/>
            <a:chExt cx="4334760" cy="1856880"/>
          </a:xfrm>
        </p:grpSpPr>
        <p:sp>
          <p:nvSpPr>
            <p:cNvPr id="962" name=""/>
            <p:cNvSpPr/>
            <p:nvPr/>
          </p:nvSpPr>
          <p:spPr>
            <a:xfrm>
              <a:off x="684360" y="4878720"/>
              <a:ext cx="1240560" cy="407160"/>
            </a:xfrm>
            <a:prstGeom prst="rect">
              <a:avLst/>
            </a:prstGeom>
            <a:gradFill rotWithShape="0">
              <a:gsLst>
                <a:gs pos="0">
                  <a:srgbClr val="33cccc">
                    <a:alpha val="22352"/>
                  </a:srgbClr>
                </a:gs>
                <a:gs pos="100000">
                  <a:srgbClr val="175e5e"/>
                </a:gs>
              </a:gsLst>
              <a:lin ang="13500000"/>
            </a:gra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Ugovo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91" name=""/>
            <p:cNvCxnSpPr>
              <a:stCxn id="958" idx="2"/>
              <a:endCxn id="992" idx="3"/>
            </p:cNvCxnSpPr>
            <p:nvPr/>
          </p:nvCxnSpPr>
          <p:spPr>
            <a:xfrm rot="5400000">
              <a:off x="4120560" y="2939760"/>
              <a:ext cx="409680" cy="138780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992" name=""/>
            <p:cNvSpPr/>
            <p:nvPr/>
          </p:nvSpPr>
          <p:spPr>
            <a:xfrm>
              <a:off x="2332440" y="3691440"/>
              <a:ext cx="15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ograničeno 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93" name=""/>
            <p:cNvCxnSpPr>
              <a:stCxn id="992" idx="1"/>
              <a:endCxn id="962" idx="0"/>
            </p:cNvCxnSpPr>
            <p:nvPr/>
          </p:nvCxnSpPr>
          <p:spPr>
            <a:xfrm flipV="1" rot="10800000">
              <a:off x="1303560" y="3836880"/>
              <a:ext cx="1275120" cy="10414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</p:cxnSp>
      </p:grpSp>
      <p:grpSp>
        <p:nvGrpSpPr>
          <p:cNvPr id="994" name=""/>
          <p:cNvGrpSpPr/>
          <p:nvPr/>
        </p:nvGrpSpPr>
        <p:grpSpPr>
          <a:xfrm>
            <a:off x="1342080" y="5370480"/>
            <a:ext cx="3842280" cy="809280"/>
            <a:chOff x="1342080" y="5370480"/>
            <a:chExt cx="3842280" cy="809280"/>
          </a:xfrm>
        </p:grpSpPr>
        <p:cxnSp>
          <p:nvCxnSpPr>
            <p:cNvPr id="995" name=""/>
            <p:cNvCxnSpPr>
              <a:stCxn id="962" idx="2"/>
              <a:endCxn id="996" idx="1"/>
            </p:cNvCxnSpPr>
            <p:nvPr/>
          </p:nvCxnSpPr>
          <p:spPr>
            <a:xfrm flipH="1" rot="16200000">
              <a:off x="1529280" y="5183280"/>
              <a:ext cx="612720" cy="98676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997" name=""/>
            <p:cNvCxnSpPr>
              <a:stCxn id="996" idx="3"/>
              <a:endCxn id="998" idx="1"/>
            </p:cNvCxnSpPr>
            <p:nvPr/>
          </p:nvCxnSpPr>
          <p:spPr>
            <a:xfrm flipV="1">
              <a:off x="3199680" y="5976360"/>
              <a:ext cx="744480" cy="6120"/>
            </a:xfrm>
            <a:prstGeom prst="curvedConnector5">
              <a:avLst>
                <a:gd name="adj1" fmla="val 49782"/>
                <a:gd name="adj2" fmla="val 50000"/>
                <a:gd name="adj3" fmla="val 49782"/>
              </a:avLst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996" name=""/>
            <p:cNvSpPr/>
            <p:nvPr/>
          </p:nvSpPr>
          <p:spPr>
            <a:xfrm>
              <a:off x="2381400" y="583596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sadrž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943440" y="5772600"/>
              <a:ext cx="1240920" cy="407160"/>
            </a:xfrm>
            <a:prstGeom prst="rect">
              <a:avLst/>
            </a:prstGeom>
            <a:gradFill rotWithShape="0">
              <a:gsLst>
                <a:gs pos="0">
                  <a:srgbClr val="33cccc">
                    <a:alpha val="22352"/>
                  </a:srgbClr>
                </a:gs>
                <a:gs pos="100000">
                  <a:srgbClr val="175e5e"/>
                </a:gs>
              </a:gsLst>
              <a:lin ang="13500000"/>
            </a:gra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Še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5307120" y="4782600"/>
            <a:ext cx="2962080" cy="1317960"/>
            <a:chOff x="5307120" y="4782600"/>
            <a:chExt cx="2962080" cy="1317960"/>
          </a:xfrm>
        </p:grpSpPr>
        <p:cxnSp>
          <p:nvCxnSpPr>
            <p:cNvPr id="1000" name=""/>
            <p:cNvCxnSpPr>
              <a:stCxn id="998" idx="3"/>
              <a:endCxn id="1001" idx="1"/>
            </p:cNvCxnSpPr>
            <p:nvPr/>
          </p:nvCxnSpPr>
          <p:spPr>
            <a:xfrm flipV="1">
              <a:off x="5307120" y="5909040"/>
              <a:ext cx="444240" cy="4680"/>
            </a:xfrm>
            <a:prstGeom prst="curvedConnector5">
              <a:avLst>
                <a:gd name="adj1" fmla="val 49797"/>
                <a:gd name="adj2" fmla="val 50000"/>
                <a:gd name="adj3" fmla="val 49797"/>
              </a:avLst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1001" name=""/>
            <p:cNvSpPr/>
            <p:nvPr/>
          </p:nvSpPr>
          <p:spPr>
            <a:xfrm>
              <a:off x="5756760" y="5763240"/>
              <a:ext cx="18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definiše struktur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2" name=""/>
            <p:cNvCxnSpPr>
              <a:stCxn id="1001" idx="3"/>
              <a:endCxn id="982" idx="2"/>
            </p:cNvCxnSpPr>
            <p:nvPr/>
          </p:nvCxnSpPr>
          <p:spPr>
            <a:xfrm flipV="1">
              <a:off x="7642440" y="4782600"/>
              <a:ext cx="627120" cy="112752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</p:cxnSp>
      </p:grpSp>
      <p:grpSp>
        <p:nvGrpSpPr>
          <p:cNvPr id="1003" name=""/>
          <p:cNvGrpSpPr/>
          <p:nvPr/>
        </p:nvGrpSpPr>
        <p:grpSpPr>
          <a:xfrm>
            <a:off x="696960" y="2946240"/>
            <a:ext cx="3709080" cy="408240"/>
            <a:chOff x="696960" y="2946240"/>
            <a:chExt cx="3709080" cy="408240"/>
          </a:xfrm>
        </p:grpSpPr>
        <p:grpSp>
          <p:nvGrpSpPr>
            <p:cNvPr id="1004" name=""/>
            <p:cNvGrpSpPr/>
            <p:nvPr/>
          </p:nvGrpSpPr>
          <p:grpSpPr>
            <a:xfrm>
              <a:off x="1936440" y="3011040"/>
              <a:ext cx="2469600" cy="337320"/>
              <a:chOff x="1936440" y="3011040"/>
              <a:chExt cx="2469600" cy="337320"/>
            </a:xfrm>
          </p:grpSpPr>
          <p:cxnSp>
            <p:nvCxnSpPr>
              <p:cNvPr id="1005" name=""/>
              <p:cNvCxnSpPr>
                <a:stCxn id="1006" idx="1"/>
                <a:endCxn id="969" idx="3"/>
              </p:cNvCxnSpPr>
              <p:nvPr/>
            </p:nvCxnSpPr>
            <p:spPr>
              <a:xfrm rot="10800000">
                <a:off x="1936440" y="3149640"/>
                <a:ext cx="593640" cy="7560"/>
              </a:xfrm>
              <a:prstGeom prst="curvedConnector5">
                <a:avLst>
                  <a:gd name="adj1" fmla="val 49817"/>
                  <a:gd name="adj2" fmla="val 50000"/>
                  <a:gd name="adj3" fmla="val 49817"/>
                </a:avLst>
              </a:prstGeom>
              <a:ln w="25560">
                <a:solidFill>
                  <a:srgbClr val="000000"/>
                </a:solidFill>
                <a:miter/>
                <a:tailEnd len="lg" type="stealth" w="lg"/>
              </a:ln>
            </p:spPr>
          </p:cxnSp>
          <p:sp>
            <p:nvSpPr>
              <p:cNvPr id="1006" name=""/>
              <p:cNvSpPr/>
              <p:nvPr/>
            </p:nvSpPr>
            <p:spPr>
              <a:xfrm>
                <a:off x="2563920" y="3011040"/>
                <a:ext cx="127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rukovođen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07" name=""/>
              <p:cNvCxnSpPr>
                <a:stCxn id="958" idx="1"/>
                <a:endCxn id="1006" idx="3"/>
              </p:cNvCxnSpPr>
              <p:nvPr/>
            </p:nvCxnSpPr>
            <p:spPr>
              <a:xfrm rot="10800000">
                <a:off x="3864600" y="3156480"/>
                <a:ext cx="541440" cy="1080"/>
              </a:xfrm>
              <a:prstGeom prst="curvedConnector2">
                <a:avLst/>
              </a:prstGeom>
              <a:ln w="255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969" name=""/>
            <p:cNvSpPr/>
            <p:nvPr/>
          </p:nvSpPr>
          <p:spPr>
            <a:xfrm>
              <a:off x="696960" y="2946240"/>
              <a:ext cx="1240200" cy="408240"/>
            </a:xfrm>
            <a:prstGeom prst="rect">
              <a:avLst/>
            </a:prstGeom>
            <a:gradFill rotWithShape="0">
              <a:gsLst>
                <a:gs pos="0">
                  <a:srgbClr val="33cccc">
                    <a:alpha val="22352"/>
                  </a:srgbClr>
                </a:gs>
                <a:gs pos="100000">
                  <a:srgbClr val="175e5e"/>
                </a:gs>
              </a:gsLst>
              <a:lin ang="13500000"/>
            </a:gra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li</a:t>
              </a: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tik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71040" y="3413880"/>
            <a:ext cx="1069200" cy="1456200"/>
            <a:chOff x="671040" y="3413880"/>
            <a:chExt cx="1069200" cy="1456200"/>
          </a:xfrm>
        </p:grpSpPr>
        <p:cxnSp>
          <p:nvCxnSpPr>
            <p:cNvPr id="1009" name=""/>
            <p:cNvCxnSpPr>
              <a:stCxn id="1010" idx="0"/>
              <a:endCxn id="969" idx="2"/>
            </p:cNvCxnSpPr>
            <p:nvPr/>
          </p:nvCxnSpPr>
          <p:spPr>
            <a:xfrm flipV="1" rot="16200000">
              <a:off x="1017000" y="3598200"/>
              <a:ext cx="371880" cy="3240"/>
            </a:xfrm>
            <a:prstGeom prst="curvedConnector5">
              <a:avLst>
                <a:gd name="adj1" fmla="val 50096"/>
                <a:gd name="adj2" fmla="val 50000"/>
                <a:gd name="adj3" fmla="val 50096"/>
              </a:avLst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1010" name=""/>
            <p:cNvSpPr/>
            <p:nvPr/>
          </p:nvSpPr>
          <p:spPr>
            <a:xfrm>
              <a:off x="671040" y="3785760"/>
              <a:ext cx="106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posedu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1" name=""/>
            <p:cNvCxnSpPr>
              <a:stCxn id="962" idx="0"/>
              <a:endCxn id="1010" idx="2"/>
            </p:cNvCxnSpPr>
            <p:nvPr/>
          </p:nvCxnSpPr>
          <p:spPr>
            <a:xfrm flipH="1" flipV="1" rot="5400000">
              <a:off x="804600" y="4470480"/>
              <a:ext cx="792000" cy="7920"/>
            </a:xfrm>
            <a:prstGeom prst="curvedConnector5">
              <a:avLst>
                <a:gd name="adj1" fmla="val 49886"/>
                <a:gd name="adj2" fmla="val 47619"/>
                <a:gd name="adj3" fmla="val 49886"/>
              </a:avLst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1012" name=""/>
          <p:cNvSpPr/>
          <p:nvPr/>
        </p:nvSpPr>
        <p:spPr>
          <a:xfrm>
            <a:off x="349200" y="139320"/>
            <a:ext cx="84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 Black"/>
              </a:rPr>
              <a:t>Ključni koncepti orijentacije na serv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334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1512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Sistem - 03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43000" y="1447920"/>
            <a:ext cx="6934320" cy="3400560"/>
            <a:chOff x="1143000" y="1447920"/>
            <a:chExt cx="6934320" cy="3400560"/>
          </a:xfrm>
        </p:grpSpPr>
        <p:sp>
          <p:nvSpPr>
            <p:cNvPr id="124" name=""/>
            <p:cNvSpPr/>
            <p:nvPr/>
          </p:nvSpPr>
          <p:spPr>
            <a:xfrm>
              <a:off x="1143000" y="1447920"/>
              <a:ext cx="6934320" cy="5814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ktivnosti u sistem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43000" y="2286000"/>
              <a:ext cx="685800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Objekti ili entitet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43000" y="3200400"/>
              <a:ext cx="6858000" cy="581400"/>
            </a:xfrm>
            <a:prstGeom prst="rect">
              <a:avLst/>
            </a:prstGeom>
            <a:gradFill rotWithShape="0">
              <a:gsLst>
                <a:gs pos="0">
                  <a:srgbClr val="dcebf5"/>
                </a:gs>
                <a:gs pos="100000">
                  <a:srgbClr val="5526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Veze unutar sistema i granice sistem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43000" y="4267080"/>
              <a:ext cx="6858000" cy="58140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Veze sa okruženjem sistem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" descr=""/>
          <p:cNvPicPr/>
          <p:nvPr/>
        </p:nvPicPr>
        <p:blipFill>
          <a:blip r:embed="rId1"/>
          <a:stretch/>
        </p:blipFill>
        <p:spPr>
          <a:xfrm>
            <a:off x="3933720" y="3589200"/>
            <a:ext cx="790560" cy="40032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2"/>
          <a:stretch/>
        </p:blipFill>
        <p:spPr>
          <a:xfrm>
            <a:off x="2867040" y="3543480"/>
            <a:ext cx="1047600" cy="2304720"/>
          </a:xfrm>
          <a:prstGeom prst="rect">
            <a:avLst/>
          </a:prstGeom>
          <a:ln w="0">
            <a:noFill/>
          </a:ln>
        </p:spPr>
      </p:pic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 Black"/>
              </a:rPr>
              <a:t>Orijentacija na servis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gled sa aspekta poslovnog proc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885080" y="5342040"/>
            <a:ext cx="534960" cy="536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4751280" y="4984920"/>
            <a:ext cx="506160" cy="325080"/>
            <a:chOff x="4751280" y="4984920"/>
            <a:chExt cx="506160" cy="325080"/>
          </a:xfrm>
        </p:grpSpPr>
        <p:sp>
          <p:nvSpPr>
            <p:cNvPr id="1019" name=""/>
            <p:cNvSpPr/>
            <p:nvPr/>
          </p:nvSpPr>
          <p:spPr>
            <a:xfrm>
              <a:off x="4751280" y="4984920"/>
              <a:ext cx="315360" cy="325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066640" y="5147280"/>
              <a:ext cx="19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5257800" y="4894200"/>
            <a:ext cx="1100160" cy="9651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1700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usines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6719760" y="4925880"/>
            <a:ext cx="798120" cy="454320"/>
            <a:chOff x="6719760" y="4925880"/>
            <a:chExt cx="798120" cy="454320"/>
          </a:xfrm>
        </p:grpSpPr>
        <p:grpSp>
          <p:nvGrpSpPr>
            <p:cNvPr id="1023" name=""/>
            <p:cNvGrpSpPr/>
            <p:nvPr/>
          </p:nvGrpSpPr>
          <p:grpSpPr>
            <a:xfrm>
              <a:off x="6719760" y="5062680"/>
              <a:ext cx="279720" cy="180360"/>
              <a:chOff x="6719760" y="5062680"/>
              <a:chExt cx="279720" cy="180360"/>
            </a:xfrm>
          </p:grpSpPr>
          <p:sp>
            <p:nvSpPr>
              <p:cNvPr id="1024" name=""/>
              <p:cNvSpPr/>
              <p:nvPr/>
            </p:nvSpPr>
            <p:spPr>
              <a:xfrm>
                <a:off x="6719760" y="5062680"/>
                <a:ext cx="174240" cy="1803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894000" y="5152680"/>
                <a:ext cx="105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>
              <a:off x="6999480" y="4925880"/>
              <a:ext cx="518400" cy="4543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6719760" y="5423040"/>
            <a:ext cx="798120" cy="455400"/>
            <a:chOff x="6719760" y="5423040"/>
            <a:chExt cx="798120" cy="455400"/>
          </a:xfrm>
        </p:grpSpPr>
        <p:grpSp>
          <p:nvGrpSpPr>
            <p:cNvPr id="1028" name=""/>
            <p:cNvGrpSpPr/>
            <p:nvPr/>
          </p:nvGrpSpPr>
          <p:grpSpPr>
            <a:xfrm>
              <a:off x="6719760" y="5560200"/>
              <a:ext cx="279720" cy="180720"/>
              <a:chOff x="6719760" y="5560200"/>
              <a:chExt cx="279720" cy="180720"/>
            </a:xfrm>
          </p:grpSpPr>
          <p:sp>
            <p:nvSpPr>
              <p:cNvPr id="1029" name=""/>
              <p:cNvSpPr/>
              <p:nvPr/>
            </p:nvSpPr>
            <p:spPr>
              <a:xfrm>
                <a:off x="6719760" y="5560200"/>
                <a:ext cx="174240" cy="1807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894000" y="5650200"/>
                <a:ext cx="105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>
              <a:off x="6999480" y="5423040"/>
              <a:ext cx="518400" cy="4554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7885080" y="4894200"/>
            <a:ext cx="534960" cy="536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7525800" y="4984920"/>
            <a:ext cx="358920" cy="804240"/>
            <a:chOff x="7525800" y="4984920"/>
            <a:chExt cx="358920" cy="804240"/>
          </a:xfrm>
        </p:grpSpPr>
        <p:sp>
          <p:nvSpPr>
            <p:cNvPr id="1034" name=""/>
            <p:cNvSpPr/>
            <p:nvPr/>
          </p:nvSpPr>
          <p:spPr>
            <a:xfrm flipH="1">
              <a:off x="7525800" y="4984920"/>
              <a:ext cx="3589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7525800" y="5073840"/>
              <a:ext cx="3589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7525800" y="5162400"/>
              <a:ext cx="3589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7525800" y="5251320"/>
              <a:ext cx="3589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7525800" y="5523120"/>
              <a:ext cx="3589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7525800" y="5612040"/>
              <a:ext cx="3589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7525800" y="5700600"/>
              <a:ext cx="3589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7525800" y="5789160"/>
              <a:ext cx="3589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6361200" y="4984920"/>
            <a:ext cx="358560" cy="804240"/>
            <a:chOff x="6361200" y="4984920"/>
            <a:chExt cx="358560" cy="804240"/>
          </a:xfrm>
        </p:grpSpPr>
        <p:sp>
          <p:nvSpPr>
            <p:cNvPr id="1043" name=""/>
            <p:cNvSpPr/>
            <p:nvPr/>
          </p:nvSpPr>
          <p:spPr>
            <a:xfrm flipH="1">
              <a:off x="6361200" y="4984920"/>
              <a:ext cx="35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6361200" y="5073840"/>
              <a:ext cx="35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6361200" y="5162400"/>
              <a:ext cx="35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6361200" y="5251320"/>
              <a:ext cx="35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6361200" y="5523120"/>
              <a:ext cx="35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6361200" y="5612040"/>
              <a:ext cx="35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6361200" y="5700600"/>
              <a:ext cx="35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6361200" y="5789160"/>
              <a:ext cx="35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4751280" y="5464080"/>
            <a:ext cx="506160" cy="325080"/>
            <a:chOff x="4751280" y="5464080"/>
            <a:chExt cx="506160" cy="325080"/>
          </a:xfrm>
        </p:grpSpPr>
        <p:sp>
          <p:nvSpPr>
            <p:cNvPr id="1052" name=""/>
            <p:cNvSpPr/>
            <p:nvPr/>
          </p:nvSpPr>
          <p:spPr>
            <a:xfrm>
              <a:off x="4751280" y="5464080"/>
              <a:ext cx="315360" cy="325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066640" y="5626440"/>
              <a:ext cx="19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7885080" y="3998880"/>
            <a:ext cx="534960" cy="538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4751280" y="3643200"/>
            <a:ext cx="506160" cy="323640"/>
            <a:chOff x="4751280" y="3643200"/>
            <a:chExt cx="506160" cy="323640"/>
          </a:xfrm>
        </p:grpSpPr>
        <p:sp>
          <p:nvSpPr>
            <p:cNvPr id="1056" name=""/>
            <p:cNvSpPr/>
            <p:nvPr/>
          </p:nvSpPr>
          <p:spPr>
            <a:xfrm>
              <a:off x="4751280" y="3643200"/>
              <a:ext cx="315360" cy="32364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066640" y="3804840"/>
              <a:ext cx="19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5257800" y="3552840"/>
            <a:ext cx="1100160" cy="96660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1700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usines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6719760" y="3584520"/>
            <a:ext cx="798120" cy="453960"/>
            <a:chOff x="6719760" y="3584520"/>
            <a:chExt cx="798120" cy="453960"/>
          </a:xfrm>
        </p:grpSpPr>
        <p:grpSp>
          <p:nvGrpSpPr>
            <p:cNvPr id="1060" name=""/>
            <p:cNvGrpSpPr/>
            <p:nvPr/>
          </p:nvGrpSpPr>
          <p:grpSpPr>
            <a:xfrm>
              <a:off x="6719760" y="3720960"/>
              <a:ext cx="279720" cy="180000"/>
              <a:chOff x="6719760" y="3720960"/>
              <a:chExt cx="279720" cy="180000"/>
            </a:xfrm>
          </p:grpSpPr>
          <p:sp>
            <p:nvSpPr>
              <p:cNvPr id="1061" name=""/>
              <p:cNvSpPr/>
              <p:nvPr/>
            </p:nvSpPr>
            <p:spPr>
              <a:xfrm>
                <a:off x="6719760" y="3720960"/>
                <a:ext cx="174240" cy="18000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894000" y="3810600"/>
                <a:ext cx="105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3" name=""/>
            <p:cNvSpPr/>
            <p:nvPr/>
          </p:nvSpPr>
          <p:spPr>
            <a:xfrm>
              <a:off x="6999480" y="3584520"/>
              <a:ext cx="518400" cy="4539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6719760" y="4081320"/>
            <a:ext cx="798120" cy="455760"/>
            <a:chOff x="6719760" y="4081320"/>
            <a:chExt cx="798120" cy="455760"/>
          </a:xfrm>
        </p:grpSpPr>
        <p:grpSp>
          <p:nvGrpSpPr>
            <p:cNvPr id="1065" name=""/>
            <p:cNvGrpSpPr/>
            <p:nvPr/>
          </p:nvGrpSpPr>
          <p:grpSpPr>
            <a:xfrm>
              <a:off x="6719760" y="4218480"/>
              <a:ext cx="279720" cy="180720"/>
              <a:chOff x="6719760" y="4218480"/>
              <a:chExt cx="279720" cy="180720"/>
            </a:xfrm>
          </p:grpSpPr>
          <p:sp>
            <p:nvSpPr>
              <p:cNvPr id="1066" name=""/>
              <p:cNvSpPr/>
              <p:nvPr/>
            </p:nvSpPr>
            <p:spPr>
              <a:xfrm>
                <a:off x="6719760" y="4218480"/>
                <a:ext cx="174240" cy="18072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894000" y="4308480"/>
                <a:ext cx="105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6999480" y="4081320"/>
              <a:ext cx="518400" cy="4557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9" name=""/>
          <p:cNvSpPr/>
          <p:nvPr/>
        </p:nvSpPr>
        <p:spPr>
          <a:xfrm>
            <a:off x="7885080" y="3552840"/>
            <a:ext cx="534960" cy="5349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7525800" y="3643200"/>
            <a:ext cx="358920" cy="804600"/>
            <a:chOff x="7525800" y="3643200"/>
            <a:chExt cx="358920" cy="804600"/>
          </a:xfrm>
        </p:grpSpPr>
        <p:sp>
          <p:nvSpPr>
            <p:cNvPr id="1071" name=""/>
            <p:cNvSpPr/>
            <p:nvPr/>
          </p:nvSpPr>
          <p:spPr>
            <a:xfrm flipH="1">
              <a:off x="7525800" y="3643200"/>
              <a:ext cx="3589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7525800" y="3732120"/>
              <a:ext cx="3589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7525800" y="3820680"/>
              <a:ext cx="3589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7525800" y="3909600"/>
              <a:ext cx="3589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7525800" y="4181760"/>
              <a:ext cx="3589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7525800" y="4270680"/>
              <a:ext cx="3589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7525800" y="4359240"/>
              <a:ext cx="3589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7525800" y="4447800"/>
              <a:ext cx="3589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6361200" y="3643200"/>
            <a:ext cx="358560" cy="804600"/>
            <a:chOff x="6361200" y="3643200"/>
            <a:chExt cx="358560" cy="804600"/>
          </a:xfrm>
        </p:grpSpPr>
        <p:sp>
          <p:nvSpPr>
            <p:cNvPr id="1080" name=""/>
            <p:cNvSpPr/>
            <p:nvPr/>
          </p:nvSpPr>
          <p:spPr>
            <a:xfrm flipH="1">
              <a:off x="6361200" y="3643200"/>
              <a:ext cx="35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361200" y="3732120"/>
              <a:ext cx="35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6361200" y="3820680"/>
              <a:ext cx="35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6361200" y="3909600"/>
              <a:ext cx="35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361200" y="4181760"/>
              <a:ext cx="35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6361200" y="4270680"/>
              <a:ext cx="35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6361200" y="4359240"/>
              <a:ext cx="35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6361200" y="4447800"/>
              <a:ext cx="35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4751280" y="4122720"/>
            <a:ext cx="506160" cy="325080"/>
            <a:chOff x="4751280" y="4122720"/>
            <a:chExt cx="506160" cy="325080"/>
          </a:xfrm>
        </p:grpSpPr>
        <p:sp>
          <p:nvSpPr>
            <p:cNvPr id="1089" name=""/>
            <p:cNvSpPr/>
            <p:nvPr/>
          </p:nvSpPr>
          <p:spPr>
            <a:xfrm>
              <a:off x="4751280" y="4122720"/>
              <a:ext cx="315360" cy="325080"/>
            </a:xfrm>
            <a:prstGeom prst="ellipse">
              <a:avLst/>
            </a:prstGeom>
            <a:solidFill>
              <a:srgbClr val="00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66640" y="4285080"/>
              <a:ext cx="19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3111480" y="3728880"/>
            <a:ext cx="179280" cy="179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379680" y="3997440"/>
            <a:ext cx="179640" cy="179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111480" y="4356000"/>
            <a:ext cx="179280" cy="181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468600" y="4626000"/>
            <a:ext cx="179640" cy="179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11480" y="4894200"/>
            <a:ext cx="179280" cy="179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468600" y="5519880"/>
            <a:ext cx="179640" cy="179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111480" y="5342040"/>
            <a:ext cx="179280" cy="179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557520" y="5073480"/>
            <a:ext cx="179280" cy="179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9" name=""/>
          <p:cNvCxnSpPr>
            <a:stCxn id="1091" idx="5"/>
            <a:endCxn id="1092" idx="1"/>
          </p:cNvCxnSpPr>
          <p:nvPr/>
        </p:nvCxnSpPr>
        <p:spPr>
          <a:xfrm>
            <a:off x="3265560" y="3884760"/>
            <a:ext cx="140400" cy="14040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100" name=""/>
          <p:cNvCxnSpPr>
            <a:stCxn id="1091" idx="3"/>
          </p:cNvCxnSpPr>
          <p:nvPr/>
        </p:nvCxnSpPr>
        <p:spPr>
          <a:xfrm flipH="1">
            <a:off x="2850840" y="3881160"/>
            <a:ext cx="288000" cy="18324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101" name=""/>
          <p:cNvCxnSpPr>
            <a:stCxn id="1092" idx="7"/>
          </p:cNvCxnSpPr>
          <p:nvPr/>
        </p:nvCxnSpPr>
        <p:spPr>
          <a:xfrm flipV="1">
            <a:off x="3531960" y="3776400"/>
            <a:ext cx="416520" cy="24840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102" name=""/>
          <p:cNvCxnSpPr>
            <a:stCxn id="1092" idx="5"/>
          </p:cNvCxnSpPr>
          <p:nvPr/>
        </p:nvCxnSpPr>
        <p:spPr>
          <a:xfrm>
            <a:off x="3531960" y="4149720"/>
            <a:ext cx="416520" cy="16416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103" name=""/>
          <p:cNvCxnSpPr>
            <a:stCxn id="1092" idx="4"/>
            <a:endCxn id="1094" idx="0"/>
          </p:cNvCxnSpPr>
          <p:nvPr/>
        </p:nvCxnSpPr>
        <p:spPr>
          <a:xfrm>
            <a:off x="3470040" y="4176720"/>
            <a:ext cx="89640" cy="45000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104" name=""/>
          <p:cNvCxnSpPr>
            <a:stCxn id="1092" idx="3"/>
            <a:endCxn id="1093" idx="7"/>
          </p:cNvCxnSpPr>
          <p:nvPr/>
        </p:nvCxnSpPr>
        <p:spPr>
          <a:xfrm flipH="1">
            <a:off x="3265200" y="4152600"/>
            <a:ext cx="140400" cy="23076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105" name=""/>
          <p:cNvCxnSpPr>
            <a:stCxn id="1093" idx="2"/>
          </p:cNvCxnSpPr>
          <p:nvPr/>
        </p:nvCxnSpPr>
        <p:spPr>
          <a:xfrm flipH="1" flipV="1">
            <a:off x="2850480" y="4063320"/>
            <a:ext cx="261000" cy="38340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106" name=""/>
          <p:cNvCxnSpPr>
            <a:stCxn id="1093" idx="4"/>
            <a:endCxn id="1095" idx="0"/>
          </p:cNvCxnSpPr>
          <p:nvPr/>
        </p:nvCxnSpPr>
        <p:spPr>
          <a:xfrm>
            <a:off x="3201480" y="4537080"/>
            <a:ext cx="1080" cy="35784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107" name=""/>
          <p:cNvCxnSpPr>
            <a:stCxn id="1095" idx="3"/>
          </p:cNvCxnSpPr>
          <p:nvPr/>
        </p:nvCxnSpPr>
        <p:spPr>
          <a:xfrm flipH="1">
            <a:off x="2850840" y="5046480"/>
            <a:ext cx="288000" cy="34020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108" name=""/>
          <p:cNvCxnSpPr>
            <a:stCxn id="1097" idx="2"/>
          </p:cNvCxnSpPr>
          <p:nvPr/>
        </p:nvCxnSpPr>
        <p:spPr>
          <a:xfrm flipH="1" flipV="1">
            <a:off x="2850480" y="5385960"/>
            <a:ext cx="261000" cy="4680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109" name=""/>
          <p:cNvCxnSpPr>
            <a:stCxn id="1097" idx="5"/>
            <a:endCxn id="1096" idx="1"/>
          </p:cNvCxnSpPr>
          <p:nvPr/>
        </p:nvCxnSpPr>
        <p:spPr>
          <a:xfrm>
            <a:off x="3265200" y="5495400"/>
            <a:ext cx="229320" cy="5004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110" name=""/>
          <p:cNvCxnSpPr>
            <a:stCxn id="1096" idx="6"/>
          </p:cNvCxnSpPr>
          <p:nvPr/>
        </p:nvCxnSpPr>
        <p:spPr>
          <a:xfrm>
            <a:off x="3647880" y="5610240"/>
            <a:ext cx="300600" cy="4824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111" name=""/>
          <p:cNvCxnSpPr>
            <a:stCxn id="1096" idx="0"/>
            <a:endCxn id="1098" idx="4"/>
          </p:cNvCxnSpPr>
          <p:nvPr/>
        </p:nvCxnSpPr>
        <p:spPr>
          <a:xfrm flipV="1">
            <a:off x="3558960" y="5252760"/>
            <a:ext cx="89640" cy="26712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112" name=""/>
          <p:cNvCxnSpPr>
            <a:stCxn id="1098" idx="6"/>
          </p:cNvCxnSpPr>
          <p:nvPr/>
        </p:nvCxnSpPr>
        <p:spPr>
          <a:xfrm flipV="1">
            <a:off x="3736440" y="5117760"/>
            <a:ext cx="212040" cy="4680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113" name=""/>
          <p:cNvCxnSpPr>
            <a:stCxn id="1098" idx="0"/>
            <a:endCxn id="1094" idx="4"/>
          </p:cNvCxnSpPr>
          <p:nvPr/>
        </p:nvCxnSpPr>
        <p:spPr>
          <a:xfrm flipH="1" flipV="1">
            <a:off x="3558600" y="4804560"/>
            <a:ext cx="89640" cy="26892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114" name=""/>
          <p:cNvCxnSpPr>
            <a:stCxn id="1098" idx="2"/>
            <a:endCxn id="1095" idx="5"/>
          </p:cNvCxnSpPr>
          <p:nvPr/>
        </p:nvCxnSpPr>
        <p:spPr>
          <a:xfrm flipH="1" flipV="1">
            <a:off x="3264840" y="5046480"/>
            <a:ext cx="292680" cy="11808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sp>
        <p:nvSpPr>
          <p:cNvPr id="1115" name=""/>
          <p:cNvSpPr/>
          <p:nvPr/>
        </p:nvSpPr>
        <p:spPr>
          <a:xfrm>
            <a:off x="2573280" y="5965920"/>
            <a:ext cx="166068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Poslov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oces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69880" y="59659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Korisnička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ik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492360" y="2198520"/>
            <a:ext cx="191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Finiji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ern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rv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343160" y="2198520"/>
            <a:ext cx="18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Grubi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eb Serv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950080" y="2198520"/>
            <a:ext cx="227952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Fini poz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bjekata i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baze poda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2285640" y="3462480"/>
            <a:ext cx="19080" cy="3052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3"/>
          <a:stretch/>
        </p:blipFill>
        <p:spPr>
          <a:xfrm>
            <a:off x="685800" y="3543480"/>
            <a:ext cx="1047600" cy="230472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/>
          <p:cNvPicPr/>
          <p:nvPr/>
        </p:nvPicPr>
        <p:blipFill>
          <a:blip r:embed="rId4"/>
          <a:stretch/>
        </p:blipFill>
        <p:spPr>
          <a:xfrm>
            <a:off x="1741320" y="3751200"/>
            <a:ext cx="1105200" cy="685800"/>
          </a:xfrm>
          <a:prstGeom prst="rect">
            <a:avLst/>
          </a:prstGeom>
          <a:ln w="0">
            <a:noFill/>
          </a:ln>
        </p:spPr>
      </p:pic>
      <p:pic>
        <p:nvPicPr>
          <p:cNvPr id="1123" name="" descr=""/>
          <p:cNvPicPr/>
          <p:nvPr/>
        </p:nvPicPr>
        <p:blipFill>
          <a:blip r:embed="rId5"/>
          <a:stretch/>
        </p:blipFill>
        <p:spPr>
          <a:xfrm>
            <a:off x="1741320" y="4935600"/>
            <a:ext cx="1105200" cy="68580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/>
          <p:cNvPicPr/>
          <p:nvPr/>
        </p:nvPicPr>
        <p:blipFill>
          <a:blip r:embed="rId6"/>
          <a:stretch/>
        </p:blipFill>
        <p:spPr>
          <a:xfrm>
            <a:off x="3933720" y="4081320"/>
            <a:ext cx="790560" cy="40032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7"/>
          <a:stretch/>
        </p:blipFill>
        <p:spPr>
          <a:xfrm>
            <a:off x="3933720" y="4944960"/>
            <a:ext cx="790560" cy="40032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/>
          <p:cNvPicPr/>
          <p:nvPr/>
        </p:nvPicPr>
        <p:blipFill>
          <a:blip r:embed="rId8"/>
          <a:stretch/>
        </p:blipFill>
        <p:spPr>
          <a:xfrm>
            <a:off x="3933720" y="5437080"/>
            <a:ext cx="790560" cy="40032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/>
          <p:cNvPicPr/>
          <p:nvPr/>
        </p:nvPicPr>
        <p:blipFill>
          <a:blip r:embed="rId9"/>
          <a:stretch/>
        </p:blipFill>
        <p:spPr>
          <a:xfrm>
            <a:off x="1741320" y="3751200"/>
            <a:ext cx="11052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128" name=""/>
          <p:cNvGrpSpPr/>
          <p:nvPr/>
        </p:nvGrpSpPr>
        <p:grpSpPr>
          <a:xfrm>
            <a:off x="2139840" y="3976200"/>
            <a:ext cx="330480" cy="234000"/>
            <a:chOff x="2139840" y="3976200"/>
            <a:chExt cx="330480" cy="234000"/>
          </a:xfrm>
        </p:grpSpPr>
        <p:sp>
          <p:nvSpPr>
            <p:cNvPr id="1129" name=""/>
            <p:cNvSpPr/>
            <p:nvPr/>
          </p:nvSpPr>
          <p:spPr>
            <a:xfrm>
              <a:off x="2139840" y="3976560"/>
              <a:ext cx="330480" cy="23364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2139840" y="3975840"/>
              <a:ext cx="330480" cy="132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2130480" y="5148360"/>
            <a:ext cx="330120" cy="233280"/>
            <a:chOff x="2130480" y="5148360"/>
            <a:chExt cx="330120" cy="233280"/>
          </a:xfrm>
        </p:grpSpPr>
        <p:sp>
          <p:nvSpPr>
            <p:cNvPr id="1132" name=""/>
            <p:cNvSpPr/>
            <p:nvPr/>
          </p:nvSpPr>
          <p:spPr>
            <a:xfrm>
              <a:off x="2130480" y="5148360"/>
              <a:ext cx="330120" cy="2332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2130480" y="5148360"/>
              <a:ext cx="330120" cy="1324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4343400" y="5638680"/>
            <a:ext cx="1981080" cy="457200"/>
          </a:xfrm>
          <a:prstGeom prst="flowChartMagneticDrum">
            <a:avLst/>
          </a:pr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roizvo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81080" y="3886200"/>
            <a:ext cx="1219320" cy="762120"/>
          </a:xfrm>
          <a:prstGeom prst="downArrowCallout">
            <a:avLst>
              <a:gd name="adj1" fmla="val 40001"/>
              <a:gd name="adj2" fmla="val 39998"/>
              <a:gd name="adj3" fmla="val 16667"/>
              <a:gd name="adj4" fmla="val 66667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6796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XML </a:t>
            </a: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 i 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 SOA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7" name=""/>
          <p:cNvSpPr/>
          <p:nvPr/>
        </p:nvSpPr>
        <p:spPr>
          <a:xfrm>
            <a:off x="2060640" y="5638680"/>
            <a:ext cx="1444680" cy="612720"/>
          </a:xfrm>
          <a:prstGeom prst="flowChartMultidocument">
            <a:avLst/>
          </a:pr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dr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581280" y="5791320"/>
            <a:ext cx="914400" cy="609480"/>
          </a:xfrm>
          <a:prstGeom prst="flowChartMagneticDisk">
            <a:avLst/>
          </a:pr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d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095880" y="5562720"/>
            <a:ext cx="1752840" cy="380880"/>
          </a:xfrm>
          <a:prstGeom prst="flowChartInternalStorage">
            <a:avLst/>
          </a:pr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lu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666880" y="4191120"/>
            <a:ext cx="1143000" cy="758880"/>
          </a:xfrm>
          <a:prstGeom prst="upArrowCallout">
            <a:avLst>
              <a:gd name="adj1" fmla="val 37657"/>
              <a:gd name="adj2" fmla="val 37654"/>
              <a:gd name="adj3" fmla="val 16667"/>
              <a:gd name="adj4" fmla="val 6666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200400" y="3886200"/>
            <a:ext cx="1219320" cy="762120"/>
          </a:xfrm>
          <a:prstGeom prst="downArrowCallout">
            <a:avLst>
              <a:gd name="adj1" fmla="val 40001"/>
              <a:gd name="adj2" fmla="val 39998"/>
              <a:gd name="adj3" fmla="val 16667"/>
              <a:gd name="adj4" fmla="val 66667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809880" y="4191120"/>
            <a:ext cx="1219320" cy="761760"/>
          </a:xfrm>
          <a:prstGeom prst="upArrowCallout">
            <a:avLst>
              <a:gd name="adj1" fmla="val 40020"/>
              <a:gd name="adj2" fmla="val 40017"/>
              <a:gd name="adj3" fmla="val 16667"/>
              <a:gd name="adj4" fmla="val 6666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419720" y="3886200"/>
            <a:ext cx="1218960" cy="762120"/>
          </a:xfrm>
          <a:prstGeom prst="downArrowCallout">
            <a:avLst>
              <a:gd name="adj1" fmla="val 39989"/>
              <a:gd name="adj2" fmla="val 39986"/>
              <a:gd name="adj3" fmla="val 16667"/>
              <a:gd name="adj4" fmla="val 66667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029200" y="4191120"/>
            <a:ext cx="1219320" cy="761760"/>
          </a:xfrm>
          <a:prstGeom prst="upArrowCallout">
            <a:avLst>
              <a:gd name="adj1" fmla="val 40020"/>
              <a:gd name="adj2" fmla="val 40017"/>
              <a:gd name="adj3" fmla="val 16667"/>
              <a:gd name="adj4" fmla="val 6666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638680" y="3886200"/>
            <a:ext cx="1219320" cy="762120"/>
          </a:xfrm>
          <a:prstGeom prst="downArrowCallout">
            <a:avLst>
              <a:gd name="adj1" fmla="val 40001"/>
              <a:gd name="adj2" fmla="val 39998"/>
              <a:gd name="adj3" fmla="val 16667"/>
              <a:gd name="adj4" fmla="val 66667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248520" y="4191120"/>
            <a:ext cx="1218960" cy="761760"/>
          </a:xfrm>
          <a:prstGeom prst="upArrowCallout">
            <a:avLst>
              <a:gd name="adj1" fmla="val 40008"/>
              <a:gd name="adj2" fmla="val 40005"/>
              <a:gd name="adj3" fmla="val 16667"/>
              <a:gd name="adj4" fmla="val 6666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981080" y="3886200"/>
            <a:ext cx="1219320" cy="1066680"/>
          </a:xfrm>
          <a:prstGeom prst="rightArrowCallout">
            <a:avLst>
              <a:gd name="adj1" fmla="val 25002"/>
              <a:gd name="adj2" fmla="val 25000"/>
              <a:gd name="adj3" fmla="val 19052"/>
              <a:gd name="adj4" fmla="val 66667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400800" y="3886200"/>
            <a:ext cx="1066680" cy="1066680"/>
          </a:xfrm>
          <a:prstGeom prst="leftArrowCallout">
            <a:avLst>
              <a:gd name="adj1" fmla="val 25002"/>
              <a:gd name="adj2" fmla="val 25000"/>
              <a:gd name="adj3" fmla="val 16667"/>
              <a:gd name="adj4" fmla="val 66673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819520" y="5029200"/>
            <a:ext cx="457200" cy="533520"/>
          </a:xfrm>
          <a:prstGeom prst="up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08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038480" y="5029200"/>
            <a:ext cx="457200" cy="533520"/>
          </a:xfrm>
          <a:prstGeom prst="up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08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181480" y="5029200"/>
            <a:ext cx="457200" cy="533520"/>
          </a:xfrm>
          <a:prstGeom prst="up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08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248520" y="5029200"/>
            <a:ext cx="457200" cy="533520"/>
          </a:xfrm>
          <a:prstGeom prst="up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08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34440" y="5502240"/>
            <a:ext cx="132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lov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28600" y="38098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j Informacionih Servi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81080" y="3429000"/>
            <a:ext cx="548640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Web Service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1"/>
          <a:stretch/>
        </p:blipFill>
        <p:spPr>
          <a:xfrm>
            <a:off x="685800" y="1585800"/>
            <a:ext cx="1219320" cy="930240"/>
          </a:xfrm>
          <a:prstGeom prst="rect">
            <a:avLst/>
          </a:prstGeom>
          <a:ln w="0">
            <a:noFill/>
          </a:ln>
        </p:spPr>
      </p:pic>
      <p:sp>
        <p:nvSpPr>
          <p:cNvPr id="1157" name=""/>
          <p:cNvSpPr/>
          <p:nvPr/>
        </p:nvSpPr>
        <p:spPr>
          <a:xfrm>
            <a:off x="4191120" y="1830240"/>
            <a:ext cx="609480" cy="6098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715000" y="1676520"/>
            <a:ext cx="25146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73" y="17837"/>
                </a:moveTo>
                <a:lnTo>
                  <a:pt x="-655" y="5419"/>
                </a:lnTo>
              </a:path>
              <a:path w="21600" h="21600">
                <a:moveTo>
                  <a:pt x="-655" y="0"/>
                </a:moveTo>
                <a:lnTo>
                  <a:pt x="-655" y="21600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b18d6a"/>
              </a:gs>
            </a:gsLst>
            <a:lin ang="5400000"/>
          </a:gra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lovni siste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715000" y="2438280"/>
            <a:ext cx="2514600" cy="4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14" y="-9859"/>
                </a:moveTo>
                <a:lnTo>
                  <a:pt x="-655" y="5419"/>
                </a:lnTo>
              </a:path>
              <a:path w="21600" h="21600">
                <a:moveTo>
                  <a:pt x="-655" y="0"/>
                </a:moveTo>
                <a:lnTo>
                  <a:pt x="-655" y="21600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b18d6a"/>
              </a:gs>
            </a:gsLst>
            <a:lin ang="5400000"/>
          </a:gra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ja proce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1218600" y="2354400"/>
            <a:ext cx="1981080" cy="382320"/>
          </a:xfrm>
          <a:gradFill rotWithShape="0">
            <a:gsLst>
              <a:gs pos="0">
                <a:srgbClr val="ffcc99"/>
              </a:gs>
              <a:gs pos="100000">
                <a:srgbClr val="b18d6a"/>
              </a:gs>
            </a:gsLst>
            <a:lin ang="5400000"/>
          </a:gra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isn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14800" y="2362320"/>
            <a:ext cx="762120" cy="1143000"/>
          </a:xfrm>
          <a:prstGeom prst="upArrow">
            <a:avLst>
              <a:gd name="adj1" fmla="val 50000"/>
              <a:gd name="adj2" fmla="val 37494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08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1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5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9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3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2388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Vizija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SO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Mest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gde su servisi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irodn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organask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integrisani u način razmišljanja i delovanja (rada)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Mest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gde se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u interakciji sreć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davaoci i primaoci informacija uz oslonac na servis kao formu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ve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u kome se tehnologija implementira u sklopu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radnog okruženj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koje deluje na globalnom nivou, podržano otvorenim i kooperativnim standard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24000" y="1906200"/>
            <a:ext cx="8820000" cy="1320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Policijska informatika</a:t>
            </a:r>
            <a:br>
              <a:rPr sz="4400"/>
            </a:br>
            <a:r>
              <a:rPr b="0" lang="sr-Latn-CS" sz="3600" spc="-1" strike="noStrike">
                <a:solidFill>
                  <a:srgbClr val="ff0000"/>
                </a:solidFill>
                <a:latin typeface="Arial Black"/>
              </a:rPr>
              <a:t>Poglavlje 01. </a:t>
            </a:r>
            <a:r>
              <a:rPr b="0" i="1" lang="sr-Latn-CS" sz="3600" spc="-1" strike="noStrike">
                <a:solidFill>
                  <a:srgbClr val="ff0000"/>
                </a:solidFill>
                <a:latin typeface="Arial Black"/>
              </a:rPr>
              <a:t>Upotreba IT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165" name="ftn_znak" descr=""/>
          <p:cNvPicPr/>
          <p:nvPr/>
        </p:nvPicPr>
        <p:blipFill>
          <a:blip r:embed="rId1"/>
          <a:stretch/>
        </p:blipFill>
        <p:spPr>
          <a:xfrm>
            <a:off x="0" y="0"/>
            <a:ext cx="1208160" cy="1268280"/>
          </a:xfrm>
          <a:prstGeom prst="rect">
            <a:avLst/>
          </a:prstGeom>
          <a:ln w="0">
            <a:noFill/>
          </a:ln>
        </p:spPr>
      </p:pic>
      <p:pic>
        <p:nvPicPr>
          <p:cNvPr id="1166" name="cezar_new" descr=""/>
          <p:cNvPicPr/>
          <p:nvPr/>
        </p:nvPicPr>
        <p:blipFill>
          <a:blip r:embed="rId2"/>
          <a:stretch/>
        </p:blipFill>
        <p:spPr>
          <a:xfrm>
            <a:off x="8024760" y="0"/>
            <a:ext cx="1119240" cy="1125360"/>
          </a:xfrm>
          <a:prstGeom prst="rect">
            <a:avLst/>
          </a:prstGeom>
          <a:ln w="0">
            <a:noFill/>
          </a:ln>
        </p:spPr>
      </p:pic>
      <p:pic>
        <p:nvPicPr>
          <p:cNvPr id="1167" name="" descr=""/>
          <p:cNvPicPr/>
          <p:nvPr/>
        </p:nvPicPr>
        <p:blipFill>
          <a:blip r:embed="rId3"/>
          <a:stretch/>
        </p:blipFill>
        <p:spPr>
          <a:xfrm>
            <a:off x="5364000" y="3357720"/>
            <a:ext cx="1540080" cy="3124080"/>
          </a:xfrm>
          <a:prstGeom prst="rect">
            <a:avLst/>
          </a:prstGeom>
          <a:ln w="0">
            <a:noFill/>
          </a:ln>
        </p:spPr>
      </p:pic>
      <p:sp>
        <p:nvSpPr>
          <p:cNvPr id="1168" name=""/>
          <p:cNvSpPr txBox="1"/>
          <p:nvPr/>
        </p:nvSpPr>
        <p:spPr>
          <a:xfrm>
            <a:off x="611280" y="4076640"/>
            <a:ext cx="4647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P i t a nj a  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25920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Informacioni sistemi -03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33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24040" y="2268360"/>
            <a:ext cx="2286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86200" y="2268360"/>
            <a:ext cx="2286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95640" y="3716280"/>
            <a:ext cx="38862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500200" y="2725560"/>
            <a:ext cx="609840" cy="99072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14800" y="2725560"/>
            <a:ext cx="838440" cy="990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4040" y="2268360"/>
            <a:ext cx="228600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form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9:51:55Z</dcterms:created>
  <dc:creator>xx</dc:creator>
  <dc:description/>
  <dc:language>en-US</dc:language>
  <cp:lastModifiedBy>Branko Perišić</cp:lastModifiedBy>
  <dcterms:modified xsi:type="dcterms:W3CDTF">2008-12-11T11:18:35Z</dcterms:modified>
  <cp:revision>319</cp:revision>
  <dc:subject/>
  <dc:title>PowerPoint Presentation</dc:title>
</cp:coreProperties>
</file>