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drumroll.wav" ContentType="audio/x-wav"/>
  <Override PartName="/ppt/media/image15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14.png" ContentType="image/png"/>
  <Override PartName="/ppt/media/image9.wmf" ContentType="image/x-wmf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29.png" ContentType="image/png"/>
  <Override PartName="/ppt/media/image34.png" ContentType="image/png"/>
  <Override PartName="/ppt/media/image10.png" ContentType="image/png"/>
  <Override PartName="/ppt/media/image27.jpeg" ContentType="image/jpeg"/>
  <Override PartName="/ppt/media/image4.wmf" ContentType="image/x-wmf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35.wmf" ContentType="image/x-wmf"/>
  <Override PartName="/ppt/media/image16.jpeg" ContentType="image/jpe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082-DDB0-48E3-9C5B-48A8934D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66B-C76A-4780-B378-7E5A9DED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F37-38AD-4BF8-BFEF-0D6C4F82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BFE-CB9D-49D1-B251-C99DD596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4762-48F3-4414-AD0E-86F51C0B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9567-42AC-4F08-943F-64EC5A33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6293-E12C-4256-AED9-245D8B6F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020F-4700-499F-86BE-0F2DC7BB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CC29-CFC7-4741-8D21-33E9E25C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29D2-EF5F-4C12-B5EE-56EC69EC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B37F-41E9-4DCF-B73D-E782ACF4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CBE-D5EF-4DBD-A892-BF67C1FF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0E43-962A-4475-AB03-A1970AA5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032B-8553-445B-890D-CB885976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924D-6090-45AA-8146-DAFD0D2C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C6D4-0BCC-44B5-BE5E-59183C52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F60B-F9AF-4208-A931-3A59A543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CA5-C961-4777-AC33-BCB555BE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F2F-9BE7-459A-A853-2DEACE24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533-E1CC-4EBE-B129-AC4D4943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08E-F783-4D46-9559-96B36A54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F2C-D105-420C-A181-983B3A9A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179-ADDD-4DFC-B459-75046C69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316-8279-404C-85C0-96BCB210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0A8C-E98F-4EC0-A136-3112ED892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0920" y="6400800"/>
            <a:ext cx="162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/26/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24000" y="640080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Prof.dr Branko Periši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5087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B0DB-070F-4077-BB9B-7EE809446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mailto:perisic@uns.ns.ac.yu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697040"/>
            <a:ext cx="8353440" cy="143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Policijska informatika</a:t>
            </a:r>
            <a:br>
              <a:rPr sz="4400"/>
            </a:br>
            <a:r>
              <a:rPr b="0" lang="sr-CS" sz="4400" spc="-1" strike="noStrike">
                <a:solidFill>
                  <a:srgbClr val="003300"/>
                </a:solidFill>
                <a:latin typeface="Arial Black"/>
              </a:rPr>
              <a:t>(2+1), (2+1)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5" name="ftn_znak" descr=""/>
          <p:cNvPicPr/>
          <p:nvPr/>
        </p:nvPicPr>
        <p:blipFill>
          <a:blip r:embed="rId1"/>
          <a:stretch/>
        </p:blipFill>
        <p:spPr>
          <a:xfrm>
            <a:off x="0" y="0"/>
            <a:ext cx="1276200" cy="1341360"/>
          </a:xfrm>
          <a:prstGeom prst="rect">
            <a:avLst/>
          </a:prstGeom>
          <a:ln w="0">
            <a:noFill/>
          </a:ln>
        </p:spPr>
      </p:pic>
      <p:pic>
        <p:nvPicPr>
          <p:cNvPr id="86" name="cezar_new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3429000"/>
            <a:ext cx="8352000" cy="1495080"/>
          </a:xfrm>
          <a:prstGeom prst="rect">
            <a:avLst/>
          </a:prstGeom>
          <a:solidFill>
            <a:srgbClr val="cc99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Predmetni nastavnik: Prof. dr Branko Perišić  FTN 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96992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kontakt: </a:t>
            </a:r>
            <a:r>
              <a:rPr b="0" lang="sr-Latn-CS" sz="24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perisic@uns.ns.ac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Asistent:                   Mr Brankica Popović, K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330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Arial Black"/>
              </a:rPr>
              <a:t>P</a:t>
            </a:r>
            <a:r>
              <a:rPr b="1" lang="sr-CS" sz="2400" spc="-1" strike="noStrike">
                <a:solidFill>
                  <a:srgbClr val="003300"/>
                </a:solidFill>
                <a:latin typeface="Arial Black"/>
              </a:rPr>
              <a:t>олицијска информатика</a:t>
            </a:r>
            <a:r>
              <a:rPr b="1" lang="sr-Latn-CS" sz="2400" spc="-1" strike="noStrike">
                <a:solidFill>
                  <a:srgbClr val="003300"/>
                </a:solidFill>
                <a:latin typeface="Arial Black"/>
              </a:rPr>
              <a:t> - </a:t>
            </a:r>
            <a:r>
              <a:rPr b="1" lang="sr-CS" sz="2400" spc="-1" strike="noStrike">
                <a:solidFill>
                  <a:srgbClr val="003300"/>
                </a:solidFill>
                <a:latin typeface="Arial Black"/>
              </a:rPr>
              <a:t>Вежбе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197000"/>
            <a:ext cx="8496360" cy="46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Подсистеми ЈИС-МУП-а РС (настава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ОПШТИ КРИМИНАЛИСТИЧКИ ИНДЕК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О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ПОТРАЖНА ДЕЛАТНОС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ЛЕГИТИМИСАНА ЛИЦ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СПЕЦИЈАЛИЗОВАНИ СОФТВЕРИ ЗА ПРИМЕНУ У ПОЛИЦ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ИНТЕРНЕТ и интернет серви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ипема за практични део завршног испита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532720" y="6261120"/>
            <a:ext cx="611280" cy="596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5877000"/>
            <a:ext cx="649080" cy="7459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618120"/>
            <a:ext cx="75578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3300"/>
                </a:solidFill>
                <a:latin typeface="Arial Black"/>
              </a:rPr>
              <a:t>Елементи оцењивања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1989000"/>
          <a:ext cx="6264360" cy="3248280"/>
        </p:xfrm>
        <a:graphic>
          <a:graphicData uri="http://schemas.openxmlformats.org/drawingml/2006/table">
            <a:tbl>
              <a:tblPr/>
              <a:tblGrid>
                <a:gridCol w="936720"/>
                <a:gridCol w="4187520"/>
                <a:gridCol w="114012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б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ив обавез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довност на предавањи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довност на вежба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ализација практичних вежб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ски р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409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ршни део осп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ни део исп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ијски део исп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7164360" y="2708280"/>
            <a:ext cx="1728720" cy="703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диспитне обавезе (3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2421000"/>
            <a:ext cx="71640" cy="1152360"/>
          </a:xfrm>
          <a:custGeom>
            <a:avLst/>
            <a:gdLst>
              <a:gd name="textAreaLeft" fmla="*/ 0 w 71640"/>
              <a:gd name="textAreaRight" fmla="*/ 25920 w 716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40720" y="3645000"/>
            <a:ext cx="6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5661000"/>
            <a:ext cx="165708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45 до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08720" y="4292640"/>
            <a:ext cx="1584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5013360"/>
            <a:ext cx="6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56360" y="5229360"/>
            <a:ext cx="1079640" cy="720720"/>
          </a:xfrm>
          <a:custGeom>
            <a:avLst/>
            <a:gdLst/>
            <a:ahLst/>
            <a:rect l="l" t="t" r="r" b="b"/>
            <a:pathLst>
              <a:path w="680" h="454">
                <a:moveTo>
                  <a:pt x="0" y="0"/>
                </a:moveTo>
                <a:lnTo>
                  <a:pt x="0" y="454"/>
                </a:lnTo>
                <a:lnTo>
                  <a:pt x="680" y="4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3789360"/>
            <a:ext cx="503280" cy="2016000"/>
          </a:xfrm>
          <a:custGeom>
            <a:avLst/>
            <a:gdLst/>
            <a:ahLst/>
            <a:rect l="l" t="t" r="r" b="b"/>
            <a:pathLst>
              <a:path w="317" h="1270">
                <a:moveTo>
                  <a:pt x="0" y="45"/>
                </a:moveTo>
                <a:lnTo>
                  <a:pt x="136" y="0"/>
                </a:lnTo>
                <a:lnTo>
                  <a:pt x="136" y="1270"/>
                </a:lnTo>
                <a:lnTo>
                  <a:pt x="317" y="127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4581360"/>
            <a:ext cx="57600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6237360"/>
            <a:ext cx="208908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100 до 1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40720" y="6237360"/>
            <a:ext cx="64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443280" y="6524640"/>
            <a:ext cx="12970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30840"/>
            <a:ext cx="7162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Način izvođenja konačne ocen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1989000"/>
          <a:ext cx="6248520" cy="3503880"/>
        </p:xfrm>
        <a:graphic>
          <a:graphicData uri="http://schemas.openxmlformats.org/drawingml/2006/table">
            <a:tbl>
              <a:tblPr/>
              <a:tblGrid>
                <a:gridCol w="2082600"/>
                <a:gridCol w="2082960"/>
                <a:gridCol w="2082960"/>
              </a:tblGrid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(poen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(poen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ačna o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avlja predm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dovolj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5734080"/>
            <a:ext cx="9554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718920" cy="576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560" y="2584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00"/>
                </a:solidFill>
                <a:latin typeface="Arial Black"/>
              </a:rPr>
              <a:t>Kako raditi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907920"/>
            <a:ext cx="8424720" cy="5630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Odbraniti vežbe – kontinuiran rad u toku semestra. – </a:t>
            </a:r>
            <a:r>
              <a:rPr b="1" i="1" lang="sr-Latn-CS" sz="4000" spc="-1" strike="noStrike">
                <a:solidFill>
                  <a:srgbClr val="ff3300"/>
                </a:solidFill>
                <a:latin typeface="Times New Roman"/>
              </a:rPr>
              <a:t>Veština</a:t>
            </a:r>
            <a:r>
              <a:rPr b="1" i="1" lang="sr-Latn-C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Seminar – mogućnost da se deo teorije položi u toku semestar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Odbrana vežbi – pred isp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Položiti test iz teorije. – </a:t>
            </a:r>
            <a:r>
              <a:rPr b="1" i="1" lang="sr-Latn-CS" sz="4000" spc="-1" strike="noStrike">
                <a:solidFill>
                  <a:srgbClr val="ffff00"/>
                </a:solidFill>
                <a:latin typeface="Times New Roman"/>
              </a:rPr>
              <a:t>Znanje</a:t>
            </a:r>
            <a:r>
              <a:rPr b="1" i="1" lang="sr-Latn-C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Usmena odbrana – po potrebi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92360" y="26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ADA ONO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ŠTO STE OČEKIVALI OD SAMOG KRAJ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920" y="2133720"/>
            <a:ext cx="7201080" cy="41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6600" spc="-1" strike="noStrike">
                <a:solidFill>
                  <a:srgbClr val="000000"/>
                </a:solidFill>
                <a:latin typeface="Arial"/>
              </a:rPr>
              <a:t>POČETAK</a:t>
            </a:r>
            <a:br>
              <a:rPr sz="6600"/>
            </a:br>
            <a:r>
              <a:rPr b="1" lang="sr-Latn-CS" sz="6600" spc="-1" strike="noStrike">
                <a:solidFill>
                  <a:srgbClr val="0033cc"/>
                </a:solidFill>
                <a:latin typeface="Arial"/>
              </a:rPr>
              <a:t>Obrazovanje za rešavanje problema</a:t>
            </a:r>
            <a:endParaRPr b="0" lang="en-US" sz="6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01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aksonomija obrazovanja-1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">
            <a:hlinkClick r:id="rId1"/>
          </p:cNvPr>
          <p:cNvSpPr/>
          <p:nvPr/>
        </p:nvSpPr>
        <p:spPr>
          <a:xfrm>
            <a:off x="380880" y="4565520"/>
            <a:ext cx="7925040" cy="581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             N             A             NJ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01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aksonomija obrazovanja-2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1413000"/>
          <a:ext cx="8642160" cy="3875040"/>
        </p:xfrm>
        <a:graphic>
          <a:graphicData uri="http://schemas.openxmlformats.org/drawingml/2006/table">
            <a:tbl>
              <a:tblPr/>
              <a:tblGrid>
                <a:gridCol w="2598480"/>
                <a:gridCol w="3306960"/>
                <a:gridCol w="2736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nstrirane veš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jučne reč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Znanj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matranje i izvođenje informacija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navanje datuma, događaja, mes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navanje osnovnih idej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danje pojedinim predmet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kaži, definiši, revidiraj, opiši, prepoznaj, pokaži, označi, prikupi, proveri, tabeliraj, prebroji, imenuj, ko, kada, gde, itd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01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aksonomija obrazovanja-3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8" name="">
            <a:hlinkClick r:id="rId1"/>
          </p:cNvPr>
          <p:cNvSpPr/>
          <p:nvPr/>
        </p:nvSpPr>
        <p:spPr>
          <a:xfrm>
            <a:off x="380880" y="4565520"/>
            <a:ext cx="7925040" cy="581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             N             A             NJ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762120" y="3925800"/>
            <a:ext cx="7086600" cy="5814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   A   Z   U   M   E   V   A   NJ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01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aksonomija obrazovanja-4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341360"/>
          <a:ext cx="8893080" cy="4608720"/>
        </p:xfrm>
        <a:graphic>
          <a:graphicData uri="http://schemas.openxmlformats.org/drawingml/2006/table">
            <a:tbl>
              <a:tblPr/>
              <a:tblGrid>
                <a:gridCol w="2889000"/>
                <a:gridCol w="3187800"/>
                <a:gridCol w="2816280"/>
              </a:tblGrid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nstrirane veš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jučne reč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umevanj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umevanje informacij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vatanje značenj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ođenje znanja u nove kontek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iranje činjenica, poređenje, suprotstavlj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iranje, grupisanje, spoznavanje uzrok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viđanje posled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iraj, opiši, interpretiraj, uporedi, predvidi, dodeli, proceni, uoči razliku, diskutuj, prošir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01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aksonomija obrazovanja-5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3" name="">
            <a:hlinkClick r:id="rId1"/>
          </p:cNvPr>
          <p:cNvSpPr/>
          <p:nvPr/>
        </p:nvSpPr>
        <p:spPr>
          <a:xfrm>
            <a:off x="380880" y="4565520"/>
            <a:ext cx="7925040" cy="581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             N             A             NJ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2"/>
          </p:cNvPr>
          <p:cNvSpPr/>
          <p:nvPr/>
        </p:nvSpPr>
        <p:spPr>
          <a:xfrm>
            <a:off x="762120" y="3925800"/>
            <a:ext cx="7086600" cy="5814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   A   Z   U   M   E   V   A   NJ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3"/>
          </p:cNvPr>
          <p:cNvSpPr/>
          <p:nvPr/>
        </p:nvSpPr>
        <p:spPr>
          <a:xfrm>
            <a:off x="1143000" y="3287880"/>
            <a:ext cx="6324480" cy="5814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    R    I    M    E    N 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187200"/>
            <a:ext cx="6248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3300"/>
                </a:solidFill>
                <a:latin typeface="Arial Black"/>
              </a:rPr>
              <a:t>План и програм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052640"/>
            <a:ext cx="8353440" cy="474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иљ предмета (1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564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уденти се на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предавањи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жба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упознај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а релевантним сегментима примењене информатике у сфери безбедност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0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зација и садржај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информацион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ог с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истем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МУП-а 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његов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примен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у реализацији послова и задатака из надлежности МУП-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0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вођење и примена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нових информационих технологиј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и коришћење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пецијализованих софтвер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за потребе полициј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01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aksonomija obrazovanja-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1341360"/>
          <a:ext cx="8893080" cy="3936960"/>
        </p:xfrm>
        <a:graphic>
          <a:graphicData uri="http://schemas.openxmlformats.org/drawingml/2006/table">
            <a:tbl>
              <a:tblPr/>
              <a:tblGrid>
                <a:gridCol w="2889000"/>
                <a:gridCol w="3187800"/>
                <a:gridCol w="2816280"/>
              </a:tblGrid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nstrirane veš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jučne reč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Prime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išćenje informa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išćenje metoda, koncepata, i teorija u novim situacijam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šavanje problema korišćenjem potrebnih veština i znanj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ni, demonstriraj, odredi, dopuni, ilustruj, pokaži, reši, proveri, izmeni, poveži, klasifikuj, probaj, otkrij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01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aksonomija obrazovanja-7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9" name="">
            <a:hlinkClick r:id="rId1"/>
          </p:cNvPr>
          <p:cNvSpPr/>
          <p:nvPr/>
        </p:nvSpPr>
        <p:spPr>
          <a:xfrm>
            <a:off x="380880" y="4565520"/>
            <a:ext cx="7925040" cy="581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             N             A             NJ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/>
          </p:cNvPr>
          <p:cNvSpPr/>
          <p:nvPr/>
        </p:nvSpPr>
        <p:spPr>
          <a:xfrm>
            <a:off x="762120" y="3925800"/>
            <a:ext cx="7086600" cy="5814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   A   Z   U   M   E   V   A   NJ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/>
          </p:cNvPr>
          <p:cNvSpPr/>
          <p:nvPr/>
        </p:nvSpPr>
        <p:spPr>
          <a:xfrm>
            <a:off x="1143000" y="3287880"/>
            <a:ext cx="6324480" cy="5814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    R    I    M    E    N 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649600"/>
            <a:ext cx="5638680" cy="581400"/>
          </a:xfrm>
          <a:prstGeom prst="rect">
            <a:avLst/>
          </a:prstGeom>
          <a:solidFill>
            <a:srgbClr val="ff0066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   N   A   L  I  Z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01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aksonomija obrazovanja-8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0920" y="1341360"/>
          <a:ext cx="8893080" cy="3144960"/>
        </p:xfrm>
        <a:graphic>
          <a:graphicData uri="http://schemas.openxmlformats.org/drawingml/2006/table">
            <a:tbl>
              <a:tblPr/>
              <a:tblGrid>
                <a:gridCol w="2889000"/>
                <a:gridCol w="3187800"/>
                <a:gridCol w="2816280"/>
              </a:tblGrid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nstrirane veš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jučne reč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naliz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čavanje šabl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ovanje delo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znavanje skrivenih znače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kacija delov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iraj, razdvoji, uredi, objasni, poveži, klasifikuj, organizuj, podeli, poredi, odaberi, preuzm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01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aksonomija obrazovanja-9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6" name="">
            <a:hlinkClick r:id="rId1"/>
          </p:cNvPr>
          <p:cNvSpPr/>
          <p:nvPr/>
        </p:nvSpPr>
        <p:spPr>
          <a:xfrm>
            <a:off x="380880" y="4565520"/>
            <a:ext cx="7925040" cy="581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             N             A             NJ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2"/>
          </p:cNvPr>
          <p:cNvSpPr/>
          <p:nvPr/>
        </p:nvSpPr>
        <p:spPr>
          <a:xfrm>
            <a:off x="762120" y="3925800"/>
            <a:ext cx="7086600" cy="5814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   A   Z   U   M   E   V   A   NJ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3"/>
          </p:cNvPr>
          <p:cNvSpPr/>
          <p:nvPr/>
        </p:nvSpPr>
        <p:spPr>
          <a:xfrm>
            <a:off x="1143000" y="3287880"/>
            <a:ext cx="6324480" cy="5814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    R    I    M    E    N 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2649600"/>
            <a:ext cx="5638680" cy="581400"/>
          </a:xfrm>
          <a:prstGeom prst="rect">
            <a:avLst/>
          </a:prstGeom>
          <a:solidFill>
            <a:srgbClr val="ff0066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   N   A   L  I  Z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2009880"/>
            <a:ext cx="4724280" cy="58140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 I N T E Z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01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aksonomija obrazovanja-10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341360"/>
          <a:ext cx="8893080" cy="4240440"/>
        </p:xfrm>
        <a:graphic>
          <a:graphicData uri="http://schemas.openxmlformats.org/drawingml/2006/table">
            <a:tbl>
              <a:tblPr/>
              <a:tblGrid>
                <a:gridCol w="2665440"/>
                <a:gridCol w="3411360"/>
                <a:gridCol w="2816280"/>
              </a:tblGrid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nstrirane veš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jučne reč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inte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išćenje starih ideja za kreiranje novi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osnovu datih činjenica obaviti poopštavanj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ezivanje znanja iz više obla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viđanje, izvedođenje zaključak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binuj, integriši, izmeni, reorganizuj, zameni, planiraj, kreiraj, dizajniraj, izumi, šta ako?, sastavi, formuliši, pripremi, poopšti, prerad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01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aksonomija obrazovanja-11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380880" y="4565520"/>
            <a:ext cx="7925040" cy="581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             N             A             NJ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2"/>
          </p:cNvPr>
          <p:cNvSpPr/>
          <p:nvPr/>
        </p:nvSpPr>
        <p:spPr>
          <a:xfrm>
            <a:off x="762120" y="3925800"/>
            <a:ext cx="7086600" cy="5814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   A   Z   U   M   E   V   A   NJ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3"/>
          </p:cNvPr>
          <p:cNvSpPr/>
          <p:nvPr/>
        </p:nvSpPr>
        <p:spPr>
          <a:xfrm>
            <a:off x="1143000" y="3287880"/>
            <a:ext cx="6324480" cy="5814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    R    I    M    E    N 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2649600"/>
            <a:ext cx="5638680" cy="581400"/>
          </a:xfrm>
          <a:prstGeom prst="rect">
            <a:avLst/>
          </a:prstGeom>
          <a:solidFill>
            <a:srgbClr val="ff0066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   N   A   L  I  Z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2009880"/>
            <a:ext cx="4724280" cy="58140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 I N T E Z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4"/>
          </p:cNvPr>
          <p:cNvSpPr/>
          <p:nvPr/>
        </p:nvSpPr>
        <p:spPr>
          <a:xfrm>
            <a:off x="2438280" y="1371600"/>
            <a:ext cx="3505320" cy="5814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 C E N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01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aksonomija obrazovanja-12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0920" y="1341360"/>
          <a:ext cx="8893080" cy="4548240"/>
        </p:xfrm>
        <a:graphic>
          <a:graphicData uri="http://schemas.openxmlformats.org/drawingml/2006/table">
            <a:tbl>
              <a:tblPr/>
              <a:tblGrid>
                <a:gridCol w="2665440"/>
                <a:gridCol w="3411360"/>
                <a:gridCol w="2816280"/>
              </a:tblGrid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nstrirane vešt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jučne reč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Oc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eđenje i pravljenje razlika  između idej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pitivanje valjanosti teorija,   prezentacij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bor na bazi racionalnih argumena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kacija vrednosti doka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5f5f"/>
                        </a:buClr>
                        <a:buSzPct val="65000"/>
                        <a:buFont typeface="Wingdings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znavanje potencijalne subjektiv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i, odluči, vrednuj, testiraj, meri, preporuči, ubedi, izaberi, prosudi, objasni, razlikuj, podrži, zaključi, poredi, sumiraj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798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Njegovo veli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č</a:t>
            </a: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anstvo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 – Problem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6212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484360" y="3573360"/>
            <a:ext cx="1905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oble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1720800" y="2028960"/>
            <a:ext cx="3544920" cy="3495600"/>
          </a:xfrm>
          <a:custGeom>
            <a:avLst/>
            <a:gdLst/>
            <a:ahLst/>
            <a:rect l="l" t="t" r="r" b="b"/>
            <a:pathLst>
              <a:path w="5580" h="5506">
                <a:moveTo>
                  <a:pt x="375" y="4564"/>
                </a:moveTo>
                <a:cubicBezTo>
                  <a:pt x="370" y="4539"/>
                  <a:pt x="369" y="4513"/>
                  <a:pt x="360" y="4489"/>
                </a:cubicBezTo>
                <a:cubicBezTo>
                  <a:pt x="344" y="4447"/>
                  <a:pt x="300" y="4369"/>
                  <a:pt x="300" y="4369"/>
                </a:cubicBezTo>
                <a:cubicBezTo>
                  <a:pt x="270" y="4217"/>
                  <a:pt x="309" y="4371"/>
                  <a:pt x="240" y="4219"/>
                </a:cubicBezTo>
                <a:cubicBezTo>
                  <a:pt x="203" y="4138"/>
                  <a:pt x="185" y="4054"/>
                  <a:pt x="135" y="3979"/>
                </a:cubicBezTo>
                <a:lnTo>
                  <a:pt x="60" y="3829"/>
                </a:lnTo>
                <a:cubicBezTo>
                  <a:pt x="60" y="3829"/>
                  <a:pt x="60" y="3829"/>
                  <a:pt x="60" y="3829"/>
                </a:cubicBezTo>
                <a:cubicBezTo>
                  <a:pt x="23" y="3718"/>
                  <a:pt x="44" y="3767"/>
                  <a:pt x="0" y="3679"/>
                </a:cubicBezTo>
                <a:cubicBezTo>
                  <a:pt x="10" y="3624"/>
                  <a:pt x="10" y="3566"/>
                  <a:pt x="30" y="3514"/>
                </a:cubicBezTo>
                <a:cubicBezTo>
                  <a:pt x="36" y="3497"/>
                  <a:pt x="61" y="3496"/>
                  <a:pt x="75" y="3484"/>
                </a:cubicBezTo>
                <a:cubicBezTo>
                  <a:pt x="113" y="3452"/>
                  <a:pt x="157" y="3427"/>
                  <a:pt x="195" y="3394"/>
                </a:cubicBezTo>
                <a:cubicBezTo>
                  <a:pt x="270" y="3330"/>
                  <a:pt x="323" y="3239"/>
                  <a:pt x="405" y="3184"/>
                </a:cubicBezTo>
                <a:cubicBezTo>
                  <a:pt x="420" y="3174"/>
                  <a:pt x="438" y="3167"/>
                  <a:pt x="450" y="3154"/>
                </a:cubicBezTo>
                <a:cubicBezTo>
                  <a:pt x="490" y="3111"/>
                  <a:pt x="582" y="3000"/>
                  <a:pt x="615" y="2929"/>
                </a:cubicBezTo>
                <a:cubicBezTo>
                  <a:pt x="638" y="2880"/>
                  <a:pt x="675" y="2779"/>
                  <a:pt x="675" y="2779"/>
                </a:cubicBezTo>
                <a:cubicBezTo>
                  <a:pt x="687" y="2474"/>
                  <a:pt x="697" y="2200"/>
                  <a:pt x="780" y="1909"/>
                </a:cubicBezTo>
                <a:cubicBezTo>
                  <a:pt x="796" y="1854"/>
                  <a:pt x="812" y="1794"/>
                  <a:pt x="840" y="1744"/>
                </a:cubicBezTo>
                <a:cubicBezTo>
                  <a:pt x="916" y="1608"/>
                  <a:pt x="872" y="1696"/>
                  <a:pt x="945" y="1609"/>
                </a:cubicBezTo>
                <a:lnTo>
                  <a:pt x="1005" y="1474"/>
                </a:lnTo>
                <a:cubicBezTo>
                  <a:pt x="1005" y="1474"/>
                  <a:pt x="1005" y="1474"/>
                  <a:pt x="1005" y="1474"/>
                </a:cubicBezTo>
                <a:cubicBezTo>
                  <a:pt x="1033" y="1437"/>
                  <a:pt x="1068" y="1407"/>
                  <a:pt x="1095" y="1369"/>
                </a:cubicBezTo>
                <a:cubicBezTo>
                  <a:pt x="1180" y="1250"/>
                  <a:pt x="1209" y="1108"/>
                  <a:pt x="1365" y="1069"/>
                </a:cubicBezTo>
                <a:cubicBezTo>
                  <a:pt x="1455" y="1074"/>
                  <a:pt x="1545" y="1077"/>
                  <a:pt x="1635" y="1084"/>
                </a:cubicBezTo>
                <a:cubicBezTo>
                  <a:pt x="1675" y="1087"/>
                  <a:pt x="1717" y="1085"/>
                  <a:pt x="1755" y="1099"/>
                </a:cubicBezTo>
                <a:cubicBezTo>
                  <a:pt x="1801" y="1116"/>
                  <a:pt x="1798" y="1161"/>
                  <a:pt x="1830" y="1189"/>
                </a:cubicBezTo>
                <a:cubicBezTo>
                  <a:pt x="1901" y="1252"/>
                  <a:pt x="1905" y="1245"/>
                  <a:pt x="1980" y="1264"/>
                </a:cubicBezTo>
                <a:cubicBezTo>
                  <a:pt x="2149" y="1208"/>
                  <a:pt x="1966" y="1264"/>
                  <a:pt x="2400" y="1234"/>
                </a:cubicBezTo>
                <a:cubicBezTo>
                  <a:pt x="2466" y="1229"/>
                  <a:pt x="2530" y="1211"/>
                  <a:pt x="2595" y="1204"/>
                </a:cubicBezTo>
                <a:cubicBezTo>
                  <a:pt x="2706" y="1167"/>
                  <a:pt x="2823" y="1145"/>
                  <a:pt x="2925" y="1084"/>
                </a:cubicBezTo>
                <a:cubicBezTo>
                  <a:pt x="2997" y="1041"/>
                  <a:pt x="3044" y="1000"/>
                  <a:pt x="3105" y="949"/>
                </a:cubicBezTo>
                <a:cubicBezTo>
                  <a:pt x="3155" y="907"/>
                  <a:pt x="3212" y="880"/>
                  <a:pt x="3255" y="829"/>
                </a:cubicBezTo>
                <a:cubicBezTo>
                  <a:pt x="3267" y="815"/>
                  <a:pt x="3275" y="799"/>
                  <a:pt x="3285" y="784"/>
                </a:cubicBezTo>
                <a:cubicBezTo>
                  <a:pt x="3300" y="764"/>
                  <a:pt x="3314" y="743"/>
                  <a:pt x="3330" y="724"/>
                </a:cubicBezTo>
                <a:cubicBezTo>
                  <a:pt x="3344" y="708"/>
                  <a:pt x="3363" y="696"/>
                  <a:pt x="3375" y="679"/>
                </a:cubicBezTo>
                <a:cubicBezTo>
                  <a:pt x="3388" y="661"/>
                  <a:pt x="3393" y="638"/>
                  <a:pt x="3405" y="619"/>
                </a:cubicBezTo>
                <a:cubicBezTo>
                  <a:pt x="3418" y="598"/>
                  <a:pt x="3435" y="579"/>
                  <a:pt x="3450" y="559"/>
                </a:cubicBezTo>
                <a:cubicBezTo>
                  <a:pt x="3484" y="458"/>
                  <a:pt x="3439" y="581"/>
                  <a:pt x="3510" y="439"/>
                </a:cubicBezTo>
                <a:cubicBezTo>
                  <a:pt x="3532" y="396"/>
                  <a:pt x="3547" y="346"/>
                  <a:pt x="3570" y="304"/>
                </a:cubicBezTo>
                <a:cubicBezTo>
                  <a:pt x="3588" y="272"/>
                  <a:pt x="3630" y="214"/>
                  <a:pt x="3630" y="214"/>
                </a:cubicBezTo>
                <a:cubicBezTo>
                  <a:pt x="3635" y="194"/>
                  <a:pt x="3637" y="173"/>
                  <a:pt x="3645" y="154"/>
                </a:cubicBezTo>
                <a:cubicBezTo>
                  <a:pt x="3702" y="21"/>
                  <a:pt x="3864" y="41"/>
                  <a:pt x="3975" y="4"/>
                </a:cubicBezTo>
                <a:cubicBezTo>
                  <a:pt x="3998" y="7"/>
                  <a:pt x="4124" y="0"/>
                  <a:pt x="4155" y="49"/>
                </a:cubicBezTo>
                <a:cubicBezTo>
                  <a:pt x="4175" y="82"/>
                  <a:pt x="4188" y="158"/>
                  <a:pt x="4200" y="199"/>
                </a:cubicBezTo>
                <a:cubicBezTo>
                  <a:pt x="4209" y="229"/>
                  <a:pt x="4230" y="289"/>
                  <a:pt x="4230" y="289"/>
                </a:cubicBezTo>
                <a:cubicBezTo>
                  <a:pt x="4262" y="510"/>
                  <a:pt x="4219" y="671"/>
                  <a:pt x="4410" y="814"/>
                </a:cubicBezTo>
                <a:cubicBezTo>
                  <a:pt x="4426" y="863"/>
                  <a:pt x="4459" y="899"/>
                  <a:pt x="4470" y="949"/>
                </a:cubicBezTo>
                <a:cubicBezTo>
                  <a:pt x="4476" y="975"/>
                  <a:pt x="4486" y="1067"/>
                  <a:pt x="4500" y="1099"/>
                </a:cubicBezTo>
                <a:cubicBezTo>
                  <a:pt x="4526" y="1159"/>
                  <a:pt x="4536" y="1135"/>
                  <a:pt x="4575" y="1189"/>
                </a:cubicBezTo>
                <a:cubicBezTo>
                  <a:pt x="4605" y="1231"/>
                  <a:pt x="4634" y="1290"/>
                  <a:pt x="4650" y="1339"/>
                </a:cubicBezTo>
                <a:cubicBezTo>
                  <a:pt x="4660" y="1493"/>
                  <a:pt x="4665" y="1652"/>
                  <a:pt x="4695" y="1804"/>
                </a:cubicBezTo>
                <a:cubicBezTo>
                  <a:pt x="4706" y="1857"/>
                  <a:pt x="4719" y="1853"/>
                  <a:pt x="4740" y="1909"/>
                </a:cubicBezTo>
                <a:cubicBezTo>
                  <a:pt x="4753" y="1943"/>
                  <a:pt x="4760" y="1979"/>
                  <a:pt x="4770" y="2014"/>
                </a:cubicBezTo>
                <a:cubicBezTo>
                  <a:pt x="4801" y="2123"/>
                  <a:pt x="4806" y="2185"/>
                  <a:pt x="4890" y="2269"/>
                </a:cubicBezTo>
                <a:cubicBezTo>
                  <a:pt x="4872" y="2361"/>
                  <a:pt x="4862" y="2368"/>
                  <a:pt x="4890" y="2479"/>
                </a:cubicBezTo>
                <a:cubicBezTo>
                  <a:pt x="4898" y="2512"/>
                  <a:pt x="4927" y="2536"/>
                  <a:pt x="4935" y="2569"/>
                </a:cubicBezTo>
                <a:cubicBezTo>
                  <a:pt x="4950" y="2628"/>
                  <a:pt x="4948" y="2691"/>
                  <a:pt x="4965" y="2749"/>
                </a:cubicBezTo>
                <a:cubicBezTo>
                  <a:pt x="4970" y="2766"/>
                  <a:pt x="4988" y="2778"/>
                  <a:pt x="4995" y="2794"/>
                </a:cubicBezTo>
                <a:cubicBezTo>
                  <a:pt x="5032" y="2878"/>
                  <a:pt x="5048" y="2976"/>
                  <a:pt x="5070" y="3064"/>
                </a:cubicBezTo>
                <a:cubicBezTo>
                  <a:pt x="5053" y="3213"/>
                  <a:pt x="5034" y="3284"/>
                  <a:pt x="5055" y="3439"/>
                </a:cubicBezTo>
                <a:cubicBezTo>
                  <a:pt x="5062" y="3488"/>
                  <a:pt x="5099" y="3527"/>
                  <a:pt x="5115" y="3574"/>
                </a:cubicBezTo>
                <a:cubicBezTo>
                  <a:pt x="5126" y="3700"/>
                  <a:pt x="5145" y="3797"/>
                  <a:pt x="5160" y="3919"/>
                </a:cubicBezTo>
                <a:cubicBezTo>
                  <a:pt x="5158" y="3964"/>
                  <a:pt x="5114" y="4351"/>
                  <a:pt x="5145" y="4444"/>
                </a:cubicBezTo>
                <a:cubicBezTo>
                  <a:pt x="5151" y="4461"/>
                  <a:pt x="5175" y="4464"/>
                  <a:pt x="5190" y="4474"/>
                </a:cubicBezTo>
                <a:cubicBezTo>
                  <a:pt x="5241" y="4550"/>
                  <a:pt x="5329" y="4595"/>
                  <a:pt x="5415" y="4624"/>
                </a:cubicBezTo>
                <a:cubicBezTo>
                  <a:pt x="5439" y="4632"/>
                  <a:pt x="5465" y="4632"/>
                  <a:pt x="5490" y="4639"/>
                </a:cubicBezTo>
                <a:cubicBezTo>
                  <a:pt x="5521" y="4647"/>
                  <a:pt x="5580" y="4669"/>
                  <a:pt x="5580" y="4669"/>
                </a:cubicBezTo>
                <a:cubicBezTo>
                  <a:pt x="5563" y="4773"/>
                  <a:pt x="5538" y="4884"/>
                  <a:pt x="5505" y="4984"/>
                </a:cubicBezTo>
                <a:cubicBezTo>
                  <a:pt x="5486" y="5041"/>
                  <a:pt x="5476" y="5130"/>
                  <a:pt x="5415" y="5164"/>
                </a:cubicBezTo>
                <a:cubicBezTo>
                  <a:pt x="5281" y="5238"/>
                  <a:pt x="5107" y="5231"/>
                  <a:pt x="4965" y="5239"/>
                </a:cubicBezTo>
                <a:cubicBezTo>
                  <a:pt x="4851" y="5255"/>
                  <a:pt x="4767" y="5287"/>
                  <a:pt x="4665" y="5329"/>
                </a:cubicBezTo>
                <a:cubicBezTo>
                  <a:pt x="4585" y="5362"/>
                  <a:pt x="4505" y="5374"/>
                  <a:pt x="4425" y="5404"/>
                </a:cubicBezTo>
                <a:cubicBezTo>
                  <a:pt x="4362" y="5427"/>
                  <a:pt x="4283" y="5462"/>
                  <a:pt x="4215" y="5464"/>
                </a:cubicBezTo>
                <a:cubicBezTo>
                  <a:pt x="3780" y="5474"/>
                  <a:pt x="3345" y="5474"/>
                  <a:pt x="2910" y="5479"/>
                </a:cubicBezTo>
                <a:cubicBezTo>
                  <a:pt x="2689" y="5496"/>
                  <a:pt x="2667" y="5506"/>
                  <a:pt x="2415" y="5479"/>
                </a:cubicBezTo>
                <a:cubicBezTo>
                  <a:pt x="2330" y="5470"/>
                  <a:pt x="2240" y="5431"/>
                  <a:pt x="2160" y="5404"/>
                </a:cubicBezTo>
                <a:cubicBezTo>
                  <a:pt x="2101" y="5384"/>
                  <a:pt x="2040" y="5374"/>
                  <a:pt x="1980" y="5359"/>
                </a:cubicBezTo>
                <a:cubicBezTo>
                  <a:pt x="1958" y="5354"/>
                  <a:pt x="1941" y="5336"/>
                  <a:pt x="1920" y="5329"/>
                </a:cubicBezTo>
                <a:cubicBezTo>
                  <a:pt x="1866" y="5311"/>
                  <a:pt x="1784" y="5296"/>
                  <a:pt x="1725" y="5284"/>
                </a:cubicBezTo>
                <a:cubicBezTo>
                  <a:pt x="1648" y="5246"/>
                  <a:pt x="1569" y="5226"/>
                  <a:pt x="1485" y="5209"/>
                </a:cubicBezTo>
                <a:cubicBezTo>
                  <a:pt x="1319" y="5126"/>
                  <a:pt x="1143" y="5036"/>
                  <a:pt x="960" y="4999"/>
                </a:cubicBezTo>
                <a:cubicBezTo>
                  <a:pt x="872" y="4955"/>
                  <a:pt x="921" y="4976"/>
                  <a:pt x="810" y="4939"/>
                </a:cubicBezTo>
                <a:cubicBezTo>
                  <a:pt x="793" y="4933"/>
                  <a:pt x="781" y="4916"/>
                  <a:pt x="765" y="4909"/>
                </a:cubicBezTo>
                <a:cubicBezTo>
                  <a:pt x="736" y="4896"/>
                  <a:pt x="705" y="4889"/>
                  <a:pt x="675" y="4879"/>
                </a:cubicBezTo>
                <a:cubicBezTo>
                  <a:pt x="660" y="4874"/>
                  <a:pt x="630" y="4864"/>
                  <a:pt x="630" y="4864"/>
                </a:cubicBezTo>
                <a:cubicBezTo>
                  <a:pt x="615" y="4849"/>
                  <a:pt x="601" y="4833"/>
                  <a:pt x="585" y="4819"/>
                </a:cubicBezTo>
                <a:cubicBezTo>
                  <a:pt x="542" y="4783"/>
                  <a:pt x="516" y="4789"/>
                  <a:pt x="570" y="4789"/>
                </a:cubicBezTo>
                <a:lnTo>
                  <a:pt x="375" y="4564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03280" y="3040200"/>
            <a:ext cx="5264280" cy="237960"/>
          </a:xfrm>
          <a:custGeom>
            <a:avLst/>
            <a:gdLst/>
            <a:ahLst/>
            <a:rect l="l" t="t" r="r" b="b"/>
            <a:pathLst>
              <a:path w="8289" h="375">
                <a:moveTo>
                  <a:pt x="9" y="180"/>
                </a:moveTo>
                <a:cubicBezTo>
                  <a:pt x="110" y="146"/>
                  <a:pt x="0" y="193"/>
                  <a:pt x="84" y="120"/>
                </a:cubicBezTo>
                <a:cubicBezTo>
                  <a:pt x="155" y="58"/>
                  <a:pt x="208" y="32"/>
                  <a:pt x="294" y="15"/>
                </a:cubicBezTo>
                <a:cubicBezTo>
                  <a:pt x="319" y="20"/>
                  <a:pt x="347" y="17"/>
                  <a:pt x="369" y="30"/>
                </a:cubicBezTo>
                <a:cubicBezTo>
                  <a:pt x="385" y="39"/>
                  <a:pt x="386" y="62"/>
                  <a:pt x="399" y="75"/>
                </a:cubicBezTo>
                <a:cubicBezTo>
                  <a:pt x="434" y="110"/>
                  <a:pt x="458" y="109"/>
                  <a:pt x="504" y="120"/>
                </a:cubicBezTo>
                <a:cubicBezTo>
                  <a:pt x="705" y="111"/>
                  <a:pt x="866" y="94"/>
                  <a:pt x="1059" y="75"/>
                </a:cubicBezTo>
                <a:cubicBezTo>
                  <a:pt x="1094" y="128"/>
                  <a:pt x="1118" y="160"/>
                  <a:pt x="1179" y="180"/>
                </a:cubicBezTo>
                <a:cubicBezTo>
                  <a:pt x="1266" y="137"/>
                  <a:pt x="1324" y="69"/>
                  <a:pt x="1419" y="45"/>
                </a:cubicBezTo>
                <a:cubicBezTo>
                  <a:pt x="1528" y="154"/>
                  <a:pt x="1470" y="119"/>
                  <a:pt x="1584" y="165"/>
                </a:cubicBezTo>
                <a:cubicBezTo>
                  <a:pt x="1749" y="152"/>
                  <a:pt x="1877" y="156"/>
                  <a:pt x="2034" y="195"/>
                </a:cubicBezTo>
                <a:cubicBezTo>
                  <a:pt x="2069" y="190"/>
                  <a:pt x="2105" y="190"/>
                  <a:pt x="2139" y="180"/>
                </a:cubicBezTo>
                <a:cubicBezTo>
                  <a:pt x="2156" y="175"/>
                  <a:pt x="2168" y="157"/>
                  <a:pt x="2184" y="150"/>
                </a:cubicBezTo>
                <a:cubicBezTo>
                  <a:pt x="2213" y="137"/>
                  <a:pt x="2246" y="134"/>
                  <a:pt x="2274" y="120"/>
                </a:cubicBezTo>
                <a:cubicBezTo>
                  <a:pt x="2294" y="110"/>
                  <a:pt x="2314" y="100"/>
                  <a:pt x="2334" y="90"/>
                </a:cubicBezTo>
                <a:cubicBezTo>
                  <a:pt x="2410" y="103"/>
                  <a:pt x="2484" y="116"/>
                  <a:pt x="2559" y="135"/>
                </a:cubicBezTo>
                <a:cubicBezTo>
                  <a:pt x="2589" y="155"/>
                  <a:pt x="2624" y="170"/>
                  <a:pt x="2649" y="195"/>
                </a:cubicBezTo>
                <a:cubicBezTo>
                  <a:pt x="2664" y="210"/>
                  <a:pt x="2676" y="228"/>
                  <a:pt x="2694" y="240"/>
                </a:cubicBezTo>
                <a:cubicBezTo>
                  <a:pt x="2707" y="249"/>
                  <a:pt x="2725" y="248"/>
                  <a:pt x="2739" y="255"/>
                </a:cubicBezTo>
                <a:cubicBezTo>
                  <a:pt x="2755" y="263"/>
                  <a:pt x="2769" y="275"/>
                  <a:pt x="2784" y="285"/>
                </a:cubicBezTo>
                <a:cubicBezTo>
                  <a:pt x="2829" y="280"/>
                  <a:pt x="2876" y="283"/>
                  <a:pt x="2919" y="270"/>
                </a:cubicBezTo>
                <a:cubicBezTo>
                  <a:pt x="3006" y="244"/>
                  <a:pt x="3071" y="187"/>
                  <a:pt x="3159" y="165"/>
                </a:cubicBezTo>
                <a:cubicBezTo>
                  <a:pt x="3296" y="176"/>
                  <a:pt x="3345" y="182"/>
                  <a:pt x="3459" y="210"/>
                </a:cubicBezTo>
                <a:cubicBezTo>
                  <a:pt x="3650" y="197"/>
                  <a:pt x="3824" y="164"/>
                  <a:pt x="4014" y="150"/>
                </a:cubicBezTo>
                <a:cubicBezTo>
                  <a:pt x="4034" y="145"/>
                  <a:pt x="4054" y="141"/>
                  <a:pt x="4074" y="135"/>
                </a:cubicBezTo>
                <a:cubicBezTo>
                  <a:pt x="4089" y="131"/>
                  <a:pt x="4104" y="124"/>
                  <a:pt x="4119" y="120"/>
                </a:cubicBezTo>
                <a:cubicBezTo>
                  <a:pt x="4159" y="109"/>
                  <a:pt x="4239" y="90"/>
                  <a:pt x="4239" y="90"/>
                </a:cubicBezTo>
                <a:cubicBezTo>
                  <a:pt x="4396" y="121"/>
                  <a:pt x="4383" y="118"/>
                  <a:pt x="4599" y="105"/>
                </a:cubicBezTo>
                <a:cubicBezTo>
                  <a:pt x="4603" y="103"/>
                  <a:pt x="4687" y="57"/>
                  <a:pt x="4704" y="60"/>
                </a:cubicBezTo>
                <a:cubicBezTo>
                  <a:pt x="4722" y="63"/>
                  <a:pt x="4733" y="82"/>
                  <a:pt x="4749" y="90"/>
                </a:cubicBezTo>
                <a:cubicBezTo>
                  <a:pt x="4771" y="101"/>
                  <a:pt x="4835" y="115"/>
                  <a:pt x="4854" y="120"/>
                </a:cubicBezTo>
                <a:cubicBezTo>
                  <a:pt x="4924" y="115"/>
                  <a:pt x="4994" y="105"/>
                  <a:pt x="5064" y="105"/>
                </a:cubicBezTo>
                <a:cubicBezTo>
                  <a:pt x="5287" y="105"/>
                  <a:pt x="5067" y="140"/>
                  <a:pt x="5244" y="105"/>
                </a:cubicBezTo>
                <a:cubicBezTo>
                  <a:pt x="5312" y="60"/>
                  <a:pt x="5326" y="58"/>
                  <a:pt x="5409" y="75"/>
                </a:cubicBezTo>
                <a:cubicBezTo>
                  <a:pt x="5427" y="101"/>
                  <a:pt x="5441" y="142"/>
                  <a:pt x="5484" y="135"/>
                </a:cubicBezTo>
                <a:cubicBezTo>
                  <a:pt x="5502" y="132"/>
                  <a:pt x="5511" y="108"/>
                  <a:pt x="5529" y="105"/>
                </a:cubicBezTo>
                <a:cubicBezTo>
                  <a:pt x="5593" y="93"/>
                  <a:pt x="5659" y="95"/>
                  <a:pt x="5724" y="90"/>
                </a:cubicBezTo>
                <a:cubicBezTo>
                  <a:pt x="5739" y="80"/>
                  <a:pt x="5752" y="67"/>
                  <a:pt x="5769" y="60"/>
                </a:cubicBezTo>
                <a:cubicBezTo>
                  <a:pt x="5788" y="52"/>
                  <a:pt x="5811" y="55"/>
                  <a:pt x="5829" y="45"/>
                </a:cubicBezTo>
                <a:cubicBezTo>
                  <a:pt x="5847" y="34"/>
                  <a:pt x="5859" y="15"/>
                  <a:pt x="5874" y="0"/>
                </a:cubicBezTo>
                <a:cubicBezTo>
                  <a:pt x="5910" y="54"/>
                  <a:pt x="5922" y="132"/>
                  <a:pt x="5964" y="180"/>
                </a:cubicBezTo>
                <a:cubicBezTo>
                  <a:pt x="5974" y="192"/>
                  <a:pt x="5994" y="190"/>
                  <a:pt x="6009" y="195"/>
                </a:cubicBezTo>
                <a:cubicBezTo>
                  <a:pt x="6056" y="133"/>
                  <a:pt x="6070" y="88"/>
                  <a:pt x="6099" y="15"/>
                </a:cubicBezTo>
                <a:cubicBezTo>
                  <a:pt x="6118" y="44"/>
                  <a:pt x="6129" y="80"/>
                  <a:pt x="6174" y="75"/>
                </a:cubicBezTo>
                <a:cubicBezTo>
                  <a:pt x="6205" y="72"/>
                  <a:pt x="6264" y="45"/>
                  <a:pt x="6264" y="45"/>
                </a:cubicBezTo>
                <a:cubicBezTo>
                  <a:pt x="6336" y="57"/>
                  <a:pt x="6404" y="74"/>
                  <a:pt x="6474" y="90"/>
                </a:cubicBezTo>
                <a:cubicBezTo>
                  <a:pt x="6524" y="101"/>
                  <a:pt x="6574" y="110"/>
                  <a:pt x="6624" y="120"/>
                </a:cubicBezTo>
                <a:cubicBezTo>
                  <a:pt x="6649" y="125"/>
                  <a:pt x="6699" y="135"/>
                  <a:pt x="6699" y="135"/>
                </a:cubicBezTo>
                <a:cubicBezTo>
                  <a:pt x="6814" y="130"/>
                  <a:pt x="6929" y="120"/>
                  <a:pt x="7044" y="120"/>
                </a:cubicBezTo>
                <a:cubicBezTo>
                  <a:pt x="7090" y="120"/>
                  <a:pt x="7134" y="139"/>
                  <a:pt x="7179" y="150"/>
                </a:cubicBezTo>
                <a:cubicBezTo>
                  <a:pt x="7210" y="158"/>
                  <a:pt x="7269" y="180"/>
                  <a:pt x="7269" y="180"/>
                </a:cubicBezTo>
                <a:cubicBezTo>
                  <a:pt x="7338" y="249"/>
                  <a:pt x="7316" y="252"/>
                  <a:pt x="7404" y="240"/>
                </a:cubicBezTo>
                <a:cubicBezTo>
                  <a:pt x="7464" y="232"/>
                  <a:pt x="7524" y="229"/>
                  <a:pt x="7584" y="225"/>
                </a:cubicBezTo>
                <a:cubicBezTo>
                  <a:pt x="7674" y="219"/>
                  <a:pt x="7764" y="215"/>
                  <a:pt x="7854" y="210"/>
                </a:cubicBezTo>
                <a:cubicBezTo>
                  <a:pt x="7859" y="225"/>
                  <a:pt x="7865" y="240"/>
                  <a:pt x="7869" y="255"/>
                </a:cubicBezTo>
                <a:cubicBezTo>
                  <a:pt x="7875" y="275"/>
                  <a:pt x="7866" y="304"/>
                  <a:pt x="7884" y="315"/>
                </a:cubicBezTo>
                <a:cubicBezTo>
                  <a:pt x="7902" y="326"/>
                  <a:pt x="7924" y="305"/>
                  <a:pt x="7944" y="300"/>
                </a:cubicBezTo>
                <a:cubicBezTo>
                  <a:pt x="7954" y="285"/>
                  <a:pt x="7956" y="259"/>
                  <a:pt x="7974" y="255"/>
                </a:cubicBezTo>
                <a:cubicBezTo>
                  <a:pt x="8081" y="231"/>
                  <a:pt x="8057" y="271"/>
                  <a:pt x="8124" y="300"/>
                </a:cubicBezTo>
                <a:cubicBezTo>
                  <a:pt x="8187" y="327"/>
                  <a:pt x="8237" y="323"/>
                  <a:pt x="8289" y="375"/>
                </a:cubicBezTo>
              </a:path>
            </a:pathLst>
          </a:custGeom>
          <a:noFill/>
          <a:ln w="28440">
            <a:solidFill>
              <a:srgbClr val="0033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60440" y="1785960"/>
            <a:ext cx="857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Ulaz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156280" y="1557360"/>
            <a:ext cx="933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zlazi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1498680" y="2014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8734400">
            <a:off x="4687200" y="24832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031840" y="5824440"/>
            <a:ext cx="3305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Identifikacij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59 -0.15695 C 0.04392 -0.15695 0.08472 -0.08935 0.08472 -0.00509 C 0.08472 0.07893 0.04392 0.14768 -0.0059 0.14768 C -0.05608 0.14768 -0.09636 0.07893 -0.09636 -0.00509 C -0.09636 -0.08935 -0.05608 -0.15695 -0.0059 -0.15695 Z">
                                      <p:cBhvr>
                                        <p:cTn id="73" dur="5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141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84360" y="1341360"/>
            <a:ext cx="7390800" cy="3657240"/>
            <a:chOff x="684360" y="1341360"/>
            <a:chExt cx="7390800" cy="3657240"/>
          </a:xfrm>
        </p:grpSpPr>
        <p:sp>
          <p:nvSpPr>
            <p:cNvPr id="206" name=""/>
            <p:cNvSpPr/>
            <p:nvPr/>
          </p:nvSpPr>
          <p:spPr>
            <a:xfrm>
              <a:off x="1425240" y="1878480"/>
              <a:ext cx="1253160" cy="84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049040" y="3705120"/>
              <a:ext cx="1378440" cy="1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558760" y="2300760"/>
              <a:ext cx="1629000" cy="70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09680" y="3705120"/>
              <a:ext cx="2255400" cy="56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4360" y="1341360"/>
              <a:ext cx="50184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rush Script MT"/>
                </a:rPr>
                <a:t>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Brush Script MT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48400" y="1622520"/>
              <a:ext cx="62676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rush Script MT"/>
                </a:rPr>
                <a:t>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Brush Script MT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4360" y="3730320"/>
              <a:ext cx="37656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rush Script MT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Brush Script MT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97840" y="4294080"/>
              <a:ext cx="626760" cy="70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rush Script MT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Brush Script MT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414520" y="1789560"/>
              <a:ext cx="3394800" cy="3120120"/>
              <a:chOff x="2414520" y="1789560"/>
              <a:chExt cx="3394800" cy="3120120"/>
            </a:xfrm>
          </p:grpSpPr>
          <p:sp>
            <p:nvSpPr>
              <p:cNvPr id="215" name=""/>
              <p:cNvSpPr/>
              <p:nvPr/>
            </p:nvSpPr>
            <p:spPr>
              <a:xfrm>
                <a:off x="3241440" y="2912400"/>
                <a:ext cx="627120" cy="70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rush Script MT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Brush Script MT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06960" y="3589560"/>
                <a:ext cx="538200" cy="1320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3199" y="2132"/>
                    </a:moveTo>
                    <a:lnTo>
                      <a:pt x="0" y="1184"/>
                    </a:lnTo>
                    <a:lnTo>
                      <a:pt x="2294" y="0"/>
                    </a:lnTo>
                    <a:lnTo>
                      <a:pt x="11405" y="0"/>
                    </a:lnTo>
                    <a:lnTo>
                      <a:pt x="13700" y="2369"/>
                    </a:lnTo>
                    <a:lnTo>
                      <a:pt x="15961" y="14241"/>
                    </a:lnTo>
                    <a:lnTo>
                      <a:pt x="18255" y="14241"/>
                    </a:lnTo>
                    <a:lnTo>
                      <a:pt x="18255" y="21362"/>
                    </a:lnTo>
                    <a:lnTo>
                      <a:pt x="19386" y="22546"/>
                    </a:lnTo>
                    <a:lnTo>
                      <a:pt x="19386" y="23731"/>
                    </a:lnTo>
                    <a:lnTo>
                      <a:pt x="20549" y="26114"/>
                    </a:lnTo>
                    <a:lnTo>
                      <a:pt x="25105" y="30866"/>
                    </a:lnTo>
                    <a:lnTo>
                      <a:pt x="28530" y="33235"/>
                    </a:lnTo>
                    <a:lnTo>
                      <a:pt x="39935" y="36788"/>
                    </a:lnTo>
                    <a:lnTo>
                      <a:pt x="42197" y="37987"/>
                    </a:lnTo>
                    <a:lnTo>
                      <a:pt x="43360" y="37987"/>
                    </a:lnTo>
                    <a:lnTo>
                      <a:pt x="43360" y="47476"/>
                    </a:lnTo>
                    <a:lnTo>
                      <a:pt x="41066" y="51029"/>
                    </a:lnTo>
                    <a:lnTo>
                      <a:pt x="41066" y="54597"/>
                    </a:lnTo>
                    <a:lnTo>
                      <a:pt x="39935" y="55781"/>
                    </a:lnTo>
                    <a:lnTo>
                      <a:pt x="39935" y="56965"/>
                    </a:lnTo>
                    <a:lnTo>
                      <a:pt x="38772" y="60533"/>
                    </a:lnTo>
                    <a:lnTo>
                      <a:pt x="38772" y="64086"/>
                    </a:lnTo>
                    <a:lnTo>
                      <a:pt x="36511" y="66469"/>
                    </a:lnTo>
                    <a:lnTo>
                      <a:pt x="36511" y="80711"/>
                    </a:lnTo>
                    <a:lnTo>
                      <a:pt x="37641" y="83079"/>
                    </a:lnTo>
                    <a:lnTo>
                      <a:pt x="37641" y="92583"/>
                    </a:lnTo>
                    <a:lnTo>
                      <a:pt x="39935" y="94952"/>
                    </a:lnTo>
                    <a:lnTo>
                      <a:pt x="39935" y="97321"/>
                    </a:lnTo>
                    <a:lnTo>
                      <a:pt x="41066" y="98520"/>
                    </a:lnTo>
                    <a:lnTo>
                      <a:pt x="41066" y="99704"/>
                    </a:lnTo>
                    <a:lnTo>
                      <a:pt x="42197" y="100888"/>
                    </a:lnTo>
                    <a:lnTo>
                      <a:pt x="42197" y="106825"/>
                    </a:lnTo>
                    <a:lnTo>
                      <a:pt x="47011" y="10467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492000" y="4037040"/>
                <a:ext cx="627120" cy="5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rush Script MT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Brush Script MT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69720" y="3756600"/>
                <a:ext cx="627120" cy="70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rush Script MT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Brush Script MT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19160" y="2490840"/>
                <a:ext cx="501840" cy="70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rush Script MT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Brush Script MT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3606840" y="2481120"/>
                <a:ext cx="376560" cy="42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98040" y="3419280"/>
                <a:ext cx="376560" cy="42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243320" y="3334320"/>
                <a:ext cx="25128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68600" y="4320360"/>
                <a:ext cx="5018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20280" y="3334320"/>
                <a:ext cx="251280" cy="42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414520" y="1789560"/>
                <a:ext cx="3394800" cy="3081960"/>
              </a:xfrm>
              <a:custGeom>
                <a:avLst/>
                <a:gdLst/>
                <a:ahLst/>
                <a:rect l="l" t="t" r="r" b="b"/>
                <a:pathLst>
                  <a:path w="3903" h="3154">
                    <a:moveTo>
                      <a:pt x="165" y="2974"/>
                    </a:moveTo>
                    <a:cubicBezTo>
                      <a:pt x="127" y="2861"/>
                      <a:pt x="178" y="3000"/>
                      <a:pt x="120" y="2884"/>
                    </a:cubicBezTo>
                    <a:cubicBezTo>
                      <a:pt x="101" y="2846"/>
                      <a:pt x="91" y="2804"/>
                      <a:pt x="75" y="2764"/>
                    </a:cubicBezTo>
                    <a:cubicBezTo>
                      <a:pt x="50" y="2512"/>
                      <a:pt x="81" y="2257"/>
                      <a:pt x="0" y="2014"/>
                    </a:cubicBezTo>
                    <a:cubicBezTo>
                      <a:pt x="36" y="1907"/>
                      <a:pt x="38" y="1778"/>
                      <a:pt x="105" y="1684"/>
                    </a:cubicBezTo>
                    <a:cubicBezTo>
                      <a:pt x="117" y="1667"/>
                      <a:pt x="136" y="1655"/>
                      <a:pt x="150" y="1639"/>
                    </a:cubicBezTo>
                    <a:cubicBezTo>
                      <a:pt x="212" y="1564"/>
                      <a:pt x="142" y="1619"/>
                      <a:pt x="225" y="1564"/>
                    </a:cubicBezTo>
                    <a:cubicBezTo>
                      <a:pt x="255" y="1519"/>
                      <a:pt x="291" y="1477"/>
                      <a:pt x="315" y="1429"/>
                    </a:cubicBezTo>
                    <a:cubicBezTo>
                      <a:pt x="325" y="1409"/>
                      <a:pt x="336" y="1390"/>
                      <a:pt x="345" y="1369"/>
                    </a:cubicBezTo>
                    <a:cubicBezTo>
                      <a:pt x="351" y="1354"/>
                      <a:pt x="374" y="1331"/>
                      <a:pt x="360" y="1324"/>
                    </a:cubicBezTo>
                    <a:cubicBezTo>
                      <a:pt x="337" y="1313"/>
                      <a:pt x="310" y="1334"/>
                      <a:pt x="285" y="1339"/>
                    </a:cubicBezTo>
                    <a:cubicBezTo>
                      <a:pt x="323" y="1224"/>
                      <a:pt x="285" y="1359"/>
                      <a:pt x="285" y="1114"/>
                    </a:cubicBezTo>
                    <a:cubicBezTo>
                      <a:pt x="285" y="1093"/>
                      <a:pt x="296" y="1074"/>
                      <a:pt x="300" y="1054"/>
                    </a:cubicBezTo>
                    <a:cubicBezTo>
                      <a:pt x="322" y="953"/>
                      <a:pt x="309" y="896"/>
                      <a:pt x="420" y="859"/>
                    </a:cubicBezTo>
                    <a:cubicBezTo>
                      <a:pt x="435" y="844"/>
                      <a:pt x="446" y="824"/>
                      <a:pt x="465" y="814"/>
                    </a:cubicBezTo>
                    <a:cubicBezTo>
                      <a:pt x="570" y="756"/>
                      <a:pt x="769" y="732"/>
                      <a:pt x="885" y="709"/>
                    </a:cubicBezTo>
                    <a:cubicBezTo>
                      <a:pt x="940" y="698"/>
                      <a:pt x="1035" y="679"/>
                      <a:pt x="1080" y="649"/>
                    </a:cubicBezTo>
                    <a:cubicBezTo>
                      <a:pt x="1138" y="610"/>
                      <a:pt x="1108" y="625"/>
                      <a:pt x="1170" y="604"/>
                    </a:cubicBezTo>
                    <a:cubicBezTo>
                      <a:pt x="1224" y="550"/>
                      <a:pt x="1286" y="497"/>
                      <a:pt x="1350" y="454"/>
                    </a:cubicBezTo>
                    <a:cubicBezTo>
                      <a:pt x="1403" y="375"/>
                      <a:pt x="1462" y="312"/>
                      <a:pt x="1530" y="244"/>
                    </a:cubicBezTo>
                    <a:cubicBezTo>
                      <a:pt x="1614" y="160"/>
                      <a:pt x="1629" y="46"/>
                      <a:pt x="1755" y="4"/>
                    </a:cubicBezTo>
                    <a:cubicBezTo>
                      <a:pt x="1939" y="12"/>
                      <a:pt x="2073" y="0"/>
                      <a:pt x="2235" y="49"/>
                    </a:cubicBezTo>
                    <a:cubicBezTo>
                      <a:pt x="2261" y="57"/>
                      <a:pt x="2284" y="72"/>
                      <a:pt x="2310" y="79"/>
                    </a:cubicBezTo>
                    <a:cubicBezTo>
                      <a:pt x="2359" y="92"/>
                      <a:pt x="2460" y="109"/>
                      <a:pt x="2460" y="109"/>
                    </a:cubicBezTo>
                    <a:cubicBezTo>
                      <a:pt x="2538" y="148"/>
                      <a:pt x="2597" y="156"/>
                      <a:pt x="2685" y="169"/>
                    </a:cubicBezTo>
                    <a:cubicBezTo>
                      <a:pt x="2908" y="243"/>
                      <a:pt x="3200" y="182"/>
                      <a:pt x="3420" y="109"/>
                    </a:cubicBezTo>
                    <a:cubicBezTo>
                      <a:pt x="3530" y="146"/>
                      <a:pt x="3488" y="117"/>
                      <a:pt x="3555" y="184"/>
                    </a:cubicBezTo>
                    <a:cubicBezTo>
                      <a:pt x="3560" y="204"/>
                      <a:pt x="3562" y="225"/>
                      <a:pt x="3570" y="244"/>
                    </a:cubicBezTo>
                    <a:cubicBezTo>
                      <a:pt x="3577" y="261"/>
                      <a:pt x="3599" y="271"/>
                      <a:pt x="3600" y="289"/>
                    </a:cubicBezTo>
                    <a:cubicBezTo>
                      <a:pt x="3609" y="461"/>
                      <a:pt x="3569" y="656"/>
                      <a:pt x="3555" y="829"/>
                    </a:cubicBezTo>
                    <a:cubicBezTo>
                      <a:pt x="3560" y="909"/>
                      <a:pt x="3562" y="989"/>
                      <a:pt x="3570" y="1069"/>
                    </a:cubicBezTo>
                    <a:cubicBezTo>
                      <a:pt x="3573" y="1099"/>
                      <a:pt x="3623" y="1291"/>
                      <a:pt x="3645" y="1324"/>
                    </a:cubicBezTo>
                    <a:cubicBezTo>
                      <a:pt x="3684" y="1382"/>
                      <a:pt x="3669" y="1352"/>
                      <a:pt x="3690" y="1414"/>
                    </a:cubicBezTo>
                    <a:cubicBezTo>
                      <a:pt x="3676" y="1498"/>
                      <a:pt x="3609" y="1720"/>
                      <a:pt x="3690" y="1774"/>
                    </a:cubicBezTo>
                    <a:cubicBezTo>
                      <a:pt x="3720" y="1794"/>
                      <a:pt x="3750" y="1814"/>
                      <a:pt x="3780" y="1834"/>
                    </a:cubicBezTo>
                    <a:cubicBezTo>
                      <a:pt x="3806" y="1852"/>
                      <a:pt x="3870" y="1864"/>
                      <a:pt x="3870" y="1864"/>
                    </a:cubicBezTo>
                    <a:cubicBezTo>
                      <a:pt x="3880" y="1894"/>
                      <a:pt x="3903" y="1923"/>
                      <a:pt x="3900" y="1954"/>
                    </a:cubicBezTo>
                    <a:cubicBezTo>
                      <a:pt x="3889" y="2080"/>
                      <a:pt x="3880" y="2194"/>
                      <a:pt x="3810" y="2299"/>
                    </a:cubicBezTo>
                    <a:cubicBezTo>
                      <a:pt x="3795" y="2360"/>
                      <a:pt x="3799" y="2363"/>
                      <a:pt x="3765" y="2419"/>
                    </a:cubicBezTo>
                    <a:cubicBezTo>
                      <a:pt x="3746" y="2450"/>
                      <a:pt x="3716" y="2475"/>
                      <a:pt x="3705" y="2509"/>
                    </a:cubicBezTo>
                    <a:cubicBezTo>
                      <a:pt x="3679" y="2588"/>
                      <a:pt x="3622" y="2659"/>
                      <a:pt x="3585" y="2734"/>
                    </a:cubicBezTo>
                    <a:cubicBezTo>
                      <a:pt x="3563" y="2778"/>
                      <a:pt x="3542" y="2858"/>
                      <a:pt x="3495" y="2884"/>
                    </a:cubicBezTo>
                    <a:cubicBezTo>
                      <a:pt x="3468" y="2899"/>
                      <a:pt x="3435" y="2897"/>
                      <a:pt x="3405" y="2899"/>
                    </a:cubicBezTo>
                    <a:cubicBezTo>
                      <a:pt x="3240" y="2907"/>
                      <a:pt x="3075" y="2909"/>
                      <a:pt x="2910" y="2914"/>
                    </a:cubicBezTo>
                    <a:cubicBezTo>
                      <a:pt x="2733" y="2900"/>
                      <a:pt x="2708" y="2888"/>
                      <a:pt x="2535" y="2914"/>
                    </a:cubicBezTo>
                    <a:cubicBezTo>
                      <a:pt x="2432" y="2929"/>
                      <a:pt x="2325" y="2969"/>
                      <a:pt x="2235" y="3019"/>
                    </a:cubicBezTo>
                    <a:cubicBezTo>
                      <a:pt x="2203" y="3037"/>
                      <a:pt x="2179" y="3068"/>
                      <a:pt x="2145" y="3079"/>
                    </a:cubicBezTo>
                    <a:cubicBezTo>
                      <a:pt x="2078" y="3101"/>
                      <a:pt x="2017" y="3132"/>
                      <a:pt x="1950" y="3154"/>
                    </a:cubicBezTo>
                    <a:cubicBezTo>
                      <a:pt x="1798" y="3116"/>
                      <a:pt x="1640" y="3116"/>
                      <a:pt x="1485" y="3094"/>
                    </a:cubicBezTo>
                    <a:cubicBezTo>
                      <a:pt x="1353" y="3050"/>
                      <a:pt x="1346" y="3073"/>
                      <a:pt x="1200" y="3094"/>
                    </a:cubicBezTo>
                    <a:cubicBezTo>
                      <a:pt x="1164" y="3106"/>
                      <a:pt x="1116" y="3124"/>
                      <a:pt x="1080" y="3124"/>
                    </a:cubicBezTo>
                    <a:cubicBezTo>
                      <a:pt x="1009" y="3124"/>
                      <a:pt x="951" y="3082"/>
                      <a:pt x="885" y="3064"/>
                    </a:cubicBezTo>
                    <a:cubicBezTo>
                      <a:pt x="758" y="3030"/>
                      <a:pt x="595" y="2990"/>
                      <a:pt x="465" y="2974"/>
                    </a:cubicBezTo>
                    <a:cubicBezTo>
                      <a:pt x="420" y="2979"/>
                      <a:pt x="374" y="2980"/>
                      <a:pt x="330" y="2989"/>
                    </a:cubicBezTo>
                    <a:cubicBezTo>
                      <a:pt x="299" y="2995"/>
                      <a:pt x="240" y="3019"/>
                      <a:pt x="240" y="3019"/>
                    </a:cubicBezTo>
                    <a:cubicBezTo>
                      <a:pt x="155" y="3002"/>
                      <a:pt x="165" y="3029"/>
                      <a:pt x="165" y="2974"/>
                    </a:cubicBezTo>
                    <a:close/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18560" y="2189160"/>
                <a:ext cx="1608120" cy="1827360"/>
              </a:xfrm>
              <a:custGeom>
                <a:avLst/>
                <a:gdLst/>
                <a:ahLst/>
                <a:rect l="l" t="t" r="r" b="b"/>
                <a:pathLst>
                  <a:path w="1849" h="1870">
                    <a:moveTo>
                      <a:pt x="0" y="1870"/>
                    </a:moveTo>
                    <a:cubicBezTo>
                      <a:pt x="46" y="1855"/>
                      <a:pt x="92" y="1832"/>
                      <a:pt x="135" y="1810"/>
                    </a:cubicBezTo>
                    <a:cubicBezTo>
                      <a:pt x="151" y="1802"/>
                      <a:pt x="162" y="1784"/>
                      <a:pt x="180" y="1780"/>
                    </a:cubicBezTo>
                    <a:cubicBezTo>
                      <a:pt x="229" y="1769"/>
                      <a:pt x="280" y="1770"/>
                      <a:pt x="330" y="1765"/>
                    </a:cubicBezTo>
                    <a:cubicBezTo>
                      <a:pt x="471" y="1800"/>
                      <a:pt x="533" y="1789"/>
                      <a:pt x="675" y="1765"/>
                    </a:cubicBezTo>
                    <a:cubicBezTo>
                      <a:pt x="751" y="1715"/>
                      <a:pt x="785" y="1685"/>
                      <a:pt x="840" y="1615"/>
                    </a:cubicBezTo>
                    <a:cubicBezTo>
                      <a:pt x="862" y="1587"/>
                      <a:pt x="880" y="1555"/>
                      <a:pt x="900" y="1525"/>
                    </a:cubicBezTo>
                    <a:cubicBezTo>
                      <a:pt x="910" y="1510"/>
                      <a:pt x="912" y="1481"/>
                      <a:pt x="930" y="1480"/>
                    </a:cubicBezTo>
                    <a:cubicBezTo>
                      <a:pt x="1138" y="1464"/>
                      <a:pt x="1339" y="1428"/>
                      <a:pt x="1545" y="1405"/>
                    </a:cubicBezTo>
                    <a:cubicBezTo>
                      <a:pt x="1611" y="1361"/>
                      <a:pt x="1646" y="1298"/>
                      <a:pt x="1710" y="1255"/>
                    </a:cubicBezTo>
                    <a:cubicBezTo>
                      <a:pt x="1715" y="1247"/>
                      <a:pt x="1784" y="1167"/>
                      <a:pt x="1785" y="1165"/>
                    </a:cubicBezTo>
                    <a:cubicBezTo>
                      <a:pt x="1805" y="1135"/>
                      <a:pt x="1833" y="1052"/>
                      <a:pt x="1845" y="1015"/>
                    </a:cubicBezTo>
                    <a:cubicBezTo>
                      <a:pt x="1827" y="803"/>
                      <a:pt x="1849" y="892"/>
                      <a:pt x="1800" y="745"/>
                    </a:cubicBezTo>
                    <a:cubicBezTo>
                      <a:pt x="1795" y="730"/>
                      <a:pt x="1769" y="737"/>
                      <a:pt x="1755" y="730"/>
                    </a:cubicBezTo>
                    <a:cubicBezTo>
                      <a:pt x="1739" y="722"/>
                      <a:pt x="1726" y="707"/>
                      <a:pt x="1710" y="700"/>
                    </a:cubicBezTo>
                    <a:cubicBezTo>
                      <a:pt x="1681" y="687"/>
                      <a:pt x="1620" y="670"/>
                      <a:pt x="1620" y="670"/>
                    </a:cubicBezTo>
                    <a:cubicBezTo>
                      <a:pt x="1610" y="655"/>
                      <a:pt x="1604" y="636"/>
                      <a:pt x="1590" y="625"/>
                    </a:cubicBezTo>
                    <a:cubicBezTo>
                      <a:pt x="1578" y="615"/>
                      <a:pt x="1554" y="623"/>
                      <a:pt x="1545" y="610"/>
                    </a:cubicBezTo>
                    <a:cubicBezTo>
                      <a:pt x="1527" y="584"/>
                      <a:pt x="1525" y="550"/>
                      <a:pt x="1515" y="520"/>
                    </a:cubicBezTo>
                    <a:cubicBezTo>
                      <a:pt x="1509" y="503"/>
                      <a:pt x="1495" y="490"/>
                      <a:pt x="1485" y="475"/>
                    </a:cubicBezTo>
                    <a:cubicBezTo>
                      <a:pt x="1469" y="409"/>
                      <a:pt x="1438" y="346"/>
                      <a:pt x="1425" y="280"/>
                    </a:cubicBezTo>
                    <a:cubicBezTo>
                      <a:pt x="1421" y="259"/>
                      <a:pt x="1409" y="186"/>
                      <a:pt x="1395" y="160"/>
                    </a:cubicBezTo>
                    <a:cubicBezTo>
                      <a:pt x="1377" y="128"/>
                      <a:pt x="1355" y="100"/>
                      <a:pt x="1335" y="70"/>
                    </a:cubicBezTo>
                    <a:cubicBezTo>
                      <a:pt x="1289" y="0"/>
                      <a:pt x="1354" y="42"/>
                      <a:pt x="1290" y="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097520" y="3210480"/>
                <a:ext cx="1487160" cy="513000"/>
              </a:xfrm>
              <a:custGeom>
                <a:avLst/>
                <a:gdLst/>
                <a:ahLst/>
                <a:rect l="l" t="t" r="r" b="b"/>
                <a:pathLst>
                  <a:path w="1710" h="525">
                    <a:moveTo>
                      <a:pt x="0" y="0"/>
                    </a:moveTo>
                    <a:cubicBezTo>
                      <a:pt x="51" y="34"/>
                      <a:pt x="92" y="71"/>
                      <a:pt x="150" y="90"/>
                    </a:cubicBezTo>
                    <a:cubicBezTo>
                      <a:pt x="125" y="213"/>
                      <a:pt x="153" y="273"/>
                      <a:pt x="240" y="360"/>
                    </a:cubicBezTo>
                    <a:cubicBezTo>
                      <a:pt x="270" y="451"/>
                      <a:pt x="351" y="446"/>
                      <a:pt x="435" y="465"/>
                    </a:cubicBezTo>
                    <a:cubicBezTo>
                      <a:pt x="610" y="504"/>
                      <a:pt x="797" y="510"/>
                      <a:pt x="975" y="525"/>
                    </a:cubicBezTo>
                    <a:cubicBezTo>
                      <a:pt x="1054" y="512"/>
                      <a:pt x="1124" y="490"/>
                      <a:pt x="1200" y="465"/>
                    </a:cubicBezTo>
                    <a:cubicBezTo>
                      <a:pt x="1234" y="454"/>
                      <a:pt x="1260" y="425"/>
                      <a:pt x="1290" y="405"/>
                    </a:cubicBezTo>
                    <a:cubicBezTo>
                      <a:pt x="1305" y="395"/>
                      <a:pt x="1335" y="375"/>
                      <a:pt x="1335" y="375"/>
                    </a:cubicBezTo>
                    <a:cubicBezTo>
                      <a:pt x="1395" y="285"/>
                      <a:pt x="1386" y="273"/>
                      <a:pt x="1485" y="240"/>
                    </a:cubicBezTo>
                    <a:cubicBezTo>
                      <a:pt x="1524" y="201"/>
                      <a:pt x="1566" y="153"/>
                      <a:pt x="1620" y="135"/>
                    </a:cubicBezTo>
                    <a:cubicBezTo>
                      <a:pt x="1635" y="130"/>
                      <a:pt x="1651" y="127"/>
                      <a:pt x="1665" y="120"/>
                    </a:cubicBezTo>
                    <a:cubicBezTo>
                      <a:pt x="1681" y="112"/>
                      <a:pt x="1710" y="90"/>
                      <a:pt x="1710" y="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28080" y="3708720"/>
                <a:ext cx="101520" cy="952560"/>
              </a:xfrm>
              <a:custGeom>
                <a:avLst/>
                <a:gdLst/>
                <a:ahLst/>
                <a:rect l="l" t="t" r="r" b="b"/>
                <a:pathLst>
                  <a:path w="117" h="975">
                    <a:moveTo>
                      <a:pt x="75" y="975"/>
                    </a:moveTo>
                    <a:cubicBezTo>
                      <a:pt x="91" y="845"/>
                      <a:pt x="117" y="772"/>
                      <a:pt x="75" y="645"/>
                    </a:cubicBezTo>
                    <a:cubicBezTo>
                      <a:pt x="73" y="606"/>
                      <a:pt x="63" y="316"/>
                      <a:pt x="45" y="225"/>
                    </a:cubicBezTo>
                    <a:cubicBezTo>
                      <a:pt x="24" y="120"/>
                      <a:pt x="0" y="10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848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i="1" lang="sr-Latn-CS" sz="3200" spc="-1" strike="noStrike">
                <a:solidFill>
                  <a:srgbClr val="cc9900"/>
                </a:solidFill>
                <a:latin typeface="Arial Black"/>
              </a:rPr>
              <a:t>Dekompozicija problema I- nivo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227520"/>
            <a:ext cx="8001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Taksonomija obrazovanja-13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1" name="">
            <a:hlinkClick r:id="rId1"/>
          </p:cNvPr>
          <p:cNvSpPr/>
          <p:nvPr/>
        </p:nvSpPr>
        <p:spPr>
          <a:xfrm>
            <a:off x="380880" y="4565520"/>
            <a:ext cx="7925040" cy="581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54675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             N             A             NJ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2"/>
          </p:cNvPr>
          <p:cNvSpPr/>
          <p:nvPr/>
        </p:nvSpPr>
        <p:spPr>
          <a:xfrm>
            <a:off x="762120" y="3925800"/>
            <a:ext cx="7086600" cy="5814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   A   Z   U   M   E   V   A   NJ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3"/>
          </p:cNvPr>
          <p:cNvSpPr/>
          <p:nvPr/>
        </p:nvSpPr>
        <p:spPr>
          <a:xfrm>
            <a:off x="1143000" y="3287880"/>
            <a:ext cx="6324480" cy="5814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    R    I    M    E    N 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2649600"/>
            <a:ext cx="5638680" cy="581400"/>
          </a:xfrm>
          <a:prstGeom prst="rect">
            <a:avLst/>
          </a:prstGeom>
          <a:solidFill>
            <a:srgbClr val="ff0066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   N   A   L  I  Z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2009880"/>
            <a:ext cx="4724280" cy="58140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 I N T E Z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4"/>
          </p:cNvPr>
          <p:cNvSpPr/>
          <p:nvPr/>
        </p:nvSpPr>
        <p:spPr>
          <a:xfrm>
            <a:off x="2438280" y="1371600"/>
            <a:ext cx="3505320" cy="5814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 C E N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032360" y="1541520"/>
            <a:ext cx="5111640" cy="5317920"/>
            <a:chOff x="4032360" y="1541520"/>
            <a:chExt cx="5111640" cy="5317920"/>
          </a:xfrm>
        </p:grpSpPr>
        <p:pic>
          <p:nvPicPr>
            <p:cNvPr id="238" name="" descr=""/>
            <p:cNvPicPr/>
            <p:nvPr/>
          </p:nvPicPr>
          <p:blipFill>
            <a:blip r:embed="rId5"/>
            <a:stretch/>
          </p:blipFill>
          <p:spPr>
            <a:xfrm>
              <a:off x="4032360" y="1613520"/>
              <a:ext cx="5111640" cy="52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153480" y="6338880"/>
              <a:ext cx="22507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8000" indent="-37800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anj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61960" y="4762800"/>
              <a:ext cx="2584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8000" indent="-37800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hvatanj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1120" y="3330360"/>
              <a:ext cx="25869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8000" indent="-37800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Analiz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25120" y="4115880"/>
              <a:ext cx="2593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8000" indent="-37800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Prime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61520" y="2401200"/>
              <a:ext cx="2578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8000" indent="-378000"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intez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52360" y="1541520"/>
              <a:ext cx="25812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8000" indent="-378000"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Oce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3300"/>
                </a:solidFill>
                <a:latin typeface="Arial Black"/>
              </a:rPr>
              <a:t>План и програм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125360"/>
            <a:ext cx="8136000" cy="5435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иљ предмета (2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0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еративно и аналитичко-статистичко информисањ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0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формациони аспекти планирања, распоређивања снага и средстава и контрола (експертни системи)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0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д полиције у условима интензивног развоја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нтернета-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0200" indent="-4572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Могућност злоупотреб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информационих технологиј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0200" indent="-457200" algn="just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cc33"/>
                </a:solidFill>
                <a:latin typeface="Times New Roman"/>
              </a:rPr>
              <a:t>Заштита од злоупотреб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информационих технологиј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6212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379440"/>
            <a:ext cx="822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i="1" lang="sr-Latn-CS" sz="2800" spc="-1" strike="noStrike">
                <a:solidFill>
                  <a:srgbClr val="cc9900"/>
                </a:solidFill>
                <a:latin typeface="Arial Black"/>
              </a:rPr>
              <a:t>Dekompozicija problema krajnji - nivo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00000" y="1341360"/>
            <a:ext cx="7239240" cy="4572000"/>
            <a:chOff x="900000" y="1341360"/>
            <a:chExt cx="7239240" cy="4572000"/>
          </a:xfrm>
        </p:grpSpPr>
        <p:sp>
          <p:nvSpPr>
            <p:cNvPr id="249" name=""/>
            <p:cNvSpPr/>
            <p:nvPr/>
          </p:nvSpPr>
          <p:spPr>
            <a:xfrm>
              <a:off x="3421800" y="1341360"/>
              <a:ext cx="2540520" cy="505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28360" y="2509560"/>
              <a:ext cx="1572840" cy="37944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Brush Script MT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42760" y="2509200"/>
              <a:ext cx="1451880" cy="37944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Brush Script MT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14880" y="2509200"/>
              <a:ext cx="133092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Brush Script MT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66400" y="2509200"/>
              <a:ext cx="1330920" cy="37944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Brush Script MT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575080" y="1859400"/>
              <a:ext cx="1572840" cy="63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389480" y="1859400"/>
              <a:ext cx="720" cy="63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72960" y="1859400"/>
              <a:ext cx="605520" cy="63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98720" y="1859400"/>
              <a:ext cx="1451880" cy="63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44880" y="3286080"/>
              <a:ext cx="847440" cy="37980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Brush Script MT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12560" y="3286080"/>
              <a:ext cx="726120" cy="37980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Brush Script MT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58920" y="3285360"/>
              <a:ext cx="48456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Brush Script MT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728360" y="2894400"/>
              <a:ext cx="48456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54480" y="2894400"/>
              <a:ext cx="12132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37960" y="2894400"/>
              <a:ext cx="36324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63720" y="3286080"/>
              <a:ext cx="605520" cy="379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Brush Script MT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89480" y="3286080"/>
              <a:ext cx="605160" cy="37980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Brush Script MT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82560" y="3286080"/>
              <a:ext cx="605160" cy="37980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Brush Script MT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07960" y="3285360"/>
              <a:ext cx="605520" cy="37944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Brush Script MT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33720" y="3286080"/>
              <a:ext cx="605520" cy="379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Brush Script MT"/>
                </a:rPr>
                <a:t>4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905280" y="2894400"/>
              <a:ext cx="12168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1400" y="2894400"/>
              <a:ext cx="12132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445080" y="2894400"/>
              <a:ext cx="36324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170840" y="2894400"/>
              <a:ext cx="72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33720" y="2894400"/>
              <a:ext cx="36360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3920" y="4061520"/>
              <a:ext cx="48456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Brush Script MT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28360" y="4062240"/>
              <a:ext cx="484560" cy="37944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Brush Script MT"/>
                </a:rPr>
                <a:t>1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365840" y="3677400"/>
              <a:ext cx="24264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28360" y="3677400"/>
              <a:ext cx="24264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33520" y="4062960"/>
              <a:ext cx="484200" cy="379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Brush Script MT"/>
                </a:rPr>
                <a:t>1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37960" y="4061520"/>
              <a:ext cx="484560" cy="37944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Brush Script MT"/>
                </a:rPr>
                <a:t>1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454480" y="3677400"/>
              <a:ext cx="720" cy="37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96040" y="3677400"/>
              <a:ext cx="484200" cy="37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23920" y="4713120"/>
              <a:ext cx="48456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11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486800" y="4454280"/>
              <a:ext cx="363600" cy="25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28360" y="4712400"/>
              <a:ext cx="484560" cy="37944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11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69920" y="4454280"/>
              <a:ext cx="1080" cy="25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33520" y="4713120"/>
              <a:ext cx="48420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11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91600" y="4454280"/>
              <a:ext cx="484200" cy="25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37960" y="4713120"/>
              <a:ext cx="48456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12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058560" y="4454280"/>
              <a:ext cx="121320" cy="25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42760" y="4713120"/>
              <a:ext cx="48456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12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00840" y="4454280"/>
              <a:ext cx="484560" cy="25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26600" y="4062600"/>
              <a:ext cx="48420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Brush Script MT"/>
                </a:rPr>
                <a:t>2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268160" y="3677400"/>
              <a:ext cx="242280" cy="37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31400" y="4062600"/>
              <a:ext cx="484200" cy="37944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Brush Script MT"/>
                </a:rPr>
                <a:t>2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52360" y="3677400"/>
              <a:ext cx="121320" cy="37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47560" y="4713120"/>
              <a:ext cx="484200" cy="37944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22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389120" y="4454280"/>
              <a:ext cx="363240" cy="25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00000" y="5492880"/>
              <a:ext cx="60768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112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5240" y="5492520"/>
              <a:ext cx="60444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112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10840" y="5492520"/>
              <a:ext cx="68256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112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16880" y="5492520"/>
              <a:ext cx="604800" cy="420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112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84680" y="5490000"/>
              <a:ext cx="60516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222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0440" y="5491080"/>
              <a:ext cx="60552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222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52360" y="4713120"/>
              <a:ext cx="48456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22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56800" y="4713120"/>
              <a:ext cx="48456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22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77760" y="4061160"/>
              <a:ext cx="484560" cy="379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Brush Script MT"/>
                </a:rPr>
                <a:t>4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03520" y="4062240"/>
              <a:ext cx="48420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Brush Script MT"/>
                </a:rPr>
                <a:t>4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07960" y="4062240"/>
              <a:ext cx="484560" cy="379440"/>
            </a:xfrm>
            <a:prstGeom prst="rect">
              <a:avLst/>
            </a:prstGeom>
            <a:solidFill>
              <a:srgbClr val="e5e5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Brush Script MT"/>
                </a:rPr>
                <a:t>4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33720" y="4061160"/>
              <a:ext cx="484560" cy="379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4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719680" y="3677400"/>
              <a:ext cx="48420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45440" y="3677400"/>
              <a:ext cx="72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049880" y="3677400"/>
              <a:ext cx="12168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91800" y="3677400"/>
              <a:ext cx="48456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72960" y="4454280"/>
              <a:ext cx="12168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93920" y="4454280"/>
              <a:ext cx="60552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026240" y="5097960"/>
              <a:ext cx="242280" cy="37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89480" y="5097960"/>
              <a:ext cx="363240" cy="37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365840" y="5097960"/>
              <a:ext cx="484200" cy="37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849320" y="5097960"/>
              <a:ext cx="121320" cy="37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70640" y="5097960"/>
              <a:ext cx="642240" cy="3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91600" y="5097960"/>
              <a:ext cx="1327680" cy="3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24480" y="4713120"/>
              <a:ext cx="48420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42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28920" y="4713120"/>
              <a:ext cx="48456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42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33720" y="4713120"/>
              <a:ext cx="484560" cy="37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rush Script MT"/>
                </a:rPr>
                <a:t>P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Brush Script MT"/>
                </a:rPr>
                <a:t>42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566040" y="4454280"/>
              <a:ext cx="36324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49880" y="4454280"/>
              <a:ext cx="12168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70840" y="4454280"/>
              <a:ext cx="605520" cy="25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798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Njegovo veli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č</a:t>
            </a: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anstvo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 – Računar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6212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698920" y="5854680"/>
            <a:ext cx="31683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Kako ga vidim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76520" y="1295280"/>
            <a:ext cx="5410080" cy="4187880"/>
            <a:chOff x="1676520" y="1295280"/>
            <a:chExt cx="5410080" cy="4187880"/>
          </a:xfrm>
        </p:grpSpPr>
        <p:sp>
          <p:nvSpPr>
            <p:cNvPr id="333" name=""/>
            <p:cNvSpPr txBox="1"/>
            <p:nvPr/>
          </p:nvSpPr>
          <p:spPr>
            <a:xfrm>
              <a:off x="3059280" y="3213000"/>
              <a:ext cx="1825560" cy="96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Računa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46480" y="1951200"/>
              <a:ext cx="3395520" cy="2947680"/>
            </a:xfrm>
            <a:custGeom>
              <a:avLst/>
              <a:gdLst/>
              <a:ahLst/>
              <a:rect l="l" t="t" r="r" b="b"/>
              <a:pathLst>
                <a:path w="5580" h="5506">
                  <a:moveTo>
                    <a:pt x="375" y="4564"/>
                  </a:moveTo>
                  <a:cubicBezTo>
                    <a:pt x="370" y="4539"/>
                    <a:pt x="369" y="4513"/>
                    <a:pt x="360" y="4489"/>
                  </a:cubicBezTo>
                  <a:cubicBezTo>
                    <a:pt x="344" y="4447"/>
                    <a:pt x="300" y="4369"/>
                    <a:pt x="300" y="4369"/>
                  </a:cubicBezTo>
                  <a:cubicBezTo>
                    <a:pt x="270" y="4217"/>
                    <a:pt x="309" y="4371"/>
                    <a:pt x="240" y="4219"/>
                  </a:cubicBezTo>
                  <a:cubicBezTo>
                    <a:pt x="203" y="4138"/>
                    <a:pt x="185" y="4054"/>
                    <a:pt x="135" y="3979"/>
                  </a:cubicBezTo>
                  <a:lnTo>
                    <a:pt x="60" y="3829"/>
                  </a:lnTo>
                  <a:cubicBezTo>
                    <a:pt x="60" y="3829"/>
                    <a:pt x="60" y="3829"/>
                    <a:pt x="60" y="3829"/>
                  </a:cubicBezTo>
                  <a:cubicBezTo>
                    <a:pt x="23" y="3718"/>
                    <a:pt x="44" y="3767"/>
                    <a:pt x="0" y="3679"/>
                  </a:cubicBezTo>
                  <a:cubicBezTo>
                    <a:pt x="10" y="3624"/>
                    <a:pt x="10" y="3566"/>
                    <a:pt x="30" y="3514"/>
                  </a:cubicBezTo>
                  <a:cubicBezTo>
                    <a:pt x="36" y="3497"/>
                    <a:pt x="61" y="3496"/>
                    <a:pt x="75" y="3484"/>
                  </a:cubicBezTo>
                  <a:cubicBezTo>
                    <a:pt x="113" y="3452"/>
                    <a:pt x="157" y="3427"/>
                    <a:pt x="195" y="3394"/>
                  </a:cubicBezTo>
                  <a:cubicBezTo>
                    <a:pt x="270" y="3330"/>
                    <a:pt x="323" y="3239"/>
                    <a:pt x="405" y="3184"/>
                  </a:cubicBezTo>
                  <a:cubicBezTo>
                    <a:pt x="420" y="3174"/>
                    <a:pt x="438" y="3167"/>
                    <a:pt x="450" y="3154"/>
                  </a:cubicBezTo>
                  <a:cubicBezTo>
                    <a:pt x="490" y="3111"/>
                    <a:pt x="582" y="3000"/>
                    <a:pt x="615" y="2929"/>
                  </a:cubicBezTo>
                  <a:cubicBezTo>
                    <a:pt x="638" y="2880"/>
                    <a:pt x="675" y="2779"/>
                    <a:pt x="675" y="2779"/>
                  </a:cubicBezTo>
                  <a:cubicBezTo>
                    <a:pt x="687" y="2474"/>
                    <a:pt x="697" y="2200"/>
                    <a:pt x="780" y="1909"/>
                  </a:cubicBezTo>
                  <a:cubicBezTo>
                    <a:pt x="796" y="1854"/>
                    <a:pt x="812" y="1794"/>
                    <a:pt x="840" y="1744"/>
                  </a:cubicBezTo>
                  <a:cubicBezTo>
                    <a:pt x="916" y="1608"/>
                    <a:pt x="872" y="1696"/>
                    <a:pt x="945" y="1609"/>
                  </a:cubicBezTo>
                  <a:lnTo>
                    <a:pt x="1005" y="1474"/>
                  </a:lnTo>
                  <a:cubicBezTo>
                    <a:pt x="1005" y="1474"/>
                    <a:pt x="1005" y="1474"/>
                    <a:pt x="1005" y="1474"/>
                  </a:cubicBezTo>
                  <a:cubicBezTo>
                    <a:pt x="1033" y="1437"/>
                    <a:pt x="1068" y="1407"/>
                    <a:pt x="1095" y="1369"/>
                  </a:cubicBezTo>
                  <a:cubicBezTo>
                    <a:pt x="1180" y="1250"/>
                    <a:pt x="1209" y="1108"/>
                    <a:pt x="1365" y="1069"/>
                  </a:cubicBezTo>
                  <a:cubicBezTo>
                    <a:pt x="1455" y="1074"/>
                    <a:pt x="1545" y="1077"/>
                    <a:pt x="1635" y="1084"/>
                  </a:cubicBezTo>
                  <a:cubicBezTo>
                    <a:pt x="1675" y="1087"/>
                    <a:pt x="1717" y="1085"/>
                    <a:pt x="1755" y="1099"/>
                  </a:cubicBezTo>
                  <a:cubicBezTo>
                    <a:pt x="1801" y="1116"/>
                    <a:pt x="1798" y="1161"/>
                    <a:pt x="1830" y="1189"/>
                  </a:cubicBezTo>
                  <a:cubicBezTo>
                    <a:pt x="1901" y="1252"/>
                    <a:pt x="1905" y="1245"/>
                    <a:pt x="1980" y="1264"/>
                  </a:cubicBezTo>
                  <a:cubicBezTo>
                    <a:pt x="2149" y="1208"/>
                    <a:pt x="1966" y="1264"/>
                    <a:pt x="2400" y="1234"/>
                  </a:cubicBezTo>
                  <a:cubicBezTo>
                    <a:pt x="2466" y="1229"/>
                    <a:pt x="2530" y="1211"/>
                    <a:pt x="2595" y="1204"/>
                  </a:cubicBezTo>
                  <a:cubicBezTo>
                    <a:pt x="2706" y="1167"/>
                    <a:pt x="2823" y="1145"/>
                    <a:pt x="2925" y="1084"/>
                  </a:cubicBezTo>
                  <a:cubicBezTo>
                    <a:pt x="2997" y="1041"/>
                    <a:pt x="3044" y="1000"/>
                    <a:pt x="3105" y="949"/>
                  </a:cubicBezTo>
                  <a:cubicBezTo>
                    <a:pt x="3155" y="907"/>
                    <a:pt x="3212" y="880"/>
                    <a:pt x="3255" y="829"/>
                  </a:cubicBezTo>
                  <a:cubicBezTo>
                    <a:pt x="3267" y="815"/>
                    <a:pt x="3275" y="799"/>
                    <a:pt x="3285" y="784"/>
                  </a:cubicBezTo>
                  <a:cubicBezTo>
                    <a:pt x="3300" y="764"/>
                    <a:pt x="3314" y="743"/>
                    <a:pt x="3330" y="724"/>
                  </a:cubicBezTo>
                  <a:cubicBezTo>
                    <a:pt x="3344" y="708"/>
                    <a:pt x="3363" y="696"/>
                    <a:pt x="3375" y="679"/>
                  </a:cubicBezTo>
                  <a:cubicBezTo>
                    <a:pt x="3388" y="661"/>
                    <a:pt x="3393" y="638"/>
                    <a:pt x="3405" y="619"/>
                  </a:cubicBezTo>
                  <a:cubicBezTo>
                    <a:pt x="3418" y="598"/>
                    <a:pt x="3435" y="579"/>
                    <a:pt x="3450" y="559"/>
                  </a:cubicBezTo>
                  <a:cubicBezTo>
                    <a:pt x="3484" y="458"/>
                    <a:pt x="3439" y="581"/>
                    <a:pt x="3510" y="439"/>
                  </a:cubicBezTo>
                  <a:cubicBezTo>
                    <a:pt x="3532" y="396"/>
                    <a:pt x="3547" y="346"/>
                    <a:pt x="3570" y="304"/>
                  </a:cubicBezTo>
                  <a:cubicBezTo>
                    <a:pt x="3588" y="272"/>
                    <a:pt x="3630" y="214"/>
                    <a:pt x="3630" y="214"/>
                  </a:cubicBezTo>
                  <a:cubicBezTo>
                    <a:pt x="3635" y="194"/>
                    <a:pt x="3637" y="173"/>
                    <a:pt x="3645" y="154"/>
                  </a:cubicBezTo>
                  <a:cubicBezTo>
                    <a:pt x="3702" y="21"/>
                    <a:pt x="3864" y="41"/>
                    <a:pt x="3975" y="4"/>
                  </a:cubicBezTo>
                  <a:cubicBezTo>
                    <a:pt x="3998" y="7"/>
                    <a:pt x="4124" y="0"/>
                    <a:pt x="4155" y="49"/>
                  </a:cubicBezTo>
                  <a:cubicBezTo>
                    <a:pt x="4175" y="82"/>
                    <a:pt x="4188" y="158"/>
                    <a:pt x="4200" y="199"/>
                  </a:cubicBezTo>
                  <a:cubicBezTo>
                    <a:pt x="4209" y="229"/>
                    <a:pt x="4230" y="289"/>
                    <a:pt x="4230" y="289"/>
                  </a:cubicBezTo>
                  <a:cubicBezTo>
                    <a:pt x="4262" y="510"/>
                    <a:pt x="4219" y="671"/>
                    <a:pt x="4410" y="814"/>
                  </a:cubicBezTo>
                  <a:cubicBezTo>
                    <a:pt x="4426" y="863"/>
                    <a:pt x="4459" y="899"/>
                    <a:pt x="4470" y="949"/>
                  </a:cubicBezTo>
                  <a:cubicBezTo>
                    <a:pt x="4476" y="975"/>
                    <a:pt x="4486" y="1067"/>
                    <a:pt x="4500" y="1099"/>
                  </a:cubicBezTo>
                  <a:cubicBezTo>
                    <a:pt x="4526" y="1159"/>
                    <a:pt x="4536" y="1135"/>
                    <a:pt x="4575" y="1189"/>
                  </a:cubicBezTo>
                  <a:cubicBezTo>
                    <a:pt x="4605" y="1231"/>
                    <a:pt x="4634" y="1290"/>
                    <a:pt x="4650" y="1339"/>
                  </a:cubicBezTo>
                  <a:cubicBezTo>
                    <a:pt x="4660" y="1493"/>
                    <a:pt x="4665" y="1652"/>
                    <a:pt x="4695" y="1804"/>
                  </a:cubicBezTo>
                  <a:cubicBezTo>
                    <a:pt x="4706" y="1857"/>
                    <a:pt x="4719" y="1853"/>
                    <a:pt x="4740" y="1909"/>
                  </a:cubicBezTo>
                  <a:cubicBezTo>
                    <a:pt x="4753" y="1943"/>
                    <a:pt x="4760" y="1979"/>
                    <a:pt x="4770" y="2014"/>
                  </a:cubicBezTo>
                  <a:cubicBezTo>
                    <a:pt x="4801" y="2123"/>
                    <a:pt x="4806" y="2185"/>
                    <a:pt x="4890" y="2269"/>
                  </a:cubicBezTo>
                  <a:cubicBezTo>
                    <a:pt x="4872" y="2361"/>
                    <a:pt x="4862" y="2368"/>
                    <a:pt x="4890" y="2479"/>
                  </a:cubicBezTo>
                  <a:cubicBezTo>
                    <a:pt x="4898" y="2512"/>
                    <a:pt x="4927" y="2536"/>
                    <a:pt x="4935" y="2569"/>
                  </a:cubicBezTo>
                  <a:cubicBezTo>
                    <a:pt x="4950" y="2628"/>
                    <a:pt x="4948" y="2691"/>
                    <a:pt x="4965" y="2749"/>
                  </a:cubicBezTo>
                  <a:cubicBezTo>
                    <a:pt x="4970" y="2766"/>
                    <a:pt x="4988" y="2778"/>
                    <a:pt x="4995" y="2794"/>
                  </a:cubicBezTo>
                  <a:cubicBezTo>
                    <a:pt x="5032" y="2878"/>
                    <a:pt x="5048" y="2976"/>
                    <a:pt x="5070" y="3064"/>
                  </a:cubicBezTo>
                  <a:cubicBezTo>
                    <a:pt x="5053" y="3213"/>
                    <a:pt x="5034" y="3284"/>
                    <a:pt x="5055" y="3439"/>
                  </a:cubicBezTo>
                  <a:cubicBezTo>
                    <a:pt x="5062" y="3488"/>
                    <a:pt x="5099" y="3527"/>
                    <a:pt x="5115" y="3574"/>
                  </a:cubicBezTo>
                  <a:cubicBezTo>
                    <a:pt x="5126" y="3700"/>
                    <a:pt x="5145" y="3797"/>
                    <a:pt x="5160" y="3919"/>
                  </a:cubicBezTo>
                  <a:cubicBezTo>
                    <a:pt x="5158" y="3964"/>
                    <a:pt x="5114" y="4351"/>
                    <a:pt x="5145" y="4444"/>
                  </a:cubicBezTo>
                  <a:cubicBezTo>
                    <a:pt x="5151" y="4461"/>
                    <a:pt x="5175" y="4464"/>
                    <a:pt x="5190" y="4474"/>
                  </a:cubicBezTo>
                  <a:cubicBezTo>
                    <a:pt x="5241" y="4550"/>
                    <a:pt x="5329" y="4595"/>
                    <a:pt x="5415" y="4624"/>
                  </a:cubicBezTo>
                  <a:cubicBezTo>
                    <a:pt x="5439" y="4632"/>
                    <a:pt x="5465" y="4632"/>
                    <a:pt x="5490" y="4639"/>
                  </a:cubicBezTo>
                  <a:cubicBezTo>
                    <a:pt x="5521" y="4647"/>
                    <a:pt x="5580" y="4669"/>
                    <a:pt x="5580" y="4669"/>
                  </a:cubicBezTo>
                  <a:cubicBezTo>
                    <a:pt x="5563" y="4773"/>
                    <a:pt x="5538" y="4884"/>
                    <a:pt x="5505" y="4984"/>
                  </a:cubicBezTo>
                  <a:cubicBezTo>
                    <a:pt x="5486" y="5041"/>
                    <a:pt x="5476" y="5130"/>
                    <a:pt x="5415" y="5164"/>
                  </a:cubicBezTo>
                  <a:cubicBezTo>
                    <a:pt x="5281" y="5238"/>
                    <a:pt x="5107" y="5231"/>
                    <a:pt x="4965" y="5239"/>
                  </a:cubicBezTo>
                  <a:cubicBezTo>
                    <a:pt x="4851" y="5255"/>
                    <a:pt x="4767" y="5287"/>
                    <a:pt x="4665" y="5329"/>
                  </a:cubicBezTo>
                  <a:cubicBezTo>
                    <a:pt x="4585" y="5362"/>
                    <a:pt x="4505" y="5374"/>
                    <a:pt x="4425" y="5404"/>
                  </a:cubicBezTo>
                  <a:cubicBezTo>
                    <a:pt x="4362" y="5427"/>
                    <a:pt x="4283" y="5462"/>
                    <a:pt x="4215" y="5464"/>
                  </a:cubicBezTo>
                  <a:cubicBezTo>
                    <a:pt x="3780" y="5474"/>
                    <a:pt x="3345" y="5474"/>
                    <a:pt x="2910" y="5479"/>
                  </a:cubicBezTo>
                  <a:cubicBezTo>
                    <a:pt x="2689" y="5496"/>
                    <a:pt x="2667" y="5506"/>
                    <a:pt x="2415" y="5479"/>
                  </a:cubicBezTo>
                  <a:cubicBezTo>
                    <a:pt x="2330" y="5470"/>
                    <a:pt x="2240" y="5431"/>
                    <a:pt x="2160" y="5404"/>
                  </a:cubicBezTo>
                  <a:cubicBezTo>
                    <a:pt x="2101" y="5384"/>
                    <a:pt x="2040" y="5374"/>
                    <a:pt x="1980" y="5359"/>
                  </a:cubicBezTo>
                  <a:cubicBezTo>
                    <a:pt x="1958" y="5354"/>
                    <a:pt x="1941" y="5336"/>
                    <a:pt x="1920" y="5329"/>
                  </a:cubicBezTo>
                  <a:cubicBezTo>
                    <a:pt x="1866" y="5311"/>
                    <a:pt x="1784" y="5296"/>
                    <a:pt x="1725" y="5284"/>
                  </a:cubicBezTo>
                  <a:cubicBezTo>
                    <a:pt x="1648" y="5246"/>
                    <a:pt x="1569" y="5226"/>
                    <a:pt x="1485" y="5209"/>
                  </a:cubicBezTo>
                  <a:cubicBezTo>
                    <a:pt x="1319" y="5126"/>
                    <a:pt x="1143" y="5036"/>
                    <a:pt x="960" y="4999"/>
                  </a:cubicBezTo>
                  <a:cubicBezTo>
                    <a:pt x="872" y="4955"/>
                    <a:pt x="921" y="4976"/>
                    <a:pt x="810" y="4939"/>
                  </a:cubicBezTo>
                  <a:cubicBezTo>
                    <a:pt x="793" y="4933"/>
                    <a:pt x="781" y="4916"/>
                    <a:pt x="765" y="4909"/>
                  </a:cubicBezTo>
                  <a:cubicBezTo>
                    <a:pt x="736" y="4896"/>
                    <a:pt x="705" y="4889"/>
                    <a:pt x="675" y="4879"/>
                  </a:cubicBezTo>
                  <a:cubicBezTo>
                    <a:pt x="660" y="4874"/>
                    <a:pt x="630" y="4864"/>
                    <a:pt x="630" y="4864"/>
                  </a:cubicBezTo>
                  <a:cubicBezTo>
                    <a:pt x="615" y="4849"/>
                    <a:pt x="601" y="4833"/>
                    <a:pt x="585" y="4819"/>
                  </a:cubicBezTo>
                  <a:cubicBezTo>
                    <a:pt x="542" y="4783"/>
                    <a:pt x="516" y="4789"/>
                    <a:pt x="570" y="4789"/>
                  </a:cubicBezTo>
                  <a:lnTo>
                    <a:pt x="375" y="456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41560" y="2805120"/>
              <a:ext cx="5045040" cy="200160"/>
            </a:xfrm>
            <a:custGeom>
              <a:avLst/>
              <a:gdLst/>
              <a:ahLst/>
              <a:rect l="l" t="t" r="r" b="b"/>
              <a:pathLst>
                <a:path w="8289" h="375">
                  <a:moveTo>
                    <a:pt x="9" y="180"/>
                  </a:moveTo>
                  <a:cubicBezTo>
                    <a:pt x="110" y="146"/>
                    <a:pt x="0" y="193"/>
                    <a:pt x="84" y="120"/>
                  </a:cubicBezTo>
                  <a:cubicBezTo>
                    <a:pt x="155" y="58"/>
                    <a:pt x="208" y="32"/>
                    <a:pt x="294" y="15"/>
                  </a:cubicBezTo>
                  <a:cubicBezTo>
                    <a:pt x="319" y="20"/>
                    <a:pt x="347" y="17"/>
                    <a:pt x="369" y="30"/>
                  </a:cubicBezTo>
                  <a:cubicBezTo>
                    <a:pt x="385" y="39"/>
                    <a:pt x="386" y="62"/>
                    <a:pt x="399" y="75"/>
                  </a:cubicBezTo>
                  <a:cubicBezTo>
                    <a:pt x="434" y="110"/>
                    <a:pt x="458" y="109"/>
                    <a:pt x="504" y="120"/>
                  </a:cubicBezTo>
                  <a:cubicBezTo>
                    <a:pt x="705" y="111"/>
                    <a:pt x="866" y="94"/>
                    <a:pt x="1059" y="75"/>
                  </a:cubicBezTo>
                  <a:cubicBezTo>
                    <a:pt x="1094" y="128"/>
                    <a:pt x="1118" y="160"/>
                    <a:pt x="1179" y="180"/>
                  </a:cubicBezTo>
                  <a:cubicBezTo>
                    <a:pt x="1266" y="137"/>
                    <a:pt x="1324" y="69"/>
                    <a:pt x="1419" y="45"/>
                  </a:cubicBezTo>
                  <a:cubicBezTo>
                    <a:pt x="1528" y="154"/>
                    <a:pt x="1470" y="119"/>
                    <a:pt x="1584" y="165"/>
                  </a:cubicBezTo>
                  <a:cubicBezTo>
                    <a:pt x="1749" y="152"/>
                    <a:pt x="1877" y="156"/>
                    <a:pt x="2034" y="195"/>
                  </a:cubicBezTo>
                  <a:cubicBezTo>
                    <a:pt x="2069" y="190"/>
                    <a:pt x="2105" y="190"/>
                    <a:pt x="2139" y="180"/>
                  </a:cubicBezTo>
                  <a:cubicBezTo>
                    <a:pt x="2156" y="175"/>
                    <a:pt x="2168" y="157"/>
                    <a:pt x="2184" y="150"/>
                  </a:cubicBezTo>
                  <a:cubicBezTo>
                    <a:pt x="2213" y="137"/>
                    <a:pt x="2246" y="134"/>
                    <a:pt x="2274" y="120"/>
                  </a:cubicBezTo>
                  <a:cubicBezTo>
                    <a:pt x="2294" y="110"/>
                    <a:pt x="2314" y="100"/>
                    <a:pt x="2334" y="90"/>
                  </a:cubicBezTo>
                  <a:cubicBezTo>
                    <a:pt x="2410" y="103"/>
                    <a:pt x="2484" y="116"/>
                    <a:pt x="2559" y="135"/>
                  </a:cubicBezTo>
                  <a:cubicBezTo>
                    <a:pt x="2589" y="155"/>
                    <a:pt x="2624" y="170"/>
                    <a:pt x="2649" y="195"/>
                  </a:cubicBezTo>
                  <a:cubicBezTo>
                    <a:pt x="2664" y="210"/>
                    <a:pt x="2676" y="228"/>
                    <a:pt x="2694" y="240"/>
                  </a:cubicBezTo>
                  <a:cubicBezTo>
                    <a:pt x="2707" y="249"/>
                    <a:pt x="2725" y="248"/>
                    <a:pt x="2739" y="255"/>
                  </a:cubicBezTo>
                  <a:cubicBezTo>
                    <a:pt x="2755" y="263"/>
                    <a:pt x="2769" y="275"/>
                    <a:pt x="2784" y="285"/>
                  </a:cubicBezTo>
                  <a:cubicBezTo>
                    <a:pt x="2829" y="280"/>
                    <a:pt x="2876" y="283"/>
                    <a:pt x="2919" y="270"/>
                  </a:cubicBezTo>
                  <a:cubicBezTo>
                    <a:pt x="3006" y="244"/>
                    <a:pt x="3071" y="187"/>
                    <a:pt x="3159" y="165"/>
                  </a:cubicBezTo>
                  <a:cubicBezTo>
                    <a:pt x="3296" y="176"/>
                    <a:pt x="3345" y="182"/>
                    <a:pt x="3459" y="210"/>
                  </a:cubicBezTo>
                  <a:cubicBezTo>
                    <a:pt x="3650" y="197"/>
                    <a:pt x="3824" y="164"/>
                    <a:pt x="4014" y="150"/>
                  </a:cubicBezTo>
                  <a:cubicBezTo>
                    <a:pt x="4034" y="145"/>
                    <a:pt x="4054" y="141"/>
                    <a:pt x="4074" y="135"/>
                  </a:cubicBezTo>
                  <a:cubicBezTo>
                    <a:pt x="4089" y="131"/>
                    <a:pt x="4104" y="124"/>
                    <a:pt x="4119" y="120"/>
                  </a:cubicBezTo>
                  <a:cubicBezTo>
                    <a:pt x="4159" y="109"/>
                    <a:pt x="4239" y="90"/>
                    <a:pt x="4239" y="90"/>
                  </a:cubicBezTo>
                  <a:cubicBezTo>
                    <a:pt x="4396" y="121"/>
                    <a:pt x="4383" y="118"/>
                    <a:pt x="4599" y="105"/>
                  </a:cubicBezTo>
                  <a:cubicBezTo>
                    <a:pt x="4603" y="103"/>
                    <a:pt x="4687" y="57"/>
                    <a:pt x="4704" y="60"/>
                  </a:cubicBezTo>
                  <a:cubicBezTo>
                    <a:pt x="4722" y="63"/>
                    <a:pt x="4733" y="82"/>
                    <a:pt x="4749" y="90"/>
                  </a:cubicBezTo>
                  <a:cubicBezTo>
                    <a:pt x="4771" y="101"/>
                    <a:pt x="4835" y="115"/>
                    <a:pt x="4854" y="120"/>
                  </a:cubicBezTo>
                  <a:cubicBezTo>
                    <a:pt x="4924" y="115"/>
                    <a:pt x="4994" y="105"/>
                    <a:pt x="5064" y="105"/>
                  </a:cubicBezTo>
                  <a:cubicBezTo>
                    <a:pt x="5287" y="105"/>
                    <a:pt x="5067" y="140"/>
                    <a:pt x="5244" y="105"/>
                  </a:cubicBezTo>
                  <a:cubicBezTo>
                    <a:pt x="5312" y="60"/>
                    <a:pt x="5326" y="58"/>
                    <a:pt x="5409" y="75"/>
                  </a:cubicBezTo>
                  <a:cubicBezTo>
                    <a:pt x="5427" y="101"/>
                    <a:pt x="5441" y="142"/>
                    <a:pt x="5484" y="135"/>
                  </a:cubicBezTo>
                  <a:cubicBezTo>
                    <a:pt x="5502" y="132"/>
                    <a:pt x="5511" y="108"/>
                    <a:pt x="5529" y="105"/>
                  </a:cubicBezTo>
                  <a:cubicBezTo>
                    <a:pt x="5593" y="93"/>
                    <a:pt x="5659" y="95"/>
                    <a:pt x="5724" y="90"/>
                  </a:cubicBezTo>
                  <a:cubicBezTo>
                    <a:pt x="5739" y="80"/>
                    <a:pt x="5752" y="67"/>
                    <a:pt x="5769" y="60"/>
                  </a:cubicBezTo>
                  <a:cubicBezTo>
                    <a:pt x="5788" y="52"/>
                    <a:pt x="5811" y="55"/>
                    <a:pt x="5829" y="45"/>
                  </a:cubicBezTo>
                  <a:cubicBezTo>
                    <a:pt x="5847" y="34"/>
                    <a:pt x="5859" y="15"/>
                    <a:pt x="5874" y="0"/>
                  </a:cubicBezTo>
                  <a:cubicBezTo>
                    <a:pt x="5910" y="54"/>
                    <a:pt x="5922" y="132"/>
                    <a:pt x="5964" y="180"/>
                  </a:cubicBezTo>
                  <a:cubicBezTo>
                    <a:pt x="5974" y="192"/>
                    <a:pt x="5994" y="190"/>
                    <a:pt x="6009" y="195"/>
                  </a:cubicBezTo>
                  <a:cubicBezTo>
                    <a:pt x="6056" y="133"/>
                    <a:pt x="6070" y="88"/>
                    <a:pt x="6099" y="15"/>
                  </a:cubicBezTo>
                  <a:cubicBezTo>
                    <a:pt x="6118" y="44"/>
                    <a:pt x="6129" y="80"/>
                    <a:pt x="6174" y="75"/>
                  </a:cubicBezTo>
                  <a:cubicBezTo>
                    <a:pt x="6205" y="72"/>
                    <a:pt x="6264" y="45"/>
                    <a:pt x="6264" y="45"/>
                  </a:cubicBezTo>
                  <a:cubicBezTo>
                    <a:pt x="6336" y="57"/>
                    <a:pt x="6404" y="74"/>
                    <a:pt x="6474" y="90"/>
                  </a:cubicBezTo>
                  <a:cubicBezTo>
                    <a:pt x="6524" y="101"/>
                    <a:pt x="6574" y="110"/>
                    <a:pt x="6624" y="120"/>
                  </a:cubicBezTo>
                  <a:cubicBezTo>
                    <a:pt x="6649" y="125"/>
                    <a:pt x="6699" y="135"/>
                    <a:pt x="6699" y="135"/>
                  </a:cubicBezTo>
                  <a:cubicBezTo>
                    <a:pt x="6814" y="130"/>
                    <a:pt x="6929" y="120"/>
                    <a:pt x="7044" y="120"/>
                  </a:cubicBezTo>
                  <a:cubicBezTo>
                    <a:pt x="7090" y="120"/>
                    <a:pt x="7134" y="139"/>
                    <a:pt x="7179" y="150"/>
                  </a:cubicBezTo>
                  <a:cubicBezTo>
                    <a:pt x="7210" y="158"/>
                    <a:pt x="7269" y="180"/>
                    <a:pt x="7269" y="180"/>
                  </a:cubicBezTo>
                  <a:cubicBezTo>
                    <a:pt x="7338" y="249"/>
                    <a:pt x="7316" y="252"/>
                    <a:pt x="7404" y="240"/>
                  </a:cubicBezTo>
                  <a:cubicBezTo>
                    <a:pt x="7464" y="232"/>
                    <a:pt x="7524" y="229"/>
                    <a:pt x="7584" y="225"/>
                  </a:cubicBezTo>
                  <a:cubicBezTo>
                    <a:pt x="7674" y="219"/>
                    <a:pt x="7764" y="215"/>
                    <a:pt x="7854" y="210"/>
                  </a:cubicBezTo>
                  <a:cubicBezTo>
                    <a:pt x="7859" y="225"/>
                    <a:pt x="7865" y="240"/>
                    <a:pt x="7869" y="255"/>
                  </a:cubicBezTo>
                  <a:cubicBezTo>
                    <a:pt x="7875" y="275"/>
                    <a:pt x="7866" y="304"/>
                    <a:pt x="7884" y="315"/>
                  </a:cubicBezTo>
                  <a:cubicBezTo>
                    <a:pt x="7902" y="326"/>
                    <a:pt x="7924" y="305"/>
                    <a:pt x="7944" y="300"/>
                  </a:cubicBezTo>
                  <a:cubicBezTo>
                    <a:pt x="7954" y="285"/>
                    <a:pt x="7956" y="259"/>
                    <a:pt x="7974" y="255"/>
                  </a:cubicBezTo>
                  <a:cubicBezTo>
                    <a:pt x="8081" y="231"/>
                    <a:pt x="8057" y="271"/>
                    <a:pt x="8124" y="300"/>
                  </a:cubicBezTo>
                  <a:cubicBezTo>
                    <a:pt x="8187" y="327"/>
                    <a:pt x="8237" y="323"/>
                    <a:pt x="8289" y="375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2041560" y="1360440"/>
              <a:ext cx="2190600" cy="77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Softverska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organizacij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5327640" y="1295280"/>
              <a:ext cx="1754280" cy="81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Hardverska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Organizacija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14640" y="1936800"/>
              <a:ext cx="703080" cy="1023840"/>
            </a:xfrm>
            <a:custGeom>
              <a:avLst/>
              <a:gdLst>
                <a:gd name="textAreaLeft" fmla="*/ 93960 w 703080"/>
                <a:gd name="textAreaRight" fmla="*/ 609120 w 703080"/>
                <a:gd name="textAreaTop" fmla="*/ 178920 h 1023840"/>
                <a:gd name="textAreaBottom" fmla="*/ 742320 h 10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8734400">
              <a:off x="5105880" y="2581560"/>
              <a:ext cx="1730160" cy="703440"/>
            </a:xfrm>
            <a:custGeom>
              <a:avLst/>
              <a:gdLst>
                <a:gd name="textAreaLeft" fmla="*/ 259560 w 1730160"/>
                <a:gd name="textAreaRight" fmla="*/ 1470600 w 1730160"/>
                <a:gd name="textAreaTop" fmla="*/ 93960 h 703440"/>
                <a:gd name="textAreaBottom" fmla="*/ 609480 h 70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6480" hR="21600" stAng="10800000" swAng="-5400000"/>
                  <a:lnTo>
                    <a:pt x="15120" y="21600"/>
                  </a:lnTo>
                  <a:arcTo wR="6480" hR="21600" stAng="5400000" swAng="-2418933"/>
                  <a:lnTo>
                    <a:pt x="21229" y="7200"/>
                  </a:lnTo>
                  <a:lnTo>
                    <a:pt x="17280" y="0"/>
                  </a:lnTo>
                  <a:lnTo>
                    <a:pt x="12589" y="7200"/>
                  </a:lnTo>
                  <a:lnTo>
                    <a:pt x="12589" y="7200"/>
                  </a:lnTo>
                  <a:arcTo wR="6480" hR="21600" stAng="2981067" swAng="1517717"/>
                  <a:lnTo>
                    <a:pt x="10800" y="16100"/>
                  </a:lnTo>
                  <a:arcTo wR="6480" hR="21600" stAng="6301215" swAng="4498785"/>
                  <a:close/>
                </a:path>
                <a:path fill="darkenLess" w="21600" h="21600">
                  <a:moveTo>
                    <a:pt x="0" y="0"/>
                  </a:moveTo>
                  <a:arcTo wR="6480" hR="21600" stAng="10800000" swAng="-5400000"/>
                  <a:lnTo>
                    <a:pt x="15120" y="21600"/>
                  </a:lnTo>
                  <a:arcTo wR="6480" hR="21600" stAng="5400000" swAng="901215"/>
                  <a:lnTo>
                    <a:pt x="10800" y="16100"/>
                  </a:lnTo>
                  <a:arcTo wR="6480" hR="21600" stAng="6301215" swAng="449878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1822320" y="4570560"/>
              <a:ext cx="5031000" cy="91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Matematičko logičke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Osnove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76520" y="3927600"/>
              <a:ext cx="703080" cy="1023840"/>
            </a:xfrm>
            <a:custGeom>
              <a:avLst/>
              <a:gdLst>
                <a:gd name="textAreaLeft" fmla="*/ 93960 w 703080"/>
                <a:gd name="textAreaRight" fmla="*/ 609120 w 703080"/>
                <a:gd name="textAreaTop" fmla="*/ 178920 h 1023840"/>
                <a:gd name="textAreaBottom" fmla="*/ 742320 h 10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 txBox="1"/>
          <p:nvPr/>
        </p:nvSpPr>
        <p:spPr>
          <a:xfrm>
            <a:off x="6516720" y="3645000"/>
            <a:ext cx="2457360" cy="65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0.10.2008.g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-72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Svet računar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836640"/>
            <a:ext cx="896472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ačunari se danas nalaze svu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f5f5f"/>
                </a:solidFill>
                <a:latin typeface="Arial"/>
              </a:rPr>
              <a:t>Postati računarski pismen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5f5f5f"/>
                </a:solidFill>
                <a:latin typeface="Arial"/>
              </a:rPr>
              <a:t>Uspešna kari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Šta 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d94439"/>
                </a:solidFill>
                <a:latin typeface="Arial"/>
              </a:rPr>
              <a:t>računarska pismeno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znavanje i razumevanje računara (računarskih sistema) i njihovog korišćen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7948440" cy="3130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9280" y="187200"/>
            <a:ext cx="7467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Primena računara u društvu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836640"/>
            <a:ext cx="3733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7160" indent="-573120">
              <a:lnSpc>
                <a:spcPct val="100000"/>
              </a:lnSpc>
              <a:spcBef>
                <a:spcPts val="125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brazo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573120">
              <a:lnSpc>
                <a:spcPct val="100000"/>
              </a:lnSpc>
              <a:spcBef>
                <a:spcPts val="125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Finans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573120">
              <a:lnSpc>
                <a:spcPct val="100000"/>
              </a:lnSpc>
              <a:spcBef>
                <a:spcPts val="125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ržavna upr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573120">
              <a:lnSpc>
                <a:spcPct val="100000"/>
              </a:lnSpc>
              <a:spcBef>
                <a:spcPts val="125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Zdravst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573120">
              <a:lnSpc>
                <a:spcPct val="100000"/>
              </a:lnSpc>
              <a:spcBef>
                <a:spcPts val="125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u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573120">
              <a:lnSpc>
                <a:spcPct val="100000"/>
              </a:lnSpc>
              <a:spcBef>
                <a:spcPts val="125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zdavačka delat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573120">
              <a:lnSpc>
                <a:spcPct val="100000"/>
              </a:lnSpc>
              <a:spcBef>
                <a:spcPts val="125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e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573120">
              <a:lnSpc>
                <a:spcPct val="100000"/>
              </a:lnSpc>
              <a:spcBef>
                <a:spcPts val="125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ndustr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8440" y="2768760"/>
            <a:ext cx="28954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7160" indent="-573120">
              <a:lnSpc>
                <a:spcPct val="100000"/>
              </a:lnSpc>
              <a:spcBef>
                <a:spcPts val="139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3124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7160" indent="-573120">
              <a:lnSpc>
                <a:spcPct val="100000"/>
              </a:lnSpc>
              <a:spcBef>
                <a:spcPts val="139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38242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7160" indent="-573120">
              <a:lnSpc>
                <a:spcPct val="100000"/>
              </a:lnSpc>
              <a:spcBef>
                <a:spcPts val="139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4205160"/>
            <a:ext cx="2895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7160" indent="-573120">
              <a:lnSpc>
                <a:spcPct val="100000"/>
              </a:lnSpc>
              <a:spcBef>
                <a:spcPts val="139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454824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7160" indent="-573120">
              <a:lnSpc>
                <a:spcPct val="100000"/>
              </a:lnSpc>
              <a:spcBef>
                <a:spcPts val="139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4910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7160" indent="-573120">
              <a:lnSpc>
                <a:spcPct val="100000"/>
              </a:lnSpc>
              <a:spcBef>
                <a:spcPts val="125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4105080" cy="3067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3529080" cy="327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4788000" y="3981600"/>
            <a:ext cx="4105080" cy="270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240" y="26496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Šta je računar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473120" y="4437000"/>
            <a:ext cx="4651200" cy="1600200"/>
            <a:chOff x="1473120" y="4437000"/>
            <a:chExt cx="4651200" cy="1600200"/>
          </a:xfrm>
        </p:grpSpPr>
        <p:sp>
          <p:nvSpPr>
            <p:cNvPr id="359" name=""/>
            <p:cNvSpPr/>
            <p:nvPr/>
          </p:nvSpPr>
          <p:spPr>
            <a:xfrm>
              <a:off x="2162160" y="4437000"/>
              <a:ext cx="3962160" cy="1600200"/>
            </a:xfrm>
            <a:custGeom>
              <a:avLst/>
              <a:gdLst>
                <a:gd name="textAreaLeft" fmla="*/ 0 w 3962160"/>
                <a:gd name="textAreaRight" fmla="*/ 3962520 w 3962160"/>
                <a:gd name="textAreaTop" fmla="*/ 207360 h 1600200"/>
                <a:gd name="textAreaBottom" fmla="*/ 13928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73120" y="5046840"/>
              <a:ext cx="405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cc"/>
                  </a:solidFill>
                  <a:latin typeface="Times New Roman"/>
                </a:rPr>
                <a:t>Kreira i čuva rezul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79280" y="981000"/>
            <a:ext cx="8569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94439"/>
                </a:solidFill>
                <a:latin typeface="Arial"/>
              </a:rPr>
              <a:t>Račun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lektronski uređaj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upravljan instrukcijama pohranjenim u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perativnoj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morij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67280" y="2421000"/>
            <a:ext cx="4251240" cy="2361960"/>
            <a:chOff x="4067280" y="2421000"/>
            <a:chExt cx="4251240" cy="2361960"/>
          </a:xfrm>
        </p:grpSpPr>
        <p:sp>
          <p:nvSpPr>
            <p:cNvPr id="363" name=""/>
            <p:cNvSpPr/>
            <p:nvPr/>
          </p:nvSpPr>
          <p:spPr>
            <a:xfrm>
              <a:off x="4356000" y="2421000"/>
              <a:ext cx="3962520" cy="2361960"/>
            </a:xfrm>
            <a:custGeom>
              <a:avLst/>
              <a:gdLst>
                <a:gd name="textAreaLeft" fmla="*/ 0 w 3962520"/>
                <a:gd name="textAreaRight" fmla="*/ 3962880 w 3962520"/>
                <a:gd name="textAreaTop" fmla="*/ 306000 h 2361960"/>
                <a:gd name="textAreaBottom" fmla="*/ 205596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67280" y="2873520"/>
              <a:ext cx="424980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cc"/>
                  </a:solidFill>
                  <a:latin typeface="Times New Roman"/>
                </a:rPr>
                <a:t>Obrađuje podatke i generiše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9f9fff"/>
                  </a:solidFill>
                  <a:latin typeface="Times New Roman"/>
                </a:rPr>
                <a:t>informaci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371600">
                <a:lnSpc>
                  <a:spcPts val="22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ffcc"/>
                  </a:solidFill>
                  <a:latin typeface="Times New Roman"/>
                </a:rPr>
                <a:t>(Organizovani podaci, sa dodatkom značenja-smisla, koji su od koristi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0" y="2349360"/>
            <a:ext cx="4343400" cy="2362320"/>
            <a:chOff x="0" y="2349360"/>
            <a:chExt cx="4343400" cy="2362320"/>
          </a:xfrm>
        </p:grpSpPr>
        <p:sp>
          <p:nvSpPr>
            <p:cNvPr id="366" name=""/>
            <p:cNvSpPr/>
            <p:nvPr/>
          </p:nvSpPr>
          <p:spPr>
            <a:xfrm>
              <a:off x="381240" y="2349360"/>
              <a:ext cx="3962160" cy="2362320"/>
            </a:xfrm>
            <a:custGeom>
              <a:avLst/>
              <a:gdLst>
                <a:gd name="textAreaLeft" fmla="*/ 0 w 3962160"/>
                <a:gd name="textAreaRight" fmla="*/ 3962520 w 3962160"/>
                <a:gd name="textAreaTop" fmla="*/ 306000 h 2362320"/>
                <a:gd name="textAreaBottom" fmla="*/ 205632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2958840"/>
              <a:ext cx="403884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cc"/>
                  </a:solidFill>
                  <a:latin typeface="Times New Roman"/>
                </a:rPr>
                <a:t>Prihvat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9f9fff"/>
                  </a:solidFill>
                  <a:latin typeface="Times New Roman"/>
                </a:rPr>
                <a:t>podat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371600">
                <a:lnSpc>
                  <a:spcPts val="22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ffcc"/>
                  </a:solidFill>
                  <a:latin typeface="Times New Roman"/>
                </a:rPr>
                <a:t>(Tekst</a:t>
              </a: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, </a:t>
              </a:r>
              <a:r>
                <a:rPr b="0" lang="sr-Latn-CS" sz="2000" spc="-1" strike="noStrike">
                  <a:solidFill>
                    <a:srgbClr val="ffffcc"/>
                  </a:solidFill>
                  <a:latin typeface="Times New Roman"/>
                </a:rPr>
                <a:t>slike</a:t>
              </a: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, </a:t>
              </a:r>
              <a:r>
                <a:rPr b="0" lang="sr-Latn-CS" sz="2000" spc="-1" strike="noStrike">
                  <a:solidFill>
                    <a:srgbClr val="ffffcc"/>
                  </a:solidFill>
                  <a:latin typeface="Times New Roman"/>
                </a:rPr>
                <a:t>simbol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79280" y="6016680"/>
            <a:ext cx="896472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66ff"/>
                </a:solidFill>
                <a:latin typeface="Arial"/>
              </a:rPr>
              <a:t>Diskusija</a:t>
            </a: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: </a:t>
            </a:r>
            <a:r>
              <a:rPr b="0" i="1" lang="sr-Latn-CS" sz="2400" spc="-1" strike="noStrike">
                <a:solidFill>
                  <a:srgbClr val="0066ff"/>
                </a:solidFill>
                <a:latin typeface="Arial"/>
              </a:rPr>
              <a:t>Da li su ovo računari</a:t>
            </a: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ikrotalasna pečnic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elularni telef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TV,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mašina za pranj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592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3300"/>
                </a:solidFill>
                <a:latin typeface="Arial Black"/>
              </a:rPr>
              <a:t>Ciklus obrade informacija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560" y="1090440"/>
            <a:ext cx="8584920" cy="271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klus obrade informacij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razum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1752480"/>
            <a:ext cx="858528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09480" indent="-495000">
              <a:lnSpc>
                <a:spcPct val="100000"/>
              </a:lnSpc>
              <a:spcBef>
                <a:spcPts val="162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Obuhvat (preuzimanje – Inpu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495000">
              <a:lnSpc>
                <a:spcPct val="100000"/>
              </a:lnSpc>
              <a:spcBef>
                <a:spcPts val="162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Obrad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495000">
              <a:lnSpc>
                <a:spcPct val="100000"/>
              </a:lnSpc>
              <a:spcBef>
                <a:spcPts val="162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Prikazivanje (Outpu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495000">
              <a:lnSpc>
                <a:spcPct val="100000"/>
              </a:lnSpc>
              <a:spcBef>
                <a:spcPts val="162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Skladištenje (čuvanj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495000">
              <a:lnSpc>
                <a:spcPct val="100000"/>
              </a:lnSpc>
              <a:spcBef>
                <a:spcPts val="162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Prenos (razmen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895920" cy="42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798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Njegovo veli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č</a:t>
            </a: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anstvo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 – Hardver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76212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203640" y="3141720"/>
            <a:ext cx="182556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Računa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2346480" y="1951200"/>
            <a:ext cx="3395520" cy="2947680"/>
          </a:xfrm>
          <a:custGeom>
            <a:avLst/>
            <a:gdLst/>
            <a:ahLst/>
            <a:rect l="l" t="t" r="r" b="b"/>
            <a:pathLst>
              <a:path w="5580" h="5506">
                <a:moveTo>
                  <a:pt x="375" y="4564"/>
                </a:moveTo>
                <a:cubicBezTo>
                  <a:pt x="370" y="4539"/>
                  <a:pt x="369" y="4513"/>
                  <a:pt x="360" y="4489"/>
                </a:cubicBezTo>
                <a:cubicBezTo>
                  <a:pt x="344" y="4447"/>
                  <a:pt x="300" y="4369"/>
                  <a:pt x="300" y="4369"/>
                </a:cubicBezTo>
                <a:cubicBezTo>
                  <a:pt x="270" y="4217"/>
                  <a:pt x="309" y="4371"/>
                  <a:pt x="240" y="4219"/>
                </a:cubicBezTo>
                <a:cubicBezTo>
                  <a:pt x="203" y="4138"/>
                  <a:pt x="185" y="4054"/>
                  <a:pt x="135" y="3979"/>
                </a:cubicBezTo>
                <a:lnTo>
                  <a:pt x="60" y="3829"/>
                </a:lnTo>
                <a:cubicBezTo>
                  <a:pt x="60" y="3829"/>
                  <a:pt x="60" y="3829"/>
                  <a:pt x="60" y="3829"/>
                </a:cubicBezTo>
                <a:cubicBezTo>
                  <a:pt x="23" y="3718"/>
                  <a:pt x="44" y="3767"/>
                  <a:pt x="0" y="3679"/>
                </a:cubicBezTo>
                <a:cubicBezTo>
                  <a:pt x="10" y="3624"/>
                  <a:pt x="10" y="3566"/>
                  <a:pt x="30" y="3514"/>
                </a:cubicBezTo>
                <a:cubicBezTo>
                  <a:pt x="36" y="3497"/>
                  <a:pt x="61" y="3496"/>
                  <a:pt x="75" y="3484"/>
                </a:cubicBezTo>
                <a:cubicBezTo>
                  <a:pt x="113" y="3452"/>
                  <a:pt x="157" y="3427"/>
                  <a:pt x="195" y="3394"/>
                </a:cubicBezTo>
                <a:cubicBezTo>
                  <a:pt x="270" y="3330"/>
                  <a:pt x="323" y="3239"/>
                  <a:pt x="405" y="3184"/>
                </a:cubicBezTo>
                <a:cubicBezTo>
                  <a:pt x="420" y="3174"/>
                  <a:pt x="438" y="3167"/>
                  <a:pt x="450" y="3154"/>
                </a:cubicBezTo>
                <a:cubicBezTo>
                  <a:pt x="490" y="3111"/>
                  <a:pt x="582" y="3000"/>
                  <a:pt x="615" y="2929"/>
                </a:cubicBezTo>
                <a:cubicBezTo>
                  <a:pt x="638" y="2880"/>
                  <a:pt x="675" y="2779"/>
                  <a:pt x="675" y="2779"/>
                </a:cubicBezTo>
                <a:cubicBezTo>
                  <a:pt x="687" y="2474"/>
                  <a:pt x="697" y="2200"/>
                  <a:pt x="780" y="1909"/>
                </a:cubicBezTo>
                <a:cubicBezTo>
                  <a:pt x="796" y="1854"/>
                  <a:pt x="812" y="1794"/>
                  <a:pt x="840" y="1744"/>
                </a:cubicBezTo>
                <a:cubicBezTo>
                  <a:pt x="916" y="1608"/>
                  <a:pt x="872" y="1696"/>
                  <a:pt x="945" y="1609"/>
                </a:cubicBezTo>
                <a:lnTo>
                  <a:pt x="1005" y="1474"/>
                </a:lnTo>
                <a:cubicBezTo>
                  <a:pt x="1005" y="1474"/>
                  <a:pt x="1005" y="1474"/>
                  <a:pt x="1005" y="1474"/>
                </a:cubicBezTo>
                <a:cubicBezTo>
                  <a:pt x="1033" y="1437"/>
                  <a:pt x="1068" y="1407"/>
                  <a:pt x="1095" y="1369"/>
                </a:cubicBezTo>
                <a:cubicBezTo>
                  <a:pt x="1180" y="1250"/>
                  <a:pt x="1209" y="1108"/>
                  <a:pt x="1365" y="1069"/>
                </a:cubicBezTo>
                <a:cubicBezTo>
                  <a:pt x="1455" y="1074"/>
                  <a:pt x="1545" y="1077"/>
                  <a:pt x="1635" y="1084"/>
                </a:cubicBezTo>
                <a:cubicBezTo>
                  <a:pt x="1675" y="1087"/>
                  <a:pt x="1717" y="1085"/>
                  <a:pt x="1755" y="1099"/>
                </a:cubicBezTo>
                <a:cubicBezTo>
                  <a:pt x="1801" y="1116"/>
                  <a:pt x="1798" y="1161"/>
                  <a:pt x="1830" y="1189"/>
                </a:cubicBezTo>
                <a:cubicBezTo>
                  <a:pt x="1901" y="1252"/>
                  <a:pt x="1905" y="1245"/>
                  <a:pt x="1980" y="1264"/>
                </a:cubicBezTo>
                <a:cubicBezTo>
                  <a:pt x="2149" y="1208"/>
                  <a:pt x="1966" y="1264"/>
                  <a:pt x="2400" y="1234"/>
                </a:cubicBezTo>
                <a:cubicBezTo>
                  <a:pt x="2466" y="1229"/>
                  <a:pt x="2530" y="1211"/>
                  <a:pt x="2595" y="1204"/>
                </a:cubicBezTo>
                <a:cubicBezTo>
                  <a:pt x="2706" y="1167"/>
                  <a:pt x="2823" y="1145"/>
                  <a:pt x="2925" y="1084"/>
                </a:cubicBezTo>
                <a:cubicBezTo>
                  <a:pt x="2997" y="1041"/>
                  <a:pt x="3044" y="1000"/>
                  <a:pt x="3105" y="949"/>
                </a:cubicBezTo>
                <a:cubicBezTo>
                  <a:pt x="3155" y="907"/>
                  <a:pt x="3212" y="880"/>
                  <a:pt x="3255" y="829"/>
                </a:cubicBezTo>
                <a:cubicBezTo>
                  <a:pt x="3267" y="815"/>
                  <a:pt x="3275" y="799"/>
                  <a:pt x="3285" y="784"/>
                </a:cubicBezTo>
                <a:cubicBezTo>
                  <a:pt x="3300" y="764"/>
                  <a:pt x="3314" y="743"/>
                  <a:pt x="3330" y="724"/>
                </a:cubicBezTo>
                <a:cubicBezTo>
                  <a:pt x="3344" y="708"/>
                  <a:pt x="3363" y="696"/>
                  <a:pt x="3375" y="679"/>
                </a:cubicBezTo>
                <a:cubicBezTo>
                  <a:pt x="3388" y="661"/>
                  <a:pt x="3393" y="638"/>
                  <a:pt x="3405" y="619"/>
                </a:cubicBezTo>
                <a:cubicBezTo>
                  <a:pt x="3418" y="598"/>
                  <a:pt x="3435" y="579"/>
                  <a:pt x="3450" y="559"/>
                </a:cubicBezTo>
                <a:cubicBezTo>
                  <a:pt x="3484" y="458"/>
                  <a:pt x="3439" y="581"/>
                  <a:pt x="3510" y="439"/>
                </a:cubicBezTo>
                <a:cubicBezTo>
                  <a:pt x="3532" y="396"/>
                  <a:pt x="3547" y="346"/>
                  <a:pt x="3570" y="304"/>
                </a:cubicBezTo>
                <a:cubicBezTo>
                  <a:pt x="3588" y="272"/>
                  <a:pt x="3630" y="214"/>
                  <a:pt x="3630" y="214"/>
                </a:cubicBezTo>
                <a:cubicBezTo>
                  <a:pt x="3635" y="194"/>
                  <a:pt x="3637" y="173"/>
                  <a:pt x="3645" y="154"/>
                </a:cubicBezTo>
                <a:cubicBezTo>
                  <a:pt x="3702" y="21"/>
                  <a:pt x="3864" y="41"/>
                  <a:pt x="3975" y="4"/>
                </a:cubicBezTo>
                <a:cubicBezTo>
                  <a:pt x="3998" y="7"/>
                  <a:pt x="4124" y="0"/>
                  <a:pt x="4155" y="49"/>
                </a:cubicBezTo>
                <a:cubicBezTo>
                  <a:pt x="4175" y="82"/>
                  <a:pt x="4188" y="158"/>
                  <a:pt x="4200" y="199"/>
                </a:cubicBezTo>
                <a:cubicBezTo>
                  <a:pt x="4209" y="229"/>
                  <a:pt x="4230" y="289"/>
                  <a:pt x="4230" y="289"/>
                </a:cubicBezTo>
                <a:cubicBezTo>
                  <a:pt x="4262" y="510"/>
                  <a:pt x="4219" y="671"/>
                  <a:pt x="4410" y="814"/>
                </a:cubicBezTo>
                <a:cubicBezTo>
                  <a:pt x="4426" y="863"/>
                  <a:pt x="4459" y="899"/>
                  <a:pt x="4470" y="949"/>
                </a:cubicBezTo>
                <a:cubicBezTo>
                  <a:pt x="4476" y="975"/>
                  <a:pt x="4486" y="1067"/>
                  <a:pt x="4500" y="1099"/>
                </a:cubicBezTo>
                <a:cubicBezTo>
                  <a:pt x="4526" y="1159"/>
                  <a:pt x="4536" y="1135"/>
                  <a:pt x="4575" y="1189"/>
                </a:cubicBezTo>
                <a:cubicBezTo>
                  <a:pt x="4605" y="1231"/>
                  <a:pt x="4634" y="1290"/>
                  <a:pt x="4650" y="1339"/>
                </a:cubicBezTo>
                <a:cubicBezTo>
                  <a:pt x="4660" y="1493"/>
                  <a:pt x="4665" y="1652"/>
                  <a:pt x="4695" y="1804"/>
                </a:cubicBezTo>
                <a:cubicBezTo>
                  <a:pt x="4706" y="1857"/>
                  <a:pt x="4719" y="1853"/>
                  <a:pt x="4740" y="1909"/>
                </a:cubicBezTo>
                <a:cubicBezTo>
                  <a:pt x="4753" y="1943"/>
                  <a:pt x="4760" y="1979"/>
                  <a:pt x="4770" y="2014"/>
                </a:cubicBezTo>
                <a:cubicBezTo>
                  <a:pt x="4801" y="2123"/>
                  <a:pt x="4806" y="2185"/>
                  <a:pt x="4890" y="2269"/>
                </a:cubicBezTo>
                <a:cubicBezTo>
                  <a:pt x="4872" y="2361"/>
                  <a:pt x="4862" y="2368"/>
                  <a:pt x="4890" y="2479"/>
                </a:cubicBezTo>
                <a:cubicBezTo>
                  <a:pt x="4898" y="2512"/>
                  <a:pt x="4927" y="2536"/>
                  <a:pt x="4935" y="2569"/>
                </a:cubicBezTo>
                <a:cubicBezTo>
                  <a:pt x="4950" y="2628"/>
                  <a:pt x="4948" y="2691"/>
                  <a:pt x="4965" y="2749"/>
                </a:cubicBezTo>
                <a:cubicBezTo>
                  <a:pt x="4970" y="2766"/>
                  <a:pt x="4988" y="2778"/>
                  <a:pt x="4995" y="2794"/>
                </a:cubicBezTo>
                <a:cubicBezTo>
                  <a:pt x="5032" y="2878"/>
                  <a:pt x="5048" y="2976"/>
                  <a:pt x="5070" y="3064"/>
                </a:cubicBezTo>
                <a:cubicBezTo>
                  <a:pt x="5053" y="3213"/>
                  <a:pt x="5034" y="3284"/>
                  <a:pt x="5055" y="3439"/>
                </a:cubicBezTo>
                <a:cubicBezTo>
                  <a:pt x="5062" y="3488"/>
                  <a:pt x="5099" y="3527"/>
                  <a:pt x="5115" y="3574"/>
                </a:cubicBezTo>
                <a:cubicBezTo>
                  <a:pt x="5126" y="3700"/>
                  <a:pt x="5145" y="3797"/>
                  <a:pt x="5160" y="3919"/>
                </a:cubicBezTo>
                <a:cubicBezTo>
                  <a:pt x="5158" y="3964"/>
                  <a:pt x="5114" y="4351"/>
                  <a:pt x="5145" y="4444"/>
                </a:cubicBezTo>
                <a:cubicBezTo>
                  <a:pt x="5151" y="4461"/>
                  <a:pt x="5175" y="4464"/>
                  <a:pt x="5190" y="4474"/>
                </a:cubicBezTo>
                <a:cubicBezTo>
                  <a:pt x="5241" y="4550"/>
                  <a:pt x="5329" y="4595"/>
                  <a:pt x="5415" y="4624"/>
                </a:cubicBezTo>
                <a:cubicBezTo>
                  <a:pt x="5439" y="4632"/>
                  <a:pt x="5465" y="4632"/>
                  <a:pt x="5490" y="4639"/>
                </a:cubicBezTo>
                <a:cubicBezTo>
                  <a:pt x="5521" y="4647"/>
                  <a:pt x="5580" y="4669"/>
                  <a:pt x="5580" y="4669"/>
                </a:cubicBezTo>
                <a:cubicBezTo>
                  <a:pt x="5563" y="4773"/>
                  <a:pt x="5538" y="4884"/>
                  <a:pt x="5505" y="4984"/>
                </a:cubicBezTo>
                <a:cubicBezTo>
                  <a:pt x="5486" y="5041"/>
                  <a:pt x="5476" y="5130"/>
                  <a:pt x="5415" y="5164"/>
                </a:cubicBezTo>
                <a:cubicBezTo>
                  <a:pt x="5281" y="5238"/>
                  <a:pt x="5107" y="5231"/>
                  <a:pt x="4965" y="5239"/>
                </a:cubicBezTo>
                <a:cubicBezTo>
                  <a:pt x="4851" y="5255"/>
                  <a:pt x="4767" y="5287"/>
                  <a:pt x="4665" y="5329"/>
                </a:cubicBezTo>
                <a:cubicBezTo>
                  <a:pt x="4585" y="5362"/>
                  <a:pt x="4505" y="5374"/>
                  <a:pt x="4425" y="5404"/>
                </a:cubicBezTo>
                <a:cubicBezTo>
                  <a:pt x="4362" y="5427"/>
                  <a:pt x="4283" y="5462"/>
                  <a:pt x="4215" y="5464"/>
                </a:cubicBezTo>
                <a:cubicBezTo>
                  <a:pt x="3780" y="5474"/>
                  <a:pt x="3345" y="5474"/>
                  <a:pt x="2910" y="5479"/>
                </a:cubicBezTo>
                <a:cubicBezTo>
                  <a:pt x="2689" y="5496"/>
                  <a:pt x="2667" y="5506"/>
                  <a:pt x="2415" y="5479"/>
                </a:cubicBezTo>
                <a:cubicBezTo>
                  <a:pt x="2330" y="5470"/>
                  <a:pt x="2240" y="5431"/>
                  <a:pt x="2160" y="5404"/>
                </a:cubicBezTo>
                <a:cubicBezTo>
                  <a:pt x="2101" y="5384"/>
                  <a:pt x="2040" y="5374"/>
                  <a:pt x="1980" y="5359"/>
                </a:cubicBezTo>
                <a:cubicBezTo>
                  <a:pt x="1958" y="5354"/>
                  <a:pt x="1941" y="5336"/>
                  <a:pt x="1920" y="5329"/>
                </a:cubicBezTo>
                <a:cubicBezTo>
                  <a:pt x="1866" y="5311"/>
                  <a:pt x="1784" y="5296"/>
                  <a:pt x="1725" y="5284"/>
                </a:cubicBezTo>
                <a:cubicBezTo>
                  <a:pt x="1648" y="5246"/>
                  <a:pt x="1569" y="5226"/>
                  <a:pt x="1485" y="5209"/>
                </a:cubicBezTo>
                <a:cubicBezTo>
                  <a:pt x="1319" y="5126"/>
                  <a:pt x="1143" y="5036"/>
                  <a:pt x="960" y="4999"/>
                </a:cubicBezTo>
                <a:cubicBezTo>
                  <a:pt x="872" y="4955"/>
                  <a:pt x="921" y="4976"/>
                  <a:pt x="810" y="4939"/>
                </a:cubicBezTo>
                <a:cubicBezTo>
                  <a:pt x="793" y="4933"/>
                  <a:pt x="781" y="4916"/>
                  <a:pt x="765" y="4909"/>
                </a:cubicBezTo>
                <a:cubicBezTo>
                  <a:pt x="736" y="4896"/>
                  <a:pt x="705" y="4889"/>
                  <a:pt x="675" y="4879"/>
                </a:cubicBezTo>
                <a:cubicBezTo>
                  <a:pt x="660" y="4874"/>
                  <a:pt x="630" y="4864"/>
                  <a:pt x="630" y="4864"/>
                </a:cubicBezTo>
                <a:cubicBezTo>
                  <a:pt x="615" y="4849"/>
                  <a:pt x="601" y="4833"/>
                  <a:pt x="585" y="4819"/>
                </a:cubicBezTo>
                <a:cubicBezTo>
                  <a:pt x="542" y="4783"/>
                  <a:pt x="516" y="4789"/>
                  <a:pt x="570" y="4789"/>
                </a:cubicBezTo>
                <a:lnTo>
                  <a:pt x="375" y="456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41560" y="2805120"/>
            <a:ext cx="5045040" cy="200160"/>
          </a:xfrm>
          <a:custGeom>
            <a:avLst/>
            <a:gdLst/>
            <a:ahLst/>
            <a:rect l="l" t="t" r="r" b="b"/>
            <a:pathLst>
              <a:path w="8289" h="375">
                <a:moveTo>
                  <a:pt x="9" y="180"/>
                </a:moveTo>
                <a:cubicBezTo>
                  <a:pt x="110" y="146"/>
                  <a:pt x="0" y="193"/>
                  <a:pt x="84" y="120"/>
                </a:cubicBezTo>
                <a:cubicBezTo>
                  <a:pt x="155" y="58"/>
                  <a:pt x="208" y="32"/>
                  <a:pt x="294" y="15"/>
                </a:cubicBezTo>
                <a:cubicBezTo>
                  <a:pt x="319" y="20"/>
                  <a:pt x="347" y="17"/>
                  <a:pt x="369" y="30"/>
                </a:cubicBezTo>
                <a:cubicBezTo>
                  <a:pt x="385" y="39"/>
                  <a:pt x="386" y="62"/>
                  <a:pt x="399" y="75"/>
                </a:cubicBezTo>
                <a:cubicBezTo>
                  <a:pt x="434" y="110"/>
                  <a:pt x="458" y="109"/>
                  <a:pt x="504" y="120"/>
                </a:cubicBezTo>
                <a:cubicBezTo>
                  <a:pt x="705" y="111"/>
                  <a:pt x="866" y="94"/>
                  <a:pt x="1059" y="75"/>
                </a:cubicBezTo>
                <a:cubicBezTo>
                  <a:pt x="1094" y="128"/>
                  <a:pt x="1118" y="160"/>
                  <a:pt x="1179" y="180"/>
                </a:cubicBezTo>
                <a:cubicBezTo>
                  <a:pt x="1266" y="137"/>
                  <a:pt x="1324" y="69"/>
                  <a:pt x="1419" y="45"/>
                </a:cubicBezTo>
                <a:cubicBezTo>
                  <a:pt x="1528" y="154"/>
                  <a:pt x="1470" y="119"/>
                  <a:pt x="1584" y="165"/>
                </a:cubicBezTo>
                <a:cubicBezTo>
                  <a:pt x="1749" y="152"/>
                  <a:pt x="1877" y="156"/>
                  <a:pt x="2034" y="195"/>
                </a:cubicBezTo>
                <a:cubicBezTo>
                  <a:pt x="2069" y="190"/>
                  <a:pt x="2105" y="190"/>
                  <a:pt x="2139" y="180"/>
                </a:cubicBezTo>
                <a:cubicBezTo>
                  <a:pt x="2156" y="175"/>
                  <a:pt x="2168" y="157"/>
                  <a:pt x="2184" y="150"/>
                </a:cubicBezTo>
                <a:cubicBezTo>
                  <a:pt x="2213" y="137"/>
                  <a:pt x="2246" y="134"/>
                  <a:pt x="2274" y="120"/>
                </a:cubicBezTo>
                <a:cubicBezTo>
                  <a:pt x="2294" y="110"/>
                  <a:pt x="2314" y="100"/>
                  <a:pt x="2334" y="90"/>
                </a:cubicBezTo>
                <a:cubicBezTo>
                  <a:pt x="2410" y="103"/>
                  <a:pt x="2484" y="116"/>
                  <a:pt x="2559" y="135"/>
                </a:cubicBezTo>
                <a:cubicBezTo>
                  <a:pt x="2589" y="155"/>
                  <a:pt x="2624" y="170"/>
                  <a:pt x="2649" y="195"/>
                </a:cubicBezTo>
                <a:cubicBezTo>
                  <a:pt x="2664" y="210"/>
                  <a:pt x="2676" y="228"/>
                  <a:pt x="2694" y="240"/>
                </a:cubicBezTo>
                <a:cubicBezTo>
                  <a:pt x="2707" y="249"/>
                  <a:pt x="2725" y="248"/>
                  <a:pt x="2739" y="255"/>
                </a:cubicBezTo>
                <a:cubicBezTo>
                  <a:pt x="2755" y="263"/>
                  <a:pt x="2769" y="275"/>
                  <a:pt x="2784" y="285"/>
                </a:cubicBezTo>
                <a:cubicBezTo>
                  <a:pt x="2829" y="280"/>
                  <a:pt x="2876" y="283"/>
                  <a:pt x="2919" y="270"/>
                </a:cubicBezTo>
                <a:cubicBezTo>
                  <a:pt x="3006" y="244"/>
                  <a:pt x="3071" y="187"/>
                  <a:pt x="3159" y="165"/>
                </a:cubicBezTo>
                <a:cubicBezTo>
                  <a:pt x="3296" y="176"/>
                  <a:pt x="3345" y="182"/>
                  <a:pt x="3459" y="210"/>
                </a:cubicBezTo>
                <a:cubicBezTo>
                  <a:pt x="3650" y="197"/>
                  <a:pt x="3824" y="164"/>
                  <a:pt x="4014" y="150"/>
                </a:cubicBezTo>
                <a:cubicBezTo>
                  <a:pt x="4034" y="145"/>
                  <a:pt x="4054" y="141"/>
                  <a:pt x="4074" y="135"/>
                </a:cubicBezTo>
                <a:cubicBezTo>
                  <a:pt x="4089" y="131"/>
                  <a:pt x="4104" y="124"/>
                  <a:pt x="4119" y="120"/>
                </a:cubicBezTo>
                <a:cubicBezTo>
                  <a:pt x="4159" y="109"/>
                  <a:pt x="4239" y="90"/>
                  <a:pt x="4239" y="90"/>
                </a:cubicBezTo>
                <a:cubicBezTo>
                  <a:pt x="4396" y="121"/>
                  <a:pt x="4383" y="118"/>
                  <a:pt x="4599" y="105"/>
                </a:cubicBezTo>
                <a:cubicBezTo>
                  <a:pt x="4603" y="103"/>
                  <a:pt x="4687" y="57"/>
                  <a:pt x="4704" y="60"/>
                </a:cubicBezTo>
                <a:cubicBezTo>
                  <a:pt x="4722" y="63"/>
                  <a:pt x="4733" y="82"/>
                  <a:pt x="4749" y="90"/>
                </a:cubicBezTo>
                <a:cubicBezTo>
                  <a:pt x="4771" y="101"/>
                  <a:pt x="4835" y="115"/>
                  <a:pt x="4854" y="120"/>
                </a:cubicBezTo>
                <a:cubicBezTo>
                  <a:pt x="4924" y="115"/>
                  <a:pt x="4994" y="105"/>
                  <a:pt x="5064" y="105"/>
                </a:cubicBezTo>
                <a:cubicBezTo>
                  <a:pt x="5287" y="105"/>
                  <a:pt x="5067" y="140"/>
                  <a:pt x="5244" y="105"/>
                </a:cubicBezTo>
                <a:cubicBezTo>
                  <a:pt x="5312" y="60"/>
                  <a:pt x="5326" y="58"/>
                  <a:pt x="5409" y="75"/>
                </a:cubicBezTo>
                <a:cubicBezTo>
                  <a:pt x="5427" y="101"/>
                  <a:pt x="5441" y="142"/>
                  <a:pt x="5484" y="135"/>
                </a:cubicBezTo>
                <a:cubicBezTo>
                  <a:pt x="5502" y="132"/>
                  <a:pt x="5511" y="108"/>
                  <a:pt x="5529" y="105"/>
                </a:cubicBezTo>
                <a:cubicBezTo>
                  <a:pt x="5593" y="93"/>
                  <a:pt x="5659" y="95"/>
                  <a:pt x="5724" y="90"/>
                </a:cubicBezTo>
                <a:cubicBezTo>
                  <a:pt x="5739" y="80"/>
                  <a:pt x="5752" y="67"/>
                  <a:pt x="5769" y="60"/>
                </a:cubicBezTo>
                <a:cubicBezTo>
                  <a:pt x="5788" y="52"/>
                  <a:pt x="5811" y="55"/>
                  <a:pt x="5829" y="45"/>
                </a:cubicBezTo>
                <a:cubicBezTo>
                  <a:pt x="5847" y="34"/>
                  <a:pt x="5859" y="15"/>
                  <a:pt x="5874" y="0"/>
                </a:cubicBezTo>
                <a:cubicBezTo>
                  <a:pt x="5910" y="54"/>
                  <a:pt x="5922" y="132"/>
                  <a:pt x="5964" y="180"/>
                </a:cubicBezTo>
                <a:cubicBezTo>
                  <a:pt x="5974" y="192"/>
                  <a:pt x="5994" y="190"/>
                  <a:pt x="6009" y="195"/>
                </a:cubicBezTo>
                <a:cubicBezTo>
                  <a:pt x="6056" y="133"/>
                  <a:pt x="6070" y="88"/>
                  <a:pt x="6099" y="15"/>
                </a:cubicBezTo>
                <a:cubicBezTo>
                  <a:pt x="6118" y="44"/>
                  <a:pt x="6129" y="80"/>
                  <a:pt x="6174" y="75"/>
                </a:cubicBezTo>
                <a:cubicBezTo>
                  <a:pt x="6205" y="72"/>
                  <a:pt x="6264" y="45"/>
                  <a:pt x="6264" y="45"/>
                </a:cubicBezTo>
                <a:cubicBezTo>
                  <a:pt x="6336" y="57"/>
                  <a:pt x="6404" y="74"/>
                  <a:pt x="6474" y="90"/>
                </a:cubicBezTo>
                <a:cubicBezTo>
                  <a:pt x="6524" y="101"/>
                  <a:pt x="6574" y="110"/>
                  <a:pt x="6624" y="120"/>
                </a:cubicBezTo>
                <a:cubicBezTo>
                  <a:pt x="6649" y="125"/>
                  <a:pt x="6699" y="135"/>
                  <a:pt x="6699" y="135"/>
                </a:cubicBezTo>
                <a:cubicBezTo>
                  <a:pt x="6814" y="130"/>
                  <a:pt x="6929" y="120"/>
                  <a:pt x="7044" y="120"/>
                </a:cubicBezTo>
                <a:cubicBezTo>
                  <a:pt x="7090" y="120"/>
                  <a:pt x="7134" y="139"/>
                  <a:pt x="7179" y="150"/>
                </a:cubicBezTo>
                <a:cubicBezTo>
                  <a:pt x="7210" y="158"/>
                  <a:pt x="7269" y="180"/>
                  <a:pt x="7269" y="180"/>
                </a:cubicBezTo>
                <a:cubicBezTo>
                  <a:pt x="7338" y="249"/>
                  <a:pt x="7316" y="252"/>
                  <a:pt x="7404" y="240"/>
                </a:cubicBezTo>
                <a:cubicBezTo>
                  <a:pt x="7464" y="232"/>
                  <a:pt x="7524" y="229"/>
                  <a:pt x="7584" y="225"/>
                </a:cubicBezTo>
                <a:cubicBezTo>
                  <a:pt x="7674" y="219"/>
                  <a:pt x="7764" y="215"/>
                  <a:pt x="7854" y="210"/>
                </a:cubicBezTo>
                <a:cubicBezTo>
                  <a:pt x="7859" y="225"/>
                  <a:pt x="7865" y="240"/>
                  <a:pt x="7869" y="255"/>
                </a:cubicBezTo>
                <a:cubicBezTo>
                  <a:pt x="7875" y="275"/>
                  <a:pt x="7866" y="304"/>
                  <a:pt x="7884" y="315"/>
                </a:cubicBezTo>
                <a:cubicBezTo>
                  <a:pt x="7902" y="326"/>
                  <a:pt x="7924" y="305"/>
                  <a:pt x="7944" y="300"/>
                </a:cubicBezTo>
                <a:cubicBezTo>
                  <a:pt x="7954" y="285"/>
                  <a:pt x="7956" y="259"/>
                  <a:pt x="7974" y="255"/>
                </a:cubicBezTo>
                <a:cubicBezTo>
                  <a:pt x="8081" y="231"/>
                  <a:pt x="8057" y="271"/>
                  <a:pt x="8124" y="300"/>
                </a:cubicBezTo>
                <a:cubicBezTo>
                  <a:pt x="8187" y="327"/>
                  <a:pt x="8237" y="323"/>
                  <a:pt x="8289" y="375"/>
                </a:cubicBezTo>
              </a:path>
            </a:pathLst>
          </a:custGeom>
          <a:noFill/>
          <a:ln w="28440">
            <a:solidFill>
              <a:srgbClr val="0033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327640" y="1295280"/>
            <a:ext cx="175428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rdversk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rganizacij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 rot="18734400">
            <a:off x="5105880" y="2581560"/>
            <a:ext cx="1730160" cy="703440"/>
          </a:xfrm>
          <a:custGeom>
            <a:avLst/>
            <a:gdLst>
              <a:gd name="textAreaLeft" fmla="*/ 259560 w 1730160"/>
              <a:gd name="textAreaRight" fmla="*/ 1470600 w 1730160"/>
              <a:gd name="textAreaTop" fmla="*/ 93960 h 703440"/>
              <a:gd name="textAreaBottom" fmla="*/ 609480 h 70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480" hR="21600" stAng="10800000" swAng="-5400000"/>
                <a:lnTo>
                  <a:pt x="15120" y="21600"/>
                </a:lnTo>
                <a:arcTo wR="6480" hR="21600" stAng="5400000" swAng="-2418933"/>
                <a:lnTo>
                  <a:pt x="21229" y="7200"/>
                </a:lnTo>
                <a:lnTo>
                  <a:pt x="17280" y="0"/>
                </a:lnTo>
                <a:lnTo>
                  <a:pt x="12589" y="7200"/>
                </a:lnTo>
                <a:lnTo>
                  <a:pt x="12589" y="7200"/>
                </a:lnTo>
                <a:arcTo wR="6480" hR="21600" stAng="2981067" swAng="1517717"/>
                <a:lnTo>
                  <a:pt x="10800" y="16100"/>
                </a:lnTo>
                <a:arcTo wR="6480" hR="21600" stAng="6301215" swAng="4498785"/>
                <a:close/>
              </a:path>
              <a:path fill="darkenLess" w="21600" h="21600">
                <a:moveTo>
                  <a:pt x="0" y="0"/>
                </a:moveTo>
                <a:arcTo wR="6480" hR="21600" stAng="10800000" swAng="-5400000"/>
                <a:lnTo>
                  <a:pt x="15120" y="21600"/>
                </a:lnTo>
                <a:arcTo wR="6480" hR="21600" stAng="5400000" swAng="901215"/>
                <a:lnTo>
                  <a:pt x="10800" y="16100"/>
                </a:lnTo>
                <a:arcTo wR="6480" hR="21600" stAng="6301215" swAng="449878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698920" y="5854680"/>
            <a:ext cx="31683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Kako ga vidim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798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Njegovo veli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č</a:t>
            </a: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anstvo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 – Hardver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211640" y="1125360"/>
            <a:ext cx="4680000" cy="364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179280" y="2401920"/>
            <a:ext cx="66247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240" y="720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5f5f5f"/>
                </a:solidFill>
                <a:latin typeface="Arial Black"/>
              </a:rPr>
              <a:t>Skladišt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560" y="1052280"/>
            <a:ext cx="883908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Skladišt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čuva podat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instru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cije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form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ij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 naknadno korišć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1280" y="2492280"/>
            <a:ext cx="7010280" cy="1447920"/>
          </a:xfrm>
          <a:custGeom>
            <a:avLst/>
            <a:gdLst>
              <a:gd name="textAreaLeft" fmla="*/ 170640 w 7010280"/>
              <a:gd name="textAreaRight" fmla="*/ 6839640 w 7010280"/>
              <a:gd name="textAreaTop" fmla="*/ 170640 h 1447920"/>
              <a:gd name="textAreaBottom" fmla="*/ 1277280 h 1447920"/>
            </a:gdLst>
            <a:ahLst/>
            <a:rect l="textAreaLeft" t="textAreaTop" r="textAreaRight" b="textAreaBottom"/>
            <a:pathLst>
              <a:path w="10455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0958" y="21600"/>
                </a:lnTo>
                <a:arcTo wR="3600" hR="3600" stAng="10800000" swAng="5400000"/>
                <a:lnTo>
                  <a:pt x="104558" y="3600"/>
                </a:lnTo>
                <a:arcTo wR="3600" hR="3600" stAng="5400000" swAng="5400000"/>
                <a:close/>
              </a:path>
            </a:pathLst>
          </a:custGeom>
          <a:solidFill>
            <a:srgbClr val="00808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Medij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Fizički materijal na kome se čuvaju (skladiš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daci, instrukcij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 informaci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4360" y="4365720"/>
            <a:ext cx="7010280" cy="1447560"/>
          </a:xfrm>
          <a:custGeom>
            <a:avLst/>
            <a:gdLst>
              <a:gd name="textAreaLeft" fmla="*/ 170280 w 7010280"/>
              <a:gd name="textAreaRight" fmla="*/ 6840000 w 7010280"/>
              <a:gd name="textAreaTop" fmla="*/ 170280 h 1447560"/>
              <a:gd name="textAreaBottom" fmla="*/ 1277280 h 1447560"/>
            </a:gdLst>
            <a:ahLst/>
            <a:rect l="textAreaLeft" t="textAreaTop" r="textAreaRight" b="textAreaBottom"/>
            <a:pathLst>
              <a:path w="10458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0984" y="21600"/>
                </a:lnTo>
                <a:arcTo wR="3600" hR="3600" stAng="10800000" swAng="5400000"/>
                <a:lnTo>
                  <a:pt x="104584" y="3600"/>
                </a:lnTo>
                <a:arcTo wR="3600" hR="3600" stAng="5400000" swAng="5400000"/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Uređ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Omogućava zapisivanje i čitanje (preuziman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jedinice podataka instrukcija i informac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a medijuma za skladišten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1676520"/>
            <a:ext cx="85849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Medijumi za čuvanj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1874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p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ash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D/D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emorijske kar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492360" y="907920"/>
            <a:ext cx="2232000" cy="1516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564000" y="3429000"/>
            <a:ext cx="2089080" cy="1411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6300720" y="1773360"/>
            <a:ext cx="2448000" cy="182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6300720" y="4292640"/>
            <a:ext cx="2592360" cy="2374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187200"/>
            <a:ext cx="6248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3300"/>
                </a:solidFill>
                <a:latin typeface="Arial Black"/>
              </a:rPr>
              <a:t>План и програм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268280"/>
            <a:ext cx="8424720" cy="5170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ход предмета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564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ицање потребних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знањ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sr-CS" sz="2400" spc="-1" strike="noStrike">
                <a:solidFill>
                  <a:srgbClr val="33cc33"/>
                </a:solidFill>
                <a:latin typeface="Times New Roman"/>
              </a:rPr>
              <a:t>вешт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з домена информацион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ј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посебно он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римењен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у МУП-у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600200" indent="-45720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ја би, уз теоријска и практична знања стечена из других предмета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могућил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свршеним студентима 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успешно и квалитетно обављање и најсложенијих безбедносних задатака и послова из делокруга рада MУП-а.</a:t>
            </a: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569600" y="3509280"/>
            <a:ext cx="3579120" cy="3443400"/>
            <a:chOff x="1569600" y="3509280"/>
            <a:chExt cx="3579120" cy="3443400"/>
          </a:xfrm>
        </p:grpSpPr>
        <p:sp>
          <p:nvSpPr>
            <p:cNvPr id="398" name=""/>
            <p:cNvSpPr/>
            <p:nvPr/>
          </p:nvSpPr>
          <p:spPr>
            <a:xfrm rot="19800000">
              <a:off x="1981080" y="4038480"/>
              <a:ext cx="2756160" cy="2384640"/>
            </a:xfrm>
            <a:prstGeom prst="hexagon">
              <a:avLst>
                <a:gd name="adj" fmla="val 28895"/>
                <a:gd name="vf" fmla="val 11547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31920" y="49528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ff00"/>
                  </a:solidFill>
                  <a:latin typeface="Times New Roman"/>
                </a:rPr>
                <a:t>Precizn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3931920" y="3509280"/>
            <a:ext cx="3578760" cy="3443040"/>
            <a:chOff x="3931920" y="3509280"/>
            <a:chExt cx="3578760" cy="3443040"/>
          </a:xfrm>
        </p:grpSpPr>
        <p:sp>
          <p:nvSpPr>
            <p:cNvPr id="401" name=""/>
            <p:cNvSpPr/>
            <p:nvPr/>
          </p:nvSpPr>
          <p:spPr>
            <a:xfrm rot="19800000">
              <a:off x="4343400" y="4038120"/>
              <a:ext cx="2755800" cy="2384640"/>
            </a:xfrm>
            <a:prstGeom prst="hexagon">
              <a:avLst>
                <a:gd name="adj" fmla="val 28891"/>
                <a:gd name="vf" fmla="val 11547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83080" y="4952880"/>
              <a:ext cx="25146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ffff"/>
                  </a:solidFill>
                  <a:latin typeface="Times New Roman"/>
                </a:rPr>
                <a:t>Komunikaci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4629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00"/>
                </a:solidFill>
                <a:latin typeface="Arial Black"/>
              </a:rPr>
              <a:t>Karakteristike računara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02920" y="1483920"/>
            <a:ext cx="3578760" cy="3442680"/>
            <a:chOff x="502920" y="1483920"/>
            <a:chExt cx="3578760" cy="3442680"/>
          </a:xfrm>
        </p:grpSpPr>
        <p:sp>
          <p:nvSpPr>
            <p:cNvPr id="405" name=""/>
            <p:cNvSpPr/>
            <p:nvPr/>
          </p:nvSpPr>
          <p:spPr>
            <a:xfrm rot="19800000">
              <a:off x="914040" y="2012760"/>
              <a:ext cx="2755800" cy="238428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6680" y="2873520"/>
              <a:ext cx="2497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Kapacit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memori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rot="19800000">
            <a:off x="3203280" y="1915920"/>
            <a:ext cx="2755800" cy="2384280"/>
          </a:xfrm>
          <a:prstGeom prst="hexagon">
            <a:avLst>
              <a:gd name="adj" fmla="val 28896"/>
              <a:gd name="vf" fmla="val 11547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2349360"/>
            <a:ext cx="2577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ouzda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onzistent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03520" y="1451880"/>
            <a:ext cx="3578760" cy="3443040"/>
            <a:chOff x="5303520" y="1451880"/>
            <a:chExt cx="3578760" cy="3443040"/>
          </a:xfrm>
        </p:grpSpPr>
        <p:sp>
          <p:nvSpPr>
            <p:cNvPr id="410" name=""/>
            <p:cNvSpPr/>
            <p:nvPr/>
          </p:nvSpPr>
          <p:spPr>
            <a:xfrm rot="19800000">
              <a:off x="5715000" y="1980720"/>
              <a:ext cx="2755800" cy="2384640"/>
            </a:xfrm>
            <a:prstGeom prst="hexagon">
              <a:avLst>
                <a:gd name="adj" fmla="val 28891"/>
                <a:gd name="vf" fmla="val 11547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40560" y="2873520"/>
              <a:ext cx="25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600" spc="-1" strike="noStrike">
                  <a:solidFill>
                    <a:srgbClr val="ff0000"/>
                  </a:solidFill>
                  <a:latin typeface="Times New Roman"/>
                </a:rPr>
                <a:t>Brzina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95280" y="1722600"/>
            <a:ext cx="7375680" cy="49417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000" y="-108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Internet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09520" y="691920"/>
            <a:ext cx="89344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je mreža svih mreža koja povezuje milione računara u svetu (GLOBALNA MREŽ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rot="16396200">
            <a:off x="5653800" y="4574160"/>
            <a:ext cx="882360" cy="174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32" y="406"/>
                </a:moveTo>
                <a:arcTo wR="10800" hR="10800" stAng="-4454789" swAng="9550345"/>
                <a:lnTo>
                  <a:pt x="10800" y="10800"/>
                </a:lnTo>
                <a:close/>
              </a:path>
              <a:path fill="none" w="21600" h="21600">
                <a:moveTo>
                  <a:pt x="13732" y="406"/>
                </a:moveTo>
                <a:arcTo wR="10800" hR="10800" stAng="-4454789" swAng="9550345"/>
              </a:path>
            </a:pathLst>
          </a:custGeom>
          <a:noFill/>
          <a:ln w="114480">
            <a:solidFill>
              <a:srgbClr val="d9443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19270800">
            <a:off x="2104560" y="3679560"/>
            <a:ext cx="230148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74" y="758"/>
                </a:moveTo>
                <a:arcTo wR="10800" hR="10800" stAng="-4104637" swAng="7618562"/>
                <a:lnTo>
                  <a:pt x="10800" y="10800"/>
                </a:lnTo>
                <a:close/>
              </a:path>
              <a:path fill="none" w="21600" h="21600">
                <a:moveTo>
                  <a:pt x="14774" y="758"/>
                </a:moveTo>
                <a:arcTo wR="10800" hR="10800" stAng="-4104637" swAng="7618562"/>
              </a:path>
            </a:pathLst>
          </a:custGeom>
          <a:noFill/>
          <a:ln w="114480">
            <a:solidFill>
              <a:srgbClr val="d9443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 rot="16183200">
            <a:off x="4935240" y="3675960"/>
            <a:ext cx="1301040" cy="263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32" y="406"/>
                </a:moveTo>
                <a:arcTo wR="10800" hR="10800" stAng="-4454789" swAng="10039957"/>
                <a:lnTo>
                  <a:pt x="10800" y="10800"/>
                </a:lnTo>
                <a:close/>
              </a:path>
              <a:path fill="none" w="21600" h="21600">
                <a:moveTo>
                  <a:pt x="13732" y="406"/>
                </a:moveTo>
                <a:arcTo wR="10800" hR="10800" stAng="-4454789" swAng="10039957"/>
              </a:path>
            </a:pathLst>
          </a:custGeom>
          <a:noFill/>
          <a:ln w="114480">
            <a:solidFill>
              <a:srgbClr val="d9443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6638400">
            <a:off x="5416200" y="3117960"/>
            <a:ext cx="1158120" cy="183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64" y="3091"/>
                </a:moveTo>
                <a:arcTo wR="10800" hR="10800" stAng="-2732747" swAng="8331681"/>
                <a:lnTo>
                  <a:pt x="10800" y="10800"/>
                </a:lnTo>
                <a:close/>
              </a:path>
              <a:path fill="none" w="21600" h="21600">
                <a:moveTo>
                  <a:pt x="18364" y="3091"/>
                </a:moveTo>
                <a:arcTo wR="10800" hR="10800" stAng="-2732747" swAng="8331681"/>
              </a:path>
            </a:pathLst>
          </a:custGeom>
          <a:noFill/>
          <a:ln w="114480">
            <a:solidFill>
              <a:srgbClr val="d94439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3798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Njegovo veli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č</a:t>
            </a: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anstvo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 – Softver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6212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187280" y="1413000"/>
            <a:ext cx="6043680" cy="3701880"/>
            <a:chOff x="1187280" y="1413000"/>
            <a:chExt cx="6043680" cy="3701880"/>
          </a:xfrm>
        </p:grpSpPr>
        <p:sp>
          <p:nvSpPr>
            <p:cNvPr id="423" name=""/>
            <p:cNvSpPr txBox="1"/>
            <p:nvPr/>
          </p:nvSpPr>
          <p:spPr>
            <a:xfrm>
              <a:off x="3132000" y="3429000"/>
              <a:ext cx="1825920" cy="96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Računar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90840" y="2166840"/>
              <a:ext cx="3395520" cy="2948040"/>
            </a:xfrm>
            <a:custGeom>
              <a:avLst/>
              <a:gdLst/>
              <a:ahLst/>
              <a:rect l="l" t="t" r="r" b="b"/>
              <a:pathLst>
                <a:path w="5580" h="5506">
                  <a:moveTo>
                    <a:pt x="375" y="4564"/>
                  </a:moveTo>
                  <a:cubicBezTo>
                    <a:pt x="370" y="4539"/>
                    <a:pt x="369" y="4513"/>
                    <a:pt x="360" y="4489"/>
                  </a:cubicBezTo>
                  <a:cubicBezTo>
                    <a:pt x="344" y="4447"/>
                    <a:pt x="300" y="4369"/>
                    <a:pt x="300" y="4369"/>
                  </a:cubicBezTo>
                  <a:cubicBezTo>
                    <a:pt x="270" y="4217"/>
                    <a:pt x="309" y="4371"/>
                    <a:pt x="240" y="4219"/>
                  </a:cubicBezTo>
                  <a:cubicBezTo>
                    <a:pt x="203" y="4138"/>
                    <a:pt x="185" y="4054"/>
                    <a:pt x="135" y="3979"/>
                  </a:cubicBezTo>
                  <a:lnTo>
                    <a:pt x="60" y="3829"/>
                  </a:lnTo>
                  <a:cubicBezTo>
                    <a:pt x="60" y="3829"/>
                    <a:pt x="60" y="3829"/>
                    <a:pt x="60" y="3829"/>
                  </a:cubicBezTo>
                  <a:cubicBezTo>
                    <a:pt x="23" y="3718"/>
                    <a:pt x="44" y="3767"/>
                    <a:pt x="0" y="3679"/>
                  </a:cubicBezTo>
                  <a:cubicBezTo>
                    <a:pt x="10" y="3624"/>
                    <a:pt x="10" y="3566"/>
                    <a:pt x="30" y="3514"/>
                  </a:cubicBezTo>
                  <a:cubicBezTo>
                    <a:pt x="36" y="3497"/>
                    <a:pt x="61" y="3496"/>
                    <a:pt x="75" y="3484"/>
                  </a:cubicBezTo>
                  <a:cubicBezTo>
                    <a:pt x="113" y="3452"/>
                    <a:pt x="157" y="3427"/>
                    <a:pt x="195" y="3394"/>
                  </a:cubicBezTo>
                  <a:cubicBezTo>
                    <a:pt x="270" y="3330"/>
                    <a:pt x="323" y="3239"/>
                    <a:pt x="405" y="3184"/>
                  </a:cubicBezTo>
                  <a:cubicBezTo>
                    <a:pt x="420" y="3174"/>
                    <a:pt x="438" y="3167"/>
                    <a:pt x="450" y="3154"/>
                  </a:cubicBezTo>
                  <a:cubicBezTo>
                    <a:pt x="490" y="3111"/>
                    <a:pt x="582" y="3000"/>
                    <a:pt x="615" y="2929"/>
                  </a:cubicBezTo>
                  <a:cubicBezTo>
                    <a:pt x="638" y="2880"/>
                    <a:pt x="675" y="2779"/>
                    <a:pt x="675" y="2779"/>
                  </a:cubicBezTo>
                  <a:cubicBezTo>
                    <a:pt x="687" y="2474"/>
                    <a:pt x="697" y="2200"/>
                    <a:pt x="780" y="1909"/>
                  </a:cubicBezTo>
                  <a:cubicBezTo>
                    <a:pt x="796" y="1854"/>
                    <a:pt x="812" y="1794"/>
                    <a:pt x="840" y="1744"/>
                  </a:cubicBezTo>
                  <a:cubicBezTo>
                    <a:pt x="916" y="1608"/>
                    <a:pt x="872" y="1696"/>
                    <a:pt x="945" y="1609"/>
                  </a:cubicBezTo>
                  <a:lnTo>
                    <a:pt x="1005" y="1474"/>
                  </a:lnTo>
                  <a:cubicBezTo>
                    <a:pt x="1005" y="1474"/>
                    <a:pt x="1005" y="1474"/>
                    <a:pt x="1005" y="1474"/>
                  </a:cubicBezTo>
                  <a:cubicBezTo>
                    <a:pt x="1033" y="1437"/>
                    <a:pt x="1068" y="1407"/>
                    <a:pt x="1095" y="1369"/>
                  </a:cubicBezTo>
                  <a:cubicBezTo>
                    <a:pt x="1180" y="1250"/>
                    <a:pt x="1209" y="1108"/>
                    <a:pt x="1365" y="1069"/>
                  </a:cubicBezTo>
                  <a:cubicBezTo>
                    <a:pt x="1455" y="1074"/>
                    <a:pt x="1545" y="1077"/>
                    <a:pt x="1635" y="1084"/>
                  </a:cubicBezTo>
                  <a:cubicBezTo>
                    <a:pt x="1675" y="1087"/>
                    <a:pt x="1717" y="1085"/>
                    <a:pt x="1755" y="1099"/>
                  </a:cubicBezTo>
                  <a:cubicBezTo>
                    <a:pt x="1801" y="1116"/>
                    <a:pt x="1798" y="1161"/>
                    <a:pt x="1830" y="1189"/>
                  </a:cubicBezTo>
                  <a:cubicBezTo>
                    <a:pt x="1901" y="1252"/>
                    <a:pt x="1905" y="1245"/>
                    <a:pt x="1980" y="1264"/>
                  </a:cubicBezTo>
                  <a:cubicBezTo>
                    <a:pt x="2149" y="1208"/>
                    <a:pt x="1966" y="1264"/>
                    <a:pt x="2400" y="1234"/>
                  </a:cubicBezTo>
                  <a:cubicBezTo>
                    <a:pt x="2466" y="1229"/>
                    <a:pt x="2530" y="1211"/>
                    <a:pt x="2595" y="1204"/>
                  </a:cubicBezTo>
                  <a:cubicBezTo>
                    <a:pt x="2706" y="1167"/>
                    <a:pt x="2823" y="1145"/>
                    <a:pt x="2925" y="1084"/>
                  </a:cubicBezTo>
                  <a:cubicBezTo>
                    <a:pt x="2997" y="1041"/>
                    <a:pt x="3044" y="1000"/>
                    <a:pt x="3105" y="949"/>
                  </a:cubicBezTo>
                  <a:cubicBezTo>
                    <a:pt x="3155" y="907"/>
                    <a:pt x="3212" y="880"/>
                    <a:pt x="3255" y="829"/>
                  </a:cubicBezTo>
                  <a:cubicBezTo>
                    <a:pt x="3267" y="815"/>
                    <a:pt x="3275" y="799"/>
                    <a:pt x="3285" y="784"/>
                  </a:cubicBezTo>
                  <a:cubicBezTo>
                    <a:pt x="3300" y="764"/>
                    <a:pt x="3314" y="743"/>
                    <a:pt x="3330" y="724"/>
                  </a:cubicBezTo>
                  <a:cubicBezTo>
                    <a:pt x="3344" y="708"/>
                    <a:pt x="3363" y="696"/>
                    <a:pt x="3375" y="679"/>
                  </a:cubicBezTo>
                  <a:cubicBezTo>
                    <a:pt x="3388" y="661"/>
                    <a:pt x="3393" y="638"/>
                    <a:pt x="3405" y="619"/>
                  </a:cubicBezTo>
                  <a:cubicBezTo>
                    <a:pt x="3418" y="598"/>
                    <a:pt x="3435" y="579"/>
                    <a:pt x="3450" y="559"/>
                  </a:cubicBezTo>
                  <a:cubicBezTo>
                    <a:pt x="3484" y="458"/>
                    <a:pt x="3439" y="581"/>
                    <a:pt x="3510" y="439"/>
                  </a:cubicBezTo>
                  <a:cubicBezTo>
                    <a:pt x="3532" y="396"/>
                    <a:pt x="3547" y="346"/>
                    <a:pt x="3570" y="304"/>
                  </a:cubicBezTo>
                  <a:cubicBezTo>
                    <a:pt x="3588" y="272"/>
                    <a:pt x="3630" y="214"/>
                    <a:pt x="3630" y="214"/>
                  </a:cubicBezTo>
                  <a:cubicBezTo>
                    <a:pt x="3635" y="194"/>
                    <a:pt x="3637" y="173"/>
                    <a:pt x="3645" y="154"/>
                  </a:cubicBezTo>
                  <a:cubicBezTo>
                    <a:pt x="3702" y="21"/>
                    <a:pt x="3864" y="41"/>
                    <a:pt x="3975" y="4"/>
                  </a:cubicBezTo>
                  <a:cubicBezTo>
                    <a:pt x="3998" y="7"/>
                    <a:pt x="4124" y="0"/>
                    <a:pt x="4155" y="49"/>
                  </a:cubicBezTo>
                  <a:cubicBezTo>
                    <a:pt x="4175" y="82"/>
                    <a:pt x="4188" y="158"/>
                    <a:pt x="4200" y="199"/>
                  </a:cubicBezTo>
                  <a:cubicBezTo>
                    <a:pt x="4209" y="229"/>
                    <a:pt x="4230" y="289"/>
                    <a:pt x="4230" y="289"/>
                  </a:cubicBezTo>
                  <a:cubicBezTo>
                    <a:pt x="4262" y="510"/>
                    <a:pt x="4219" y="671"/>
                    <a:pt x="4410" y="814"/>
                  </a:cubicBezTo>
                  <a:cubicBezTo>
                    <a:pt x="4426" y="863"/>
                    <a:pt x="4459" y="899"/>
                    <a:pt x="4470" y="949"/>
                  </a:cubicBezTo>
                  <a:cubicBezTo>
                    <a:pt x="4476" y="975"/>
                    <a:pt x="4486" y="1067"/>
                    <a:pt x="4500" y="1099"/>
                  </a:cubicBezTo>
                  <a:cubicBezTo>
                    <a:pt x="4526" y="1159"/>
                    <a:pt x="4536" y="1135"/>
                    <a:pt x="4575" y="1189"/>
                  </a:cubicBezTo>
                  <a:cubicBezTo>
                    <a:pt x="4605" y="1231"/>
                    <a:pt x="4634" y="1290"/>
                    <a:pt x="4650" y="1339"/>
                  </a:cubicBezTo>
                  <a:cubicBezTo>
                    <a:pt x="4660" y="1493"/>
                    <a:pt x="4665" y="1652"/>
                    <a:pt x="4695" y="1804"/>
                  </a:cubicBezTo>
                  <a:cubicBezTo>
                    <a:pt x="4706" y="1857"/>
                    <a:pt x="4719" y="1853"/>
                    <a:pt x="4740" y="1909"/>
                  </a:cubicBezTo>
                  <a:cubicBezTo>
                    <a:pt x="4753" y="1943"/>
                    <a:pt x="4760" y="1979"/>
                    <a:pt x="4770" y="2014"/>
                  </a:cubicBezTo>
                  <a:cubicBezTo>
                    <a:pt x="4801" y="2123"/>
                    <a:pt x="4806" y="2185"/>
                    <a:pt x="4890" y="2269"/>
                  </a:cubicBezTo>
                  <a:cubicBezTo>
                    <a:pt x="4872" y="2361"/>
                    <a:pt x="4862" y="2368"/>
                    <a:pt x="4890" y="2479"/>
                  </a:cubicBezTo>
                  <a:cubicBezTo>
                    <a:pt x="4898" y="2512"/>
                    <a:pt x="4927" y="2536"/>
                    <a:pt x="4935" y="2569"/>
                  </a:cubicBezTo>
                  <a:cubicBezTo>
                    <a:pt x="4950" y="2628"/>
                    <a:pt x="4948" y="2691"/>
                    <a:pt x="4965" y="2749"/>
                  </a:cubicBezTo>
                  <a:cubicBezTo>
                    <a:pt x="4970" y="2766"/>
                    <a:pt x="4988" y="2778"/>
                    <a:pt x="4995" y="2794"/>
                  </a:cubicBezTo>
                  <a:cubicBezTo>
                    <a:pt x="5032" y="2878"/>
                    <a:pt x="5048" y="2976"/>
                    <a:pt x="5070" y="3064"/>
                  </a:cubicBezTo>
                  <a:cubicBezTo>
                    <a:pt x="5053" y="3213"/>
                    <a:pt x="5034" y="3284"/>
                    <a:pt x="5055" y="3439"/>
                  </a:cubicBezTo>
                  <a:cubicBezTo>
                    <a:pt x="5062" y="3488"/>
                    <a:pt x="5099" y="3527"/>
                    <a:pt x="5115" y="3574"/>
                  </a:cubicBezTo>
                  <a:cubicBezTo>
                    <a:pt x="5126" y="3700"/>
                    <a:pt x="5145" y="3797"/>
                    <a:pt x="5160" y="3919"/>
                  </a:cubicBezTo>
                  <a:cubicBezTo>
                    <a:pt x="5158" y="3964"/>
                    <a:pt x="5114" y="4351"/>
                    <a:pt x="5145" y="4444"/>
                  </a:cubicBezTo>
                  <a:cubicBezTo>
                    <a:pt x="5151" y="4461"/>
                    <a:pt x="5175" y="4464"/>
                    <a:pt x="5190" y="4474"/>
                  </a:cubicBezTo>
                  <a:cubicBezTo>
                    <a:pt x="5241" y="4550"/>
                    <a:pt x="5329" y="4595"/>
                    <a:pt x="5415" y="4624"/>
                  </a:cubicBezTo>
                  <a:cubicBezTo>
                    <a:pt x="5439" y="4632"/>
                    <a:pt x="5465" y="4632"/>
                    <a:pt x="5490" y="4639"/>
                  </a:cubicBezTo>
                  <a:cubicBezTo>
                    <a:pt x="5521" y="4647"/>
                    <a:pt x="5580" y="4669"/>
                    <a:pt x="5580" y="4669"/>
                  </a:cubicBezTo>
                  <a:cubicBezTo>
                    <a:pt x="5563" y="4773"/>
                    <a:pt x="5538" y="4884"/>
                    <a:pt x="5505" y="4984"/>
                  </a:cubicBezTo>
                  <a:cubicBezTo>
                    <a:pt x="5486" y="5041"/>
                    <a:pt x="5476" y="5130"/>
                    <a:pt x="5415" y="5164"/>
                  </a:cubicBezTo>
                  <a:cubicBezTo>
                    <a:pt x="5281" y="5238"/>
                    <a:pt x="5107" y="5231"/>
                    <a:pt x="4965" y="5239"/>
                  </a:cubicBezTo>
                  <a:cubicBezTo>
                    <a:pt x="4851" y="5255"/>
                    <a:pt x="4767" y="5287"/>
                    <a:pt x="4665" y="5329"/>
                  </a:cubicBezTo>
                  <a:cubicBezTo>
                    <a:pt x="4585" y="5362"/>
                    <a:pt x="4505" y="5374"/>
                    <a:pt x="4425" y="5404"/>
                  </a:cubicBezTo>
                  <a:cubicBezTo>
                    <a:pt x="4362" y="5427"/>
                    <a:pt x="4283" y="5462"/>
                    <a:pt x="4215" y="5464"/>
                  </a:cubicBezTo>
                  <a:cubicBezTo>
                    <a:pt x="3780" y="5474"/>
                    <a:pt x="3345" y="5474"/>
                    <a:pt x="2910" y="5479"/>
                  </a:cubicBezTo>
                  <a:cubicBezTo>
                    <a:pt x="2689" y="5496"/>
                    <a:pt x="2667" y="5506"/>
                    <a:pt x="2415" y="5479"/>
                  </a:cubicBezTo>
                  <a:cubicBezTo>
                    <a:pt x="2330" y="5470"/>
                    <a:pt x="2240" y="5431"/>
                    <a:pt x="2160" y="5404"/>
                  </a:cubicBezTo>
                  <a:cubicBezTo>
                    <a:pt x="2101" y="5384"/>
                    <a:pt x="2040" y="5374"/>
                    <a:pt x="1980" y="5359"/>
                  </a:cubicBezTo>
                  <a:cubicBezTo>
                    <a:pt x="1958" y="5354"/>
                    <a:pt x="1941" y="5336"/>
                    <a:pt x="1920" y="5329"/>
                  </a:cubicBezTo>
                  <a:cubicBezTo>
                    <a:pt x="1866" y="5311"/>
                    <a:pt x="1784" y="5296"/>
                    <a:pt x="1725" y="5284"/>
                  </a:cubicBezTo>
                  <a:cubicBezTo>
                    <a:pt x="1648" y="5246"/>
                    <a:pt x="1569" y="5226"/>
                    <a:pt x="1485" y="5209"/>
                  </a:cubicBezTo>
                  <a:cubicBezTo>
                    <a:pt x="1319" y="5126"/>
                    <a:pt x="1143" y="5036"/>
                    <a:pt x="960" y="4999"/>
                  </a:cubicBezTo>
                  <a:cubicBezTo>
                    <a:pt x="872" y="4955"/>
                    <a:pt x="921" y="4976"/>
                    <a:pt x="810" y="4939"/>
                  </a:cubicBezTo>
                  <a:cubicBezTo>
                    <a:pt x="793" y="4933"/>
                    <a:pt x="781" y="4916"/>
                    <a:pt x="765" y="4909"/>
                  </a:cubicBezTo>
                  <a:cubicBezTo>
                    <a:pt x="736" y="4896"/>
                    <a:pt x="705" y="4889"/>
                    <a:pt x="675" y="4879"/>
                  </a:cubicBezTo>
                  <a:cubicBezTo>
                    <a:pt x="660" y="4874"/>
                    <a:pt x="630" y="4864"/>
                    <a:pt x="630" y="4864"/>
                  </a:cubicBezTo>
                  <a:cubicBezTo>
                    <a:pt x="615" y="4849"/>
                    <a:pt x="601" y="4833"/>
                    <a:pt x="585" y="4819"/>
                  </a:cubicBezTo>
                  <a:cubicBezTo>
                    <a:pt x="542" y="4783"/>
                    <a:pt x="516" y="4789"/>
                    <a:pt x="570" y="4789"/>
                  </a:cubicBezTo>
                  <a:lnTo>
                    <a:pt x="375" y="4564"/>
                  </a:lnTo>
                  <a:close/>
                </a:path>
              </a:pathLst>
            </a:custGeom>
            <a:solidFill>
              <a:srgbClr val="ffffff">
                <a:alpha val="51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85920" y="3021120"/>
              <a:ext cx="5045040" cy="199800"/>
            </a:xfrm>
            <a:custGeom>
              <a:avLst/>
              <a:gdLst/>
              <a:ahLst/>
              <a:rect l="l" t="t" r="r" b="b"/>
              <a:pathLst>
                <a:path w="8289" h="375">
                  <a:moveTo>
                    <a:pt x="9" y="180"/>
                  </a:moveTo>
                  <a:cubicBezTo>
                    <a:pt x="110" y="146"/>
                    <a:pt x="0" y="193"/>
                    <a:pt x="84" y="120"/>
                  </a:cubicBezTo>
                  <a:cubicBezTo>
                    <a:pt x="155" y="58"/>
                    <a:pt x="208" y="32"/>
                    <a:pt x="294" y="15"/>
                  </a:cubicBezTo>
                  <a:cubicBezTo>
                    <a:pt x="319" y="20"/>
                    <a:pt x="347" y="17"/>
                    <a:pt x="369" y="30"/>
                  </a:cubicBezTo>
                  <a:cubicBezTo>
                    <a:pt x="385" y="39"/>
                    <a:pt x="386" y="62"/>
                    <a:pt x="399" y="75"/>
                  </a:cubicBezTo>
                  <a:cubicBezTo>
                    <a:pt x="434" y="110"/>
                    <a:pt x="458" y="109"/>
                    <a:pt x="504" y="120"/>
                  </a:cubicBezTo>
                  <a:cubicBezTo>
                    <a:pt x="705" y="111"/>
                    <a:pt x="866" y="94"/>
                    <a:pt x="1059" y="75"/>
                  </a:cubicBezTo>
                  <a:cubicBezTo>
                    <a:pt x="1094" y="128"/>
                    <a:pt x="1118" y="160"/>
                    <a:pt x="1179" y="180"/>
                  </a:cubicBezTo>
                  <a:cubicBezTo>
                    <a:pt x="1266" y="137"/>
                    <a:pt x="1324" y="69"/>
                    <a:pt x="1419" y="45"/>
                  </a:cubicBezTo>
                  <a:cubicBezTo>
                    <a:pt x="1528" y="154"/>
                    <a:pt x="1470" y="119"/>
                    <a:pt x="1584" y="165"/>
                  </a:cubicBezTo>
                  <a:cubicBezTo>
                    <a:pt x="1749" y="152"/>
                    <a:pt x="1877" y="156"/>
                    <a:pt x="2034" y="195"/>
                  </a:cubicBezTo>
                  <a:cubicBezTo>
                    <a:pt x="2069" y="190"/>
                    <a:pt x="2105" y="190"/>
                    <a:pt x="2139" y="180"/>
                  </a:cubicBezTo>
                  <a:cubicBezTo>
                    <a:pt x="2156" y="175"/>
                    <a:pt x="2168" y="157"/>
                    <a:pt x="2184" y="150"/>
                  </a:cubicBezTo>
                  <a:cubicBezTo>
                    <a:pt x="2213" y="137"/>
                    <a:pt x="2246" y="134"/>
                    <a:pt x="2274" y="120"/>
                  </a:cubicBezTo>
                  <a:cubicBezTo>
                    <a:pt x="2294" y="110"/>
                    <a:pt x="2314" y="100"/>
                    <a:pt x="2334" y="90"/>
                  </a:cubicBezTo>
                  <a:cubicBezTo>
                    <a:pt x="2410" y="103"/>
                    <a:pt x="2484" y="116"/>
                    <a:pt x="2559" y="135"/>
                  </a:cubicBezTo>
                  <a:cubicBezTo>
                    <a:pt x="2589" y="155"/>
                    <a:pt x="2624" y="170"/>
                    <a:pt x="2649" y="195"/>
                  </a:cubicBezTo>
                  <a:cubicBezTo>
                    <a:pt x="2664" y="210"/>
                    <a:pt x="2676" y="228"/>
                    <a:pt x="2694" y="240"/>
                  </a:cubicBezTo>
                  <a:cubicBezTo>
                    <a:pt x="2707" y="249"/>
                    <a:pt x="2725" y="248"/>
                    <a:pt x="2739" y="255"/>
                  </a:cubicBezTo>
                  <a:cubicBezTo>
                    <a:pt x="2755" y="263"/>
                    <a:pt x="2769" y="275"/>
                    <a:pt x="2784" y="285"/>
                  </a:cubicBezTo>
                  <a:cubicBezTo>
                    <a:pt x="2829" y="280"/>
                    <a:pt x="2876" y="283"/>
                    <a:pt x="2919" y="270"/>
                  </a:cubicBezTo>
                  <a:cubicBezTo>
                    <a:pt x="3006" y="244"/>
                    <a:pt x="3071" y="187"/>
                    <a:pt x="3159" y="165"/>
                  </a:cubicBezTo>
                  <a:cubicBezTo>
                    <a:pt x="3296" y="176"/>
                    <a:pt x="3345" y="182"/>
                    <a:pt x="3459" y="210"/>
                  </a:cubicBezTo>
                  <a:cubicBezTo>
                    <a:pt x="3650" y="197"/>
                    <a:pt x="3824" y="164"/>
                    <a:pt x="4014" y="150"/>
                  </a:cubicBezTo>
                  <a:cubicBezTo>
                    <a:pt x="4034" y="145"/>
                    <a:pt x="4054" y="141"/>
                    <a:pt x="4074" y="135"/>
                  </a:cubicBezTo>
                  <a:cubicBezTo>
                    <a:pt x="4089" y="131"/>
                    <a:pt x="4104" y="124"/>
                    <a:pt x="4119" y="120"/>
                  </a:cubicBezTo>
                  <a:cubicBezTo>
                    <a:pt x="4159" y="109"/>
                    <a:pt x="4239" y="90"/>
                    <a:pt x="4239" y="90"/>
                  </a:cubicBezTo>
                  <a:cubicBezTo>
                    <a:pt x="4396" y="121"/>
                    <a:pt x="4383" y="118"/>
                    <a:pt x="4599" y="105"/>
                  </a:cubicBezTo>
                  <a:cubicBezTo>
                    <a:pt x="4603" y="103"/>
                    <a:pt x="4687" y="57"/>
                    <a:pt x="4704" y="60"/>
                  </a:cubicBezTo>
                  <a:cubicBezTo>
                    <a:pt x="4722" y="63"/>
                    <a:pt x="4733" y="82"/>
                    <a:pt x="4749" y="90"/>
                  </a:cubicBezTo>
                  <a:cubicBezTo>
                    <a:pt x="4771" y="101"/>
                    <a:pt x="4835" y="115"/>
                    <a:pt x="4854" y="120"/>
                  </a:cubicBezTo>
                  <a:cubicBezTo>
                    <a:pt x="4924" y="115"/>
                    <a:pt x="4994" y="105"/>
                    <a:pt x="5064" y="105"/>
                  </a:cubicBezTo>
                  <a:cubicBezTo>
                    <a:pt x="5287" y="105"/>
                    <a:pt x="5067" y="140"/>
                    <a:pt x="5244" y="105"/>
                  </a:cubicBezTo>
                  <a:cubicBezTo>
                    <a:pt x="5312" y="60"/>
                    <a:pt x="5326" y="58"/>
                    <a:pt x="5409" y="75"/>
                  </a:cubicBezTo>
                  <a:cubicBezTo>
                    <a:pt x="5427" y="101"/>
                    <a:pt x="5441" y="142"/>
                    <a:pt x="5484" y="135"/>
                  </a:cubicBezTo>
                  <a:cubicBezTo>
                    <a:pt x="5502" y="132"/>
                    <a:pt x="5511" y="108"/>
                    <a:pt x="5529" y="105"/>
                  </a:cubicBezTo>
                  <a:cubicBezTo>
                    <a:pt x="5593" y="93"/>
                    <a:pt x="5659" y="95"/>
                    <a:pt x="5724" y="90"/>
                  </a:cubicBezTo>
                  <a:cubicBezTo>
                    <a:pt x="5739" y="80"/>
                    <a:pt x="5752" y="67"/>
                    <a:pt x="5769" y="60"/>
                  </a:cubicBezTo>
                  <a:cubicBezTo>
                    <a:pt x="5788" y="52"/>
                    <a:pt x="5811" y="55"/>
                    <a:pt x="5829" y="45"/>
                  </a:cubicBezTo>
                  <a:cubicBezTo>
                    <a:pt x="5847" y="34"/>
                    <a:pt x="5859" y="15"/>
                    <a:pt x="5874" y="0"/>
                  </a:cubicBezTo>
                  <a:cubicBezTo>
                    <a:pt x="5910" y="54"/>
                    <a:pt x="5922" y="132"/>
                    <a:pt x="5964" y="180"/>
                  </a:cubicBezTo>
                  <a:cubicBezTo>
                    <a:pt x="5974" y="192"/>
                    <a:pt x="5994" y="190"/>
                    <a:pt x="6009" y="195"/>
                  </a:cubicBezTo>
                  <a:cubicBezTo>
                    <a:pt x="6056" y="133"/>
                    <a:pt x="6070" y="88"/>
                    <a:pt x="6099" y="15"/>
                  </a:cubicBezTo>
                  <a:cubicBezTo>
                    <a:pt x="6118" y="44"/>
                    <a:pt x="6129" y="80"/>
                    <a:pt x="6174" y="75"/>
                  </a:cubicBezTo>
                  <a:cubicBezTo>
                    <a:pt x="6205" y="72"/>
                    <a:pt x="6264" y="45"/>
                    <a:pt x="6264" y="45"/>
                  </a:cubicBezTo>
                  <a:cubicBezTo>
                    <a:pt x="6336" y="57"/>
                    <a:pt x="6404" y="74"/>
                    <a:pt x="6474" y="90"/>
                  </a:cubicBezTo>
                  <a:cubicBezTo>
                    <a:pt x="6524" y="101"/>
                    <a:pt x="6574" y="110"/>
                    <a:pt x="6624" y="120"/>
                  </a:cubicBezTo>
                  <a:cubicBezTo>
                    <a:pt x="6649" y="125"/>
                    <a:pt x="6699" y="135"/>
                    <a:pt x="6699" y="135"/>
                  </a:cubicBezTo>
                  <a:cubicBezTo>
                    <a:pt x="6814" y="130"/>
                    <a:pt x="6929" y="120"/>
                    <a:pt x="7044" y="120"/>
                  </a:cubicBezTo>
                  <a:cubicBezTo>
                    <a:pt x="7090" y="120"/>
                    <a:pt x="7134" y="139"/>
                    <a:pt x="7179" y="150"/>
                  </a:cubicBezTo>
                  <a:cubicBezTo>
                    <a:pt x="7210" y="158"/>
                    <a:pt x="7269" y="180"/>
                    <a:pt x="7269" y="180"/>
                  </a:cubicBezTo>
                  <a:cubicBezTo>
                    <a:pt x="7338" y="249"/>
                    <a:pt x="7316" y="252"/>
                    <a:pt x="7404" y="240"/>
                  </a:cubicBezTo>
                  <a:cubicBezTo>
                    <a:pt x="7464" y="232"/>
                    <a:pt x="7524" y="229"/>
                    <a:pt x="7584" y="225"/>
                  </a:cubicBezTo>
                  <a:cubicBezTo>
                    <a:pt x="7674" y="219"/>
                    <a:pt x="7764" y="215"/>
                    <a:pt x="7854" y="210"/>
                  </a:cubicBezTo>
                  <a:cubicBezTo>
                    <a:pt x="7859" y="225"/>
                    <a:pt x="7865" y="240"/>
                    <a:pt x="7869" y="255"/>
                  </a:cubicBezTo>
                  <a:cubicBezTo>
                    <a:pt x="7875" y="275"/>
                    <a:pt x="7866" y="304"/>
                    <a:pt x="7884" y="315"/>
                  </a:cubicBezTo>
                  <a:cubicBezTo>
                    <a:pt x="7902" y="326"/>
                    <a:pt x="7924" y="305"/>
                    <a:pt x="7944" y="300"/>
                  </a:cubicBezTo>
                  <a:cubicBezTo>
                    <a:pt x="7954" y="285"/>
                    <a:pt x="7956" y="259"/>
                    <a:pt x="7974" y="255"/>
                  </a:cubicBezTo>
                  <a:cubicBezTo>
                    <a:pt x="8081" y="231"/>
                    <a:pt x="8057" y="271"/>
                    <a:pt x="8124" y="300"/>
                  </a:cubicBezTo>
                  <a:cubicBezTo>
                    <a:pt x="8187" y="327"/>
                    <a:pt x="8237" y="323"/>
                    <a:pt x="8289" y="375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187280" y="1413000"/>
              <a:ext cx="2190960" cy="76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Softverska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organizacij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68360" y="2205000"/>
              <a:ext cx="703440" cy="1023840"/>
            </a:xfrm>
            <a:custGeom>
              <a:avLst/>
              <a:gdLst>
                <a:gd name="textAreaLeft" fmla="*/ 93960 w 703440"/>
                <a:gd name="textAreaRight" fmla="*/ 609480 w 703440"/>
                <a:gd name="textAreaTop" fmla="*/ 178920 h 1023840"/>
                <a:gd name="textAreaBottom" fmla="*/ 742320 h 10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 txBox="1"/>
          <p:nvPr/>
        </p:nvSpPr>
        <p:spPr>
          <a:xfrm>
            <a:off x="2698920" y="5854680"/>
            <a:ext cx="31683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Kako ga vidim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99640" y="2592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Njegovo veli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č</a:t>
            </a: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anstvo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 – Softver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8431200" y="6161040"/>
            <a:ext cx="712800" cy="6969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250920" y="1052640"/>
            <a:ext cx="846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5f5f5f"/>
                </a:solidFill>
                <a:latin typeface="Arial"/>
              </a:rPr>
              <a:t>logički povezan niz instrukcija koji upravlja radom računarskog sistem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1258920" y="2141640"/>
            <a:ext cx="7200720" cy="446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99640" y="2592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Njegovo veli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č</a:t>
            </a: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anstvo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 – Softver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8431200" y="6161040"/>
            <a:ext cx="712800" cy="696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826920" y="1697760"/>
            <a:ext cx="679608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Sistemski soft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0000" y="3426840"/>
            <a:ext cx="6796080" cy="764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Aplikativni soft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6920" y="186480"/>
            <a:ext cx="6796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Sistemski softv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11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Sistemski soft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5f5f5f"/>
                </a:solidFill>
                <a:latin typeface="Arial"/>
              </a:rPr>
              <a:t>obuhvata programe koji upravljaju radom računarskog sistema</a:t>
            </a:r>
            <a:r>
              <a:rPr b="1" lang="en-US" sz="3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sr-Latn-CS" sz="3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1280" y="2205000"/>
            <a:ext cx="3276360" cy="350532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505320"/>
              <a:gd name="textAreaBottom" fmla="*/ 3345480 h 350532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cc"/>
          </a:soli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perati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vni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sistem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OS)</a:t>
            </a:r>
            <a:br>
              <a:rPr sz="2400"/>
            </a:b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edstavlja skup program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oji koordiniraju s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ktivnosti računarsko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hardvera i uređaja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mogućavaju korisnicom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kretanje i eksploata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plikativnog softv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33920" y="4191120"/>
            <a:ext cx="4343400" cy="2346120"/>
          </a:xfrm>
          <a:prstGeom prst="roundRect">
            <a:avLst>
              <a:gd name="adj" fmla="val 16667"/>
            </a:avLst>
          </a:prstGeom>
          <a:solidFill>
            <a:srgbClr val="d94439"/>
          </a:soli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Pomočni programi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mogućavaju održav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računarskog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jegovih uređaja i/ili progra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0560" y="-252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Aplikativni softv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Aplikativni soft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pretstavlja program ili skup programa koji podržavaju specifične poslove korisnika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700360" y="3975120"/>
            <a:ext cx="18288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imes New Roman"/>
              </a:rPr>
              <a:t>Grafič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imes New Roman"/>
              </a:rPr>
              <a:t>prezent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00360" y="3213000"/>
            <a:ext cx="1828800" cy="762120"/>
          </a:xfrm>
          <a:prstGeom prst="rect">
            <a:avLst/>
          </a:prstGeom>
          <a:solidFill>
            <a:srgbClr val="d944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imes New Roman"/>
              </a:rPr>
              <a:t>Rad 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imes New Roman"/>
              </a:rPr>
              <a:t>tabel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71560" y="3975120"/>
            <a:ext cx="1828800" cy="762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imes New Roman"/>
              </a:rPr>
              <a:t>Baz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imes New Roman"/>
              </a:rPr>
              <a:t>podata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71560" y="3213000"/>
            <a:ext cx="1828800" cy="7621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imes New Roman"/>
              </a:rPr>
              <a:t>Ob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cc"/>
                </a:solidFill>
                <a:latin typeface="Times New Roman"/>
              </a:rPr>
              <a:t>tek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4788000" y="1844640"/>
            <a:ext cx="2976480" cy="479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798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Njegovo veli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č</a:t>
            </a: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anstvo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 – Konfiguracija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76212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132000" y="3429000"/>
            <a:ext cx="182592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Računa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484360" y="2133720"/>
            <a:ext cx="3395880" cy="2948040"/>
          </a:xfrm>
          <a:custGeom>
            <a:avLst/>
            <a:gdLst/>
            <a:ahLst/>
            <a:rect l="l" t="t" r="r" b="b"/>
            <a:pathLst>
              <a:path w="5580" h="5506">
                <a:moveTo>
                  <a:pt x="375" y="4564"/>
                </a:moveTo>
                <a:cubicBezTo>
                  <a:pt x="370" y="4539"/>
                  <a:pt x="369" y="4513"/>
                  <a:pt x="360" y="4489"/>
                </a:cubicBezTo>
                <a:cubicBezTo>
                  <a:pt x="344" y="4447"/>
                  <a:pt x="300" y="4369"/>
                  <a:pt x="300" y="4369"/>
                </a:cubicBezTo>
                <a:cubicBezTo>
                  <a:pt x="270" y="4217"/>
                  <a:pt x="309" y="4371"/>
                  <a:pt x="240" y="4219"/>
                </a:cubicBezTo>
                <a:cubicBezTo>
                  <a:pt x="203" y="4138"/>
                  <a:pt x="185" y="4054"/>
                  <a:pt x="135" y="3979"/>
                </a:cubicBezTo>
                <a:lnTo>
                  <a:pt x="60" y="3829"/>
                </a:lnTo>
                <a:cubicBezTo>
                  <a:pt x="60" y="3829"/>
                  <a:pt x="60" y="3829"/>
                  <a:pt x="60" y="3829"/>
                </a:cubicBezTo>
                <a:cubicBezTo>
                  <a:pt x="23" y="3718"/>
                  <a:pt x="44" y="3767"/>
                  <a:pt x="0" y="3679"/>
                </a:cubicBezTo>
                <a:cubicBezTo>
                  <a:pt x="10" y="3624"/>
                  <a:pt x="10" y="3566"/>
                  <a:pt x="30" y="3514"/>
                </a:cubicBezTo>
                <a:cubicBezTo>
                  <a:pt x="36" y="3497"/>
                  <a:pt x="61" y="3496"/>
                  <a:pt x="75" y="3484"/>
                </a:cubicBezTo>
                <a:cubicBezTo>
                  <a:pt x="113" y="3452"/>
                  <a:pt x="157" y="3427"/>
                  <a:pt x="195" y="3394"/>
                </a:cubicBezTo>
                <a:cubicBezTo>
                  <a:pt x="270" y="3330"/>
                  <a:pt x="323" y="3239"/>
                  <a:pt x="405" y="3184"/>
                </a:cubicBezTo>
                <a:cubicBezTo>
                  <a:pt x="420" y="3174"/>
                  <a:pt x="438" y="3167"/>
                  <a:pt x="450" y="3154"/>
                </a:cubicBezTo>
                <a:cubicBezTo>
                  <a:pt x="490" y="3111"/>
                  <a:pt x="582" y="3000"/>
                  <a:pt x="615" y="2929"/>
                </a:cubicBezTo>
                <a:cubicBezTo>
                  <a:pt x="638" y="2880"/>
                  <a:pt x="675" y="2779"/>
                  <a:pt x="675" y="2779"/>
                </a:cubicBezTo>
                <a:cubicBezTo>
                  <a:pt x="687" y="2474"/>
                  <a:pt x="697" y="2200"/>
                  <a:pt x="780" y="1909"/>
                </a:cubicBezTo>
                <a:cubicBezTo>
                  <a:pt x="796" y="1854"/>
                  <a:pt x="812" y="1794"/>
                  <a:pt x="840" y="1744"/>
                </a:cubicBezTo>
                <a:cubicBezTo>
                  <a:pt x="916" y="1608"/>
                  <a:pt x="872" y="1696"/>
                  <a:pt x="945" y="1609"/>
                </a:cubicBezTo>
                <a:lnTo>
                  <a:pt x="1005" y="1474"/>
                </a:lnTo>
                <a:cubicBezTo>
                  <a:pt x="1005" y="1474"/>
                  <a:pt x="1005" y="1474"/>
                  <a:pt x="1005" y="1474"/>
                </a:cubicBezTo>
                <a:cubicBezTo>
                  <a:pt x="1033" y="1437"/>
                  <a:pt x="1068" y="1407"/>
                  <a:pt x="1095" y="1369"/>
                </a:cubicBezTo>
                <a:cubicBezTo>
                  <a:pt x="1180" y="1250"/>
                  <a:pt x="1209" y="1108"/>
                  <a:pt x="1365" y="1069"/>
                </a:cubicBezTo>
                <a:cubicBezTo>
                  <a:pt x="1455" y="1074"/>
                  <a:pt x="1545" y="1077"/>
                  <a:pt x="1635" y="1084"/>
                </a:cubicBezTo>
                <a:cubicBezTo>
                  <a:pt x="1675" y="1087"/>
                  <a:pt x="1717" y="1085"/>
                  <a:pt x="1755" y="1099"/>
                </a:cubicBezTo>
                <a:cubicBezTo>
                  <a:pt x="1801" y="1116"/>
                  <a:pt x="1798" y="1161"/>
                  <a:pt x="1830" y="1189"/>
                </a:cubicBezTo>
                <a:cubicBezTo>
                  <a:pt x="1901" y="1252"/>
                  <a:pt x="1905" y="1245"/>
                  <a:pt x="1980" y="1264"/>
                </a:cubicBezTo>
                <a:cubicBezTo>
                  <a:pt x="2149" y="1208"/>
                  <a:pt x="1966" y="1264"/>
                  <a:pt x="2400" y="1234"/>
                </a:cubicBezTo>
                <a:cubicBezTo>
                  <a:pt x="2466" y="1229"/>
                  <a:pt x="2530" y="1211"/>
                  <a:pt x="2595" y="1204"/>
                </a:cubicBezTo>
                <a:cubicBezTo>
                  <a:pt x="2706" y="1167"/>
                  <a:pt x="2823" y="1145"/>
                  <a:pt x="2925" y="1084"/>
                </a:cubicBezTo>
                <a:cubicBezTo>
                  <a:pt x="2997" y="1041"/>
                  <a:pt x="3044" y="1000"/>
                  <a:pt x="3105" y="949"/>
                </a:cubicBezTo>
                <a:cubicBezTo>
                  <a:pt x="3155" y="907"/>
                  <a:pt x="3212" y="880"/>
                  <a:pt x="3255" y="829"/>
                </a:cubicBezTo>
                <a:cubicBezTo>
                  <a:pt x="3267" y="815"/>
                  <a:pt x="3275" y="799"/>
                  <a:pt x="3285" y="784"/>
                </a:cubicBezTo>
                <a:cubicBezTo>
                  <a:pt x="3300" y="764"/>
                  <a:pt x="3314" y="743"/>
                  <a:pt x="3330" y="724"/>
                </a:cubicBezTo>
                <a:cubicBezTo>
                  <a:pt x="3344" y="708"/>
                  <a:pt x="3363" y="696"/>
                  <a:pt x="3375" y="679"/>
                </a:cubicBezTo>
                <a:cubicBezTo>
                  <a:pt x="3388" y="661"/>
                  <a:pt x="3393" y="638"/>
                  <a:pt x="3405" y="619"/>
                </a:cubicBezTo>
                <a:cubicBezTo>
                  <a:pt x="3418" y="598"/>
                  <a:pt x="3435" y="579"/>
                  <a:pt x="3450" y="559"/>
                </a:cubicBezTo>
                <a:cubicBezTo>
                  <a:pt x="3484" y="458"/>
                  <a:pt x="3439" y="581"/>
                  <a:pt x="3510" y="439"/>
                </a:cubicBezTo>
                <a:cubicBezTo>
                  <a:pt x="3532" y="396"/>
                  <a:pt x="3547" y="346"/>
                  <a:pt x="3570" y="304"/>
                </a:cubicBezTo>
                <a:cubicBezTo>
                  <a:pt x="3588" y="272"/>
                  <a:pt x="3630" y="214"/>
                  <a:pt x="3630" y="214"/>
                </a:cubicBezTo>
                <a:cubicBezTo>
                  <a:pt x="3635" y="194"/>
                  <a:pt x="3637" y="173"/>
                  <a:pt x="3645" y="154"/>
                </a:cubicBezTo>
                <a:cubicBezTo>
                  <a:pt x="3702" y="21"/>
                  <a:pt x="3864" y="41"/>
                  <a:pt x="3975" y="4"/>
                </a:cubicBezTo>
                <a:cubicBezTo>
                  <a:pt x="3998" y="7"/>
                  <a:pt x="4124" y="0"/>
                  <a:pt x="4155" y="49"/>
                </a:cubicBezTo>
                <a:cubicBezTo>
                  <a:pt x="4175" y="82"/>
                  <a:pt x="4188" y="158"/>
                  <a:pt x="4200" y="199"/>
                </a:cubicBezTo>
                <a:cubicBezTo>
                  <a:pt x="4209" y="229"/>
                  <a:pt x="4230" y="289"/>
                  <a:pt x="4230" y="289"/>
                </a:cubicBezTo>
                <a:cubicBezTo>
                  <a:pt x="4262" y="510"/>
                  <a:pt x="4219" y="671"/>
                  <a:pt x="4410" y="814"/>
                </a:cubicBezTo>
                <a:cubicBezTo>
                  <a:pt x="4426" y="863"/>
                  <a:pt x="4459" y="899"/>
                  <a:pt x="4470" y="949"/>
                </a:cubicBezTo>
                <a:cubicBezTo>
                  <a:pt x="4476" y="975"/>
                  <a:pt x="4486" y="1067"/>
                  <a:pt x="4500" y="1099"/>
                </a:cubicBezTo>
                <a:cubicBezTo>
                  <a:pt x="4526" y="1159"/>
                  <a:pt x="4536" y="1135"/>
                  <a:pt x="4575" y="1189"/>
                </a:cubicBezTo>
                <a:cubicBezTo>
                  <a:pt x="4605" y="1231"/>
                  <a:pt x="4634" y="1290"/>
                  <a:pt x="4650" y="1339"/>
                </a:cubicBezTo>
                <a:cubicBezTo>
                  <a:pt x="4660" y="1493"/>
                  <a:pt x="4665" y="1652"/>
                  <a:pt x="4695" y="1804"/>
                </a:cubicBezTo>
                <a:cubicBezTo>
                  <a:pt x="4706" y="1857"/>
                  <a:pt x="4719" y="1853"/>
                  <a:pt x="4740" y="1909"/>
                </a:cubicBezTo>
                <a:cubicBezTo>
                  <a:pt x="4753" y="1943"/>
                  <a:pt x="4760" y="1979"/>
                  <a:pt x="4770" y="2014"/>
                </a:cubicBezTo>
                <a:cubicBezTo>
                  <a:pt x="4801" y="2123"/>
                  <a:pt x="4806" y="2185"/>
                  <a:pt x="4890" y="2269"/>
                </a:cubicBezTo>
                <a:cubicBezTo>
                  <a:pt x="4872" y="2361"/>
                  <a:pt x="4862" y="2368"/>
                  <a:pt x="4890" y="2479"/>
                </a:cubicBezTo>
                <a:cubicBezTo>
                  <a:pt x="4898" y="2512"/>
                  <a:pt x="4927" y="2536"/>
                  <a:pt x="4935" y="2569"/>
                </a:cubicBezTo>
                <a:cubicBezTo>
                  <a:pt x="4950" y="2628"/>
                  <a:pt x="4948" y="2691"/>
                  <a:pt x="4965" y="2749"/>
                </a:cubicBezTo>
                <a:cubicBezTo>
                  <a:pt x="4970" y="2766"/>
                  <a:pt x="4988" y="2778"/>
                  <a:pt x="4995" y="2794"/>
                </a:cubicBezTo>
                <a:cubicBezTo>
                  <a:pt x="5032" y="2878"/>
                  <a:pt x="5048" y="2976"/>
                  <a:pt x="5070" y="3064"/>
                </a:cubicBezTo>
                <a:cubicBezTo>
                  <a:pt x="5053" y="3213"/>
                  <a:pt x="5034" y="3284"/>
                  <a:pt x="5055" y="3439"/>
                </a:cubicBezTo>
                <a:cubicBezTo>
                  <a:pt x="5062" y="3488"/>
                  <a:pt x="5099" y="3527"/>
                  <a:pt x="5115" y="3574"/>
                </a:cubicBezTo>
                <a:cubicBezTo>
                  <a:pt x="5126" y="3700"/>
                  <a:pt x="5145" y="3797"/>
                  <a:pt x="5160" y="3919"/>
                </a:cubicBezTo>
                <a:cubicBezTo>
                  <a:pt x="5158" y="3964"/>
                  <a:pt x="5114" y="4351"/>
                  <a:pt x="5145" y="4444"/>
                </a:cubicBezTo>
                <a:cubicBezTo>
                  <a:pt x="5151" y="4461"/>
                  <a:pt x="5175" y="4464"/>
                  <a:pt x="5190" y="4474"/>
                </a:cubicBezTo>
                <a:cubicBezTo>
                  <a:pt x="5241" y="4550"/>
                  <a:pt x="5329" y="4595"/>
                  <a:pt x="5415" y="4624"/>
                </a:cubicBezTo>
                <a:cubicBezTo>
                  <a:pt x="5439" y="4632"/>
                  <a:pt x="5465" y="4632"/>
                  <a:pt x="5490" y="4639"/>
                </a:cubicBezTo>
                <a:cubicBezTo>
                  <a:pt x="5521" y="4647"/>
                  <a:pt x="5580" y="4669"/>
                  <a:pt x="5580" y="4669"/>
                </a:cubicBezTo>
                <a:cubicBezTo>
                  <a:pt x="5563" y="4773"/>
                  <a:pt x="5538" y="4884"/>
                  <a:pt x="5505" y="4984"/>
                </a:cubicBezTo>
                <a:cubicBezTo>
                  <a:pt x="5486" y="5041"/>
                  <a:pt x="5476" y="5130"/>
                  <a:pt x="5415" y="5164"/>
                </a:cubicBezTo>
                <a:cubicBezTo>
                  <a:pt x="5281" y="5238"/>
                  <a:pt x="5107" y="5231"/>
                  <a:pt x="4965" y="5239"/>
                </a:cubicBezTo>
                <a:cubicBezTo>
                  <a:pt x="4851" y="5255"/>
                  <a:pt x="4767" y="5287"/>
                  <a:pt x="4665" y="5329"/>
                </a:cubicBezTo>
                <a:cubicBezTo>
                  <a:pt x="4585" y="5362"/>
                  <a:pt x="4505" y="5374"/>
                  <a:pt x="4425" y="5404"/>
                </a:cubicBezTo>
                <a:cubicBezTo>
                  <a:pt x="4362" y="5427"/>
                  <a:pt x="4283" y="5462"/>
                  <a:pt x="4215" y="5464"/>
                </a:cubicBezTo>
                <a:cubicBezTo>
                  <a:pt x="3780" y="5474"/>
                  <a:pt x="3345" y="5474"/>
                  <a:pt x="2910" y="5479"/>
                </a:cubicBezTo>
                <a:cubicBezTo>
                  <a:pt x="2689" y="5496"/>
                  <a:pt x="2667" y="5506"/>
                  <a:pt x="2415" y="5479"/>
                </a:cubicBezTo>
                <a:cubicBezTo>
                  <a:pt x="2330" y="5470"/>
                  <a:pt x="2240" y="5431"/>
                  <a:pt x="2160" y="5404"/>
                </a:cubicBezTo>
                <a:cubicBezTo>
                  <a:pt x="2101" y="5384"/>
                  <a:pt x="2040" y="5374"/>
                  <a:pt x="1980" y="5359"/>
                </a:cubicBezTo>
                <a:cubicBezTo>
                  <a:pt x="1958" y="5354"/>
                  <a:pt x="1941" y="5336"/>
                  <a:pt x="1920" y="5329"/>
                </a:cubicBezTo>
                <a:cubicBezTo>
                  <a:pt x="1866" y="5311"/>
                  <a:pt x="1784" y="5296"/>
                  <a:pt x="1725" y="5284"/>
                </a:cubicBezTo>
                <a:cubicBezTo>
                  <a:pt x="1648" y="5246"/>
                  <a:pt x="1569" y="5226"/>
                  <a:pt x="1485" y="5209"/>
                </a:cubicBezTo>
                <a:cubicBezTo>
                  <a:pt x="1319" y="5126"/>
                  <a:pt x="1143" y="5036"/>
                  <a:pt x="960" y="4999"/>
                </a:cubicBezTo>
                <a:cubicBezTo>
                  <a:pt x="872" y="4955"/>
                  <a:pt x="921" y="4976"/>
                  <a:pt x="810" y="4939"/>
                </a:cubicBezTo>
                <a:cubicBezTo>
                  <a:pt x="793" y="4933"/>
                  <a:pt x="781" y="4916"/>
                  <a:pt x="765" y="4909"/>
                </a:cubicBezTo>
                <a:cubicBezTo>
                  <a:pt x="736" y="4896"/>
                  <a:pt x="705" y="4889"/>
                  <a:pt x="675" y="4879"/>
                </a:cubicBezTo>
                <a:cubicBezTo>
                  <a:pt x="660" y="4874"/>
                  <a:pt x="630" y="4864"/>
                  <a:pt x="630" y="4864"/>
                </a:cubicBezTo>
                <a:cubicBezTo>
                  <a:pt x="615" y="4849"/>
                  <a:pt x="601" y="4833"/>
                  <a:pt x="585" y="4819"/>
                </a:cubicBezTo>
                <a:cubicBezTo>
                  <a:pt x="542" y="4783"/>
                  <a:pt x="516" y="4789"/>
                  <a:pt x="570" y="4789"/>
                </a:cubicBezTo>
                <a:lnTo>
                  <a:pt x="375" y="4564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79640" y="2492280"/>
            <a:ext cx="5045040" cy="200160"/>
          </a:xfrm>
          <a:custGeom>
            <a:avLst/>
            <a:gdLst/>
            <a:ahLst/>
            <a:rect l="l" t="t" r="r" b="b"/>
            <a:pathLst>
              <a:path w="8289" h="375">
                <a:moveTo>
                  <a:pt x="9" y="180"/>
                </a:moveTo>
                <a:cubicBezTo>
                  <a:pt x="110" y="146"/>
                  <a:pt x="0" y="193"/>
                  <a:pt x="84" y="120"/>
                </a:cubicBezTo>
                <a:cubicBezTo>
                  <a:pt x="155" y="58"/>
                  <a:pt x="208" y="32"/>
                  <a:pt x="294" y="15"/>
                </a:cubicBezTo>
                <a:cubicBezTo>
                  <a:pt x="319" y="20"/>
                  <a:pt x="347" y="17"/>
                  <a:pt x="369" y="30"/>
                </a:cubicBezTo>
                <a:cubicBezTo>
                  <a:pt x="385" y="39"/>
                  <a:pt x="386" y="62"/>
                  <a:pt x="399" y="75"/>
                </a:cubicBezTo>
                <a:cubicBezTo>
                  <a:pt x="434" y="110"/>
                  <a:pt x="458" y="109"/>
                  <a:pt x="504" y="120"/>
                </a:cubicBezTo>
                <a:cubicBezTo>
                  <a:pt x="705" y="111"/>
                  <a:pt x="866" y="94"/>
                  <a:pt x="1059" y="75"/>
                </a:cubicBezTo>
                <a:cubicBezTo>
                  <a:pt x="1094" y="128"/>
                  <a:pt x="1118" y="160"/>
                  <a:pt x="1179" y="180"/>
                </a:cubicBezTo>
                <a:cubicBezTo>
                  <a:pt x="1266" y="137"/>
                  <a:pt x="1324" y="69"/>
                  <a:pt x="1419" y="45"/>
                </a:cubicBezTo>
                <a:cubicBezTo>
                  <a:pt x="1528" y="154"/>
                  <a:pt x="1470" y="119"/>
                  <a:pt x="1584" y="165"/>
                </a:cubicBezTo>
                <a:cubicBezTo>
                  <a:pt x="1749" y="152"/>
                  <a:pt x="1877" y="156"/>
                  <a:pt x="2034" y="195"/>
                </a:cubicBezTo>
                <a:cubicBezTo>
                  <a:pt x="2069" y="190"/>
                  <a:pt x="2105" y="190"/>
                  <a:pt x="2139" y="180"/>
                </a:cubicBezTo>
                <a:cubicBezTo>
                  <a:pt x="2156" y="175"/>
                  <a:pt x="2168" y="157"/>
                  <a:pt x="2184" y="150"/>
                </a:cubicBezTo>
                <a:cubicBezTo>
                  <a:pt x="2213" y="137"/>
                  <a:pt x="2246" y="134"/>
                  <a:pt x="2274" y="120"/>
                </a:cubicBezTo>
                <a:cubicBezTo>
                  <a:pt x="2294" y="110"/>
                  <a:pt x="2314" y="100"/>
                  <a:pt x="2334" y="90"/>
                </a:cubicBezTo>
                <a:cubicBezTo>
                  <a:pt x="2410" y="103"/>
                  <a:pt x="2484" y="116"/>
                  <a:pt x="2559" y="135"/>
                </a:cubicBezTo>
                <a:cubicBezTo>
                  <a:pt x="2589" y="155"/>
                  <a:pt x="2624" y="170"/>
                  <a:pt x="2649" y="195"/>
                </a:cubicBezTo>
                <a:cubicBezTo>
                  <a:pt x="2664" y="210"/>
                  <a:pt x="2676" y="228"/>
                  <a:pt x="2694" y="240"/>
                </a:cubicBezTo>
                <a:cubicBezTo>
                  <a:pt x="2707" y="249"/>
                  <a:pt x="2725" y="248"/>
                  <a:pt x="2739" y="255"/>
                </a:cubicBezTo>
                <a:cubicBezTo>
                  <a:pt x="2755" y="263"/>
                  <a:pt x="2769" y="275"/>
                  <a:pt x="2784" y="285"/>
                </a:cubicBezTo>
                <a:cubicBezTo>
                  <a:pt x="2829" y="280"/>
                  <a:pt x="2876" y="283"/>
                  <a:pt x="2919" y="270"/>
                </a:cubicBezTo>
                <a:cubicBezTo>
                  <a:pt x="3006" y="244"/>
                  <a:pt x="3071" y="187"/>
                  <a:pt x="3159" y="165"/>
                </a:cubicBezTo>
                <a:cubicBezTo>
                  <a:pt x="3296" y="176"/>
                  <a:pt x="3345" y="182"/>
                  <a:pt x="3459" y="210"/>
                </a:cubicBezTo>
                <a:cubicBezTo>
                  <a:pt x="3650" y="197"/>
                  <a:pt x="3824" y="164"/>
                  <a:pt x="4014" y="150"/>
                </a:cubicBezTo>
                <a:cubicBezTo>
                  <a:pt x="4034" y="145"/>
                  <a:pt x="4054" y="141"/>
                  <a:pt x="4074" y="135"/>
                </a:cubicBezTo>
                <a:cubicBezTo>
                  <a:pt x="4089" y="131"/>
                  <a:pt x="4104" y="124"/>
                  <a:pt x="4119" y="120"/>
                </a:cubicBezTo>
                <a:cubicBezTo>
                  <a:pt x="4159" y="109"/>
                  <a:pt x="4239" y="90"/>
                  <a:pt x="4239" y="90"/>
                </a:cubicBezTo>
                <a:cubicBezTo>
                  <a:pt x="4396" y="121"/>
                  <a:pt x="4383" y="118"/>
                  <a:pt x="4599" y="105"/>
                </a:cubicBezTo>
                <a:cubicBezTo>
                  <a:pt x="4603" y="103"/>
                  <a:pt x="4687" y="57"/>
                  <a:pt x="4704" y="60"/>
                </a:cubicBezTo>
                <a:cubicBezTo>
                  <a:pt x="4722" y="63"/>
                  <a:pt x="4733" y="82"/>
                  <a:pt x="4749" y="90"/>
                </a:cubicBezTo>
                <a:cubicBezTo>
                  <a:pt x="4771" y="101"/>
                  <a:pt x="4835" y="115"/>
                  <a:pt x="4854" y="120"/>
                </a:cubicBezTo>
                <a:cubicBezTo>
                  <a:pt x="4924" y="115"/>
                  <a:pt x="4994" y="105"/>
                  <a:pt x="5064" y="105"/>
                </a:cubicBezTo>
                <a:cubicBezTo>
                  <a:pt x="5287" y="105"/>
                  <a:pt x="5067" y="140"/>
                  <a:pt x="5244" y="105"/>
                </a:cubicBezTo>
                <a:cubicBezTo>
                  <a:pt x="5312" y="60"/>
                  <a:pt x="5326" y="58"/>
                  <a:pt x="5409" y="75"/>
                </a:cubicBezTo>
                <a:cubicBezTo>
                  <a:pt x="5427" y="101"/>
                  <a:pt x="5441" y="142"/>
                  <a:pt x="5484" y="135"/>
                </a:cubicBezTo>
                <a:cubicBezTo>
                  <a:pt x="5502" y="132"/>
                  <a:pt x="5511" y="108"/>
                  <a:pt x="5529" y="105"/>
                </a:cubicBezTo>
                <a:cubicBezTo>
                  <a:pt x="5593" y="93"/>
                  <a:pt x="5659" y="95"/>
                  <a:pt x="5724" y="90"/>
                </a:cubicBezTo>
                <a:cubicBezTo>
                  <a:pt x="5739" y="80"/>
                  <a:pt x="5752" y="67"/>
                  <a:pt x="5769" y="60"/>
                </a:cubicBezTo>
                <a:cubicBezTo>
                  <a:pt x="5788" y="52"/>
                  <a:pt x="5811" y="55"/>
                  <a:pt x="5829" y="45"/>
                </a:cubicBezTo>
                <a:cubicBezTo>
                  <a:pt x="5847" y="34"/>
                  <a:pt x="5859" y="15"/>
                  <a:pt x="5874" y="0"/>
                </a:cubicBezTo>
                <a:cubicBezTo>
                  <a:pt x="5910" y="54"/>
                  <a:pt x="5922" y="132"/>
                  <a:pt x="5964" y="180"/>
                </a:cubicBezTo>
                <a:cubicBezTo>
                  <a:pt x="5974" y="192"/>
                  <a:pt x="5994" y="190"/>
                  <a:pt x="6009" y="195"/>
                </a:cubicBezTo>
                <a:cubicBezTo>
                  <a:pt x="6056" y="133"/>
                  <a:pt x="6070" y="88"/>
                  <a:pt x="6099" y="15"/>
                </a:cubicBezTo>
                <a:cubicBezTo>
                  <a:pt x="6118" y="44"/>
                  <a:pt x="6129" y="80"/>
                  <a:pt x="6174" y="75"/>
                </a:cubicBezTo>
                <a:cubicBezTo>
                  <a:pt x="6205" y="72"/>
                  <a:pt x="6264" y="45"/>
                  <a:pt x="6264" y="45"/>
                </a:cubicBezTo>
                <a:cubicBezTo>
                  <a:pt x="6336" y="57"/>
                  <a:pt x="6404" y="74"/>
                  <a:pt x="6474" y="90"/>
                </a:cubicBezTo>
                <a:cubicBezTo>
                  <a:pt x="6524" y="101"/>
                  <a:pt x="6574" y="110"/>
                  <a:pt x="6624" y="120"/>
                </a:cubicBezTo>
                <a:cubicBezTo>
                  <a:pt x="6649" y="125"/>
                  <a:pt x="6699" y="135"/>
                  <a:pt x="6699" y="135"/>
                </a:cubicBezTo>
                <a:cubicBezTo>
                  <a:pt x="6814" y="130"/>
                  <a:pt x="6929" y="120"/>
                  <a:pt x="7044" y="120"/>
                </a:cubicBezTo>
                <a:cubicBezTo>
                  <a:pt x="7090" y="120"/>
                  <a:pt x="7134" y="139"/>
                  <a:pt x="7179" y="150"/>
                </a:cubicBezTo>
                <a:cubicBezTo>
                  <a:pt x="7210" y="158"/>
                  <a:pt x="7269" y="180"/>
                  <a:pt x="7269" y="180"/>
                </a:cubicBezTo>
                <a:cubicBezTo>
                  <a:pt x="7338" y="249"/>
                  <a:pt x="7316" y="252"/>
                  <a:pt x="7404" y="240"/>
                </a:cubicBezTo>
                <a:cubicBezTo>
                  <a:pt x="7464" y="232"/>
                  <a:pt x="7524" y="229"/>
                  <a:pt x="7584" y="225"/>
                </a:cubicBezTo>
                <a:cubicBezTo>
                  <a:pt x="7674" y="219"/>
                  <a:pt x="7764" y="215"/>
                  <a:pt x="7854" y="210"/>
                </a:cubicBezTo>
                <a:cubicBezTo>
                  <a:pt x="7859" y="225"/>
                  <a:pt x="7865" y="240"/>
                  <a:pt x="7869" y="255"/>
                </a:cubicBezTo>
                <a:cubicBezTo>
                  <a:pt x="7875" y="275"/>
                  <a:pt x="7866" y="304"/>
                  <a:pt x="7884" y="315"/>
                </a:cubicBezTo>
                <a:cubicBezTo>
                  <a:pt x="7902" y="326"/>
                  <a:pt x="7924" y="305"/>
                  <a:pt x="7944" y="300"/>
                </a:cubicBezTo>
                <a:cubicBezTo>
                  <a:pt x="7954" y="285"/>
                  <a:pt x="7956" y="259"/>
                  <a:pt x="7974" y="255"/>
                </a:cubicBezTo>
                <a:cubicBezTo>
                  <a:pt x="8081" y="231"/>
                  <a:pt x="8057" y="271"/>
                  <a:pt x="8124" y="300"/>
                </a:cubicBezTo>
                <a:cubicBezTo>
                  <a:pt x="8187" y="327"/>
                  <a:pt x="8237" y="323"/>
                  <a:pt x="8289" y="375"/>
                </a:cubicBezTo>
              </a:path>
            </a:pathLst>
          </a:custGeom>
          <a:noFill/>
          <a:ln w="28440">
            <a:solidFill>
              <a:srgbClr val="0033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698920" y="5854680"/>
            <a:ext cx="31683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Kako ga vidim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3308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Kategorije računar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258920" y="1773360"/>
            <a:ext cx="3962520" cy="1027080"/>
            <a:chOff x="1258920" y="1773360"/>
            <a:chExt cx="3962520" cy="1027080"/>
          </a:xfrm>
        </p:grpSpPr>
        <p:sp>
          <p:nvSpPr>
            <p:cNvPr id="457" name=""/>
            <p:cNvSpPr/>
            <p:nvPr/>
          </p:nvSpPr>
          <p:spPr>
            <a:xfrm>
              <a:off x="1258920" y="1773360"/>
              <a:ext cx="3962520" cy="1027080"/>
            </a:xfrm>
            <a:custGeom>
              <a:avLst/>
              <a:gdLst>
                <a:gd name="textAreaLeft" fmla="*/ 0 w 3962520"/>
                <a:gd name="textAreaRight" fmla="*/ 3962880 w 3962520"/>
                <a:gd name="textAreaTop" fmla="*/ 132840 h 1027080"/>
                <a:gd name="textAreaBottom" fmla="*/ 8942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34880" y="2103480"/>
              <a:ext cx="37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ff"/>
                  </a:solidFill>
                  <a:latin typeface="Times New Roman"/>
                </a:rPr>
                <a:t>Personalni računari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(deskto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240000" y="2651040"/>
            <a:ext cx="3962160" cy="1319760"/>
            <a:chOff x="3240000" y="2651040"/>
            <a:chExt cx="3962160" cy="1319760"/>
          </a:xfrm>
        </p:grpSpPr>
        <p:sp>
          <p:nvSpPr>
            <p:cNvPr id="460" name=""/>
            <p:cNvSpPr/>
            <p:nvPr/>
          </p:nvSpPr>
          <p:spPr>
            <a:xfrm>
              <a:off x="3240000" y="2651040"/>
              <a:ext cx="3962160" cy="1027080"/>
            </a:xfrm>
            <a:custGeom>
              <a:avLst/>
              <a:gdLst>
                <a:gd name="textAreaLeft" fmla="*/ 0 w 3962160"/>
                <a:gd name="textAreaRight" fmla="*/ 3962520 w 3962160"/>
                <a:gd name="textAreaTop" fmla="*/ 132840 h 1027080"/>
                <a:gd name="textAreaBottom" fmla="*/ 8942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26160" y="2779560"/>
              <a:ext cx="2588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Mobilni računari 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mobilni uređaji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258920" y="3525840"/>
            <a:ext cx="3962160" cy="1027080"/>
            <a:chOff x="1258920" y="3525840"/>
            <a:chExt cx="3962160" cy="1027080"/>
          </a:xfrm>
        </p:grpSpPr>
        <p:sp>
          <p:nvSpPr>
            <p:cNvPr id="463" name=""/>
            <p:cNvSpPr/>
            <p:nvPr/>
          </p:nvSpPr>
          <p:spPr>
            <a:xfrm>
              <a:off x="1258920" y="3525840"/>
              <a:ext cx="3962160" cy="1027080"/>
            </a:xfrm>
            <a:custGeom>
              <a:avLst/>
              <a:gdLst>
                <a:gd name="textAreaLeft" fmla="*/ 0 w 3962160"/>
                <a:gd name="textAreaRight" fmla="*/ 3962520 w 3962160"/>
                <a:gd name="textAreaTop" fmla="*/ 132840 h 1027080"/>
                <a:gd name="textAreaBottom" fmla="*/ 8942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85480" y="385056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Serveri srednje sn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240000" y="4403880"/>
            <a:ext cx="3962520" cy="1027080"/>
            <a:chOff x="3240000" y="4403880"/>
            <a:chExt cx="3962520" cy="1027080"/>
          </a:xfrm>
        </p:grpSpPr>
        <p:sp>
          <p:nvSpPr>
            <p:cNvPr id="466" name=""/>
            <p:cNvSpPr/>
            <p:nvPr/>
          </p:nvSpPr>
          <p:spPr>
            <a:xfrm>
              <a:off x="3240000" y="4403880"/>
              <a:ext cx="3962520" cy="1027080"/>
            </a:xfrm>
            <a:custGeom>
              <a:avLst/>
              <a:gdLst>
                <a:gd name="textAreaLeft" fmla="*/ 0 w 3962520"/>
                <a:gd name="textAreaRight" fmla="*/ 3962880 w 3962520"/>
                <a:gd name="textAreaTop" fmla="*/ 132840 h 1027080"/>
                <a:gd name="textAreaBottom" fmla="*/ 8942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d9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78920" y="4728600"/>
              <a:ext cx="28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inframe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račun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258920" y="5278320"/>
            <a:ext cx="3962520" cy="1027080"/>
            <a:chOff x="1258920" y="5278320"/>
            <a:chExt cx="3962520" cy="1027080"/>
          </a:xfrm>
        </p:grpSpPr>
        <p:sp>
          <p:nvSpPr>
            <p:cNvPr id="469" name=""/>
            <p:cNvSpPr/>
            <p:nvPr/>
          </p:nvSpPr>
          <p:spPr>
            <a:xfrm>
              <a:off x="1258920" y="5278320"/>
              <a:ext cx="3962520" cy="1027080"/>
            </a:xfrm>
            <a:custGeom>
              <a:avLst/>
              <a:gdLst>
                <a:gd name="textAreaLeft" fmla="*/ 0 w 3962520"/>
                <a:gd name="textAreaRight" fmla="*/ 3962880 w 3962520"/>
                <a:gd name="textAreaTop" fmla="*/ 132840 h 1027080"/>
                <a:gd name="textAreaBottom" fmla="*/ 894240 h 10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158560" y="5603040"/>
              <a:ext cx="21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per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-računa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79280" y="7200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Personalni računari-1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585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495000" algn="just">
              <a:spcBef>
                <a:spcPts val="700"/>
              </a:spcBef>
              <a:buClr>
                <a:srgbClr val="5f5f5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ve najpopularnije seri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d94439"/>
                </a:solidFill>
                <a:latin typeface="Arial"/>
              </a:rPr>
              <a:t>persona</a:t>
            </a:r>
            <a:r>
              <a:rPr b="1" lang="sr-Latn-CS" sz="2800" spc="-1" strike="noStrike">
                <a:solidFill>
                  <a:srgbClr val="d94439"/>
                </a:solidFill>
                <a:latin typeface="Arial"/>
              </a:rPr>
              <a:t>lnih računara</a:t>
            </a:r>
            <a:r>
              <a:rPr b="1" lang="en-US" sz="2800" spc="-1" strike="noStrike">
                <a:solidFill>
                  <a:srgbClr val="d94439"/>
                </a:solidFill>
                <a:latin typeface="Arial"/>
              </a:rPr>
              <a:t> (P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9280" y="1989000"/>
            <a:ext cx="3809880" cy="3962160"/>
            <a:chOff x="179280" y="1989000"/>
            <a:chExt cx="3809880" cy="3962160"/>
          </a:xfrm>
        </p:grpSpPr>
        <p:sp>
          <p:nvSpPr>
            <p:cNvPr id="474" name=""/>
            <p:cNvSpPr/>
            <p:nvPr/>
          </p:nvSpPr>
          <p:spPr>
            <a:xfrm>
              <a:off x="179280" y="1989000"/>
              <a:ext cx="380988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spcBef>
                  <a:spcPts val="1624"/>
                </a:spcBef>
                <a:buClr>
                  <a:srgbClr val="d94439"/>
                </a:buClr>
                <a:buSzPct val="7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</a:rPr>
                <a:t>INTEL-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PC 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</a:rPr>
                <a:t>kompatibilni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</a:rPr>
                <a:t>korist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Windows O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1"/>
            <a:stretch/>
          </p:blipFill>
          <p:spPr>
            <a:xfrm>
              <a:off x="261720" y="3428640"/>
              <a:ext cx="3727440" cy="25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6" name=""/>
          <p:cNvGrpSpPr/>
          <p:nvPr/>
        </p:nvGrpSpPr>
        <p:grpSpPr>
          <a:xfrm>
            <a:off x="4500720" y="1989000"/>
            <a:ext cx="3429000" cy="4571640"/>
            <a:chOff x="4500720" y="1989000"/>
            <a:chExt cx="3429000" cy="4571640"/>
          </a:xfrm>
        </p:grpSpPr>
        <p:sp>
          <p:nvSpPr>
            <p:cNvPr id="477" name=""/>
            <p:cNvSpPr/>
            <p:nvPr/>
          </p:nvSpPr>
          <p:spPr>
            <a:xfrm>
              <a:off x="4500720" y="1989000"/>
              <a:ext cx="34290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>
                <a:spcBef>
                  <a:spcPts val="1624"/>
                </a:spcBef>
                <a:buClr>
                  <a:srgbClr val="d94439"/>
                </a:buClr>
                <a:buSzPct val="7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e Macintosh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</a:rPr>
                <a:t>korist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Macintosh operati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</a:rPr>
                <a:t>vni sistem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Mac O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4653000" y="3842640"/>
              <a:ext cx="2962440" cy="271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6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00"/>
                </a:solidFill>
                <a:latin typeface="Arial Black"/>
              </a:rPr>
              <a:t>Korpus znanja i veština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95280" y="1413000"/>
            <a:ext cx="8209080" cy="4705560"/>
            <a:chOff x="395280" y="1413000"/>
            <a:chExt cx="8209080" cy="4705560"/>
          </a:xfrm>
        </p:grpSpPr>
        <p:sp>
          <p:nvSpPr>
            <p:cNvPr id="99" name=""/>
            <p:cNvSpPr/>
            <p:nvPr/>
          </p:nvSpPr>
          <p:spPr>
            <a:xfrm>
              <a:off x="969840" y="1413000"/>
              <a:ext cx="2808360" cy="45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olici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6200" y="1413000"/>
              <a:ext cx="2808360" cy="459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Informat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1280" y="3284640"/>
              <a:ext cx="4032360" cy="459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olicijska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Informat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2698200" y="1844280"/>
              <a:ext cx="79236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076720" y="1917360"/>
              <a:ext cx="86364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5280" y="4005360"/>
              <a:ext cx="2089080" cy="2113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olicijsko obrazovanj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Tehnologija procesa rada u policiji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14920" y="4076640"/>
              <a:ext cx="2089440" cy="174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Informatičko obrazovanj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Informacione tehnologij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6804000" y="1844280"/>
              <a:ext cx="100800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114200" y="1915920"/>
              <a:ext cx="792360" cy="20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240" y="2880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Personalni računari-2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5041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5f5f5f"/>
                </a:solidFill>
                <a:latin typeface="Arial"/>
              </a:rPr>
              <a:t>desktop račun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notebook (laptop) </a:t>
            </a:r>
            <a:r>
              <a:rPr b="1" lang="sr-Latn-CS" sz="3200" spc="-1" strike="noStrike">
                <a:solidFill>
                  <a:srgbClr val="5f5f5f"/>
                </a:solidFill>
                <a:latin typeface="Arial"/>
              </a:rPr>
              <a:t>račun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5f5f5f"/>
                </a:solidFill>
                <a:latin typeface="Arial"/>
              </a:rPr>
              <a:t>nosivi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5f5f5f"/>
                </a:solidFill>
                <a:latin typeface="Arial"/>
              </a:rPr>
              <a:t>račun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5f5f5f"/>
                </a:solidFill>
                <a:latin typeface="Arial"/>
              </a:rPr>
              <a:t>lični digitalni pomoćnik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 (P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5219640" y="981000"/>
            <a:ext cx="2214720" cy="22338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2843280" y="4437000"/>
            <a:ext cx="2008080" cy="2089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5580000" y="3213000"/>
            <a:ext cx="2016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-1800"/>
            <a:ext cx="8280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00"/>
                </a:solidFill>
                <a:latin typeface="Arial Black"/>
              </a:rPr>
              <a:t>GUI – Grafički korisnički interfej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20640"/>
            <a:ext cx="5076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zvoljava da korisnici stupaju u interakciju sa softverom uz oslonac na grafičke ik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ntrolišu način unosa podataka i prikazivanja inform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5111640" y="620640"/>
            <a:ext cx="4032360" cy="30974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47876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8920" y="187560"/>
            <a:ext cx="838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Serveri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, Mainframe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i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 Super</a:t>
            </a:r>
            <a:r>
              <a:rPr b="0" lang="sr-Latn-CS" sz="2800" spc="-1" strike="noStrike">
                <a:solidFill>
                  <a:srgbClr val="003300"/>
                </a:solidFill>
                <a:latin typeface="Arial Black"/>
              </a:rPr>
              <a:t>-računari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50920" y="1916280"/>
            <a:ext cx="8593200" cy="3090600"/>
            <a:chOff x="250920" y="1916280"/>
            <a:chExt cx="8593200" cy="3090600"/>
          </a:xfrm>
        </p:grpSpPr>
        <p:pic>
          <p:nvPicPr>
            <p:cNvPr id="490" name="" descr=""/>
            <p:cNvPicPr/>
            <p:nvPr/>
          </p:nvPicPr>
          <p:blipFill>
            <a:blip r:embed="rId1"/>
            <a:stretch/>
          </p:blipFill>
          <p:spPr>
            <a:xfrm>
              <a:off x="6443640" y="1916280"/>
              <a:ext cx="2400480" cy="30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250920" y="3141720"/>
              <a:ext cx="48974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4439"/>
                  </a:solidFill>
                  <a:latin typeface="Times New Roman"/>
                </a:rPr>
                <a:t>Mainframe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Vrlo jaki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skupi računari koji pružaju usluge velikom broju drugih računar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50920" y="765000"/>
            <a:ext cx="5852880" cy="1981440"/>
            <a:chOff x="250920" y="765000"/>
            <a:chExt cx="5852880" cy="1981440"/>
          </a:xfrm>
        </p:grpSpPr>
        <p:sp>
          <p:nvSpPr>
            <p:cNvPr id="493" name=""/>
            <p:cNvSpPr/>
            <p:nvPr/>
          </p:nvSpPr>
          <p:spPr>
            <a:xfrm>
              <a:off x="250920" y="1125360"/>
              <a:ext cx="419868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d94439"/>
                  </a:solidFill>
                  <a:latin typeface="Times New Roman"/>
                </a:rPr>
                <a:t>Serveri srednje snage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Snažni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veliki računari koji podržavaju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do nekoliko hiljada konkurentnih korisnika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4572000" y="765000"/>
              <a:ext cx="1531800" cy="19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5" name=""/>
          <p:cNvGrpSpPr/>
          <p:nvPr/>
        </p:nvGrpSpPr>
        <p:grpSpPr>
          <a:xfrm>
            <a:off x="179280" y="4724280"/>
            <a:ext cx="7834320" cy="1800360"/>
            <a:chOff x="179280" y="4724280"/>
            <a:chExt cx="7834320" cy="1800360"/>
          </a:xfrm>
        </p:grpSpPr>
        <p:sp>
          <p:nvSpPr>
            <p:cNvPr id="496" name=""/>
            <p:cNvSpPr/>
            <p:nvPr/>
          </p:nvSpPr>
          <p:spPr>
            <a:xfrm>
              <a:off x="179280" y="4724280"/>
              <a:ext cx="4267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4439"/>
                  </a:solidFill>
                  <a:latin typeface="Times New Roman"/>
                </a:rPr>
                <a:t>Supercomp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Brzi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izuzetno snažni i izuzetno skupi računari. Koriste se za aplikacije koje zahtevaju složene matematičke proračune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3"/>
            <a:stretch/>
          </p:blipFill>
          <p:spPr>
            <a:xfrm>
              <a:off x="4356000" y="5157720"/>
              <a:ext cx="365760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240" y="21672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Korišćenje računar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rcRect l="0" t="1493" r="0" b="0"/>
          <a:stretch/>
        </p:blipFill>
        <p:spPr>
          <a:xfrm>
            <a:off x="3276720" y="914400"/>
            <a:ext cx="5867280" cy="5943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0" name=""/>
          <p:cNvSpPr/>
          <p:nvPr/>
        </p:nvSpPr>
        <p:spPr>
          <a:xfrm>
            <a:off x="250920" y="1413000"/>
            <a:ext cx="28954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375"/>
              </a:spcBef>
              <a:buClr>
                <a:srgbClr val="5f5f5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5f5f5f"/>
                </a:solidFill>
                <a:latin typeface="Times New Roman"/>
              </a:rPr>
              <a:t>Kućne potreb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375"/>
              </a:spcBef>
              <a:buClr>
                <a:srgbClr val="5f5f5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5f5f5f"/>
                </a:solidFill>
                <a:latin typeface="Times New Roman"/>
              </a:rPr>
              <a:t>Mali poslovni sistem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375"/>
              </a:spcBef>
              <a:buClr>
                <a:srgbClr val="5f5f5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5f5f5f"/>
                </a:solidFill>
                <a:latin typeface="Times New Roman"/>
              </a:rPr>
              <a:t>Mobilni korisni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375"/>
              </a:spcBef>
              <a:buClr>
                <a:srgbClr val="5f5f5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5f5f5f"/>
                </a:solidFill>
                <a:latin typeface="Times New Roman"/>
              </a:rPr>
              <a:t>Veliki poslovni sistem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375"/>
              </a:spcBef>
              <a:buClr>
                <a:srgbClr val="5f5f5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375"/>
              </a:spcBef>
              <a:buClr>
                <a:srgbClr val="5f5f5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5f5f5f"/>
                </a:solidFill>
                <a:latin typeface="Times New Roman"/>
              </a:rPr>
              <a:t>Zahtevni korisni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226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00"/>
                </a:solidFill>
                <a:latin typeface="Arial Black"/>
              </a:rPr>
              <a:t>Današnje okruženje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042920" y="1916280"/>
            <a:ext cx="6624720" cy="3346200"/>
            <a:chOff x="1042920" y="1916280"/>
            <a:chExt cx="6624720" cy="3346200"/>
          </a:xfrm>
        </p:grpSpPr>
        <p:sp>
          <p:nvSpPr>
            <p:cNvPr id="503" name=""/>
            <p:cNvSpPr/>
            <p:nvPr/>
          </p:nvSpPr>
          <p:spPr>
            <a:xfrm>
              <a:off x="1042920" y="1916280"/>
              <a:ext cx="2808360" cy="825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Informacione Tehnologi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59280" y="1916280"/>
              <a:ext cx="2808360" cy="825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ffff"/>
                  </a:solidFill>
                  <a:latin typeface="Times New Roman"/>
                </a:rPr>
                <a:t>Komunikacione Tehnologi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13080" y="4437000"/>
              <a:ext cx="4032360" cy="825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rimena informaciono-komunikacionih tehnologi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916000" y="2779560"/>
              <a:ext cx="108108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861080" y="2779560"/>
              <a:ext cx="129672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798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Njegovo veli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č</a:t>
            </a:r>
            <a:r>
              <a:rPr b="1" i="1" lang="en-US" sz="3600" spc="-1" strike="noStrike">
                <a:solidFill>
                  <a:srgbClr val="cc9900"/>
                </a:solidFill>
                <a:latin typeface="Arial Narrow"/>
              </a:rPr>
              <a:t>anstvo</a:t>
            </a:r>
            <a:r>
              <a:rPr b="1" i="1" lang="sr-Latn-CS" sz="3600" spc="-1" strike="noStrike">
                <a:solidFill>
                  <a:srgbClr val="cc9900"/>
                </a:solidFill>
                <a:latin typeface="Arial Narrow"/>
              </a:rPr>
              <a:t> – Rešavanje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955800" cy="93348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76212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117880" y="5859360"/>
            <a:ext cx="362736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Kako to radim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447920" y="1219320"/>
            <a:ext cx="5778360" cy="4435200"/>
            <a:chOff x="1447920" y="1219320"/>
            <a:chExt cx="5778360" cy="4435200"/>
          </a:xfrm>
        </p:grpSpPr>
        <p:sp>
          <p:nvSpPr>
            <p:cNvPr id="514" name=""/>
            <p:cNvSpPr txBox="1"/>
            <p:nvPr/>
          </p:nvSpPr>
          <p:spPr>
            <a:xfrm>
              <a:off x="2268360" y="3357720"/>
              <a:ext cx="2808360" cy="143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Rešavanje problema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primenom računara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97120" y="2052720"/>
              <a:ext cx="3889440" cy="3132000"/>
            </a:xfrm>
            <a:custGeom>
              <a:avLst/>
              <a:gdLst/>
              <a:ahLst/>
              <a:rect l="l" t="t" r="r" b="b"/>
              <a:pathLst>
                <a:path w="5580" h="5506">
                  <a:moveTo>
                    <a:pt x="375" y="4564"/>
                  </a:moveTo>
                  <a:cubicBezTo>
                    <a:pt x="370" y="4539"/>
                    <a:pt x="369" y="4513"/>
                    <a:pt x="360" y="4489"/>
                  </a:cubicBezTo>
                  <a:cubicBezTo>
                    <a:pt x="344" y="4447"/>
                    <a:pt x="300" y="4369"/>
                    <a:pt x="300" y="4369"/>
                  </a:cubicBezTo>
                  <a:cubicBezTo>
                    <a:pt x="270" y="4217"/>
                    <a:pt x="309" y="4371"/>
                    <a:pt x="240" y="4219"/>
                  </a:cubicBezTo>
                  <a:cubicBezTo>
                    <a:pt x="203" y="4138"/>
                    <a:pt x="185" y="4054"/>
                    <a:pt x="135" y="3979"/>
                  </a:cubicBezTo>
                  <a:lnTo>
                    <a:pt x="60" y="3829"/>
                  </a:lnTo>
                  <a:cubicBezTo>
                    <a:pt x="60" y="3829"/>
                    <a:pt x="60" y="3829"/>
                    <a:pt x="60" y="3829"/>
                  </a:cubicBezTo>
                  <a:cubicBezTo>
                    <a:pt x="23" y="3718"/>
                    <a:pt x="44" y="3767"/>
                    <a:pt x="0" y="3679"/>
                  </a:cubicBezTo>
                  <a:cubicBezTo>
                    <a:pt x="10" y="3624"/>
                    <a:pt x="10" y="3566"/>
                    <a:pt x="30" y="3514"/>
                  </a:cubicBezTo>
                  <a:cubicBezTo>
                    <a:pt x="36" y="3497"/>
                    <a:pt x="61" y="3496"/>
                    <a:pt x="75" y="3484"/>
                  </a:cubicBezTo>
                  <a:cubicBezTo>
                    <a:pt x="113" y="3452"/>
                    <a:pt x="157" y="3427"/>
                    <a:pt x="195" y="3394"/>
                  </a:cubicBezTo>
                  <a:cubicBezTo>
                    <a:pt x="270" y="3330"/>
                    <a:pt x="323" y="3239"/>
                    <a:pt x="405" y="3184"/>
                  </a:cubicBezTo>
                  <a:cubicBezTo>
                    <a:pt x="420" y="3174"/>
                    <a:pt x="438" y="3167"/>
                    <a:pt x="450" y="3154"/>
                  </a:cubicBezTo>
                  <a:cubicBezTo>
                    <a:pt x="490" y="3111"/>
                    <a:pt x="582" y="3000"/>
                    <a:pt x="615" y="2929"/>
                  </a:cubicBezTo>
                  <a:cubicBezTo>
                    <a:pt x="638" y="2880"/>
                    <a:pt x="675" y="2779"/>
                    <a:pt x="675" y="2779"/>
                  </a:cubicBezTo>
                  <a:cubicBezTo>
                    <a:pt x="687" y="2474"/>
                    <a:pt x="697" y="2200"/>
                    <a:pt x="780" y="1909"/>
                  </a:cubicBezTo>
                  <a:cubicBezTo>
                    <a:pt x="796" y="1854"/>
                    <a:pt x="812" y="1794"/>
                    <a:pt x="840" y="1744"/>
                  </a:cubicBezTo>
                  <a:cubicBezTo>
                    <a:pt x="916" y="1608"/>
                    <a:pt x="872" y="1696"/>
                    <a:pt x="945" y="1609"/>
                  </a:cubicBezTo>
                  <a:lnTo>
                    <a:pt x="1005" y="1474"/>
                  </a:lnTo>
                  <a:cubicBezTo>
                    <a:pt x="1005" y="1474"/>
                    <a:pt x="1005" y="1474"/>
                    <a:pt x="1005" y="1474"/>
                  </a:cubicBezTo>
                  <a:cubicBezTo>
                    <a:pt x="1033" y="1437"/>
                    <a:pt x="1068" y="1407"/>
                    <a:pt x="1095" y="1369"/>
                  </a:cubicBezTo>
                  <a:cubicBezTo>
                    <a:pt x="1180" y="1250"/>
                    <a:pt x="1209" y="1108"/>
                    <a:pt x="1365" y="1069"/>
                  </a:cubicBezTo>
                  <a:cubicBezTo>
                    <a:pt x="1455" y="1074"/>
                    <a:pt x="1545" y="1077"/>
                    <a:pt x="1635" y="1084"/>
                  </a:cubicBezTo>
                  <a:cubicBezTo>
                    <a:pt x="1675" y="1087"/>
                    <a:pt x="1717" y="1085"/>
                    <a:pt x="1755" y="1099"/>
                  </a:cubicBezTo>
                  <a:cubicBezTo>
                    <a:pt x="1801" y="1116"/>
                    <a:pt x="1798" y="1161"/>
                    <a:pt x="1830" y="1189"/>
                  </a:cubicBezTo>
                  <a:cubicBezTo>
                    <a:pt x="1901" y="1252"/>
                    <a:pt x="1905" y="1245"/>
                    <a:pt x="1980" y="1264"/>
                  </a:cubicBezTo>
                  <a:cubicBezTo>
                    <a:pt x="2149" y="1208"/>
                    <a:pt x="1966" y="1264"/>
                    <a:pt x="2400" y="1234"/>
                  </a:cubicBezTo>
                  <a:cubicBezTo>
                    <a:pt x="2466" y="1229"/>
                    <a:pt x="2530" y="1211"/>
                    <a:pt x="2595" y="1204"/>
                  </a:cubicBezTo>
                  <a:cubicBezTo>
                    <a:pt x="2706" y="1167"/>
                    <a:pt x="2823" y="1145"/>
                    <a:pt x="2925" y="1084"/>
                  </a:cubicBezTo>
                  <a:cubicBezTo>
                    <a:pt x="2997" y="1041"/>
                    <a:pt x="3044" y="1000"/>
                    <a:pt x="3105" y="949"/>
                  </a:cubicBezTo>
                  <a:cubicBezTo>
                    <a:pt x="3155" y="907"/>
                    <a:pt x="3212" y="880"/>
                    <a:pt x="3255" y="829"/>
                  </a:cubicBezTo>
                  <a:cubicBezTo>
                    <a:pt x="3267" y="815"/>
                    <a:pt x="3275" y="799"/>
                    <a:pt x="3285" y="784"/>
                  </a:cubicBezTo>
                  <a:cubicBezTo>
                    <a:pt x="3300" y="764"/>
                    <a:pt x="3314" y="743"/>
                    <a:pt x="3330" y="724"/>
                  </a:cubicBezTo>
                  <a:cubicBezTo>
                    <a:pt x="3344" y="708"/>
                    <a:pt x="3363" y="696"/>
                    <a:pt x="3375" y="679"/>
                  </a:cubicBezTo>
                  <a:cubicBezTo>
                    <a:pt x="3388" y="661"/>
                    <a:pt x="3393" y="638"/>
                    <a:pt x="3405" y="619"/>
                  </a:cubicBezTo>
                  <a:cubicBezTo>
                    <a:pt x="3418" y="598"/>
                    <a:pt x="3435" y="579"/>
                    <a:pt x="3450" y="559"/>
                  </a:cubicBezTo>
                  <a:cubicBezTo>
                    <a:pt x="3484" y="458"/>
                    <a:pt x="3439" y="581"/>
                    <a:pt x="3510" y="439"/>
                  </a:cubicBezTo>
                  <a:cubicBezTo>
                    <a:pt x="3532" y="396"/>
                    <a:pt x="3547" y="346"/>
                    <a:pt x="3570" y="304"/>
                  </a:cubicBezTo>
                  <a:cubicBezTo>
                    <a:pt x="3588" y="272"/>
                    <a:pt x="3630" y="214"/>
                    <a:pt x="3630" y="214"/>
                  </a:cubicBezTo>
                  <a:cubicBezTo>
                    <a:pt x="3635" y="194"/>
                    <a:pt x="3637" y="173"/>
                    <a:pt x="3645" y="154"/>
                  </a:cubicBezTo>
                  <a:cubicBezTo>
                    <a:pt x="3702" y="21"/>
                    <a:pt x="3864" y="41"/>
                    <a:pt x="3975" y="4"/>
                  </a:cubicBezTo>
                  <a:cubicBezTo>
                    <a:pt x="3998" y="7"/>
                    <a:pt x="4124" y="0"/>
                    <a:pt x="4155" y="49"/>
                  </a:cubicBezTo>
                  <a:cubicBezTo>
                    <a:pt x="4175" y="82"/>
                    <a:pt x="4188" y="158"/>
                    <a:pt x="4200" y="199"/>
                  </a:cubicBezTo>
                  <a:cubicBezTo>
                    <a:pt x="4209" y="229"/>
                    <a:pt x="4230" y="289"/>
                    <a:pt x="4230" y="289"/>
                  </a:cubicBezTo>
                  <a:cubicBezTo>
                    <a:pt x="4262" y="510"/>
                    <a:pt x="4219" y="671"/>
                    <a:pt x="4410" y="814"/>
                  </a:cubicBezTo>
                  <a:cubicBezTo>
                    <a:pt x="4426" y="863"/>
                    <a:pt x="4459" y="899"/>
                    <a:pt x="4470" y="949"/>
                  </a:cubicBezTo>
                  <a:cubicBezTo>
                    <a:pt x="4476" y="975"/>
                    <a:pt x="4486" y="1067"/>
                    <a:pt x="4500" y="1099"/>
                  </a:cubicBezTo>
                  <a:cubicBezTo>
                    <a:pt x="4526" y="1159"/>
                    <a:pt x="4536" y="1135"/>
                    <a:pt x="4575" y="1189"/>
                  </a:cubicBezTo>
                  <a:cubicBezTo>
                    <a:pt x="4605" y="1231"/>
                    <a:pt x="4634" y="1290"/>
                    <a:pt x="4650" y="1339"/>
                  </a:cubicBezTo>
                  <a:cubicBezTo>
                    <a:pt x="4660" y="1493"/>
                    <a:pt x="4665" y="1652"/>
                    <a:pt x="4695" y="1804"/>
                  </a:cubicBezTo>
                  <a:cubicBezTo>
                    <a:pt x="4706" y="1857"/>
                    <a:pt x="4719" y="1853"/>
                    <a:pt x="4740" y="1909"/>
                  </a:cubicBezTo>
                  <a:cubicBezTo>
                    <a:pt x="4753" y="1943"/>
                    <a:pt x="4760" y="1979"/>
                    <a:pt x="4770" y="2014"/>
                  </a:cubicBezTo>
                  <a:cubicBezTo>
                    <a:pt x="4801" y="2123"/>
                    <a:pt x="4806" y="2185"/>
                    <a:pt x="4890" y="2269"/>
                  </a:cubicBezTo>
                  <a:cubicBezTo>
                    <a:pt x="4872" y="2361"/>
                    <a:pt x="4862" y="2368"/>
                    <a:pt x="4890" y="2479"/>
                  </a:cubicBezTo>
                  <a:cubicBezTo>
                    <a:pt x="4898" y="2512"/>
                    <a:pt x="4927" y="2536"/>
                    <a:pt x="4935" y="2569"/>
                  </a:cubicBezTo>
                  <a:cubicBezTo>
                    <a:pt x="4950" y="2628"/>
                    <a:pt x="4948" y="2691"/>
                    <a:pt x="4965" y="2749"/>
                  </a:cubicBezTo>
                  <a:cubicBezTo>
                    <a:pt x="4970" y="2766"/>
                    <a:pt x="4988" y="2778"/>
                    <a:pt x="4995" y="2794"/>
                  </a:cubicBezTo>
                  <a:cubicBezTo>
                    <a:pt x="5032" y="2878"/>
                    <a:pt x="5048" y="2976"/>
                    <a:pt x="5070" y="3064"/>
                  </a:cubicBezTo>
                  <a:cubicBezTo>
                    <a:pt x="5053" y="3213"/>
                    <a:pt x="5034" y="3284"/>
                    <a:pt x="5055" y="3439"/>
                  </a:cubicBezTo>
                  <a:cubicBezTo>
                    <a:pt x="5062" y="3488"/>
                    <a:pt x="5099" y="3527"/>
                    <a:pt x="5115" y="3574"/>
                  </a:cubicBezTo>
                  <a:cubicBezTo>
                    <a:pt x="5126" y="3700"/>
                    <a:pt x="5145" y="3797"/>
                    <a:pt x="5160" y="3919"/>
                  </a:cubicBezTo>
                  <a:cubicBezTo>
                    <a:pt x="5158" y="3964"/>
                    <a:pt x="5114" y="4351"/>
                    <a:pt x="5145" y="4444"/>
                  </a:cubicBezTo>
                  <a:cubicBezTo>
                    <a:pt x="5151" y="4461"/>
                    <a:pt x="5175" y="4464"/>
                    <a:pt x="5190" y="4474"/>
                  </a:cubicBezTo>
                  <a:cubicBezTo>
                    <a:pt x="5241" y="4550"/>
                    <a:pt x="5329" y="4595"/>
                    <a:pt x="5415" y="4624"/>
                  </a:cubicBezTo>
                  <a:cubicBezTo>
                    <a:pt x="5439" y="4632"/>
                    <a:pt x="5465" y="4632"/>
                    <a:pt x="5490" y="4639"/>
                  </a:cubicBezTo>
                  <a:cubicBezTo>
                    <a:pt x="5521" y="4647"/>
                    <a:pt x="5580" y="4669"/>
                    <a:pt x="5580" y="4669"/>
                  </a:cubicBezTo>
                  <a:cubicBezTo>
                    <a:pt x="5563" y="4773"/>
                    <a:pt x="5538" y="4884"/>
                    <a:pt x="5505" y="4984"/>
                  </a:cubicBezTo>
                  <a:cubicBezTo>
                    <a:pt x="5486" y="5041"/>
                    <a:pt x="5476" y="5130"/>
                    <a:pt x="5415" y="5164"/>
                  </a:cubicBezTo>
                  <a:cubicBezTo>
                    <a:pt x="5281" y="5238"/>
                    <a:pt x="5107" y="5231"/>
                    <a:pt x="4965" y="5239"/>
                  </a:cubicBezTo>
                  <a:cubicBezTo>
                    <a:pt x="4851" y="5255"/>
                    <a:pt x="4767" y="5287"/>
                    <a:pt x="4665" y="5329"/>
                  </a:cubicBezTo>
                  <a:cubicBezTo>
                    <a:pt x="4585" y="5362"/>
                    <a:pt x="4505" y="5374"/>
                    <a:pt x="4425" y="5404"/>
                  </a:cubicBezTo>
                  <a:cubicBezTo>
                    <a:pt x="4362" y="5427"/>
                    <a:pt x="4283" y="5462"/>
                    <a:pt x="4215" y="5464"/>
                  </a:cubicBezTo>
                  <a:cubicBezTo>
                    <a:pt x="3780" y="5474"/>
                    <a:pt x="3345" y="5474"/>
                    <a:pt x="2910" y="5479"/>
                  </a:cubicBezTo>
                  <a:cubicBezTo>
                    <a:pt x="2689" y="5496"/>
                    <a:pt x="2667" y="5506"/>
                    <a:pt x="2415" y="5479"/>
                  </a:cubicBezTo>
                  <a:cubicBezTo>
                    <a:pt x="2330" y="5470"/>
                    <a:pt x="2240" y="5431"/>
                    <a:pt x="2160" y="5404"/>
                  </a:cubicBezTo>
                  <a:cubicBezTo>
                    <a:pt x="2101" y="5384"/>
                    <a:pt x="2040" y="5374"/>
                    <a:pt x="1980" y="5359"/>
                  </a:cubicBezTo>
                  <a:cubicBezTo>
                    <a:pt x="1958" y="5354"/>
                    <a:pt x="1941" y="5336"/>
                    <a:pt x="1920" y="5329"/>
                  </a:cubicBezTo>
                  <a:cubicBezTo>
                    <a:pt x="1866" y="5311"/>
                    <a:pt x="1784" y="5296"/>
                    <a:pt x="1725" y="5284"/>
                  </a:cubicBezTo>
                  <a:cubicBezTo>
                    <a:pt x="1648" y="5246"/>
                    <a:pt x="1569" y="5226"/>
                    <a:pt x="1485" y="5209"/>
                  </a:cubicBezTo>
                  <a:cubicBezTo>
                    <a:pt x="1319" y="5126"/>
                    <a:pt x="1143" y="5036"/>
                    <a:pt x="960" y="4999"/>
                  </a:cubicBezTo>
                  <a:cubicBezTo>
                    <a:pt x="872" y="4955"/>
                    <a:pt x="921" y="4976"/>
                    <a:pt x="810" y="4939"/>
                  </a:cubicBezTo>
                  <a:cubicBezTo>
                    <a:pt x="793" y="4933"/>
                    <a:pt x="781" y="4916"/>
                    <a:pt x="765" y="4909"/>
                  </a:cubicBezTo>
                  <a:cubicBezTo>
                    <a:pt x="736" y="4896"/>
                    <a:pt x="705" y="4889"/>
                    <a:pt x="675" y="4879"/>
                  </a:cubicBezTo>
                  <a:cubicBezTo>
                    <a:pt x="660" y="4874"/>
                    <a:pt x="630" y="4864"/>
                    <a:pt x="630" y="4864"/>
                  </a:cubicBezTo>
                  <a:cubicBezTo>
                    <a:pt x="615" y="4849"/>
                    <a:pt x="601" y="4833"/>
                    <a:pt x="585" y="4819"/>
                  </a:cubicBezTo>
                  <a:cubicBezTo>
                    <a:pt x="542" y="4783"/>
                    <a:pt x="516" y="4789"/>
                    <a:pt x="570" y="4789"/>
                  </a:cubicBezTo>
                  <a:lnTo>
                    <a:pt x="375" y="456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47920" y="2959200"/>
              <a:ext cx="5778360" cy="214200"/>
            </a:xfrm>
            <a:custGeom>
              <a:avLst/>
              <a:gdLst/>
              <a:ahLst/>
              <a:rect l="l" t="t" r="r" b="b"/>
              <a:pathLst>
                <a:path w="8289" h="375">
                  <a:moveTo>
                    <a:pt x="9" y="180"/>
                  </a:moveTo>
                  <a:cubicBezTo>
                    <a:pt x="110" y="146"/>
                    <a:pt x="0" y="193"/>
                    <a:pt x="84" y="120"/>
                  </a:cubicBezTo>
                  <a:cubicBezTo>
                    <a:pt x="155" y="58"/>
                    <a:pt x="208" y="32"/>
                    <a:pt x="294" y="15"/>
                  </a:cubicBezTo>
                  <a:cubicBezTo>
                    <a:pt x="319" y="20"/>
                    <a:pt x="347" y="17"/>
                    <a:pt x="369" y="30"/>
                  </a:cubicBezTo>
                  <a:cubicBezTo>
                    <a:pt x="385" y="39"/>
                    <a:pt x="386" y="62"/>
                    <a:pt x="399" y="75"/>
                  </a:cubicBezTo>
                  <a:cubicBezTo>
                    <a:pt x="434" y="110"/>
                    <a:pt x="458" y="109"/>
                    <a:pt x="504" y="120"/>
                  </a:cubicBezTo>
                  <a:cubicBezTo>
                    <a:pt x="705" y="111"/>
                    <a:pt x="866" y="94"/>
                    <a:pt x="1059" y="75"/>
                  </a:cubicBezTo>
                  <a:cubicBezTo>
                    <a:pt x="1094" y="128"/>
                    <a:pt x="1118" y="160"/>
                    <a:pt x="1179" y="180"/>
                  </a:cubicBezTo>
                  <a:cubicBezTo>
                    <a:pt x="1266" y="137"/>
                    <a:pt x="1324" y="69"/>
                    <a:pt x="1419" y="45"/>
                  </a:cubicBezTo>
                  <a:cubicBezTo>
                    <a:pt x="1528" y="154"/>
                    <a:pt x="1470" y="119"/>
                    <a:pt x="1584" y="165"/>
                  </a:cubicBezTo>
                  <a:cubicBezTo>
                    <a:pt x="1749" y="152"/>
                    <a:pt x="1877" y="156"/>
                    <a:pt x="2034" y="195"/>
                  </a:cubicBezTo>
                  <a:cubicBezTo>
                    <a:pt x="2069" y="190"/>
                    <a:pt x="2105" y="190"/>
                    <a:pt x="2139" y="180"/>
                  </a:cubicBezTo>
                  <a:cubicBezTo>
                    <a:pt x="2156" y="175"/>
                    <a:pt x="2168" y="157"/>
                    <a:pt x="2184" y="150"/>
                  </a:cubicBezTo>
                  <a:cubicBezTo>
                    <a:pt x="2213" y="137"/>
                    <a:pt x="2246" y="134"/>
                    <a:pt x="2274" y="120"/>
                  </a:cubicBezTo>
                  <a:cubicBezTo>
                    <a:pt x="2294" y="110"/>
                    <a:pt x="2314" y="100"/>
                    <a:pt x="2334" y="90"/>
                  </a:cubicBezTo>
                  <a:cubicBezTo>
                    <a:pt x="2410" y="103"/>
                    <a:pt x="2484" y="116"/>
                    <a:pt x="2559" y="135"/>
                  </a:cubicBezTo>
                  <a:cubicBezTo>
                    <a:pt x="2589" y="155"/>
                    <a:pt x="2624" y="170"/>
                    <a:pt x="2649" y="195"/>
                  </a:cubicBezTo>
                  <a:cubicBezTo>
                    <a:pt x="2664" y="210"/>
                    <a:pt x="2676" y="228"/>
                    <a:pt x="2694" y="240"/>
                  </a:cubicBezTo>
                  <a:cubicBezTo>
                    <a:pt x="2707" y="249"/>
                    <a:pt x="2725" y="248"/>
                    <a:pt x="2739" y="255"/>
                  </a:cubicBezTo>
                  <a:cubicBezTo>
                    <a:pt x="2755" y="263"/>
                    <a:pt x="2769" y="275"/>
                    <a:pt x="2784" y="285"/>
                  </a:cubicBezTo>
                  <a:cubicBezTo>
                    <a:pt x="2829" y="280"/>
                    <a:pt x="2876" y="283"/>
                    <a:pt x="2919" y="270"/>
                  </a:cubicBezTo>
                  <a:cubicBezTo>
                    <a:pt x="3006" y="244"/>
                    <a:pt x="3071" y="187"/>
                    <a:pt x="3159" y="165"/>
                  </a:cubicBezTo>
                  <a:cubicBezTo>
                    <a:pt x="3296" y="176"/>
                    <a:pt x="3345" y="182"/>
                    <a:pt x="3459" y="210"/>
                  </a:cubicBezTo>
                  <a:cubicBezTo>
                    <a:pt x="3650" y="197"/>
                    <a:pt x="3824" y="164"/>
                    <a:pt x="4014" y="150"/>
                  </a:cubicBezTo>
                  <a:cubicBezTo>
                    <a:pt x="4034" y="145"/>
                    <a:pt x="4054" y="141"/>
                    <a:pt x="4074" y="135"/>
                  </a:cubicBezTo>
                  <a:cubicBezTo>
                    <a:pt x="4089" y="131"/>
                    <a:pt x="4104" y="124"/>
                    <a:pt x="4119" y="120"/>
                  </a:cubicBezTo>
                  <a:cubicBezTo>
                    <a:pt x="4159" y="109"/>
                    <a:pt x="4239" y="90"/>
                    <a:pt x="4239" y="90"/>
                  </a:cubicBezTo>
                  <a:cubicBezTo>
                    <a:pt x="4396" y="121"/>
                    <a:pt x="4383" y="118"/>
                    <a:pt x="4599" y="105"/>
                  </a:cubicBezTo>
                  <a:cubicBezTo>
                    <a:pt x="4603" y="103"/>
                    <a:pt x="4687" y="57"/>
                    <a:pt x="4704" y="60"/>
                  </a:cubicBezTo>
                  <a:cubicBezTo>
                    <a:pt x="4722" y="63"/>
                    <a:pt x="4733" y="82"/>
                    <a:pt x="4749" y="90"/>
                  </a:cubicBezTo>
                  <a:cubicBezTo>
                    <a:pt x="4771" y="101"/>
                    <a:pt x="4835" y="115"/>
                    <a:pt x="4854" y="120"/>
                  </a:cubicBezTo>
                  <a:cubicBezTo>
                    <a:pt x="4924" y="115"/>
                    <a:pt x="4994" y="105"/>
                    <a:pt x="5064" y="105"/>
                  </a:cubicBezTo>
                  <a:cubicBezTo>
                    <a:pt x="5287" y="105"/>
                    <a:pt x="5067" y="140"/>
                    <a:pt x="5244" y="105"/>
                  </a:cubicBezTo>
                  <a:cubicBezTo>
                    <a:pt x="5312" y="60"/>
                    <a:pt x="5326" y="58"/>
                    <a:pt x="5409" y="75"/>
                  </a:cubicBezTo>
                  <a:cubicBezTo>
                    <a:pt x="5427" y="101"/>
                    <a:pt x="5441" y="142"/>
                    <a:pt x="5484" y="135"/>
                  </a:cubicBezTo>
                  <a:cubicBezTo>
                    <a:pt x="5502" y="132"/>
                    <a:pt x="5511" y="108"/>
                    <a:pt x="5529" y="105"/>
                  </a:cubicBezTo>
                  <a:cubicBezTo>
                    <a:pt x="5593" y="93"/>
                    <a:pt x="5659" y="95"/>
                    <a:pt x="5724" y="90"/>
                  </a:cubicBezTo>
                  <a:cubicBezTo>
                    <a:pt x="5739" y="80"/>
                    <a:pt x="5752" y="67"/>
                    <a:pt x="5769" y="60"/>
                  </a:cubicBezTo>
                  <a:cubicBezTo>
                    <a:pt x="5788" y="52"/>
                    <a:pt x="5811" y="55"/>
                    <a:pt x="5829" y="45"/>
                  </a:cubicBezTo>
                  <a:cubicBezTo>
                    <a:pt x="5847" y="34"/>
                    <a:pt x="5859" y="15"/>
                    <a:pt x="5874" y="0"/>
                  </a:cubicBezTo>
                  <a:cubicBezTo>
                    <a:pt x="5910" y="54"/>
                    <a:pt x="5922" y="132"/>
                    <a:pt x="5964" y="180"/>
                  </a:cubicBezTo>
                  <a:cubicBezTo>
                    <a:pt x="5974" y="192"/>
                    <a:pt x="5994" y="190"/>
                    <a:pt x="6009" y="195"/>
                  </a:cubicBezTo>
                  <a:cubicBezTo>
                    <a:pt x="6056" y="133"/>
                    <a:pt x="6070" y="88"/>
                    <a:pt x="6099" y="15"/>
                  </a:cubicBezTo>
                  <a:cubicBezTo>
                    <a:pt x="6118" y="44"/>
                    <a:pt x="6129" y="80"/>
                    <a:pt x="6174" y="75"/>
                  </a:cubicBezTo>
                  <a:cubicBezTo>
                    <a:pt x="6205" y="72"/>
                    <a:pt x="6264" y="45"/>
                    <a:pt x="6264" y="45"/>
                  </a:cubicBezTo>
                  <a:cubicBezTo>
                    <a:pt x="6336" y="57"/>
                    <a:pt x="6404" y="74"/>
                    <a:pt x="6474" y="90"/>
                  </a:cubicBezTo>
                  <a:cubicBezTo>
                    <a:pt x="6524" y="101"/>
                    <a:pt x="6574" y="110"/>
                    <a:pt x="6624" y="120"/>
                  </a:cubicBezTo>
                  <a:cubicBezTo>
                    <a:pt x="6649" y="125"/>
                    <a:pt x="6699" y="135"/>
                    <a:pt x="6699" y="135"/>
                  </a:cubicBezTo>
                  <a:cubicBezTo>
                    <a:pt x="6814" y="130"/>
                    <a:pt x="6929" y="120"/>
                    <a:pt x="7044" y="120"/>
                  </a:cubicBezTo>
                  <a:cubicBezTo>
                    <a:pt x="7090" y="120"/>
                    <a:pt x="7134" y="139"/>
                    <a:pt x="7179" y="150"/>
                  </a:cubicBezTo>
                  <a:cubicBezTo>
                    <a:pt x="7210" y="158"/>
                    <a:pt x="7269" y="180"/>
                    <a:pt x="7269" y="180"/>
                  </a:cubicBezTo>
                  <a:cubicBezTo>
                    <a:pt x="7338" y="249"/>
                    <a:pt x="7316" y="252"/>
                    <a:pt x="7404" y="240"/>
                  </a:cubicBezTo>
                  <a:cubicBezTo>
                    <a:pt x="7464" y="232"/>
                    <a:pt x="7524" y="229"/>
                    <a:pt x="7584" y="225"/>
                  </a:cubicBezTo>
                  <a:cubicBezTo>
                    <a:pt x="7674" y="219"/>
                    <a:pt x="7764" y="215"/>
                    <a:pt x="7854" y="210"/>
                  </a:cubicBezTo>
                  <a:cubicBezTo>
                    <a:pt x="7859" y="225"/>
                    <a:pt x="7865" y="240"/>
                    <a:pt x="7869" y="255"/>
                  </a:cubicBezTo>
                  <a:cubicBezTo>
                    <a:pt x="7875" y="275"/>
                    <a:pt x="7866" y="304"/>
                    <a:pt x="7884" y="315"/>
                  </a:cubicBezTo>
                  <a:cubicBezTo>
                    <a:pt x="7902" y="326"/>
                    <a:pt x="7924" y="305"/>
                    <a:pt x="7944" y="300"/>
                  </a:cubicBezTo>
                  <a:cubicBezTo>
                    <a:pt x="7954" y="285"/>
                    <a:pt x="7956" y="259"/>
                    <a:pt x="7974" y="255"/>
                  </a:cubicBezTo>
                  <a:cubicBezTo>
                    <a:pt x="8081" y="231"/>
                    <a:pt x="8057" y="271"/>
                    <a:pt x="8124" y="300"/>
                  </a:cubicBezTo>
                  <a:cubicBezTo>
                    <a:pt x="8187" y="327"/>
                    <a:pt x="8237" y="323"/>
                    <a:pt x="8289" y="375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1447920" y="1425600"/>
              <a:ext cx="2509560" cy="81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Projektovanj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Softver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5129280" y="1219320"/>
              <a:ext cx="2006640" cy="86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Projektovanje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Hardvera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1531800" y="2242440"/>
              <a:ext cx="752760" cy="1090440"/>
            </a:xfrm>
            <a:custGeom>
              <a:avLst/>
              <a:gdLst>
                <a:gd name="textAreaLeft" fmla="*/ 100800 w 752760"/>
                <a:gd name="textAreaRight" fmla="*/ 651960 w 752760"/>
                <a:gd name="textAreaTop" fmla="*/ 204120 h 1090440"/>
                <a:gd name="textAreaBottom" fmla="*/ 800280 h 10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12" stAng="-5400000" swAng="-5400000"/>
                  <a:lnTo>
                    <a:pt x="0" y="11801"/>
                  </a:lnTo>
                  <a:arcTo wR="21600" hR="8112" stAng="10800000" swAng="-3229059"/>
                  <a:lnTo>
                    <a:pt x="15879" y="21310"/>
                  </a:lnTo>
                  <a:lnTo>
                    <a:pt x="21600" y="18068"/>
                  </a:lnTo>
                  <a:lnTo>
                    <a:pt x="15879" y="14245"/>
                  </a:lnTo>
                  <a:lnTo>
                    <a:pt x="15879" y="15933"/>
                  </a:lnTo>
                  <a:arcTo wR="21600" hR="8112" stAng="7570941" swAng="2928370"/>
                  <a:lnTo>
                    <a:pt x="566" y="9956"/>
                  </a:lnTo>
                  <a:arcTo wR="21600" hR="8112" stAng="-10499311" swAng="5099311"/>
                  <a:close/>
                </a:path>
                <a:path fill="darkenLess" w="21600" h="21600">
                  <a:moveTo>
                    <a:pt x="21600" y="0"/>
                  </a:moveTo>
                  <a:arcTo wR="21600" hR="8112" stAng="-5400000" swAng="-5400000"/>
                  <a:lnTo>
                    <a:pt x="0" y="8112"/>
                  </a:lnTo>
                  <a:arcTo wR="21600" hR="8112" stAng="10800000" swAng="-300689"/>
                  <a:lnTo>
                    <a:pt x="566" y="9956"/>
                  </a:lnTo>
                  <a:arcTo wR="21600" hR="8112" stAng="-10499311" swAng="5099311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5211720" y="4425840"/>
              <a:ext cx="2008080" cy="86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Zajednički dizajn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Hardvera   i  Softvera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59320" y="5176800"/>
              <a:ext cx="1003320" cy="477720"/>
            </a:xfrm>
            <a:custGeom>
              <a:avLst/>
              <a:gdLst>
                <a:gd name="textAreaLeft" fmla="*/ 175320 w 1003320"/>
                <a:gd name="textAreaRight" fmla="*/ 727560 w 1003320"/>
                <a:gd name="textAreaTop" fmla="*/ 63720 h 477720"/>
                <a:gd name="textAreaBottom" fmla="*/ 4140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 rot="2265000">
              <a:off x="5210640" y="2174760"/>
              <a:ext cx="1255680" cy="1022760"/>
            </a:xfrm>
            <a:custGeom>
              <a:avLst/>
              <a:gdLst>
                <a:gd name="textAreaLeft" fmla="*/ 168120 w 1255680"/>
                <a:gd name="textAreaRight" fmla="*/ 1087560 w 1255680"/>
                <a:gd name="textAreaTop" fmla="*/ 191880 h 1022760"/>
                <a:gd name="textAreaBottom" fmla="*/ 750960 h 102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12" stAng="-5400000" swAng="-5400000"/>
                  <a:lnTo>
                    <a:pt x="0" y="11801"/>
                  </a:lnTo>
                  <a:arcTo wR="21600" hR="8112" stAng="10800000" swAng="-3229059"/>
                  <a:lnTo>
                    <a:pt x="15879" y="21310"/>
                  </a:lnTo>
                  <a:lnTo>
                    <a:pt x="21600" y="18068"/>
                  </a:lnTo>
                  <a:lnTo>
                    <a:pt x="15879" y="14245"/>
                  </a:lnTo>
                  <a:lnTo>
                    <a:pt x="15879" y="15933"/>
                  </a:lnTo>
                  <a:arcTo wR="21600" hR="8112" stAng="7570941" swAng="2928370"/>
                  <a:lnTo>
                    <a:pt x="566" y="9956"/>
                  </a:lnTo>
                  <a:arcTo wR="21600" hR="8112" stAng="-10499311" swAng="5099311"/>
                  <a:close/>
                </a:path>
                <a:path fill="darkenLess" w="21600" h="21600">
                  <a:moveTo>
                    <a:pt x="21600" y="0"/>
                  </a:moveTo>
                  <a:arcTo wR="21600" hR="8112" stAng="-5400000" swAng="-5400000"/>
                  <a:lnTo>
                    <a:pt x="0" y="8112"/>
                  </a:lnTo>
                  <a:arcTo wR="21600" hR="8112" stAng="10800000" swAng="-300689"/>
                  <a:lnTo>
                    <a:pt x="566" y="9956"/>
                  </a:lnTo>
                  <a:arcTo wR="21600" hR="8112" stAng="-10499311" swAng="5099311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24000" y="1906200"/>
            <a:ext cx="8820000" cy="1320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3300"/>
                </a:solidFill>
                <a:latin typeface="Arial Black"/>
              </a:rPr>
              <a:t>Policijska informatika</a:t>
            </a:r>
            <a:br>
              <a:rPr sz="4400"/>
            </a:br>
            <a:r>
              <a:rPr b="0" lang="sr-Latn-CS" sz="3600" spc="-1" strike="noStrike">
                <a:solidFill>
                  <a:srgbClr val="ff0000"/>
                </a:solidFill>
                <a:latin typeface="Arial Black"/>
              </a:rPr>
              <a:t>Poglavlje 0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0</a:t>
            </a:r>
            <a:r>
              <a:rPr b="0" lang="sr-Latn-CS" sz="3600" spc="-1" strike="noStrike">
                <a:solidFill>
                  <a:srgbClr val="ff0000"/>
                </a:solidFill>
                <a:latin typeface="Arial Black"/>
              </a:rPr>
              <a:t>. </a:t>
            </a:r>
            <a:r>
              <a:rPr b="0" i="1" lang="sr-Latn-CS" sz="3600" spc="-1" strike="noStrike">
                <a:solidFill>
                  <a:srgbClr val="ff0000"/>
                </a:solidFill>
                <a:latin typeface="Arial Black"/>
              </a:rPr>
              <a:t>Uvod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24" name="ftn_znak" descr=""/>
          <p:cNvPicPr/>
          <p:nvPr/>
        </p:nvPicPr>
        <p:blipFill>
          <a:blip r:embed="rId1"/>
          <a:stretch/>
        </p:blipFill>
        <p:spPr>
          <a:xfrm>
            <a:off x="0" y="0"/>
            <a:ext cx="1208160" cy="1268280"/>
          </a:xfrm>
          <a:prstGeom prst="rect">
            <a:avLst/>
          </a:prstGeom>
          <a:ln w="0">
            <a:noFill/>
          </a:ln>
        </p:spPr>
      </p:pic>
      <p:pic>
        <p:nvPicPr>
          <p:cNvPr id="525" name="cezar_new" descr=""/>
          <p:cNvPicPr/>
          <p:nvPr/>
        </p:nvPicPr>
        <p:blipFill>
          <a:blip r:embed="rId2"/>
          <a:stretch/>
        </p:blipFill>
        <p:spPr>
          <a:xfrm>
            <a:off x="802476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5364000" y="3357720"/>
            <a:ext cx="1540080" cy="31240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611280" y="4076640"/>
            <a:ext cx="4647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 i t a nj a 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26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00"/>
                </a:solidFill>
                <a:latin typeface="Arial Black"/>
              </a:rPr>
              <a:t>A kako dalje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1125360"/>
            <a:ext cx="71294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sr-Latn-CS" sz="3600" spc="-1" strike="noStrike">
                <a:solidFill>
                  <a:srgbClr val="ff3300"/>
                </a:solidFill>
                <a:latin typeface="Arial"/>
              </a:rPr>
              <a:t>...”</a:t>
            </a: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Technological progress is like an axe in the hands of a pathological criminal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sr-Latn-CS" sz="36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Latn-CS" sz="3600" spc="-1" strike="noStrike">
                <a:solidFill>
                  <a:srgbClr val="ff3300"/>
                </a:solidFill>
                <a:latin typeface="Arial"/>
              </a:rPr>
              <a:t>...”Tehnološki progres je kao sekira u rukama patološkog kriminalca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77080" y="4653000"/>
            <a:ext cx="20779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257760"/>
            <a:ext cx="6248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Literatur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557360"/>
            <a:ext cx="8136000" cy="4810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Слободан Р. Петровић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Полицијска информат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Полицијска академија, Београд 200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Ј. Савић, Д. Видојковић, О. Стаматовић-Ђурић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Информатика у органима унутрашњих посл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ВШУП, Београд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Georgia"/>
              </a:rPr>
              <a:t>Бранко Перишић</a:t>
            </a:r>
            <a:r>
              <a:rPr b="0" i="1" lang="sr-Latn-CS" sz="24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olicijska informatik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– радни материјал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SLAJDOVI.ppt)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ће на располагању студентима на електронској адреси КП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Садржај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доступн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на Интранет мрежи МУП-а РС (упутства, предлози, планови и сл.)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330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Arial Black"/>
              </a:rPr>
              <a:t>Policijska informatika - Predavanja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060640"/>
            <a:ext cx="8496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Informacione tehnologije – </a:t>
            </a:r>
            <a:r>
              <a:rPr b="1" i="1" lang="sr-Latn-CS" sz="2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opšti pojm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1125360"/>
            <a:ext cx="842508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r>
              <a:rPr b="1" i="1" lang="sr-Latn-C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Obrazovanje za rešavanje probl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1880" y="6113520"/>
            <a:ext cx="762120" cy="744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49440" cy="647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2852640"/>
            <a:ext cx="8496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Informacione tehnologije - </a:t>
            </a:r>
            <a:r>
              <a:rPr b="1" i="1" lang="sr-Latn-CS" sz="2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UPOTRE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3716280"/>
            <a:ext cx="8496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Informacione tehnologije - </a:t>
            </a:r>
            <a:r>
              <a:rPr b="1" i="1" lang="sr-Latn-CS" sz="2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ZLOUPOTRE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4797360"/>
            <a:ext cx="8496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Informacione tehnologije</a:t>
            </a:r>
            <a:r>
              <a:rPr b="1" i="1" lang="sr-Latn-CS" sz="20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 – </a:t>
            </a:r>
            <a:r>
              <a:rPr b="1" i="1" lang="sr-Latn-CS" sz="2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ZAŠTITA</a:t>
            </a:r>
            <a:r>
              <a:rPr b="1" i="1" lang="sr-Latn-CS" sz="20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OD</a:t>
            </a:r>
            <a:r>
              <a:rPr b="1" i="1" lang="sr-Latn-CS" sz="20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ZLOUPOTR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330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Arial Black"/>
              </a:rPr>
              <a:t>P</a:t>
            </a:r>
            <a:r>
              <a:rPr b="1" lang="sr-CS" sz="2400" spc="-1" strike="noStrike">
                <a:solidFill>
                  <a:srgbClr val="003300"/>
                </a:solidFill>
                <a:latin typeface="Arial Black"/>
              </a:rPr>
              <a:t>олицијска информатика</a:t>
            </a:r>
            <a:r>
              <a:rPr b="1" lang="sr-Latn-CS" sz="2400" spc="-1" strike="noStrike">
                <a:solidFill>
                  <a:srgbClr val="003300"/>
                </a:solidFill>
                <a:latin typeface="Arial Black"/>
              </a:rPr>
              <a:t> - </a:t>
            </a:r>
            <a:r>
              <a:rPr b="1" lang="sr-CS" sz="2400" spc="-1" strike="noStrike">
                <a:solidFill>
                  <a:srgbClr val="003300"/>
                </a:solidFill>
                <a:latin typeface="Arial Black"/>
              </a:rPr>
              <a:t>Вежбе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1197000"/>
            <a:ext cx="8496360" cy="546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ИНФОРМАЦИОНИ СИСТЕМ МУП-а (ЈИС-МУП-а Р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Архитектура ЈИС-МУП-а Р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Садржаји ЈИС-МУП-а Р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Употреба ЈИС-МУП-а Р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Подсистеми ЈИС-МУП-а Р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БАНКА Л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ОРУЖЈЕ У ЛЕГАЛНОМ ПОСЕ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МОТОРНА ВОЗИ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ПРЕКРШАЈИ ИЗ НАДЛЕЖНОСТИ ОУП-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КРИВИЧНА ДЕЛА И УЧИНИО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532720" y="6261120"/>
            <a:ext cx="611280" cy="59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9:51:55Z</dcterms:created>
  <dc:creator>xx</dc:creator>
  <dc:description/>
  <dc:language>en-US</dc:language>
  <cp:lastModifiedBy>Branko Perišić</cp:lastModifiedBy>
  <dcterms:modified xsi:type="dcterms:W3CDTF">2008-10-26T11:47:52Z</dcterms:modified>
  <cp:revision>307</cp:revision>
  <dc:subject/>
  <dc:title>PowerPoint Presentation</dc:title>
</cp:coreProperties>
</file>