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5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10.xml.rels" ContentType="application/vnd.openxmlformats-package.relationships+xml"/>
  <Override PartName="/ppt/notesSlides/notesSlide110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5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3.wmf" ContentType="image/x-wmf"/>
  <Override PartName="/ppt/media/image50.wmf" ContentType="image/x-wmf"/>
  <Override PartName="/ppt/media/image48.wmf" ContentType="image/x-wmf"/>
  <Override PartName="/ppt/media/image47.wmf" ContentType="image/x-wmf"/>
  <Override PartName="/ppt/media/image13.jpeg" ContentType="image/jpeg"/>
  <Override PartName="/ppt/media/image46.wmf" ContentType="image/x-wmf"/>
  <Override PartName="/ppt/media/image44.wmf" ContentType="image/x-wmf"/>
  <Override PartName="/ppt/media/image43.wmf" ContentType="image/x-wmf"/>
  <Override PartName="/ppt/media/image40.png" ContentType="image/png"/>
  <Override PartName="/ppt/media/image39.wmf" ContentType="image/x-wmf"/>
  <Override PartName="/ppt/media/image37.png" ContentType="image/png"/>
  <Override PartName="/ppt/media/image36.wmf" ContentType="image/x-wmf"/>
  <Override PartName="/ppt/media/image79.png" ContentType="image/png"/>
  <Override PartName="/ppt/media/image34.wmf" ContentType="image/x-wmf"/>
  <Override PartName="/ppt/media/image33.wmf" ContentType="image/x-wmf"/>
  <Override PartName="/ppt/media/image30.png" ContentType="image/png"/>
  <Override PartName="/ppt/media/image32.wmf" ContentType="image/x-wmf"/>
  <Override PartName="/ppt/media/image22.jpeg" ContentType="image/jpeg"/>
  <Override PartName="/ppt/media/image29.png" ContentType="image/png"/>
  <Override PartName="/ppt/media/image51.wmf" ContentType="image/x-wmf"/>
  <Override PartName="/ppt/media/image41.wmf" ContentType="image/x-wmf"/>
  <Override PartName="/ppt/media/image19.png" ContentType="image/png"/>
  <Override PartName="/ppt/media/image38.png" ContentType="image/png"/>
  <Override PartName="/ppt/media/image77.jpeg" ContentType="image/jpeg"/>
  <Override PartName="/ppt/media/image57.wmf" ContentType="image/x-wmf"/>
  <Override PartName="/ppt/media/image20.wmf" ContentType="image/x-wmf"/>
  <Override PartName="/ppt/media/image42.png" ContentType="image/png"/>
  <Override PartName="/ppt/media/image26.jpeg" ContentType="image/jpeg"/>
  <Override PartName="/ppt/media/image72.wmf" ContentType="image/x-wmf"/>
  <Override PartName="/ppt/media/image52.wmf" ContentType="image/x-wmf"/>
  <Override PartName="/ppt/media/image23.jpeg" ContentType="image/jpeg"/>
  <Override PartName="/ppt/media/image60.png" ContentType="image/png"/>
  <Override PartName="/ppt/media/image18.png" ContentType="image/png"/>
  <Override PartName="/ppt/media/image66.wmf" ContentType="image/x-wmf"/>
  <Override PartName="/ppt/media/type.wav" ContentType="audio/x-wav"/>
  <Override PartName="/ppt/media/image6.jpeg" ContentType="image/jpeg"/>
  <Override PartName="/ppt/media/image58.wmf" ContentType="image/x-wmf"/>
  <Override PartName="/ppt/media/image59.wmf" ContentType="image/x-wmf"/>
  <Override PartName="/ppt/media/image61.wmf" ContentType="image/x-wmf"/>
  <Override PartName="/ppt/media/image21.png" ContentType="image/png"/>
  <Override PartName="/ppt/media/image81.wmf" ContentType="image/x-wmf"/>
  <Override PartName="/ppt/media/image73.wmf" ContentType="image/x-wmf"/>
  <Override PartName="/ppt/media/image76.wmf" ContentType="image/x-wmf"/>
  <Override PartName="/ppt/media/image65.png" ContentType="image/png"/>
  <Override PartName="/ppt/media/image64.wmf" ContentType="image/x-wmf"/>
  <Override PartName="/ppt/media/image24.png" ContentType="image/png"/>
  <Override PartName="/ppt/media/image75.wmf" ContentType="image/x-wmf"/>
  <Override PartName="/ppt/media/image63.wmf" ContentType="image/x-wmf"/>
  <Override PartName="/ppt/media/image74.wmf" ContentType="image/x-wmf"/>
  <Override PartName="/ppt/media/image4.png" ContentType="image/png"/>
  <Override PartName="/ppt/media/image12.jpeg" ContentType="image/jpeg"/>
  <Override PartName="/ppt/media/image70.wmf" ContentType="image/x-wmf"/>
  <Override PartName="/ppt/media/image49.png" ContentType="image/png"/>
  <Override PartName="/ppt/media/image71.wmf" ContentType="image/x-wmf"/>
  <Override PartName="/ppt/media/image68.png" ContentType="image/png"/>
  <Override PartName="/ppt/media/image1.png" ContentType="image/png"/>
  <Override PartName="/ppt/media/image31.png" ContentType="image/png"/>
  <Override PartName="/ppt/media/image69.wmf" ContentType="image/x-wmf"/>
  <Override PartName="/ppt/media/image67.wmf" ContentType="image/x-wmf"/>
  <Override PartName="/ppt/media/image16.jpeg" ContentType="image/jpeg"/>
  <Override PartName="/ppt/media/image78.png" ContentType="image/png"/>
  <Override PartName="/ppt/media/image35.wmf" ContentType="image/x-wmf"/>
  <Override PartName="/ppt/media/image55.wmf" ContentType="image/x-wmf"/>
  <Override PartName="/ppt/media/image54.wmf" ContentType="image/x-wmf"/>
  <Override PartName="/ppt/media/image2.png" ContentType="image/png"/>
  <Override PartName="/ppt/media/image14.png" ContentType="image/png"/>
  <Override PartName="/ppt/media/image11.jpeg" ContentType="image/jpeg"/>
  <Override PartName="/ppt/media/image28.jpeg" ContentType="image/jpeg"/>
  <Override PartName="/ppt/media/image25.jpeg" ContentType="image/jpeg"/>
  <Override PartName="/ppt/media/image62.wmf" ContentType="image/x-wmf"/>
  <Override PartName="/ppt/media/image17.jpeg" ContentType="image/jpeg"/>
  <Override PartName="/ppt/media/image45.wmf" ContentType="image/x-wmf"/>
  <Override PartName="/ppt/media/image3.png" ContentType="image/png"/>
  <Override PartName="/ppt/media/image15.png" ContentType="image/png"/>
  <Override PartName="/ppt/media/image80.png" ContentType="image/png"/>
  <Override PartName="/ppt/media/image8.jpeg" ContentType="image/jpeg"/>
  <Override PartName="/ppt/media/image82.wmf" ContentType="image/x-wmf"/>
  <Override PartName="/ppt/media/image5.wmf" ContentType="image/x-wmf"/>
  <Override PartName="/ppt/media/image10.jpeg" ContentType="image/jpeg"/>
  <Override PartName="/ppt/media/image27.jpeg" ContentType="image/jpeg"/>
  <Override PartName="/ppt/media/image7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232.xml.rels" ContentType="application/vnd.openxmlformats-package.relationships+xml"/>
  <Override PartName="/ppt/slides/_rels/slide227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231.xml.rels" ContentType="application/vnd.openxmlformats-package.relationships+xml"/>
  <Override PartName="/ppt/slides/_rels/slide226.xml.rels" ContentType="application/vnd.openxmlformats-package.relationships+xml"/>
  <Override PartName="/ppt/slides/_rels/slide179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4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13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68.xml.rels" ContentType="application/vnd.openxmlformats-package.relationships+xml"/>
  <Override PartName="/ppt/slides/_rels/slide273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25.xml.rels" ContentType="application/vnd.openxmlformats-package.relationships+xml"/>
  <Override PartName="/ppt/slides/_rels/slide11.xml.rels" ContentType="application/vnd.openxmlformats-package.relationships+xml"/>
  <Override PartName="/ppt/slides/_rels/slide165.xml.rels" ContentType="application/vnd.openxmlformats-package.relationships+xml"/>
  <Override PartName="/ppt/slides/_rels/slide9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275.xml.rels" ContentType="application/vnd.openxmlformats-package.relationships+xml"/>
  <Override PartName="/ppt/slides/_rels/slide95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33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02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19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143.xml.rels" ContentType="application/vnd.openxmlformats-package.relationships+xml"/>
  <Override PartName="/ppt/slides/_rels/slide59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224.xml.rels" ContentType="application/vnd.openxmlformats-package.relationships+xml"/>
  <Override PartName="/ppt/slides/_rels/slide14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34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64.xml.rels" ContentType="application/vnd.openxmlformats-package.relationships+xml"/>
  <Override PartName="/ppt/slides/_rels/slide121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52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15.xml.rels" ContentType="application/vnd.openxmlformats-package.relationships+xml"/>
  <Override PartName="/ppt/slides/_rels/slide160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97.xml.rels" ContentType="application/vnd.openxmlformats-package.relationships+xml"/>
  <Override PartName="/ppt/slides/_rels/slide2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08.xml.rels" ContentType="application/vnd.openxmlformats-package.relationships+xml"/>
  <Override PartName="/ppt/slides/_rels/slide12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2.xml.rels" ContentType="application/vnd.openxmlformats-package.relationships+xml"/>
  <Override PartName="/ppt/slides/_rels/slide14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120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12.xml.rels" ContentType="application/vnd.openxmlformats-package.relationships+xml"/>
  <Override PartName="/ppt/slides/_rels/slide1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130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33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8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190.xml" ContentType="application/vnd.openxmlformats-officedocument.presentationml.slide+xml"/>
  <Override PartName="/ppt/slides/slide94.xml" ContentType="application/vnd.openxmlformats-officedocument.presentationml.slide+xml"/>
  <Override PartName="/ppt/slides/slide69.xml" ContentType="application/vnd.openxmlformats-officedocument.presentationml.slide+xml"/>
  <Override PartName="/ppt/slides/slide100.xml" ContentType="application/vnd.openxmlformats-officedocument.presentationml.slide+xml"/>
  <Override PartName="/ppt/slides/slide101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13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260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2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275.xml" ContentType="application/vnd.openxmlformats-officedocument.presentationml.slide+xml"/>
  <Override PartName="/ppt/slides/slide263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272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118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168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9.xml" ContentType="application/vnd.openxmlformats-officedocument.presentationml.slide+xml"/>
  <Override PartName="/ppt/slides/slide207.xml" ContentType="application/vnd.openxmlformats-officedocument.presentationml.slide+xml"/>
  <Override PartName="/ppt/slides/slide41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  <p:sldId id="468" r:id="rId217"/>
    <p:sldId id="469" r:id="rId218"/>
    <p:sldId id="470" r:id="rId219"/>
    <p:sldId id="471" r:id="rId220"/>
    <p:sldId id="472" r:id="rId221"/>
    <p:sldId id="473" r:id="rId222"/>
    <p:sldId id="474" r:id="rId223"/>
    <p:sldId id="475" r:id="rId224"/>
    <p:sldId id="476" r:id="rId225"/>
    <p:sldId id="477" r:id="rId226"/>
    <p:sldId id="478" r:id="rId227"/>
    <p:sldId id="479" r:id="rId228"/>
    <p:sldId id="480" r:id="rId229"/>
    <p:sldId id="481" r:id="rId230"/>
    <p:sldId id="482" r:id="rId231"/>
    <p:sldId id="483" r:id="rId232"/>
    <p:sldId id="484" r:id="rId233"/>
    <p:sldId id="485" r:id="rId234"/>
    <p:sldId id="486" r:id="rId235"/>
    <p:sldId id="487" r:id="rId236"/>
    <p:sldId id="488" r:id="rId237"/>
    <p:sldId id="489" r:id="rId238"/>
    <p:sldId id="490" r:id="rId239"/>
    <p:sldId id="491" r:id="rId240"/>
    <p:sldId id="492" r:id="rId241"/>
    <p:sldId id="493" r:id="rId242"/>
    <p:sldId id="494" r:id="rId243"/>
    <p:sldId id="495" r:id="rId244"/>
    <p:sldId id="496" r:id="rId245"/>
    <p:sldId id="497" r:id="rId246"/>
    <p:sldId id="498" r:id="rId247"/>
    <p:sldId id="499" r:id="rId248"/>
    <p:sldId id="500" r:id="rId249"/>
    <p:sldId id="501" r:id="rId250"/>
    <p:sldId id="502" r:id="rId251"/>
    <p:sldId id="503" r:id="rId252"/>
    <p:sldId id="504" r:id="rId253"/>
    <p:sldId id="505" r:id="rId254"/>
    <p:sldId id="506" r:id="rId255"/>
    <p:sldId id="507" r:id="rId256"/>
    <p:sldId id="508" r:id="rId257"/>
    <p:sldId id="509" r:id="rId258"/>
    <p:sldId id="510" r:id="rId259"/>
    <p:sldId id="511" r:id="rId260"/>
    <p:sldId id="512" r:id="rId261"/>
    <p:sldId id="513" r:id="rId262"/>
    <p:sldId id="514" r:id="rId263"/>
    <p:sldId id="515" r:id="rId264"/>
    <p:sldId id="516" r:id="rId265"/>
    <p:sldId id="517" r:id="rId266"/>
    <p:sldId id="518" r:id="rId267"/>
    <p:sldId id="519" r:id="rId268"/>
    <p:sldId id="520" r:id="rId269"/>
    <p:sldId id="521" r:id="rId270"/>
    <p:sldId id="522" r:id="rId271"/>
    <p:sldId id="523" r:id="rId272"/>
    <p:sldId id="524" r:id="rId273"/>
    <p:sldId id="525" r:id="rId274"/>
    <p:sldId id="526" r:id="rId275"/>
    <p:sldId id="527" r:id="rId276"/>
    <p:sldId id="528" r:id="rId277"/>
    <p:sldId id="529" r:id="rId278"/>
    <p:sldId id="530" r:id="rId2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slide" Target="slides/slide213.xml"/><Relationship Id="rId218" Type="http://schemas.openxmlformats.org/officeDocument/2006/relationships/slide" Target="slides/slide214.xml"/><Relationship Id="rId219" Type="http://schemas.openxmlformats.org/officeDocument/2006/relationships/slide" Target="slides/slide215.xml"/><Relationship Id="rId220" Type="http://schemas.openxmlformats.org/officeDocument/2006/relationships/slide" Target="slides/slide216.xml"/><Relationship Id="rId221" Type="http://schemas.openxmlformats.org/officeDocument/2006/relationships/slide" Target="slides/slide217.xml"/><Relationship Id="rId222" Type="http://schemas.openxmlformats.org/officeDocument/2006/relationships/slide" Target="slides/slide218.xml"/><Relationship Id="rId223" Type="http://schemas.openxmlformats.org/officeDocument/2006/relationships/slide" Target="slides/slide219.xml"/><Relationship Id="rId224" Type="http://schemas.openxmlformats.org/officeDocument/2006/relationships/slide" Target="slides/slide220.xml"/><Relationship Id="rId225" Type="http://schemas.openxmlformats.org/officeDocument/2006/relationships/slide" Target="slides/slide221.xml"/><Relationship Id="rId226" Type="http://schemas.openxmlformats.org/officeDocument/2006/relationships/slide" Target="slides/slide222.xml"/><Relationship Id="rId227" Type="http://schemas.openxmlformats.org/officeDocument/2006/relationships/slide" Target="slides/slide223.xml"/><Relationship Id="rId228" Type="http://schemas.openxmlformats.org/officeDocument/2006/relationships/slide" Target="slides/slide224.xml"/><Relationship Id="rId229" Type="http://schemas.openxmlformats.org/officeDocument/2006/relationships/slide" Target="slides/slide225.xml"/><Relationship Id="rId230" Type="http://schemas.openxmlformats.org/officeDocument/2006/relationships/slide" Target="slides/slide226.xml"/><Relationship Id="rId231" Type="http://schemas.openxmlformats.org/officeDocument/2006/relationships/slide" Target="slides/slide227.xml"/><Relationship Id="rId232" Type="http://schemas.openxmlformats.org/officeDocument/2006/relationships/slide" Target="slides/slide228.xml"/><Relationship Id="rId233" Type="http://schemas.openxmlformats.org/officeDocument/2006/relationships/slide" Target="slides/slide229.xml"/><Relationship Id="rId234" Type="http://schemas.openxmlformats.org/officeDocument/2006/relationships/slide" Target="slides/slide230.xml"/><Relationship Id="rId235" Type="http://schemas.openxmlformats.org/officeDocument/2006/relationships/slide" Target="slides/slide231.xml"/><Relationship Id="rId236" Type="http://schemas.openxmlformats.org/officeDocument/2006/relationships/slide" Target="slides/slide232.xml"/><Relationship Id="rId237" Type="http://schemas.openxmlformats.org/officeDocument/2006/relationships/slide" Target="slides/slide233.xml"/><Relationship Id="rId238" Type="http://schemas.openxmlformats.org/officeDocument/2006/relationships/slide" Target="slides/slide234.xml"/><Relationship Id="rId239" Type="http://schemas.openxmlformats.org/officeDocument/2006/relationships/slide" Target="slides/slide235.xml"/><Relationship Id="rId240" Type="http://schemas.openxmlformats.org/officeDocument/2006/relationships/slide" Target="slides/slide236.xml"/><Relationship Id="rId241" Type="http://schemas.openxmlformats.org/officeDocument/2006/relationships/slide" Target="slides/slide237.xml"/><Relationship Id="rId242" Type="http://schemas.openxmlformats.org/officeDocument/2006/relationships/slide" Target="slides/slide238.xml"/><Relationship Id="rId243" Type="http://schemas.openxmlformats.org/officeDocument/2006/relationships/slide" Target="slides/slide239.xml"/><Relationship Id="rId244" Type="http://schemas.openxmlformats.org/officeDocument/2006/relationships/slide" Target="slides/slide240.xml"/><Relationship Id="rId245" Type="http://schemas.openxmlformats.org/officeDocument/2006/relationships/slide" Target="slides/slide241.xml"/><Relationship Id="rId246" Type="http://schemas.openxmlformats.org/officeDocument/2006/relationships/slide" Target="slides/slide242.xml"/><Relationship Id="rId247" Type="http://schemas.openxmlformats.org/officeDocument/2006/relationships/slide" Target="slides/slide243.xml"/><Relationship Id="rId248" Type="http://schemas.openxmlformats.org/officeDocument/2006/relationships/slide" Target="slides/slide244.xml"/><Relationship Id="rId249" Type="http://schemas.openxmlformats.org/officeDocument/2006/relationships/slide" Target="slides/slide245.xml"/><Relationship Id="rId250" Type="http://schemas.openxmlformats.org/officeDocument/2006/relationships/slide" Target="slides/slide246.xml"/><Relationship Id="rId251" Type="http://schemas.openxmlformats.org/officeDocument/2006/relationships/slide" Target="slides/slide247.xml"/><Relationship Id="rId252" Type="http://schemas.openxmlformats.org/officeDocument/2006/relationships/slide" Target="slides/slide248.xml"/><Relationship Id="rId253" Type="http://schemas.openxmlformats.org/officeDocument/2006/relationships/slide" Target="slides/slide249.xml"/><Relationship Id="rId254" Type="http://schemas.openxmlformats.org/officeDocument/2006/relationships/slide" Target="slides/slide250.xml"/><Relationship Id="rId255" Type="http://schemas.openxmlformats.org/officeDocument/2006/relationships/slide" Target="slides/slide251.xml"/><Relationship Id="rId256" Type="http://schemas.openxmlformats.org/officeDocument/2006/relationships/slide" Target="slides/slide252.xml"/><Relationship Id="rId257" Type="http://schemas.openxmlformats.org/officeDocument/2006/relationships/slide" Target="slides/slide253.xml"/><Relationship Id="rId258" Type="http://schemas.openxmlformats.org/officeDocument/2006/relationships/slide" Target="slides/slide254.xml"/><Relationship Id="rId259" Type="http://schemas.openxmlformats.org/officeDocument/2006/relationships/slide" Target="slides/slide255.xml"/><Relationship Id="rId260" Type="http://schemas.openxmlformats.org/officeDocument/2006/relationships/slide" Target="slides/slide256.xml"/><Relationship Id="rId261" Type="http://schemas.openxmlformats.org/officeDocument/2006/relationships/slide" Target="slides/slide257.xml"/><Relationship Id="rId262" Type="http://schemas.openxmlformats.org/officeDocument/2006/relationships/slide" Target="slides/slide258.xml"/><Relationship Id="rId263" Type="http://schemas.openxmlformats.org/officeDocument/2006/relationships/slide" Target="slides/slide259.xml"/><Relationship Id="rId264" Type="http://schemas.openxmlformats.org/officeDocument/2006/relationships/slide" Target="slides/slide260.xml"/><Relationship Id="rId265" Type="http://schemas.openxmlformats.org/officeDocument/2006/relationships/slide" Target="slides/slide261.xml"/><Relationship Id="rId266" Type="http://schemas.openxmlformats.org/officeDocument/2006/relationships/slide" Target="slides/slide262.xml"/><Relationship Id="rId267" Type="http://schemas.openxmlformats.org/officeDocument/2006/relationships/slide" Target="slides/slide263.xml"/><Relationship Id="rId268" Type="http://schemas.openxmlformats.org/officeDocument/2006/relationships/slide" Target="slides/slide264.xml"/><Relationship Id="rId269" Type="http://schemas.openxmlformats.org/officeDocument/2006/relationships/slide" Target="slides/slide265.xml"/><Relationship Id="rId270" Type="http://schemas.openxmlformats.org/officeDocument/2006/relationships/slide" Target="slides/slide266.xml"/><Relationship Id="rId271" Type="http://schemas.openxmlformats.org/officeDocument/2006/relationships/slide" Target="slides/slide267.xml"/><Relationship Id="rId272" Type="http://schemas.openxmlformats.org/officeDocument/2006/relationships/slide" Target="slides/slide268.xml"/><Relationship Id="rId273" Type="http://schemas.openxmlformats.org/officeDocument/2006/relationships/slide" Target="slides/slide269.xml"/><Relationship Id="rId274" Type="http://schemas.openxmlformats.org/officeDocument/2006/relationships/slide" Target="slides/slide270.xml"/><Relationship Id="rId275" Type="http://schemas.openxmlformats.org/officeDocument/2006/relationships/slide" Target="slides/slide271.xml"/><Relationship Id="rId276" Type="http://schemas.openxmlformats.org/officeDocument/2006/relationships/slide" Target="slides/slide272.xml"/><Relationship Id="rId277" Type="http://schemas.openxmlformats.org/officeDocument/2006/relationships/slide" Target="slides/slide273.xml"/><Relationship Id="rId278" Type="http://schemas.openxmlformats.org/officeDocument/2006/relationships/slide" Target="slides/slide274.xml"/><Relationship Id="rId279" Type="http://schemas.openxmlformats.org/officeDocument/2006/relationships/slide" Target="slides/slide275.xml"/><Relationship Id="rId2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389A-D279-463F-AD21-83FF3D321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’après Plutarque (47-120), scytales utilisées à Sparte au Vè siècle avant J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ésar: 58 avant JC - source: Suetone (121 après J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l Kindi né à kûfah (maintenant en Irak) : </a:t>
            </a:r>
            <a:r>
              <a:rPr b="0" i="1" lang="fr-FR" sz="2800" spc="-1" strike="noStrike">
                <a:solidFill>
                  <a:srgbClr val="ffffff"/>
                </a:solidFill>
                <a:latin typeface="Verdana"/>
              </a:rPr>
              <a:t>Manuscrit sur le déchiffrement des messages cryptographiqu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érifie l’authenticité des textes saints de l’Is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oger Bacon Lettre sur les œuvres d’art et sur les nullités de la ma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éléphone rouge: fax installé après la crise de 1962 (guère froide) ligne chiffrée grâce au principe du masque jetable, clefs transportées par voie diplomatique et détruites après chaque utilisation : ou exclusif bit à bit, clef aussi longue que l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E0B-82D1-482B-BC77-46768B85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AE6-07D6-462F-8E7B-BA9248B3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D46-BA49-4AA3-97E1-006DEDF7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F0C-6358-474E-B22C-0D47D536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370A-2D0F-41EC-A6C3-E88D6C7A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8D25-C999-4851-8160-7814C1CF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A8AC-9772-4D0E-897C-570773B0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028A-9384-4350-B6BB-3B6809D4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B734-0CA3-44FC-AF3C-597EF268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88E5-4EEA-4207-BA39-7C0DFF94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0524-AC8A-4D83-A086-835CD23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D8D-4FC4-4941-886F-0B6358C5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5F27-E4BD-4AAA-B617-91FEEF73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0382-63D7-4243-9A48-D418BB2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8F1B-DBEA-46C4-8822-A7DF676D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2B04-DD88-4744-85B4-3D08DB3B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6393-3CD7-4677-BF03-72186968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F34-4673-41F8-ACE0-740E076C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96E-E332-4347-9C8A-E1F8DE76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A27-AE8B-4BA5-B285-DCB00A8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7BE-C9F5-40E0-8C32-5CB2D21E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AA5-98FC-4BDF-95ED-91767D07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24B-6EAC-4724-AFEE-B45416E1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A89-0053-44A9-A324-679BB133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5EC4-C4BE-4B68-9067-77C8E4A96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21BA-FF82-49A2-B712-6710B26A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png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4.wmf"/><Relationship Id="rId14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6.wmf"/><Relationship Id="rId3" Type="http://schemas.openxmlformats.org/officeDocument/2006/relationships/image" Target="../media/image54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4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4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4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4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4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4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62.wmf"/><Relationship Id="rId7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4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64.wmf"/><Relationship Id="rId5" Type="http://schemas.openxmlformats.org/officeDocument/2006/relationships/image" Target="../media/image65.png"/><Relationship Id="rId6" Type="http://schemas.openxmlformats.org/officeDocument/2006/relationships/image" Target="../media/image54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png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75.wmf"/><Relationship Id="rId8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9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prenticehall.com/" TargetMode="External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706480"/>
            <a:ext cx="835344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olicijska informatika</a:t>
            </a:r>
            <a:br>
              <a:rPr sz="4400"/>
            </a:b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Poglavlje.06 Zaštita u IT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2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341360"/>
          </a:xfrm>
          <a:prstGeom prst="rect">
            <a:avLst/>
          </a:prstGeom>
          <a:ln w="0">
            <a:noFill/>
          </a:ln>
        </p:spPr>
      </p:pic>
      <p:pic>
        <p:nvPicPr>
          <p:cNvPr id="93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5661000"/>
            <a:ext cx="8351640" cy="429120"/>
          </a:xfrm>
          <a:prstGeom prst="rect">
            <a:avLst/>
          </a:prstGeom>
          <a:solidFill>
            <a:srgbClr val="cc99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Predmetni nastavnik: Prof. dr Branko Perišić  FTN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4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51280" y="1628640"/>
            <a:ext cx="4835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t osnovnih principa koji doprinose pouzdanosti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Bezb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Pover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Priv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Integritet ob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600200"/>
            <a:ext cx="3218040" cy="112536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POUZDA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9560" y="5802480"/>
            <a:ext cx="3218040" cy="50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BEZBED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870480" y="403452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VERLJIV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84960" y="404712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89640" y="404568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INTEGRITET OB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4365720"/>
            <a:ext cx="4751640" cy="196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daci se obrađuj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eciz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tp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sklopu vremenskog okv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z odgovarajuću autoriza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razumevani nalozi se moraju koristitiu fazi instaliranja operativnog sist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 kreir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est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lo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uest nalog poseduje limitirane mogućnosti ali omogućav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onimni pris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ko da nije moguće identifikovati ko je stvarno koristio nalog i radi kojih ciljev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razumevan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log je potrebno onemogućit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razumevani administratorski nalog ima neograničene mogućnost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jegova podrazumevana lozinka je dobro poznata, pa ju je neophodno promeniti dodelom JAČE LOZINK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datna mera podrazumeva kreiranje novog naloga koji nema nikakva prava i preimenovati ga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minist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bi se privremeno zbunili i usporili potencijalni napadač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000" y="33156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724000" y="1557000"/>
            <a:ext cx="2953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Enkrip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lednji sloj preventivnih kontr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322360" y="3851280"/>
            <a:ext cx="978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Encryption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251000" y="1668600"/>
            <a:ext cx="3322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raining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152800" y="3827520"/>
            <a:ext cx="97776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Encryption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328760" y="2695680"/>
            <a:ext cx="2606760" cy="16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180788"/>
                <a:gd name="adj2" fmla="val 7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rol Remote Access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81080" y="1644480"/>
            <a:ext cx="3322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raining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0" y="1484280"/>
            <a:ext cx="5221440" cy="5062680"/>
            <a:chOff x="0" y="1484280"/>
            <a:chExt cx="5221440" cy="5062680"/>
          </a:xfrm>
        </p:grpSpPr>
        <p:sp>
          <p:nvSpPr>
            <p:cNvPr id="449" name=""/>
            <p:cNvSpPr/>
            <p:nvPr/>
          </p:nvSpPr>
          <p:spPr>
            <a:xfrm>
              <a:off x="0" y="1484280"/>
              <a:ext cx="5221440" cy="506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4960" y="2048760"/>
              <a:ext cx="4012920" cy="39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37240" y="2596680"/>
              <a:ext cx="2936520" cy="2810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32240" y="3092760"/>
              <a:ext cx="1968480" cy="183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53800" y="3503520"/>
              <a:ext cx="1114200" cy="1005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117880" y="3826800"/>
              <a:ext cx="9781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Enkripcija</a:t>
              </a:r>
              <a:endPara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1784160" y="3178080"/>
              <a:ext cx="1717200" cy="105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snaživanj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1292760" y="2694960"/>
              <a:ext cx="2606760" cy="161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Kontrola udaljenog pristupa (Control Remote Access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934920" y="2250000"/>
              <a:ext cx="3380400" cy="179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Kontrola fizičkog pristupa (Control Physical Access)</a:t>
              </a:r>
              <a:endPara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1046520" y="1643760"/>
              <a:ext cx="3322800" cy="129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Obuka (Training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snovni pojmovi kripto-zašt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naliza šifarsk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storija šifr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Šifriranje (Enkripcija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osetljivih uskladištenih podataka obezbeđuje poslednju barijeru koju potencijalni napadač treba da savlad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ed toga ojačava procedure provere autentičnosti i igra esencijalnu ulogu u proveri validnosti transakcija u elektronskom poslov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tu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čunovođ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vizo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sistemski inženjeri treba da izučavaju i razumeju enkripcij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5280" y="186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280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Kriptologija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 nauka koja se bavi kreiranjem i analizom metoda za šifriranje i dešifriranje sadržaj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vremena kriptologija kombinu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traživanja u oblasti računarskih nauka i matematik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55640" y="3645000"/>
            <a:ext cx="7345440" cy="2116800"/>
            <a:chOff x="755640" y="3645000"/>
            <a:chExt cx="7345440" cy="2116800"/>
          </a:xfrm>
        </p:grpSpPr>
        <p:sp>
          <p:nvSpPr>
            <p:cNvPr id="466" name=""/>
            <p:cNvSpPr/>
            <p:nvPr/>
          </p:nvSpPr>
          <p:spPr>
            <a:xfrm flipH="1">
              <a:off x="2268720" y="4149720"/>
              <a:ext cx="1582560" cy="115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2360" y="4149720"/>
              <a:ext cx="1584360" cy="115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60720" y="3645000"/>
              <a:ext cx="26640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KR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TOLOG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I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5640" y="5302080"/>
              <a:ext cx="287964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KRIPTOGRAFI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89440" y="5302080"/>
              <a:ext cx="331164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KRIPTOANALI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179280" y="3284640"/>
            <a:ext cx="4032360" cy="1922760"/>
          </a:xfrm>
          <a:prstGeom prst="rect">
            <a:avLst/>
          </a:prstGeom>
          <a:solidFill>
            <a:srgbClr val="99ccff"/>
          </a:solidFill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riptografij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iče od Grčkih reč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yp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o znač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k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o znaći “pis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žargonu TAJNO PISANJ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3280" y="3284640"/>
            <a:ext cx="4032360" cy="1922760"/>
          </a:xfrm>
          <a:prstGeom prst="rect">
            <a:avLst/>
          </a:prstGeom>
          <a:solidFill>
            <a:srgbClr val="99ccff"/>
          </a:solidFill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iptoanaliz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znata još i kao RAZBIJANJE KODO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etstavlja obrnut proces kojim se analizom šziriranog sadržaja dolazi do otvorenog tek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859280" y="473760"/>
            <a:ext cx="374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Kripto-zaštit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4" name=""/>
          <p:cNvSpPr/>
          <p:nvPr/>
        </p:nvSpPr>
        <p:spPr>
          <a:xfrm>
            <a:off x="439560" y="339840"/>
            <a:ext cx="1252800" cy="87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contract for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5840" y="1925640"/>
            <a:ext cx="1422720" cy="709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14400" y="2959200"/>
            <a:ext cx="1389240" cy="87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b&amp;j &amp;m 2 ep0%fg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51040" y="4405320"/>
            <a:ext cx="1422360" cy="709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ryption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87400" y="5553000"/>
            <a:ext cx="1440000" cy="87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contract for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6360" y="6984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47600" y="5632560"/>
            <a:ext cx="77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-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078000"/>
            <a:ext cx="97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pher-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 flipH="1" rot="5400000">
            <a:off x="2925360" y="312480"/>
            <a:ext cx="1100160" cy="941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233520" y="351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876560" y="1484280"/>
            <a:ext cx="3809880" cy="5184720"/>
          </a:xfrm>
          <a:prstGeom prst="rect">
            <a:avLst/>
          </a:prstGeom>
          <a:solidFill>
            <a:srgbClr val="ffddbb"/>
          </a:solidFill>
          <a:ln w="28440">
            <a:solidFill>
              <a:srgbClr val="1672c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Šifrovanje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 (Enkripcija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proces transformacij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tvorenog tekst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laintex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nečitljivi tekst koji se naziv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ifra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iphertex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Dešifrovanje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 (Dekripcij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stavlja obrnut pro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šifrovanje i dešifro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neophodno postojanj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ljuč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lgoritm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01680" y="1219320"/>
            <a:ext cx="355680" cy="627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82880" y="3729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115720" y="965160"/>
            <a:ext cx="94932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8120" y="264168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32160" y="30574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27280" y="3860640"/>
            <a:ext cx="576360" cy="490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76680" y="3741840"/>
            <a:ext cx="863280" cy="59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71760" y="5130720"/>
            <a:ext cx="0" cy="373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 flipH="1" rot="5400000">
            <a:off x="3392280" y="2909520"/>
            <a:ext cx="1099800" cy="9414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700080" y="29480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7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lasične kriptografske me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oderne kriptografske me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avremeni kriprografski SIS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lasične kriptografske me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D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razumeva korišćenje KODNE KNJIGE ili REČNIKA koji povezuje elemente otvorenog teksta (znake, slogove, reči, fraze, rečenice i sl.) sa elementima ŠIFRATA (kodne grupe). Za svaki element otvorenog teksta se u kodnoj knjizi ili rečniku traži odgovarajuća KODNA GRUPA – element šifrata. Postoji čitav niz kodova u različitim domenima komunikacija. Obično se koriste za JAVNU komunikaciju uz KOMPRESIJU SADRŽAJA. (Q-kodovi u radioamaterskoj tehnici, Telegrafski kodovi – SOS, SSK i s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IFR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ifriranje se ne zasniva na povezivanju pojmova otvorenog teksta več na tehnikama: SUPSTITUCIJE i TRANSFORM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5280" y="10008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Klasifikacija šifrat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0" name=""/>
          <p:cNvSpPr/>
          <p:nvPr/>
        </p:nvSpPr>
        <p:spPr>
          <a:xfrm>
            <a:off x="3708360" y="692280"/>
            <a:ext cx="1467000" cy="495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Šifr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79640" y="1197000"/>
            <a:ext cx="7229160" cy="1076400"/>
            <a:chOff x="1079640" y="1197000"/>
            <a:chExt cx="7229160" cy="1076400"/>
          </a:xfrm>
        </p:grpSpPr>
        <p:sp>
          <p:nvSpPr>
            <p:cNvPr id="502" name=""/>
            <p:cNvSpPr/>
            <p:nvPr/>
          </p:nvSpPr>
          <p:spPr>
            <a:xfrm>
              <a:off x="1079640" y="1778040"/>
              <a:ext cx="1466640" cy="49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00"/>
                  </a:solidFill>
                  <a:latin typeface="Arial"/>
                </a:rPr>
                <a:t>Javni klju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27440" y="1778040"/>
              <a:ext cx="1467000" cy="49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00"/>
                  </a:solidFill>
                  <a:latin typeface="Arial"/>
                </a:rPr>
                <a:t>Simetričn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00"/>
                  </a:solidFill>
                  <a:latin typeface="Arial"/>
                </a:rPr>
                <a:t>klju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42160" y="1778040"/>
              <a:ext cx="1466640" cy="49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00"/>
                  </a:solidFill>
                  <a:latin typeface="Arial"/>
                </a:rPr>
                <a:t>Bez ključ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51400" y="1197000"/>
              <a:ext cx="0" cy="581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60480" y="1568520"/>
              <a:ext cx="5648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08880" y="1568520"/>
              <a:ext cx="0" cy="20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51120" y="1568520"/>
              <a:ext cx="0" cy="218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60280" y="2282760"/>
            <a:ext cx="3038400" cy="876240"/>
            <a:chOff x="260280" y="2282760"/>
            <a:chExt cx="3038400" cy="876240"/>
          </a:xfrm>
        </p:grpSpPr>
        <p:sp>
          <p:nvSpPr>
            <p:cNvPr id="510" name=""/>
            <p:cNvSpPr/>
            <p:nvPr/>
          </p:nvSpPr>
          <p:spPr>
            <a:xfrm>
              <a:off x="2336760" y="2664000"/>
              <a:ext cx="96192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70080" y="2664000"/>
              <a:ext cx="98100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Sign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0280" y="2664000"/>
              <a:ext cx="92412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Public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08120" y="2511360"/>
              <a:ext cx="20476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12960" y="2282760"/>
              <a:ext cx="0" cy="381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120" y="2511360"/>
              <a:ext cx="0" cy="152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6440" y="2511360"/>
              <a:ext cx="0" cy="16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442120" y="2282760"/>
            <a:ext cx="3485520" cy="876240"/>
            <a:chOff x="5442120" y="2282760"/>
            <a:chExt cx="3485520" cy="876240"/>
          </a:xfrm>
        </p:grpSpPr>
        <p:sp>
          <p:nvSpPr>
            <p:cNvPr id="518" name=""/>
            <p:cNvSpPr/>
            <p:nvPr/>
          </p:nvSpPr>
          <p:spPr>
            <a:xfrm>
              <a:off x="7861320" y="2664000"/>
              <a:ext cx="106632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H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18320" y="2664000"/>
              <a:ext cx="102816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One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42120" y="2664000"/>
              <a:ext cx="110484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and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94360" y="2502000"/>
              <a:ext cx="23713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13640" y="2282760"/>
              <a:ext cx="0" cy="219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66040" y="2502000"/>
              <a:ext cx="0" cy="18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94600" y="2502000"/>
              <a:ext cx="0" cy="16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94360" y="2502000"/>
              <a:ext cx="0" cy="16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51240" y="2273400"/>
            <a:ext cx="4190760" cy="1762200"/>
            <a:chOff x="2451240" y="2273400"/>
            <a:chExt cx="4190760" cy="1762200"/>
          </a:xfrm>
        </p:grpSpPr>
        <p:sp>
          <p:nvSpPr>
            <p:cNvPr id="527" name=""/>
            <p:cNvSpPr/>
            <p:nvPr/>
          </p:nvSpPr>
          <p:spPr>
            <a:xfrm>
              <a:off x="5661000" y="3540240"/>
              <a:ext cx="981000" cy="49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ffff00"/>
                  </a:solidFill>
                  <a:latin typeface="Arial"/>
                </a:rPr>
                <a:t>Simetrič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65520" y="3540240"/>
              <a:ext cx="981000" cy="49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98840" y="3540240"/>
              <a:ext cx="981000" cy="49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Sign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51240" y="3540240"/>
              <a:ext cx="981000" cy="49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Ran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46240" y="3330720"/>
              <a:ext cx="3057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46240" y="3330720"/>
              <a:ext cx="0" cy="20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75120" y="3330720"/>
              <a:ext cx="0" cy="20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41680" y="2273400"/>
              <a:ext cx="0" cy="1057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03640" y="3330720"/>
              <a:ext cx="0" cy="20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03720" y="3330720"/>
              <a:ext cx="0" cy="218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851360" y="4044960"/>
            <a:ext cx="3419640" cy="838080"/>
            <a:chOff x="4851360" y="4044960"/>
            <a:chExt cx="3419640" cy="838080"/>
          </a:xfrm>
        </p:grpSpPr>
        <p:sp>
          <p:nvSpPr>
            <p:cNvPr id="538" name=""/>
            <p:cNvSpPr/>
            <p:nvPr/>
          </p:nvSpPr>
          <p:spPr>
            <a:xfrm>
              <a:off x="7337520" y="4388040"/>
              <a:ext cx="93348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00"/>
                  </a:solidFill>
                  <a:latin typeface="Arial"/>
                </a:rPr>
                <a:t>Bl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94520" y="4388040"/>
              <a:ext cx="93348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00"/>
                  </a:solidFill>
                  <a:latin typeface="Arial"/>
                </a:rPr>
                <a:t>Ni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51360" y="4388040"/>
              <a:ext cx="104760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00"/>
                  </a:solidFill>
                  <a:latin typeface="Arial"/>
                </a:rPr>
                <a:t>Klasič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6720" y="4226040"/>
              <a:ext cx="2448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46720" y="4226040"/>
              <a:ext cx="0" cy="16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37280" y="4044960"/>
              <a:ext cx="0" cy="18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51720" y="4226040"/>
              <a:ext cx="0" cy="162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85000" y="4226040"/>
              <a:ext cx="0" cy="171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841920" y="4892760"/>
            <a:ext cx="3057120" cy="723960"/>
            <a:chOff x="3841920" y="4892760"/>
            <a:chExt cx="3057120" cy="723960"/>
          </a:xfrm>
        </p:grpSpPr>
        <p:sp>
          <p:nvSpPr>
            <p:cNvPr id="547" name=""/>
            <p:cNvSpPr/>
            <p:nvPr/>
          </p:nvSpPr>
          <p:spPr>
            <a:xfrm>
              <a:off x="3841920" y="5121360"/>
              <a:ext cx="1209600" cy="49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rans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89440" y="5121360"/>
              <a:ext cx="1209600" cy="495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84800" y="5006880"/>
              <a:ext cx="1904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84800" y="5006880"/>
              <a:ext cx="0" cy="123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65800" y="4892760"/>
              <a:ext cx="0" cy="114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0200" y="5006880"/>
              <a:ext cx="0" cy="114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72000" y="5589720"/>
            <a:ext cx="3343320" cy="723240"/>
            <a:chOff x="4572000" y="5589720"/>
            <a:chExt cx="3343320" cy="723240"/>
          </a:xfrm>
        </p:grpSpPr>
        <p:sp>
          <p:nvSpPr>
            <p:cNvPr id="554" name=""/>
            <p:cNvSpPr/>
            <p:nvPr/>
          </p:nvSpPr>
          <p:spPr>
            <a:xfrm>
              <a:off x="4572000" y="5817960"/>
              <a:ext cx="138096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polyalphabe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19880" y="5817960"/>
              <a:ext cx="1495440" cy="495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monoalphabe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86240" y="5703480"/>
              <a:ext cx="1905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86240" y="5703480"/>
              <a:ext cx="0" cy="123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67240" y="5589720"/>
              <a:ext cx="0" cy="113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81640" y="5703480"/>
              <a:ext cx="0" cy="114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50920" y="4149720"/>
            <a:ext cx="3168720" cy="2448000"/>
            <a:chOff x="250920" y="4149720"/>
            <a:chExt cx="3168720" cy="2448000"/>
          </a:xfrm>
        </p:grpSpPr>
        <p:sp>
          <p:nvSpPr>
            <p:cNvPr id="561" name=""/>
            <p:cNvSpPr/>
            <p:nvPr/>
          </p:nvSpPr>
          <p:spPr>
            <a:xfrm flipH="1">
              <a:off x="250920" y="4149720"/>
              <a:ext cx="3168720" cy="2448000"/>
            </a:xfrm>
            <a:prstGeom prst="cloudCallout">
              <a:avLst>
                <a:gd name="adj1" fmla="val -85972"/>
                <a:gd name="adj2" fmla="val 3326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9640" y="4581360"/>
              <a:ext cx="2448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Times New Roman"/>
                </a:rPr>
                <a:t>Svaki karakter otvorenog teksta se zamenjuje različitim karakterima zavisno od ključa koji se koristi pri šifrifanj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979640" y="4005360"/>
            <a:ext cx="3168720" cy="2448000"/>
            <a:chOff x="1979640" y="4005360"/>
            <a:chExt cx="3168720" cy="2448000"/>
          </a:xfrm>
        </p:grpSpPr>
        <p:sp>
          <p:nvSpPr>
            <p:cNvPr id="564" name=""/>
            <p:cNvSpPr/>
            <p:nvPr/>
          </p:nvSpPr>
          <p:spPr>
            <a:xfrm flipH="1">
              <a:off x="1979640" y="4005360"/>
              <a:ext cx="3168720" cy="2448000"/>
            </a:xfrm>
            <a:prstGeom prst="cloudCallout">
              <a:avLst>
                <a:gd name="adj1" fmla="val -85972"/>
                <a:gd name="adj2" fmla="val 3326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68360" y="4437000"/>
              <a:ext cx="2448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Svaki karakter otvorenog teksta se uvek zamenjuje ISTIM drugim karakterom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ŠIFRIRANJE SUPSTITUCIJ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tstavlja tehniku šifriranja kod koje se svako slovo u sklopu OTVORENOG TEKSTA zamenjuje, u ŠIFRATU, sa drugim slovom. Najpoznatiji primerci ovih metoda šifriranj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zarova šif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noalfabetska supstitu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ialfabetska supstitu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ižnerova šif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rnamova šif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51280" y="1628640"/>
            <a:ext cx="4835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t osnovnih principa koji doprinose pouzdanosti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Bezb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Pover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Priv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Integritet ob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Raspolož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00200"/>
            <a:ext cx="3218040" cy="112536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POUZDA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9560" y="5802480"/>
            <a:ext cx="3218040" cy="50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BEZBED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870480" y="403452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VERLJIV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84960" y="404712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989640" y="404568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INTEGRITET OB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1900800" y="404712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RASPOLOŽIV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4797360"/>
            <a:ext cx="4103640" cy="1085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istem je raspoloživ u cilju obezbeđenja radnih i ugovornih obave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323640" y="5661000"/>
            <a:ext cx="8659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ofisticiraniji primer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stiti bilo koju permutacij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ja ne očuvava redosle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25653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324000" y="907920"/>
            <a:ext cx="6499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ifriranje uz oslonac na transpoziciju i supstituciju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ulije Ceza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mena svakog slova drugim u istom redosledu (pomeranje).(101-44 p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000" y="2781360"/>
            <a:ext cx="851508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p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meranje za tri mest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maksimum 25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A B C D E F G H I 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J 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K L M N O P Q R S T 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U V W X Y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 E F G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H I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J K L M N O P Q R S T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U V W X Y Z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A B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4000" y="4581360"/>
            <a:ext cx="853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RIPTOGRAFIJ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aj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WRJUD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324000" y="-252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Istorija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590920" y="464832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XII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ti vek,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oger Bacon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sedam metoda za enkripciju poruk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79280" y="1557360"/>
            <a:ext cx="8764560" cy="2286000"/>
            <a:chOff x="179280" y="1557360"/>
            <a:chExt cx="8764560" cy="2286000"/>
          </a:xfrm>
        </p:grpSpPr>
        <p:sp>
          <p:nvSpPr>
            <p:cNvPr id="576" name=""/>
            <p:cNvSpPr/>
            <p:nvPr/>
          </p:nvSpPr>
          <p:spPr>
            <a:xfrm>
              <a:off x="1476360" y="1557360"/>
              <a:ext cx="59752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fr-FR" sz="2800" spc="-1" strike="noStrike">
                  <a:solidFill>
                    <a:srgbClr val="ff0000"/>
                  </a:solidFill>
                  <a:latin typeface=""/>
                </a:rPr>
                <a:t>800-873</a:t>
              </a:r>
              <a:r>
                <a:rPr b="0" lang="fr-FR" sz="2800" spc="-1" strike="noStrike">
                  <a:solidFill>
                    <a:srgbClr val="ff0000"/>
                  </a:solidFill>
                  <a:latin typeface=""/>
                </a:rPr>
                <a:t>,</a:t>
              </a:r>
              <a:r>
                <a:rPr b="0" lang="fr-FR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bu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usuf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Jakub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Isak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l Kindi</a:t>
              </a:r>
              <a:r>
                <a:rPr b="0" lang="fr-FR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sr-Latn-CS" sz="2800" spc="-1" strike="noStrike">
                  <a:solidFill>
                    <a:srgbClr val="ff0000"/>
                  </a:solidFill>
                  <a:latin typeface="Times New Roman"/>
                </a:rPr>
                <a:t>Spis sa opisom dešifrovanja kriptovanih poruka. </a:t>
              </a:r>
              <a:r>
                <a:rPr b="1" i="1" lang="fr-FR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sr-Latn-C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ff0000"/>
                  </a:solidFill>
                  <a:latin typeface="Times New Roman"/>
                </a:rPr>
                <a:t>Služio je za proveru autentičnosti svetih tekstova iz KURANA</a:t>
              </a:r>
              <a:r>
                <a:rPr b="0" i="1" lang="sr-Latn-CS" sz="28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0" i="1" lang="fr-FR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i="1" lang="sr-Latn-C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7308720" y="1557360"/>
              <a:ext cx="1635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179280" y="1557360"/>
              <a:ext cx="1638360" cy="225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250920" y="4519440"/>
            <a:ext cx="2111400" cy="20908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050560" y="257760"/>
            <a:ext cx="4969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Istorija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ISK ZA ŠIRFIR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at za šifriranje i dešifriranje  razvijen u 15.om veku od stra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n Battista Albert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mesto tabela za šifriranje koje sadrže REGULARNI i ŠIFRIRANI alfabet, korišćena su dva koncentrična sa kružnom skalo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skovi su se mogli pomerati jedan u odnosu na drug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691080" cy="41767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1835280" y="257760"/>
            <a:ext cx="496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Istorija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onoalfabetska supstitu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razumeva oslonac na jedan alfabetski sistem kojim se opisuj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tvoreni teks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A B C D E F G H I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J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K L M N O P Q R S T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U V W X Y Z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istog alfabetskog sistema z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šifra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 kome su slovne pozicije “pomešan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43657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RIPTOGRAFIJ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aj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ABJZQCAMOB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0920" y="551664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26! – mogučih načina formiranja pomešanog alfabeta! Na prvi pogled veliki broj.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Slab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71280" y="40212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Šifriranje zamen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pš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cc00"/>
                </a:solidFill>
                <a:latin typeface="Arial"/>
              </a:rPr>
              <a:t>supstitucioni algorit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zvoljava da alfabet šifr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pretstavljati bilo kako aranžiran alfabet otvorenog tekst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 da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26! = 403,291,461,126,605,635,584,000,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gućih ključeva za izbor prilikom korišćenja šifriranja zameno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labost monoalfabetske supstitu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enj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edinstvene korespondenci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zmeđu slova alfabeta koji se koristi u otvorenom tekstu i slova alfabeta koji se koristi za supstituci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znavanj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čestanosti pojav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odgovarajućih slova u sklopu govornog jezika omogućava da se,, uz oslonac na frekventnu analizu šifrata, dođe do jednoznačne korespondencije kojom je supstitucija obvalj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000" y="2577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Frekventna analiz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bilo kom jeziku svako slovo poseduje sledeće karakteristik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Učestanost pojavljivan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Veze sa drugim slov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ozicija u sklopu re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e i slične karakteristike  koriste sa za razbijanje suprstitucionih monoalfabetskih šifarskih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402840"/>
            <a:ext cx="7920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Istorija – frekvencija pojave slov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5113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850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arles Babbag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i upojam frekvencije pojave slova kao metode za razbijanje supstitucionih šifrat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Babbage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-ova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 ma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šin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teča računar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vi progra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6357960" y="2060640"/>
            <a:ext cx="24163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514080"/>
            <a:ext cx="7920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Istorija – frekvencija pojave slov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5113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850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arles Babbag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i upojam frekvencije pojave slova kao metode za razbijanje supstitucionih šifrat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Babbage machin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teča računar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vi progra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724880" y="2781360"/>
            <a:ext cx="1228680" cy="16556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79280" y="1069920"/>
            <a:ext cx="698508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514080"/>
            <a:ext cx="7920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Istorija – frekvencija pojave slov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5113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850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arles Babbag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i upojam frekvencije pojave slova kao metode za razbijanje supstitucionih šifrat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Babbage machin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teča računar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vi progra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7777080" y="2781360"/>
            <a:ext cx="1176480" cy="15843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24000" y="2133720"/>
            <a:ext cx="4825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očite značaj bezbednos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na je fundament pouzdanosti siste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Bezbednosne procedu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ozvoljavaju pristup sistemu jedino autorizovanim korisnicima i štit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erljivost osetljivih podataka organizacij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vatnost podataka o ličnosti koje sistem prikuplj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600200"/>
            <a:ext cx="3218040" cy="112536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POUZDA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9560" y="5802480"/>
            <a:ext cx="3218040" cy="5094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BEZBED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870480" y="403452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VERLJIV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84960" y="404712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989640" y="404568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INTEGRITET OB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1900800" y="404712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POLOŽIV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lialfabetska supstitu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razumeva oslonac na jedan alfabetski sistem kojim se opisuj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tvoreni teks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A B C D E F G H I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J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K L M N O P Q R S T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U V W X Y Z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iše primerak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stog alfabetskog sistema z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šifra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 kome su slovne pozicije “pomeren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C D E F G H I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J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K L M N O P Q R S T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U V W X Y Z A B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E F G H I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J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K L M N O P Q R S T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U V W X Y Z A B C 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G H I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J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K L M N O P Q R S T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U V W X Y Z A B C D E F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J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K L M N O P Q R S T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U V W X Y Z A B C D E F G 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lialfabetska supstitu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RIPTOGRAF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K R I P)(T O G R)(A F I  J)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 2 3 4  1 2  3  4   1 2 3 4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RIPTOGRAFI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VOXVSMZCJO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erit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abost – da bi se otvoreni tekst mogao dešifrovati potrebno je poznavati sve korišćene alfab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zbija se relativno lak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LJUČ! – kratak sadržaj bez ponavljanja slo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39168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Istorija -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Vigen</a:t>
            </a:r>
            <a:r>
              <a:rPr b="0" lang="en-CA" sz="4000" spc="-1" strike="noStrike">
                <a:solidFill>
                  <a:srgbClr val="003300"/>
                </a:solidFill>
                <a:latin typeface="Arial Black"/>
              </a:rPr>
              <a:t>è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re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ov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šifrat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5113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igenè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ov najznačajniji rad je bio 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cté des Chiffres” (“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aktat o tajnom pisanju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”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mpa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1586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i KLJUČ za šifr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ifrat je otporan na analizu učestanosti pojave karaktera (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tter frequency analy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5724360" y="3645000"/>
            <a:ext cx="528840" cy="26820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7020000" y="2349360"/>
            <a:ext cx="1781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920" y="119520"/>
            <a:ext cx="83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Istorija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Vig</a:t>
            </a:r>
            <a:r>
              <a:rPr b="0" lang="en-CA" sz="3600" spc="-1" strike="noStrike">
                <a:solidFill>
                  <a:srgbClr val="0033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n</a:t>
            </a:r>
            <a:r>
              <a:rPr b="0" lang="en-CA" sz="3600" spc="-1" strike="noStrike">
                <a:solidFill>
                  <a:srgbClr val="003300"/>
                </a:solidFill>
                <a:latin typeface="Arial Black"/>
              </a:rPr>
              <a:t>è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re 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– prikaz rad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6959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48480" indent="-348480">
              <a:lnSpc>
                <a:spcPct val="85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DABRANI KLJUČ SE ISPISUJE IZNAD TEKSTA KOJI SE ŠIFRIRA DO DUŽINE POR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265680">
              <a:lnSpc>
                <a:spcPct val="85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ključ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859320" y="3162240"/>
            <a:ext cx="272160" cy="277920"/>
            <a:chOff x="859320" y="3162240"/>
            <a:chExt cx="272160" cy="277920"/>
          </a:xfrm>
        </p:grpSpPr>
        <p:sp>
          <p:nvSpPr>
            <p:cNvPr id="616" name=""/>
            <p:cNvSpPr/>
            <p:nvPr/>
          </p:nvSpPr>
          <p:spPr>
            <a:xfrm>
              <a:off x="863640" y="3162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5932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125720" y="3162240"/>
            <a:ext cx="272160" cy="277920"/>
            <a:chOff x="1125720" y="3162240"/>
            <a:chExt cx="272160" cy="277920"/>
          </a:xfrm>
        </p:grpSpPr>
        <p:sp>
          <p:nvSpPr>
            <p:cNvPr id="619" name=""/>
            <p:cNvSpPr/>
            <p:nvPr/>
          </p:nvSpPr>
          <p:spPr>
            <a:xfrm>
              <a:off x="113004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2572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392480" y="3162240"/>
            <a:ext cx="272160" cy="277920"/>
            <a:chOff x="1392480" y="3162240"/>
            <a:chExt cx="272160" cy="277920"/>
          </a:xfrm>
        </p:grpSpPr>
        <p:sp>
          <p:nvSpPr>
            <p:cNvPr id="622" name=""/>
            <p:cNvSpPr/>
            <p:nvPr/>
          </p:nvSpPr>
          <p:spPr>
            <a:xfrm>
              <a:off x="139680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9248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659240" y="3162240"/>
            <a:ext cx="272160" cy="277920"/>
            <a:chOff x="1659240" y="3162240"/>
            <a:chExt cx="272160" cy="277920"/>
          </a:xfrm>
        </p:grpSpPr>
        <p:sp>
          <p:nvSpPr>
            <p:cNvPr id="625" name=""/>
            <p:cNvSpPr/>
            <p:nvPr/>
          </p:nvSpPr>
          <p:spPr>
            <a:xfrm>
              <a:off x="166356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5924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1916280" y="3162240"/>
            <a:ext cx="272160" cy="277920"/>
            <a:chOff x="1916280" y="3162240"/>
            <a:chExt cx="272160" cy="277920"/>
          </a:xfrm>
        </p:grpSpPr>
        <p:sp>
          <p:nvSpPr>
            <p:cNvPr id="628" name=""/>
            <p:cNvSpPr/>
            <p:nvPr/>
          </p:nvSpPr>
          <p:spPr>
            <a:xfrm>
              <a:off x="192060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1628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183040" y="3162240"/>
            <a:ext cx="272160" cy="277920"/>
            <a:chOff x="2183040" y="3162240"/>
            <a:chExt cx="272160" cy="277920"/>
          </a:xfrm>
        </p:grpSpPr>
        <p:sp>
          <p:nvSpPr>
            <p:cNvPr id="631" name=""/>
            <p:cNvSpPr/>
            <p:nvPr/>
          </p:nvSpPr>
          <p:spPr>
            <a:xfrm>
              <a:off x="218736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8304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449800" y="3162240"/>
            <a:ext cx="272160" cy="277920"/>
            <a:chOff x="2449800" y="3162240"/>
            <a:chExt cx="272160" cy="277920"/>
          </a:xfrm>
        </p:grpSpPr>
        <p:sp>
          <p:nvSpPr>
            <p:cNvPr id="634" name=""/>
            <p:cNvSpPr/>
            <p:nvPr/>
          </p:nvSpPr>
          <p:spPr>
            <a:xfrm>
              <a:off x="245412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4980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716560" y="3162240"/>
            <a:ext cx="272160" cy="277920"/>
            <a:chOff x="2716560" y="3162240"/>
            <a:chExt cx="272160" cy="277920"/>
          </a:xfrm>
        </p:grpSpPr>
        <p:sp>
          <p:nvSpPr>
            <p:cNvPr id="637" name=""/>
            <p:cNvSpPr/>
            <p:nvPr/>
          </p:nvSpPr>
          <p:spPr>
            <a:xfrm>
              <a:off x="272088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1656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983320" y="3162240"/>
            <a:ext cx="272160" cy="277920"/>
            <a:chOff x="2983320" y="3162240"/>
            <a:chExt cx="272160" cy="277920"/>
          </a:xfrm>
        </p:grpSpPr>
        <p:sp>
          <p:nvSpPr>
            <p:cNvPr id="640" name=""/>
            <p:cNvSpPr/>
            <p:nvPr/>
          </p:nvSpPr>
          <p:spPr>
            <a:xfrm>
              <a:off x="2987640" y="3162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8332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250080" y="3162240"/>
            <a:ext cx="272160" cy="277920"/>
            <a:chOff x="3250080" y="3162240"/>
            <a:chExt cx="272160" cy="277920"/>
          </a:xfrm>
        </p:grpSpPr>
        <p:sp>
          <p:nvSpPr>
            <p:cNvPr id="643" name=""/>
            <p:cNvSpPr/>
            <p:nvPr/>
          </p:nvSpPr>
          <p:spPr>
            <a:xfrm>
              <a:off x="3254400" y="3162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5008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516480" y="3162240"/>
            <a:ext cx="272160" cy="277920"/>
            <a:chOff x="3516480" y="3162240"/>
            <a:chExt cx="272160" cy="277920"/>
          </a:xfrm>
        </p:grpSpPr>
        <p:sp>
          <p:nvSpPr>
            <p:cNvPr id="646" name=""/>
            <p:cNvSpPr/>
            <p:nvPr/>
          </p:nvSpPr>
          <p:spPr>
            <a:xfrm>
              <a:off x="352080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1648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783240" y="3162240"/>
            <a:ext cx="272160" cy="277920"/>
            <a:chOff x="3783240" y="3162240"/>
            <a:chExt cx="272160" cy="277920"/>
          </a:xfrm>
        </p:grpSpPr>
        <p:sp>
          <p:nvSpPr>
            <p:cNvPr id="649" name=""/>
            <p:cNvSpPr/>
            <p:nvPr/>
          </p:nvSpPr>
          <p:spPr>
            <a:xfrm>
              <a:off x="378756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8324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050000" y="3162240"/>
            <a:ext cx="272160" cy="277920"/>
            <a:chOff x="4050000" y="3162240"/>
            <a:chExt cx="272160" cy="277920"/>
          </a:xfrm>
        </p:grpSpPr>
        <p:sp>
          <p:nvSpPr>
            <p:cNvPr id="652" name=""/>
            <p:cNvSpPr/>
            <p:nvPr/>
          </p:nvSpPr>
          <p:spPr>
            <a:xfrm>
              <a:off x="405432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5000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316760" y="3162240"/>
            <a:ext cx="272160" cy="277920"/>
            <a:chOff x="4316760" y="3162240"/>
            <a:chExt cx="272160" cy="277920"/>
          </a:xfrm>
        </p:grpSpPr>
        <p:sp>
          <p:nvSpPr>
            <p:cNvPr id="655" name=""/>
            <p:cNvSpPr/>
            <p:nvPr/>
          </p:nvSpPr>
          <p:spPr>
            <a:xfrm>
              <a:off x="432108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1676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583520" y="3162240"/>
            <a:ext cx="272160" cy="277920"/>
            <a:chOff x="4583520" y="3162240"/>
            <a:chExt cx="272160" cy="277920"/>
          </a:xfrm>
        </p:grpSpPr>
        <p:sp>
          <p:nvSpPr>
            <p:cNvPr id="658" name=""/>
            <p:cNvSpPr/>
            <p:nvPr/>
          </p:nvSpPr>
          <p:spPr>
            <a:xfrm>
              <a:off x="4587840" y="3162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52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850280" y="3162240"/>
            <a:ext cx="272160" cy="277920"/>
            <a:chOff x="4850280" y="3162240"/>
            <a:chExt cx="272160" cy="277920"/>
          </a:xfrm>
        </p:grpSpPr>
        <p:sp>
          <p:nvSpPr>
            <p:cNvPr id="661" name=""/>
            <p:cNvSpPr/>
            <p:nvPr/>
          </p:nvSpPr>
          <p:spPr>
            <a:xfrm>
              <a:off x="4854600" y="3162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5028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116680" y="3162240"/>
            <a:ext cx="272160" cy="277920"/>
            <a:chOff x="5116680" y="3162240"/>
            <a:chExt cx="272160" cy="277920"/>
          </a:xfrm>
        </p:grpSpPr>
        <p:sp>
          <p:nvSpPr>
            <p:cNvPr id="664" name=""/>
            <p:cNvSpPr/>
            <p:nvPr/>
          </p:nvSpPr>
          <p:spPr>
            <a:xfrm>
              <a:off x="512100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1668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383440" y="3162240"/>
            <a:ext cx="272160" cy="277920"/>
            <a:chOff x="5383440" y="3162240"/>
            <a:chExt cx="272160" cy="277920"/>
          </a:xfrm>
        </p:grpSpPr>
        <p:sp>
          <p:nvSpPr>
            <p:cNvPr id="667" name=""/>
            <p:cNvSpPr/>
            <p:nvPr/>
          </p:nvSpPr>
          <p:spPr>
            <a:xfrm>
              <a:off x="5387760" y="31622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83440" y="3163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129600" y="314496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-27720" y="3424320"/>
            <a:ext cx="5673600" cy="307080"/>
            <a:chOff x="-27720" y="3424320"/>
            <a:chExt cx="5673600" cy="307080"/>
          </a:xfrm>
        </p:grpSpPr>
        <p:sp>
          <p:nvSpPr>
            <p:cNvPr id="671" name=""/>
            <p:cNvSpPr/>
            <p:nvPr/>
          </p:nvSpPr>
          <p:spPr>
            <a:xfrm>
              <a:off x="-27720" y="3424320"/>
              <a:ext cx="9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Magik"/>
                </a:rPr>
                <a:t>otvore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859320" y="3438360"/>
              <a:ext cx="4786560" cy="277560"/>
              <a:chOff x="859320" y="3438360"/>
              <a:chExt cx="4786560" cy="2775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1887840" y="3438360"/>
                <a:ext cx="363600" cy="277560"/>
                <a:chOff x="1887840" y="3438360"/>
                <a:chExt cx="363600" cy="27756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1901520" y="343836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887840" y="34394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2173320" y="3438360"/>
                <a:ext cx="272160" cy="277560"/>
                <a:chOff x="2173320" y="3438360"/>
                <a:chExt cx="272160" cy="2775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2186280" y="3438360"/>
                  <a:ext cx="258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173320" y="3439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2440080" y="3438360"/>
                <a:ext cx="272160" cy="277560"/>
                <a:chOff x="2440080" y="3438360"/>
                <a:chExt cx="272160" cy="2775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2453040" y="3438360"/>
                  <a:ext cx="258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440080" y="3439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2706840" y="3438360"/>
                <a:ext cx="272160" cy="277560"/>
                <a:chOff x="2706840" y="3438360"/>
                <a:chExt cx="272160" cy="2775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2719800" y="3438360"/>
                  <a:ext cx="258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706840" y="3439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973600" y="3438360"/>
                <a:ext cx="2672280" cy="277560"/>
                <a:chOff x="2973600" y="3438360"/>
                <a:chExt cx="2672280" cy="277560"/>
              </a:xfrm>
            </p:grpSpPr>
            <p:grpSp>
              <p:nvGrpSpPr>
                <p:cNvPr id="686" name=""/>
                <p:cNvGrpSpPr/>
                <p:nvPr/>
              </p:nvGrpSpPr>
              <p:grpSpPr>
                <a:xfrm>
                  <a:off x="2973600" y="3438360"/>
                  <a:ext cx="272160" cy="277560"/>
                  <a:chOff x="2973600" y="3438360"/>
                  <a:chExt cx="272160" cy="27756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2986560" y="3438360"/>
                    <a:ext cx="25812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97360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3506760" y="3438360"/>
                  <a:ext cx="272160" cy="277560"/>
                  <a:chOff x="3506760" y="3438360"/>
                  <a:chExt cx="272160" cy="27756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3519720" y="3438360"/>
                    <a:ext cx="25812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350676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2" name=""/>
                <p:cNvGrpSpPr/>
                <p:nvPr/>
              </p:nvGrpSpPr>
              <p:grpSpPr>
                <a:xfrm>
                  <a:off x="3240360" y="3438360"/>
                  <a:ext cx="272160" cy="277560"/>
                  <a:chOff x="3240360" y="3438360"/>
                  <a:chExt cx="272160" cy="2775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3252960" y="343836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24036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4040280" y="3438360"/>
                  <a:ext cx="272160" cy="277560"/>
                  <a:chOff x="4040280" y="3438360"/>
                  <a:chExt cx="272160" cy="2775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4053240" y="3438360"/>
                    <a:ext cx="25812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404028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3773520" y="3438360"/>
                  <a:ext cx="272160" cy="277560"/>
                  <a:chOff x="3773520" y="3438360"/>
                  <a:chExt cx="272160" cy="27756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3786480" y="3438360"/>
                    <a:ext cx="25812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377352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4573800" y="3438360"/>
                  <a:ext cx="272160" cy="277560"/>
                  <a:chOff x="4573800" y="3438360"/>
                  <a:chExt cx="272160" cy="27756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4586760" y="3438360"/>
                    <a:ext cx="25812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57380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4307040" y="3438360"/>
                  <a:ext cx="272160" cy="277560"/>
                  <a:chOff x="4307040" y="3438360"/>
                  <a:chExt cx="272160" cy="27756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>
                    <a:off x="4320000" y="3438360"/>
                    <a:ext cx="25812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30704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5106960" y="3438360"/>
                  <a:ext cx="272160" cy="277560"/>
                  <a:chOff x="5106960" y="3438360"/>
                  <a:chExt cx="272160" cy="27756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5119920" y="3438360"/>
                    <a:ext cx="25812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510696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4840560" y="3438360"/>
                  <a:ext cx="272160" cy="277560"/>
                  <a:chOff x="4840560" y="3438360"/>
                  <a:chExt cx="272160" cy="2775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4853160" y="343836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484056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3" name=""/>
                <p:cNvGrpSpPr/>
                <p:nvPr/>
              </p:nvGrpSpPr>
              <p:grpSpPr>
                <a:xfrm>
                  <a:off x="5373720" y="3438360"/>
                  <a:ext cx="272160" cy="277560"/>
                  <a:chOff x="5373720" y="3438360"/>
                  <a:chExt cx="272160" cy="27756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>
                    <a:off x="5386680" y="3438360"/>
                    <a:ext cx="25812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537372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6" name=""/>
              <p:cNvGrpSpPr/>
              <p:nvPr/>
            </p:nvGrpSpPr>
            <p:grpSpPr>
              <a:xfrm>
                <a:off x="1630440" y="3438360"/>
                <a:ext cx="272160" cy="277560"/>
                <a:chOff x="1630440" y="3438360"/>
                <a:chExt cx="272160" cy="277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1643400" y="3438360"/>
                  <a:ext cx="258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630440" y="3439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859320" y="3438360"/>
                <a:ext cx="805320" cy="277560"/>
                <a:chOff x="859320" y="3438360"/>
                <a:chExt cx="805320" cy="277560"/>
              </a:xfrm>
            </p:grpSpPr>
            <p:grpSp>
              <p:nvGrpSpPr>
                <p:cNvPr id="720" name=""/>
                <p:cNvGrpSpPr/>
                <p:nvPr/>
              </p:nvGrpSpPr>
              <p:grpSpPr>
                <a:xfrm>
                  <a:off x="859320" y="3438360"/>
                  <a:ext cx="272160" cy="277560"/>
                  <a:chOff x="859320" y="3438360"/>
                  <a:chExt cx="272160" cy="27756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>
                    <a:off x="871920" y="343836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85932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1126080" y="3438360"/>
                  <a:ext cx="272160" cy="277560"/>
                  <a:chOff x="1126080" y="3438360"/>
                  <a:chExt cx="272160" cy="27756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1138680" y="343836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112608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1392480" y="3438360"/>
                  <a:ext cx="272160" cy="277560"/>
                  <a:chOff x="1392480" y="3438360"/>
                  <a:chExt cx="272160" cy="27756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1405440" y="3438360"/>
                    <a:ext cx="25812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392480" y="34394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29" name=""/>
          <p:cNvGrpSpPr/>
          <p:nvPr/>
        </p:nvGrpSpPr>
        <p:grpSpPr>
          <a:xfrm>
            <a:off x="6058080" y="1790640"/>
            <a:ext cx="2743200" cy="4172040"/>
            <a:chOff x="6058080" y="1790640"/>
            <a:chExt cx="2743200" cy="4172040"/>
          </a:xfrm>
        </p:grpSpPr>
        <p:sp>
          <p:nvSpPr>
            <p:cNvPr id="730" name=""/>
            <p:cNvSpPr/>
            <p:nvPr/>
          </p:nvSpPr>
          <p:spPr>
            <a:xfrm>
              <a:off x="6058080" y="179064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34760" y="183816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9900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ff3300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868680" y="3705120"/>
            <a:ext cx="272160" cy="278280"/>
            <a:chOff x="868680" y="3705120"/>
            <a:chExt cx="272160" cy="278280"/>
          </a:xfrm>
        </p:grpSpPr>
        <p:sp>
          <p:nvSpPr>
            <p:cNvPr id="733" name=""/>
            <p:cNvSpPr/>
            <p:nvPr/>
          </p:nvSpPr>
          <p:spPr>
            <a:xfrm>
              <a:off x="873000" y="370512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8680" y="37069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158760" y="371628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00"/>
                </a:solidFill>
                <a:latin typeface="Magik"/>
              </a:rPr>
              <a:t>šifr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81000" y="287640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734240" y="182880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24680" y="5543640"/>
            <a:ext cx="2571480" cy="180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1171440" y="386676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125720" y="3705120"/>
            <a:ext cx="272160" cy="278280"/>
            <a:chOff x="1125720" y="3705120"/>
            <a:chExt cx="272160" cy="278280"/>
          </a:xfrm>
        </p:grpSpPr>
        <p:sp>
          <p:nvSpPr>
            <p:cNvPr id="741" name=""/>
            <p:cNvSpPr/>
            <p:nvPr/>
          </p:nvSpPr>
          <p:spPr>
            <a:xfrm>
              <a:off x="1130040" y="370512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25720" y="37069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1228680" y="289548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14520" y="287640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800360" y="287640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402200" y="3705120"/>
            <a:ext cx="272160" cy="278280"/>
            <a:chOff x="1402200" y="3705120"/>
            <a:chExt cx="272160" cy="278280"/>
          </a:xfrm>
        </p:grpSpPr>
        <p:sp>
          <p:nvSpPr>
            <p:cNvPr id="747" name=""/>
            <p:cNvSpPr/>
            <p:nvPr/>
          </p:nvSpPr>
          <p:spPr>
            <a:xfrm>
              <a:off x="1406520" y="37051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02200" y="37069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6991200" y="1819440"/>
            <a:ext cx="19080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124680" y="5362560"/>
            <a:ext cx="256212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1914120" y="390528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659240" y="3705120"/>
            <a:ext cx="272160" cy="277920"/>
            <a:chOff x="1659240" y="3705120"/>
            <a:chExt cx="272160" cy="277920"/>
          </a:xfrm>
        </p:grpSpPr>
        <p:sp>
          <p:nvSpPr>
            <p:cNvPr id="753" name=""/>
            <p:cNvSpPr/>
            <p:nvPr/>
          </p:nvSpPr>
          <p:spPr>
            <a:xfrm>
              <a:off x="1663200" y="370512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59240" y="37065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897560" y="3705120"/>
            <a:ext cx="3748680" cy="278280"/>
            <a:chOff x="1897560" y="3705120"/>
            <a:chExt cx="3748680" cy="278280"/>
          </a:xfrm>
        </p:grpSpPr>
        <p:grpSp>
          <p:nvGrpSpPr>
            <p:cNvPr id="756" name=""/>
            <p:cNvGrpSpPr/>
            <p:nvPr/>
          </p:nvGrpSpPr>
          <p:grpSpPr>
            <a:xfrm>
              <a:off x="5374080" y="3705120"/>
              <a:ext cx="272160" cy="278280"/>
              <a:chOff x="5374080" y="3705120"/>
              <a:chExt cx="272160" cy="278280"/>
            </a:xfrm>
          </p:grpSpPr>
          <p:sp>
            <p:nvSpPr>
              <p:cNvPr id="757" name=""/>
              <p:cNvSpPr/>
              <p:nvPr/>
            </p:nvSpPr>
            <p:spPr>
              <a:xfrm>
                <a:off x="537840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7408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2706840" y="3705120"/>
              <a:ext cx="272160" cy="278280"/>
              <a:chOff x="2706840" y="3705120"/>
              <a:chExt cx="272160" cy="278280"/>
            </a:xfrm>
          </p:grpSpPr>
          <p:sp>
            <p:nvSpPr>
              <p:cNvPr id="760" name=""/>
              <p:cNvSpPr/>
              <p:nvPr/>
            </p:nvSpPr>
            <p:spPr>
              <a:xfrm>
                <a:off x="271116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70684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430720" y="3705120"/>
              <a:ext cx="272160" cy="278280"/>
              <a:chOff x="2430720" y="3705120"/>
              <a:chExt cx="272160" cy="278280"/>
            </a:xfrm>
          </p:grpSpPr>
          <p:sp>
            <p:nvSpPr>
              <p:cNvPr id="763" name=""/>
              <p:cNvSpPr/>
              <p:nvPr/>
            </p:nvSpPr>
            <p:spPr>
              <a:xfrm>
                <a:off x="243504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43072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173680" y="3705120"/>
              <a:ext cx="272160" cy="278280"/>
              <a:chOff x="2173680" y="3705120"/>
              <a:chExt cx="272160" cy="278280"/>
            </a:xfrm>
          </p:grpSpPr>
          <p:sp>
            <p:nvSpPr>
              <p:cNvPr id="766" name=""/>
              <p:cNvSpPr/>
              <p:nvPr/>
            </p:nvSpPr>
            <p:spPr>
              <a:xfrm>
                <a:off x="217800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7368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1897560" y="3705120"/>
              <a:ext cx="272160" cy="278280"/>
              <a:chOff x="1897560" y="3705120"/>
              <a:chExt cx="272160" cy="278280"/>
            </a:xfrm>
          </p:grpSpPr>
          <p:sp>
            <p:nvSpPr>
              <p:cNvPr id="769" name=""/>
              <p:cNvSpPr/>
              <p:nvPr/>
            </p:nvSpPr>
            <p:spPr>
              <a:xfrm>
                <a:off x="1901880" y="3705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89756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840560" y="3705120"/>
              <a:ext cx="272160" cy="278280"/>
              <a:chOff x="4840560" y="3705120"/>
              <a:chExt cx="272160" cy="278280"/>
            </a:xfrm>
          </p:grpSpPr>
          <p:sp>
            <p:nvSpPr>
              <p:cNvPr id="772" name=""/>
              <p:cNvSpPr/>
              <p:nvPr/>
            </p:nvSpPr>
            <p:spPr>
              <a:xfrm>
                <a:off x="484488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4056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564440" y="3705120"/>
              <a:ext cx="272160" cy="278280"/>
              <a:chOff x="4564440" y="3705120"/>
              <a:chExt cx="272160" cy="278280"/>
            </a:xfrm>
          </p:grpSpPr>
          <p:sp>
            <p:nvSpPr>
              <p:cNvPr id="775" name=""/>
              <p:cNvSpPr/>
              <p:nvPr/>
            </p:nvSpPr>
            <p:spPr>
              <a:xfrm>
                <a:off x="456876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56444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4297680" y="3705120"/>
              <a:ext cx="272160" cy="278280"/>
              <a:chOff x="4297680" y="3705120"/>
              <a:chExt cx="272160" cy="278280"/>
            </a:xfrm>
          </p:grpSpPr>
          <p:sp>
            <p:nvSpPr>
              <p:cNvPr id="778" name=""/>
              <p:cNvSpPr/>
              <p:nvPr/>
            </p:nvSpPr>
            <p:spPr>
              <a:xfrm>
                <a:off x="430200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29768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4030920" y="3705120"/>
              <a:ext cx="272160" cy="278280"/>
              <a:chOff x="4030920" y="3705120"/>
              <a:chExt cx="272160" cy="278280"/>
            </a:xfrm>
          </p:grpSpPr>
          <p:sp>
            <p:nvSpPr>
              <p:cNvPr id="781" name=""/>
              <p:cNvSpPr/>
              <p:nvPr/>
            </p:nvSpPr>
            <p:spPr>
              <a:xfrm>
                <a:off x="403524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03092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3773880" y="3705120"/>
              <a:ext cx="272160" cy="278280"/>
              <a:chOff x="3773880" y="3705120"/>
              <a:chExt cx="272160" cy="278280"/>
            </a:xfrm>
          </p:grpSpPr>
          <p:sp>
            <p:nvSpPr>
              <p:cNvPr id="784" name=""/>
              <p:cNvSpPr/>
              <p:nvPr/>
            </p:nvSpPr>
            <p:spPr>
              <a:xfrm>
                <a:off x="377820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7388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3497760" y="3705120"/>
              <a:ext cx="272160" cy="278280"/>
              <a:chOff x="3497760" y="3705120"/>
              <a:chExt cx="272160" cy="278280"/>
            </a:xfrm>
          </p:grpSpPr>
          <p:sp>
            <p:nvSpPr>
              <p:cNvPr id="787" name=""/>
              <p:cNvSpPr/>
              <p:nvPr/>
            </p:nvSpPr>
            <p:spPr>
              <a:xfrm>
                <a:off x="3502080" y="3705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9776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240360" y="3705120"/>
              <a:ext cx="272160" cy="278280"/>
              <a:chOff x="3240360" y="3705120"/>
              <a:chExt cx="272160" cy="278280"/>
            </a:xfrm>
          </p:grpSpPr>
          <p:sp>
            <p:nvSpPr>
              <p:cNvPr id="790" name=""/>
              <p:cNvSpPr/>
              <p:nvPr/>
            </p:nvSpPr>
            <p:spPr>
              <a:xfrm>
                <a:off x="324468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036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2973600" y="3705120"/>
              <a:ext cx="272160" cy="278280"/>
              <a:chOff x="2973600" y="3705120"/>
              <a:chExt cx="272160" cy="278280"/>
            </a:xfrm>
          </p:grpSpPr>
          <p:sp>
            <p:nvSpPr>
              <p:cNvPr id="793" name=""/>
              <p:cNvSpPr/>
              <p:nvPr/>
            </p:nvSpPr>
            <p:spPr>
              <a:xfrm>
                <a:off x="297792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97360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5107320" y="3705120"/>
              <a:ext cx="272160" cy="278280"/>
              <a:chOff x="5107320" y="3705120"/>
              <a:chExt cx="272160" cy="278280"/>
            </a:xfrm>
          </p:grpSpPr>
          <p:sp>
            <p:nvSpPr>
              <p:cNvPr id="796" name=""/>
              <p:cNvSpPr/>
              <p:nvPr/>
            </p:nvSpPr>
            <p:spPr>
              <a:xfrm>
                <a:off x="5111640" y="3705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107320" y="3706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4920" y="259200"/>
            <a:ext cx="8304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Razbijanje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Vigen</a:t>
            </a:r>
            <a:r>
              <a:rPr b="0" lang="en-CA" sz="3600" spc="-1" strike="noStrike">
                <a:solidFill>
                  <a:srgbClr val="003300"/>
                </a:solidFill>
                <a:latin typeface="Arial Black"/>
              </a:rPr>
              <a:t>è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re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-ove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Šifre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7772400" cy="17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3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ljski ofic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riedrich W. Kasiski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 objavio kratku knjiži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ja je promenila kompletnu prirodu kriptografij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n je uočio 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26920" y="515772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tuda je veličinu ključa moguće odrediti na osnovu prirode ponavljajućih nizova karaktera u sklopu šifrata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547640" y="3141720"/>
            <a:ext cx="6573600" cy="1644480"/>
            <a:chOff x="1547640" y="3141720"/>
            <a:chExt cx="6573600" cy="1644480"/>
          </a:xfrm>
        </p:grpSpPr>
        <p:sp>
          <p:nvSpPr>
            <p:cNvPr id="802" name=""/>
            <p:cNvSpPr/>
            <p:nvPr/>
          </p:nvSpPr>
          <p:spPr>
            <a:xfrm>
              <a:off x="1547640" y="3141720"/>
              <a:ext cx="6573600" cy="16444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60840" y="3330360"/>
              <a:ext cx="5702760" cy="1186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Arial"/>
                </a:rPr>
                <a:t>Konjunkcija ponovljenih delova ključ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Arial"/>
                </a:rPr>
                <a:t>sa ponavljanjima u otvoremom tekst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Arial"/>
                </a:rPr>
                <a:t>stvara ponavljanja u šifratu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912960" y="754200"/>
            <a:ext cx="7316640" cy="53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6" name=""/>
          <p:cNvGraphicFramePr/>
          <p:nvPr/>
        </p:nvGraphicFramePr>
        <p:xfrm>
          <a:off x="5940360" y="4221000"/>
          <a:ext cx="286704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4221000"/>
                    <a:ext cx="28670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ŠIFRIRANJE TRANSPOZICIJ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ansponovane šifre se koriste za zaštitu sadržaja poruke REARANŽIRANJEM redosleda elemenata poruke (KARAKTERA, BIT-a) po unapred određenim pravilima. Osnovna karakteristika – ISTI KARAKTERI SE JAVLJAJU U OTVORENOM TEKSTU i U ŠIFRA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r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sta transpozi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pozicija korišćenjem tab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nspozicija u odnosu na KLJUČ (ključna re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94920" y="1436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Vladimir Script"/>
              </a:rPr>
              <a:t>Istorija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Vladimir Script"/>
              </a:rPr>
              <a:t>Drevni kripto-uređaji</a:t>
            </a:r>
            <a:r>
              <a:rPr b="1" lang="en-US" sz="4400" spc="-1" strike="noStrike">
                <a:solidFill>
                  <a:srgbClr val="000000"/>
                </a:solidFill>
                <a:latin typeface="Vladimir Scrip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yt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r. Gr. skytale)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artanska poruka na bazi transpozicionog algorit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ruka je ispisivan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duž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a pergamentu koj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obmotan oko štapa određenih dimenz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dentičan štap se koristio za dešifrovanje ali se tekst čitao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preč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7129440" cy="23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osta transpoz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ajjednostavniji oblici  transponovanja otvorenog tek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imer: Transpozivija parova sl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AKULTET TEHNIČKIH NAUKA NOVI  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AKULTETTEHNIČKIHNAUKANOVI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AFUKTLTEETNHČIIKNHUAAKONIV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aba kriptografska vrednost leži u jakoj korelaciji sa OTVORENIM TEKS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ablična transpoz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drazumeva grupisanje slova i njihoivo rearanžiranje na regularan nač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dređivanje DUŽINE grupe slova. 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ormiranje ključne reči od pozi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imer: D=5   Ključ= 4-1-5-3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tvoreni tek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AKULTET TEHNIČKIH NAUKA NOVI  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3218040" cy="112536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POUZDA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9560" y="5802480"/>
            <a:ext cx="3218040" cy="5094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BEZBED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-870480" y="403452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VERLJIV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4960" y="404712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89640" y="404568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INTEGRITET OB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1900800" y="404712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RASPOLOŽIV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4720" y="2133720"/>
            <a:ext cx="446400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red toga, bezbednosne proced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ržavaju integritet ob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rečavanjem neautorizovanih i/ili fiktivnih transakcij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rečavanjem neovlašćene izmene uskladištenih programa i/ili podata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ezbeđuju zaštitu od različitih oblika napada, uključujući viruse i crve, čime osiguravaju raspoloživost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ljuč: KOMPJUTER, D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FAKULTETT)(EHNIČKIHN)(AUKANOVIS)(AD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ŠŠŠŠŠŠŠ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ljuč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700360" y="1773360"/>
            <a:ext cx="3379680" cy="33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7" y="7477"/>
                </a:moveTo>
                <a:lnTo>
                  <a:pt x="33673" y="7477"/>
                </a:lnTo>
                <a:lnTo>
                  <a:pt x="33673" y="415"/>
                </a:lnTo>
                <a:lnTo>
                  <a:pt x="33136" y="-6646"/>
                </a:lnTo>
              </a:path>
              <a:path w="21600" h="21600">
                <a:moveTo>
                  <a:pt x="22087" y="0"/>
                </a:moveTo>
                <a:lnTo>
                  <a:pt x="22087" y="21600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punski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19760" y="602136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Šifrat: KLUTATTFENČIKHNHEIKNAOUSIAVŠŠŠŠDŠAŠ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6200000">
            <a:off x="7597080" y="98028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42"/>
                </a:lnTo>
                <a:cubicBezTo>
                  <a:pt x="10800" y="9142"/>
                  <a:pt x="5400" y="10042"/>
                  <a:pt x="0" y="10042"/>
                </a:cubicBezTo>
                <a:cubicBezTo>
                  <a:pt x="5400" y="10042"/>
                  <a:pt x="10800" y="10942"/>
                  <a:pt x="10800" y="118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042920" y="3357720"/>
          <a:ext cx="7151760" cy="2479680"/>
        </p:xfrm>
        <a:graphic>
          <a:graphicData uri="http://schemas.openxmlformats.org/drawingml/2006/table">
            <a:tbl>
              <a:tblPr/>
              <a:tblGrid>
                <a:gridCol w="716040"/>
                <a:gridCol w="714240"/>
                <a:gridCol w="716040"/>
                <a:gridCol w="714600"/>
                <a:gridCol w="715680"/>
                <a:gridCol w="714600"/>
                <a:gridCol w="715680"/>
                <a:gridCol w="714600"/>
                <a:gridCol w="716040"/>
                <a:gridCol w="71424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jučna re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ju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1547640" y="2276640"/>
          <a:ext cx="6096240" cy="8632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39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ranspozicija ključ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drazumeva grupisanje slova i njihoivo rearanžiranje na regularan način u odnosu na odabrani KLJU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zbor KLJUČNE REČI. (Reč + Duž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ormiranje ključa za transpoziciju (Npr. alfabetski redosled slova u ključnoj reč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ransponovanje otvorenog tek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tvoreni tek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AKULTET TEHNIČKIH NAUKA NOVI  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FAKUL)(TETTE)(HNIČK)(IHNAU)(KANOV)(ISAD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Š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755640" y="1773360"/>
          <a:ext cx="7462800" cy="3200400"/>
        </p:xfrm>
        <a:graphic>
          <a:graphicData uri="http://schemas.openxmlformats.org/drawingml/2006/table">
            <a:tbl>
              <a:tblPr/>
              <a:tblGrid>
                <a:gridCol w="1244520"/>
                <a:gridCol w="1243080"/>
                <a:gridCol w="1244520"/>
                <a:gridCol w="1243080"/>
                <a:gridCol w="1244520"/>
                <a:gridCol w="124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juč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"/>
          <p:cNvSpPr/>
          <p:nvPr/>
        </p:nvSpPr>
        <p:spPr>
          <a:xfrm>
            <a:off x="2700360" y="1197000"/>
            <a:ext cx="3379680" cy="33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7" y="7477"/>
                </a:moveTo>
                <a:lnTo>
                  <a:pt x="33673" y="7477"/>
                </a:lnTo>
                <a:lnTo>
                  <a:pt x="33673" y="415"/>
                </a:lnTo>
                <a:lnTo>
                  <a:pt x="33136" y="-6646"/>
                </a:lnTo>
              </a:path>
              <a:path w="21600" h="21600">
                <a:moveTo>
                  <a:pt x="22087" y="0"/>
                </a:moveTo>
                <a:lnTo>
                  <a:pt x="22087" y="21600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punski karak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928440" y="5373720"/>
            <a:ext cx="72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Šifrat: UFLK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TETEČHKINAIUNHOKAVNDIŠ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7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Klasične kriptografske me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oderne kriptografske me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avremeni kriprografski SIS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oderne kriptografske met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49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Oslonac na računarske siste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49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Ključ ne mora biti JEDNOST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49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ransformacije mogu biti SLOŽ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49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utomatizacija algoritma transponovanja eliminiše propagaciju GREŠKE pri šifriran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d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 NAČINU OBRADE OTVORENOG TEK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Z UZASTOPNIH KARAKTERA (NIZ-ŠIF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LOK (BLOK-ŠIF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 BROJU i VRSTI KORIŠĆENIH KLJUČ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METRIČNI  (isti ključ za širfrovanje i dešifrirova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IMETRIČNI (različiti ključevi za širfrovanje i dešifrirova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iz uzastopnih karaktera (NIZ-ŠIF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sinhroni prenos podataka – kada se karakter pojavi on MORA BITI ŠIFRIR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oguće je koristiti jedino SUPSTITUCIONI ALGORITAM budući da celokupna poruka nije na raspolag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slonac na KONTINUIRANI NIZ KARAKTERA FORMIRAN na osnovu generatora slučajnih broje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aj niz se SABIRA sa otvorenim tekstom u cilju generisanja ŠIFR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ivo KARAKTERA ili nivo BIT-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26920" y="25776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Šifrati na nivou BIT-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837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koriste računari algoritmi šifrovanja se implementiraju na nivou bit-a. U sklopu šifrata se vrše transpozicije i zamene bit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je u t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je moguće slučajno menjati bite a biti u poziciji da se šifrirani sadržaj dešifruj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to se koristi logička operacija X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ekskluzivno il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187640" y="4005360"/>
            <a:ext cx="6804000" cy="2309760"/>
            <a:chOff x="1187640" y="4005360"/>
            <a:chExt cx="6804000" cy="2309760"/>
          </a:xfrm>
        </p:grpSpPr>
        <p:sp>
          <p:nvSpPr>
            <p:cNvPr id="840" name=""/>
            <p:cNvSpPr/>
            <p:nvPr/>
          </p:nvSpPr>
          <p:spPr>
            <a:xfrm>
              <a:off x="2698920" y="4870440"/>
              <a:ext cx="1044360" cy="1158840"/>
            </a:xfrm>
            <a:prstGeom prst="cube">
              <a:avLst>
                <a:gd name="adj" fmla="val 24995"/>
              </a:avLst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1542600" y="5349960"/>
              <a:ext cx="11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1545840" y="5805360"/>
              <a:ext cx="114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41760" y="5435640"/>
              <a:ext cx="88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02040" y="511668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87640" y="56023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87760" y="52023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3003480" y="5688000"/>
              <a:ext cx="201600" cy="201600"/>
              <a:chOff x="3003480" y="5688000"/>
              <a:chExt cx="201600" cy="201600"/>
            </a:xfrm>
          </p:grpSpPr>
          <p:sp>
            <p:nvSpPr>
              <p:cNvPr id="848" name=""/>
              <p:cNvSpPr/>
              <p:nvPr/>
            </p:nvSpPr>
            <p:spPr>
              <a:xfrm>
                <a:off x="3003480" y="5688000"/>
                <a:ext cx="201600" cy="20160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006720" y="578808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02120" y="56930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6522840" y="4695840"/>
              <a:ext cx="1400760" cy="16135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A  B  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0  0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0  1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1  0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1  1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85120" y="5025960"/>
              <a:ext cx="14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73960" y="480384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03640" y="4005360"/>
              <a:ext cx="3352680" cy="454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ff9900"/>
                  </a:solidFill>
                  <a:latin typeface="Arial"/>
                </a:rPr>
                <a:t>je otvoreni tekst</a:t>
              </a: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ff9900"/>
                  </a:solidFill>
                  <a:latin typeface="Arial"/>
                </a:rPr>
                <a:t>je klju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98920" y="5229360"/>
              <a:ext cx="745920" cy="3938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4532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Jednostavni Niz-šifra postupak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90440" y="1700280"/>
            <a:ext cx="8702640" cy="3752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47840" y="2943360"/>
            <a:ext cx="1044720" cy="1158840"/>
          </a:xfrm>
          <a:prstGeom prst="cube">
            <a:avLst>
              <a:gd name="adj" fmla="val 24995"/>
            </a:avLst>
          </a:prstGeom>
          <a:solidFill>
            <a:srgbClr val="3365fb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1092240" y="3422520"/>
            <a:ext cx="114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1101240" y="3903840"/>
            <a:ext cx="1141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191040" y="3508200"/>
            <a:ext cx="287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47320" y="2852640"/>
            <a:ext cx="1851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9900"/>
                </a:solidFill>
                <a:latin typeface="Arial"/>
              </a:rPr>
              <a:t>otvoreni tek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0560" y="38037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00"/>
                </a:solidFill>
                <a:latin typeface="Arial"/>
              </a:rPr>
              <a:t>Klju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52760" y="3760920"/>
            <a:ext cx="201600" cy="201600"/>
            <a:chOff x="2552760" y="3760920"/>
            <a:chExt cx="201600" cy="201600"/>
          </a:xfrm>
        </p:grpSpPr>
        <p:sp>
          <p:nvSpPr>
            <p:cNvPr id="865" name=""/>
            <p:cNvSpPr/>
            <p:nvPr/>
          </p:nvSpPr>
          <p:spPr>
            <a:xfrm>
              <a:off x="2552760" y="3760920"/>
              <a:ext cx="201600" cy="201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56000" y="386100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51400" y="3765960"/>
              <a:ext cx="0" cy="190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222640" y="333216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29280" y="2852640"/>
            <a:ext cx="1044720" cy="1158840"/>
          </a:xfrm>
          <a:prstGeom prst="cube">
            <a:avLst>
              <a:gd name="adj" fmla="val 24995"/>
            </a:avLst>
          </a:prstGeom>
          <a:solidFill>
            <a:srgbClr val="3365fb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334200" y="3670200"/>
            <a:ext cx="201600" cy="201600"/>
            <a:chOff x="6334200" y="3670200"/>
            <a:chExt cx="201600" cy="201600"/>
          </a:xfrm>
        </p:grpSpPr>
        <p:sp>
          <p:nvSpPr>
            <p:cNvPr id="871" name=""/>
            <p:cNvSpPr/>
            <p:nvPr/>
          </p:nvSpPr>
          <p:spPr>
            <a:xfrm>
              <a:off x="6334200" y="3670200"/>
              <a:ext cx="201600" cy="201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37440" y="377028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32840" y="3675240"/>
              <a:ext cx="0" cy="190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004080" y="324180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4869000" y="3884760"/>
            <a:ext cx="114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017600" y="378468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00"/>
                </a:solidFill>
                <a:latin typeface="Arial"/>
              </a:rPr>
              <a:t>Klju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6931080" y="3432240"/>
            <a:ext cx="114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164360" y="2997360"/>
            <a:ext cx="167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otvoreni tek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48040" y="3008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Harry P"/>
              </a:rPr>
              <a:t>šif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26920" y="45288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Primeri Niz-Šifra algoritam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C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OBER-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A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Software-Optimized Encryption Algorith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5/1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5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Šifriranje na nivou BLOKA (BLOK-ŠIFR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ukuju karakterima otvorenog teksta u BLOKOVIMA FIKSNE DUŽ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 svaki BIT šifrovanog teksta uključuju se funkcije SVIH BIT-ova OTVORENOG TEKS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eličina bloka varira od vrste uređaja koji se koriste za šifriran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403280" y="3662280"/>
            <a:ext cx="6769080" cy="3240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05920" y="4826880"/>
            <a:ext cx="1712880" cy="73512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y P"/>
              </a:rPr>
              <a:t>Algorit</a:t>
            </a:r>
            <a:r>
              <a:rPr b="1" lang="sr-Latn-CS" sz="2400" spc="-1" strike="noStrike">
                <a:solidFill>
                  <a:srgbClr val="000000"/>
                </a:solidFill>
                <a:latin typeface="Harry P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Harry P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2987640" y="3850560"/>
            <a:ext cx="3467160" cy="1067400"/>
            <a:chOff x="2987640" y="3850560"/>
            <a:chExt cx="3467160" cy="1067400"/>
          </a:xfrm>
        </p:grpSpPr>
        <p:sp>
          <p:nvSpPr>
            <p:cNvPr id="887" name=""/>
            <p:cNvSpPr/>
            <p:nvPr/>
          </p:nvSpPr>
          <p:spPr>
            <a:xfrm>
              <a:off x="2987640" y="3850560"/>
              <a:ext cx="3467160" cy="61236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Blok b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27800" y="4470120"/>
              <a:ext cx="0" cy="44784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2901960" y="5537160"/>
            <a:ext cx="3467160" cy="973800"/>
            <a:chOff x="2901960" y="5537160"/>
            <a:chExt cx="3467160" cy="973800"/>
          </a:xfrm>
        </p:grpSpPr>
        <p:sp>
          <p:nvSpPr>
            <p:cNvPr id="890" name=""/>
            <p:cNvSpPr/>
            <p:nvPr/>
          </p:nvSpPr>
          <p:spPr>
            <a:xfrm>
              <a:off x="2901960" y="5898600"/>
              <a:ext cx="3467160" cy="61236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Blok b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646520" y="5537160"/>
              <a:ext cx="0" cy="46692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74920" y="4929120"/>
            <a:ext cx="2304360" cy="459720"/>
            <a:chOff x="1474920" y="4929120"/>
            <a:chExt cx="2304360" cy="459720"/>
          </a:xfrm>
        </p:grpSpPr>
        <p:sp>
          <p:nvSpPr>
            <p:cNvPr id="893" name=""/>
            <p:cNvSpPr/>
            <p:nvPr/>
          </p:nvSpPr>
          <p:spPr>
            <a:xfrm>
              <a:off x="2442600" y="5146920"/>
              <a:ext cx="13366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74920" y="4929120"/>
              <a:ext cx="20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cc"/>
                  </a:solidFill>
                  <a:latin typeface="Harry P"/>
                </a:rPr>
                <a:t>KLJU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 sklopu ovog poglavlja akcenat se stavlja 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princip bezbednosti i zaštite PIS zasnovan na konceptu tzv.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verljivih serv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stoji značajan rast broja prijavljenih i dokumentovanih bezbednosnih incidenata uključujuć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pade sa ciljem onemogućavanja pružanja servisa (Denial of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var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ubitak poslovnih tajni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trade secret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ađe identiteta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thef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Korisnici i projektanti informacionih sistema moraju “najmanje” razumeti osnovne principe informacione bezbednosti.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26920" y="25812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Elektronski blok-kode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09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Najjednostavniji princip 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vaki blok je šifriran u šifrat uz oslonac na jedan KLJUČ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1049040" y="3938760"/>
            <a:ext cx="1938600" cy="2567520"/>
            <a:chOff x="1049040" y="3938760"/>
            <a:chExt cx="1938600" cy="2567520"/>
          </a:xfrm>
        </p:grpSpPr>
        <p:grpSp>
          <p:nvGrpSpPr>
            <p:cNvPr id="898" name=""/>
            <p:cNvGrpSpPr/>
            <p:nvPr/>
          </p:nvGrpSpPr>
          <p:grpSpPr>
            <a:xfrm>
              <a:off x="1606680" y="3938760"/>
              <a:ext cx="1380960" cy="2567520"/>
              <a:chOff x="1606680" y="3938760"/>
              <a:chExt cx="1380960" cy="2567520"/>
            </a:xfrm>
          </p:grpSpPr>
          <p:sp>
            <p:nvSpPr>
              <p:cNvPr id="899" name=""/>
              <p:cNvSpPr/>
              <p:nvPr/>
            </p:nvSpPr>
            <p:spPr>
              <a:xfrm>
                <a:off x="2168640" y="4883040"/>
                <a:ext cx="819000" cy="780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577960" y="4235400"/>
                <a:ext cx="0" cy="752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388240" y="3938760"/>
                <a:ext cx="444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549520" y="5663880"/>
                <a:ext cx="0" cy="5140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369520" y="6100560"/>
                <a:ext cx="418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606680" y="5330520"/>
                <a:ext cx="552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049040" y="511992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ff"/>
                  </a:solidFill>
                  <a:latin typeface="Arial"/>
                </a:rPr>
                <a:t>Klju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2911320" y="3938760"/>
            <a:ext cx="1781280" cy="2567520"/>
            <a:chOff x="2911320" y="3938760"/>
            <a:chExt cx="1781280" cy="2567520"/>
          </a:xfrm>
        </p:grpSpPr>
        <p:grpSp>
          <p:nvGrpSpPr>
            <p:cNvPr id="907" name=""/>
            <p:cNvGrpSpPr/>
            <p:nvPr/>
          </p:nvGrpSpPr>
          <p:grpSpPr>
            <a:xfrm>
              <a:off x="2911320" y="3938760"/>
              <a:ext cx="1380960" cy="2567520"/>
              <a:chOff x="2911320" y="3938760"/>
              <a:chExt cx="1380960" cy="2567520"/>
            </a:xfrm>
          </p:grpSpPr>
          <p:sp>
            <p:nvSpPr>
              <p:cNvPr id="908" name=""/>
              <p:cNvSpPr/>
              <p:nvPr/>
            </p:nvSpPr>
            <p:spPr>
              <a:xfrm>
                <a:off x="3473280" y="4883040"/>
                <a:ext cx="819000" cy="780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82600" y="4235400"/>
                <a:ext cx="0" cy="752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92880" y="3938760"/>
                <a:ext cx="444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54160" y="5663880"/>
                <a:ext cx="0" cy="5140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674160" y="6100560"/>
                <a:ext cx="418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911320" y="5330520"/>
                <a:ext cx="552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4206960" y="5292720"/>
              <a:ext cx="485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492880" y="3938760"/>
            <a:ext cx="1380960" cy="2567520"/>
            <a:chOff x="5492880" y="3938760"/>
            <a:chExt cx="1380960" cy="2567520"/>
          </a:xfrm>
        </p:grpSpPr>
        <p:sp>
          <p:nvSpPr>
            <p:cNvPr id="916" name=""/>
            <p:cNvSpPr/>
            <p:nvPr/>
          </p:nvSpPr>
          <p:spPr>
            <a:xfrm>
              <a:off x="6054840" y="4883040"/>
              <a:ext cx="819000" cy="780480"/>
            </a:xfrm>
            <a:prstGeom prst="cube">
              <a:avLst>
                <a:gd name="adj" fmla="val 25000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64160" y="4235400"/>
              <a:ext cx="0" cy="752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77680" y="3938760"/>
              <a:ext cx="48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435720" y="5663880"/>
              <a:ext cx="0" cy="5140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59320" y="6100560"/>
              <a:ext cx="46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492880" y="5330520"/>
              <a:ext cx="5522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7041960" y="3484440"/>
            <a:ext cx="18097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15640" y="18684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Ulančani blok-šifrati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Ulaz u svaki blok je tekući blok XOR-ovan sa prethodnim blok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330200" y="3166920"/>
            <a:ext cx="1938600" cy="2567880"/>
            <a:chOff x="1330200" y="3166920"/>
            <a:chExt cx="1938600" cy="2567880"/>
          </a:xfrm>
        </p:grpSpPr>
        <p:sp>
          <p:nvSpPr>
            <p:cNvPr id="926" name=""/>
            <p:cNvSpPr/>
            <p:nvPr/>
          </p:nvSpPr>
          <p:spPr>
            <a:xfrm>
              <a:off x="1330200" y="437688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ffff"/>
                  </a:solidFill>
                  <a:latin typeface="Arial"/>
                </a:rPr>
                <a:t>Klju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1887840" y="3166920"/>
              <a:ext cx="1380960" cy="2567880"/>
              <a:chOff x="1887840" y="3166920"/>
              <a:chExt cx="1380960" cy="2567880"/>
            </a:xfrm>
          </p:grpSpPr>
          <p:sp>
            <p:nvSpPr>
              <p:cNvPr id="928" name=""/>
              <p:cNvSpPr/>
              <p:nvPr/>
            </p:nvSpPr>
            <p:spPr>
              <a:xfrm>
                <a:off x="2449800" y="4111560"/>
                <a:ext cx="819000" cy="78084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859120" y="3463560"/>
                <a:ext cx="0" cy="7527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669400" y="3166920"/>
                <a:ext cx="444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830680" y="4892400"/>
                <a:ext cx="0" cy="5144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650680" y="5329080"/>
                <a:ext cx="418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887840" y="4559040"/>
                <a:ext cx="552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" name=""/>
              <p:cNvGrpSpPr/>
              <p:nvPr/>
            </p:nvGrpSpPr>
            <p:grpSpPr>
              <a:xfrm>
                <a:off x="2735280" y="3673440"/>
                <a:ext cx="257400" cy="247320"/>
                <a:chOff x="2735280" y="3673440"/>
                <a:chExt cx="257400" cy="2473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2735280" y="3673440"/>
                  <a:ext cx="247680" cy="247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859120" y="368244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735280" y="3796920"/>
                  <a:ext cx="257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2354400" y="3796920"/>
                <a:ext cx="371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9" name=""/>
          <p:cNvGrpSpPr/>
          <p:nvPr/>
        </p:nvGrpSpPr>
        <p:grpSpPr>
          <a:xfrm>
            <a:off x="2843280" y="3141720"/>
            <a:ext cx="2038320" cy="2567880"/>
            <a:chOff x="2843280" y="3141720"/>
            <a:chExt cx="2038320" cy="2567880"/>
          </a:xfrm>
        </p:grpSpPr>
        <p:sp>
          <p:nvSpPr>
            <p:cNvPr id="940" name=""/>
            <p:cNvSpPr/>
            <p:nvPr/>
          </p:nvSpPr>
          <p:spPr>
            <a:xfrm flipH="1">
              <a:off x="3490920" y="3772080"/>
              <a:ext cx="2383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2843280" y="3141720"/>
              <a:ext cx="2038320" cy="2567880"/>
              <a:chOff x="2843280" y="3141720"/>
              <a:chExt cx="2038320" cy="256788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3186000" y="3141720"/>
                <a:ext cx="1380960" cy="2567880"/>
                <a:chOff x="3186000" y="3141720"/>
                <a:chExt cx="1380960" cy="256788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747960" y="4086360"/>
                  <a:ext cx="819000" cy="7808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33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157280" y="3438360"/>
                  <a:ext cx="0" cy="75276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967560" y="3141720"/>
                  <a:ext cx="4442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M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128840" y="4867200"/>
                  <a:ext cx="0" cy="51444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948840" y="530388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186000" y="4533840"/>
                  <a:ext cx="5522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9" name=""/>
                <p:cNvGrpSpPr/>
                <p:nvPr/>
              </p:nvGrpSpPr>
              <p:grpSpPr>
                <a:xfrm>
                  <a:off x="4033440" y="3648240"/>
                  <a:ext cx="257400" cy="247320"/>
                  <a:chOff x="4033440" y="3648240"/>
                  <a:chExt cx="257400" cy="24732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4033440" y="3648240"/>
                    <a:ext cx="247680" cy="247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157280" y="3657240"/>
                    <a:ext cx="0" cy="237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033440" y="3771720"/>
                    <a:ext cx="257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3" name=""/>
                <p:cNvSpPr/>
                <p:nvPr/>
              </p:nvSpPr>
              <p:spPr>
                <a:xfrm>
                  <a:off x="3652560" y="3771720"/>
                  <a:ext cx="37152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4" name=""/>
              <p:cNvSpPr/>
              <p:nvPr/>
            </p:nvSpPr>
            <p:spPr>
              <a:xfrm>
                <a:off x="2843280" y="5114880"/>
                <a:ext cx="6476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3490920" y="3772080"/>
                <a:ext cx="0" cy="13428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462560" y="4476960"/>
                <a:ext cx="4190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38560" y="5095800"/>
                <a:ext cx="72396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5462640" y="3151080"/>
            <a:ext cx="1723680" cy="2567880"/>
            <a:chOff x="5462640" y="3151080"/>
            <a:chExt cx="1723680" cy="2567880"/>
          </a:xfrm>
        </p:grpSpPr>
        <p:grpSp>
          <p:nvGrpSpPr>
            <p:cNvPr id="959" name=""/>
            <p:cNvGrpSpPr/>
            <p:nvPr/>
          </p:nvGrpSpPr>
          <p:grpSpPr>
            <a:xfrm>
              <a:off x="5805360" y="3151080"/>
              <a:ext cx="1380960" cy="2567880"/>
              <a:chOff x="5805360" y="3151080"/>
              <a:chExt cx="1380960" cy="2567880"/>
            </a:xfrm>
          </p:grpSpPr>
          <p:sp>
            <p:nvSpPr>
              <p:cNvPr id="960" name=""/>
              <p:cNvSpPr/>
              <p:nvPr/>
            </p:nvSpPr>
            <p:spPr>
              <a:xfrm>
                <a:off x="6367320" y="4095720"/>
                <a:ext cx="819000" cy="78084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776640" y="3447720"/>
                <a:ext cx="0" cy="7527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90160" y="3151080"/>
                <a:ext cx="488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48200" y="4876560"/>
                <a:ext cx="0" cy="5144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71800" y="5313240"/>
                <a:ext cx="462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05360" y="4543200"/>
                <a:ext cx="5522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6652800" y="3657600"/>
                <a:ext cx="257400" cy="247320"/>
                <a:chOff x="6652800" y="3657600"/>
                <a:chExt cx="257400" cy="2473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6652800" y="3657600"/>
                  <a:ext cx="247680" cy="247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776640" y="366660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652800" y="3781080"/>
                  <a:ext cx="257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0" name=""/>
              <p:cNvSpPr/>
              <p:nvPr/>
            </p:nvSpPr>
            <p:spPr>
              <a:xfrm>
                <a:off x="6271920" y="3781080"/>
                <a:ext cx="37152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5462640" y="5124240"/>
              <a:ext cx="6476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6110280" y="3781440"/>
              <a:ext cx="0" cy="13428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6110280" y="3781440"/>
              <a:ext cx="2383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15640" y="47412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Primeri blok-šifrata</a:t>
            </a:r>
            <a:r>
              <a:rPr b="0" lang="en-CA" sz="4000" spc="-1" strike="noStrike">
                <a:solidFill>
                  <a:srgbClr val="0033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0800" indent="-370800">
              <a:lnSpc>
                <a:spcPct val="8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8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8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8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w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8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kipj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8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C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8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C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lnSpc>
                <a:spcPct val="8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wo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imetrični 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lgoritmi sa “tajnim ključ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anal komunikacije je zaštićen u oba smera budući da strane koje komuniciraju moraju posedovati “tajne ključeve” svih sa kojima komuniciraju. (KRIPTO MREŽ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otok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 i B prihvataju JEDAN KRIPTO-SI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 i B prihvataju JEDAN TAJNI KLJU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 – uzima otvoreni tekst i šifrira ga uz oslonac na tajni ključ i dogovoreni kripto-si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 – šalje šifrovanu por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 – prima i dešihruje poruku uz oslonac na isti ključ i kripto-si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10920" y="2577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Simetrični šifrat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ifrir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Prenos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šifrov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metrična šema šifrir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7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i ključ se koristi za ŠIFROVANJE i DEŠIFRO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1993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imetrični algoritmi -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LJUČEVI moraju biti distribuirani TAJ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ko je ključ kompromitovan napadač može dešifrovati sve poruke koje su šifrirane uz oslonac na taj klju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 sklopu KRIPTO-MREŽE, uz pretpostavku da se za svaki par učesnika koristi POSEBAN KLJUČ, broj nključeva značajno raste sa porastom broja učesnika u sklopu mr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reža sa  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korisnika zahte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n(n-1)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ljuč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simetrični 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te se DVA ključa jedan za šifriranje a drugi za dešifriran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MO JEDAN OD NJIH TREBA BITI “tajni ključ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JAVNI KLJUČ – poznat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AJNI KLJUČ – svaki učesnik poseduje nezavi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vaj vid komunikacije je zaštićen samo u JEDNOM smeru. Da bi mogao biti zaštićen u OBA smera neophodno je postojanje DRUGOG para ključ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LJUČEVI su MATEMATIČKI POVEZANI, tj. postoji zavisnost između javnog i tajnog ključ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ILJ – učiniti NEMOGUĆIM ili DOVOLJNO TEŠKIM proces ekstrakcije JEDNOG KLJUČA iz DRUGOG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23640" y="330840"/>
            <a:ext cx="746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Black"/>
              </a:rPr>
              <a:t>Diffie-Hellman</a:t>
            </a:r>
            <a:r>
              <a:rPr b="1" lang="fr-FR" sz="3200" spc="-1" strike="noStrike">
                <a:solidFill>
                  <a:srgbClr val="009900"/>
                </a:solidFill>
                <a:latin typeface="Arial Black"/>
              </a:rPr>
              <a:t>:</a:t>
            </a:r>
            <a:br>
              <a:rPr sz="3200"/>
            </a:br>
            <a:r>
              <a:rPr b="1" i="1" lang="sr-Latn-CS" sz="3200" spc="-1" strike="noStrike">
                <a:solidFill>
                  <a:srgbClr val="009900"/>
                </a:solidFill>
                <a:latin typeface="Arial"/>
              </a:rPr>
              <a:t>Kriptografija sa JAVNIM KLJUČEM</a:t>
            </a:r>
            <a:r>
              <a:rPr b="1" lang="fr-FR" sz="32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W. Diffi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nd          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.E. Hellma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vi pravci u razvoju kriptografije,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IEEE Transactions           on Information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1976), 644-65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1860840" cy="198108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"/>
          <a:stretch/>
        </p:blipFill>
        <p:spPr>
          <a:xfrm>
            <a:off x="5827680" y="4114800"/>
            <a:ext cx="16160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Kriptografija sa javnim ključ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1374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48480" indent="-348480" algn="just">
              <a:lnSpc>
                <a:spcPct val="85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ično se zasniva 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teoriji brojeva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 nego na operacijama zamene i transpozi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480" indent="0" algn="just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7374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simetrični algoritmi - 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ije potrebno poznavati TAJNI klju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ije potrebno DISEMINIRATI ključeve uz oslonac na POVERLJIVI K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195640" y="4869000"/>
            <a:ext cx="72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42920" y="47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56000" y="3141720"/>
            <a:ext cx="1800000" cy="1727280"/>
          </a:xfrm>
          <a:custGeom>
            <a:avLst/>
            <a:gdLst/>
            <a:ahLst/>
            <a:rect l="l" t="t" r="r" b="b"/>
            <a:pathLst>
              <a:path w="1134" h="1043">
                <a:moveTo>
                  <a:pt x="0" y="1043"/>
                </a:moveTo>
                <a:lnTo>
                  <a:pt x="0" y="0"/>
                </a:lnTo>
                <a:lnTo>
                  <a:pt x="113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908000" y="37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16360" y="508464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843280" y="465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y = E k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20000" y="4869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x = D k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211640" y="2565360"/>
            <a:ext cx="2736720" cy="3207240"/>
            <a:chOff x="4211640" y="2565360"/>
            <a:chExt cx="2736720" cy="3207240"/>
          </a:xfrm>
        </p:grpSpPr>
        <p:sp>
          <p:nvSpPr>
            <p:cNvPr id="1002" name=""/>
            <p:cNvSpPr/>
            <p:nvPr/>
          </p:nvSpPr>
          <p:spPr>
            <a:xfrm>
              <a:off x="4356000" y="2924280"/>
              <a:ext cx="720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573360"/>
              <a:ext cx="720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19640" y="4869000"/>
              <a:ext cx="720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084720" y="3068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51640" y="4221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k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580000" y="4076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5076720" y="3141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8000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40360" y="5084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11640" y="2565360"/>
              <a:ext cx="2303640" cy="3168720"/>
            </a:xfrm>
            <a:prstGeom prst="rect">
              <a:avLst/>
            </a:prstGeom>
            <a:solidFill>
              <a:srgbClr val="00ffff">
                <a:alpha val="17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27640" y="537372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Tajna primao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476360" y="5084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vod – o problemu bezbednosti 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snovni koncepti informacione bezbe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reventivni mehanizmi (Preven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ehanizmi za otkrivanje (Det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Korektivni mehanizmi (Corr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ljučak – i šta dal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simetrični algoritmi - 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ije potrebno poznavati TAJNI klju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ije potrebno DISEMINIRATI ključeve uz oslonac na POVERLJIVI K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195640" y="4869000"/>
            <a:ext cx="72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042920" y="47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556000" y="3141720"/>
            <a:ext cx="1800000" cy="1727280"/>
          </a:xfrm>
          <a:custGeom>
            <a:avLst/>
            <a:gdLst/>
            <a:ahLst/>
            <a:rect l="l" t="t" r="r" b="b"/>
            <a:pathLst>
              <a:path w="1134" h="1043">
                <a:moveTo>
                  <a:pt x="0" y="1043"/>
                </a:moveTo>
                <a:lnTo>
                  <a:pt x="0" y="0"/>
                </a:lnTo>
                <a:lnTo>
                  <a:pt x="113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3716280"/>
            <a:ext cx="503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916360" y="508464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71640" y="4437000"/>
            <a:ext cx="136692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y = E k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020000" y="4869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x = D k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4211640" y="2565360"/>
            <a:ext cx="2736720" cy="3207240"/>
            <a:chOff x="4211640" y="2565360"/>
            <a:chExt cx="2736720" cy="3207240"/>
          </a:xfrm>
        </p:grpSpPr>
        <p:sp>
          <p:nvSpPr>
            <p:cNvPr id="1024" name=""/>
            <p:cNvSpPr/>
            <p:nvPr/>
          </p:nvSpPr>
          <p:spPr>
            <a:xfrm>
              <a:off x="4356000" y="2924280"/>
              <a:ext cx="720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219640" y="3573360"/>
              <a:ext cx="720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19640" y="4869000"/>
              <a:ext cx="720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84720" y="3068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51640" y="4221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k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580000" y="4076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5076720" y="3141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8000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40360" y="5084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211640" y="2565360"/>
              <a:ext cx="2303640" cy="3168720"/>
            </a:xfrm>
            <a:prstGeom prst="rect">
              <a:avLst/>
            </a:prstGeom>
            <a:solidFill>
              <a:srgbClr val="00ffff">
                <a:alpha val="17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427640" y="537372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Tajna primao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1476360" y="5084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50920" y="2637000"/>
            <a:ext cx="1368360" cy="936360"/>
          </a:xfrm>
          <a:solidFill>
            <a:srgbClr val="00ffff"/>
          </a:solidFill>
          <a:ln w="9360">
            <a:solidFill>
              <a:srgbClr val="000000"/>
            </a:solidFill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ključ prima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8360" y="5589720"/>
            <a:ext cx="1582560" cy="1008000"/>
          </a:xfrm>
          <a:solidFill>
            <a:srgbClr val="ffff00"/>
          </a:solidFill>
          <a:ln w="9360">
            <a:solidFill>
              <a:srgbClr val="000000"/>
            </a:solidFill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lgorit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ifriranja (jav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11640" y="2421000"/>
            <a:ext cx="4681440" cy="4176720"/>
          </a:xfrm>
          <a:prstGeom prst="rect">
            <a:avLst/>
          </a:prstGeom>
          <a:solidFill>
            <a:srgbClr val="00ff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716360" y="5084640"/>
            <a:ext cx="2873520" cy="1584360"/>
          </a:xfrm>
          <a:solidFill>
            <a:srgbClr val="00ccff"/>
          </a:solidFill>
          <a:ln w="9360">
            <a:solidFill>
              <a:srgbClr val="000000"/>
            </a:solidFill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IFRAT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bijen primenom javnog ključa (ke) PRIMAOCA na OTVORENI tekst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simetrični algoritmi - 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ije potrebno poznavati TAJNI klju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ije potrebno DISEMINIRATI ključeve uz oslonac na POVERLJIVI K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195640" y="4869000"/>
            <a:ext cx="72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042920" y="47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556000" y="3141720"/>
            <a:ext cx="1800000" cy="1727280"/>
          </a:xfrm>
          <a:custGeom>
            <a:avLst/>
            <a:gdLst/>
            <a:ahLst/>
            <a:rect l="l" t="t" r="r" b="b"/>
            <a:pathLst>
              <a:path w="1134" h="1043">
                <a:moveTo>
                  <a:pt x="0" y="1043"/>
                </a:moveTo>
                <a:lnTo>
                  <a:pt x="0" y="0"/>
                </a:lnTo>
                <a:lnTo>
                  <a:pt x="113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08000" y="37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6360" y="508464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843280" y="465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y = E k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020000" y="4869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x = D k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356000" y="2924280"/>
            <a:ext cx="72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219640" y="3573360"/>
            <a:ext cx="72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219640" y="4869000"/>
            <a:ext cx="72072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84720" y="3068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651640" y="4076640"/>
            <a:ext cx="504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58000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07672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8000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940360" y="50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39640" y="2781360"/>
            <a:ext cx="2448000" cy="3168720"/>
          </a:xfrm>
          <a:prstGeom prst="rect">
            <a:avLst/>
          </a:prstGeom>
          <a:solidFill>
            <a:srgbClr val="00ffff">
              <a:alpha val="9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476360" y="5084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236000" y="3573360"/>
            <a:ext cx="1655640" cy="1008000"/>
          </a:xfrm>
          <a:solidFill>
            <a:srgbClr val="00ff00"/>
          </a:solidFill>
          <a:ln w="9360">
            <a:solidFill>
              <a:srgbClr val="000000"/>
            </a:solidFill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lgorit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šifriranja (jav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532640" y="5661000"/>
            <a:ext cx="1368360" cy="936720"/>
          </a:xfrm>
          <a:solidFill>
            <a:srgbClr val="ff0000"/>
          </a:solidFill>
          <a:ln w="9360">
            <a:solidFill>
              <a:srgbClr val="000000"/>
            </a:solidFill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ajni ključ prima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simetrični algoritmi - 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ije potrebno poznavati TAJNI klju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ije potrebno DISEMINIRATI ključeve uz oslonac na POVERLJIVI K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195640" y="4869000"/>
            <a:ext cx="72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42920" y="47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556000" y="3141720"/>
            <a:ext cx="1800000" cy="1727280"/>
          </a:xfrm>
          <a:custGeom>
            <a:avLst/>
            <a:gdLst/>
            <a:ahLst/>
            <a:rect l="l" t="t" r="r" b="b"/>
            <a:pathLst>
              <a:path w="1134" h="1043">
                <a:moveTo>
                  <a:pt x="0" y="1043"/>
                </a:moveTo>
                <a:lnTo>
                  <a:pt x="0" y="0"/>
                </a:lnTo>
                <a:lnTo>
                  <a:pt x="113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08000" y="37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16360" y="508464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43280" y="465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y = E k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020000" y="4869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x = D k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56000" y="2924280"/>
            <a:ext cx="72072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219640" y="3573360"/>
            <a:ext cx="72072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19640" y="4869000"/>
            <a:ext cx="72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84720" y="2997360"/>
            <a:ext cx="5050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8000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507672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58000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40360" y="50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39640" y="2781360"/>
            <a:ext cx="2448000" cy="3168720"/>
          </a:xfrm>
          <a:prstGeom prst="rect">
            <a:avLst/>
          </a:prstGeom>
          <a:solidFill>
            <a:srgbClr val="00ffff">
              <a:alpha val="9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476360" y="5084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51640" y="2205000"/>
            <a:ext cx="1441440" cy="1224000"/>
          </a:xfrm>
          <a:solidFill>
            <a:srgbClr val="0000ff"/>
          </a:solidFill>
          <a:ln w="9360">
            <a:solidFill>
              <a:srgbClr val="000000"/>
            </a:solidFill>
            <a:miter/>
            <a:headEnd len="med" type="stealth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Polazni (Semeni) ključ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SLUČAJ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5076720" y="3284640"/>
            <a:ext cx="3816360" cy="1655640"/>
            <a:chOff x="5076720" y="3284640"/>
            <a:chExt cx="3816360" cy="1655640"/>
          </a:xfrm>
        </p:grpSpPr>
        <p:sp>
          <p:nvSpPr>
            <p:cNvPr id="1083" name=""/>
            <p:cNvSpPr/>
            <p:nvPr/>
          </p:nvSpPr>
          <p:spPr>
            <a:xfrm>
              <a:off x="6732720" y="3645000"/>
              <a:ext cx="2160360" cy="1295280"/>
            </a:xfrm>
            <a:solidFill>
              <a:srgbClr val="ffcc00"/>
            </a:solidFill>
            <a:ln w="9360">
              <a:solidFill>
                <a:srgbClr val="000000"/>
              </a:solidFill>
              <a:miter/>
              <a:headEnd len="med" type="stealth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Algoritmi za generisanje ključe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(javn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76720" y="3284640"/>
              <a:ext cx="1224000" cy="431640"/>
            </a:xfrm>
            <a:custGeom>
              <a:avLst/>
              <a:gdLst/>
              <a:ahLst/>
              <a:rect l="l" t="t" r="r" b="b"/>
              <a:pathLst>
                <a:path w="771" h="227">
                  <a:moveTo>
                    <a:pt x="771" y="227"/>
                  </a:moveTo>
                  <a:lnTo>
                    <a:pt x="362" y="4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5651640" y="4221000"/>
            <a:ext cx="3249360" cy="2376720"/>
            <a:chOff x="5651640" y="4221000"/>
            <a:chExt cx="3249360" cy="2376720"/>
          </a:xfrm>
        </p:grpSpPr>
        <p:sp>
          <p:nvSpPr>
            <p:cNvPr id="1086" name=""/>
            <p:cNvSpPr/>
            <p:nvPr/>
          </p:nvSpPr>
          <p:spPr>
            <a:xfrm>
              <a:off x="5651640" y="4221000"/>
              <a:ext cx="50472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k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93080" y="5661000"/>
              <a:ext cx="1807920" cy="936720"/>
            </a:xfrm>
            <a:solidFill>
              <a:srgbClr val="ff0000"/>
            </a:solidFill>
            <a:ln w="9360">
              <a:solidFill>
                <a:srgbClr val="000000"/>
              </a:solidFill>
              <a:miter/>
              <a:headEnd len="med" type="stealth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Mora se BEZBEDNO čuva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3635280" y="2637000"/>
            <a:ext cx="503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7128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Nikada nemožemo biti sigurni da je šifrat bezbed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Najbolji način da se stekne minimalno poverenje u šifarski sistem je da ga date na testiranje profesionalcima iz domena zaštit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10920" y="3068280"/>
            <a:ext cx="5761080" cy="30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ArialMT"/>
              </a:rPr>
              <a:t>Neophodno je pretpostaviti da je bilo koji bezbedni metod šifriranja  već poznat neprijatelju.</a:t>
            </a:r>
            <a:br>
              <a:rPr sz="2800"/>
            </a:br>
            <a:r>
              <a:rPr b="1" i="1" lang="sr-Latn-CS" sz="2800" spc="-1" strike="noStrike">
                <a:solidFill>
                  <a:srgbClr val="ff0000"/>
                </a:solidFill>
                <a:latin typeface="ArialMT"/>
              </a:rPr>
              <a:t>Bezbednost sistema zavisi jedino od izbora ključa za šifriranje!</a:t>
            </a:r>
            <a:r>
              <a:rPr b="1" i="1" lang="fr-FR" sz="2800" spc="-1" strike="noStrike">
                <a:solidFill>
                  <a:srgbClr val="ff0000"/>
                </a:solidFill>
                <a:latin typeface="ArialMT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ArialMT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626400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uguste Kerckhof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«La  cryptographie militaire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Journal des sciences militaires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ol.   I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p. 5–38, Janvier 188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p. 161–191, Février 1883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6948360" y="620640"/>
            <a:ext cx="1863720" cy="2260800"/>
          </a:xfrm>
          <a:prstGeom prst="rect">
            <a:avLst/>
          </a:prstGeom>
          <a:ln w="0">
            <a:noFill/>
          </a:ln>
        </p:spPr>
      </p:pic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7667640" y="3933720"/>
            <a:ext cx="723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/>
          </p:nvPr>
        </p:nvSpPr>
        <p:spPr>
          <a:xfrm>
            <a:off x="395280" y="3716280"/>
            <a:ext cx="6120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950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kazuje da je jedini bezbedan sistem sa osloncem na ključ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aj kod kog je ključ najmanje dugačak koliko i poruka koja se šifrira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7164360" y="3789360"/>
            <a:ext cx="1440000" cy="139212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2"/>
          <a:stretch/>
        </p:blipFill>
        <p:spPr>
          <a:xfrm>
            <a:off x="7236000" y="907920"/>
            <a:ext cx="1331640" cy="18716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324000" y="836640"/>
            <a:ext cx="5976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de Shann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Matematička teorija komunikacija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ll System Technical Journal, 19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7128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de Shannon (1940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še dodatne kriterijume za dizajniranje šifarskih siste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cc00"/>
                </a:solidFill>
                <a:latin typeface="Arial"/>
              </a:rPr>
              <a:t>Konfuzija (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Confusion</a:t>
            </a:r>
            <a:r>
              <a:rPr b="1" i="1" lang="sr-Latn-CS" sz="32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ifarski sistem treba da od napadača skriva lokalne jezičke šabl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cc00"/>
                </a:solidFill>
                <a:latin typeface="Arial"/>
              </a:rPr>
              <a:t>Difuzija (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Diffusion</a:t>
            </a:r>
            <a:r>
              <a:rPr b="0" i="1" lang="sr-Latn-CS" sz="32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ifrat treba da meša različite delove otvorenog teksta, tako da niti jedan deo ne ostane na originalnoj pozicij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26920" y="33156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Bezuslovna bezbednos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držaja šifrirane poruke ne daje nikakvu informaciju o originalnoj poruci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ini način dolaska do originalnog sadržaja je da pokušaj dekriptovanja sa svim mogućim tajnim ključevima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U praksi, niti jedan poznati sistem ne zadovoljava ovaj zaht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aktična bezbednos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edovanje šifriranog sadržaja poruke nije dovoljno da bi se iz nje ekstrahovao ključ niti originalni sadržaj poruk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 razumno kratkom vremenu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2692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7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Klasične kriptografske me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oderne kriptografske me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Savremeni kriprografski SIS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vremeni kriptografski sistemi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ostoji čitav niz savremenih kriptografskih sistema od kojih je potrebno pomenu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Data Encryptio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Rivest, Shamir i Adelm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International Data Encryption on Algorith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G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Pretty Good Priv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e tri osnovna koncepta u domenu informacione bezbednosti o kojima treba raspravit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bednost kao zadatak UPRAVLJAČKOG (Managemen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ne TEHNOLOŠKOG segmenta organizacionih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menski zavisan model bezbed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ubinska odbr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vremeni kriptografski sistemi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Postoji čitav niz savremenih kriptografskih sistema od kojih je potrebno pomenu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ES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(Data Encryptio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RSA (Rivest, Shamir i Adel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IDEA (International Data Encryption on Algorith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PGP (Pretty Good Privac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Data Encryption Standa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NBS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National Board of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Standard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 objavio poziv zainteresovanim institucijama i/ili pojedincima za predlog šifarskog sistema koji treba da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eduje visok stepen bezbednosti koja nije zasnovana n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AJNOSTI ALGORITM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već jedino n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AJNOSTI KLJUČEV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sti tajne ključeve koji nisu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uviše dug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ud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BRZ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UZDAN i JEFTI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ud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EDNOSTAVA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za primen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85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staje federalni standard u SAD u novembru 1976.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BS (NIST) hardware standard Januar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I X3.92-1981 (hardware + soft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I X3.106-1983 (modes of op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AS2805.5-198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isti se u veči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stema za elektronsko plaćanje (EFT) i POS-terminalima (Point of Sal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današnje vreme osnovni DES se zamenjuje 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ES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ada u kategoriju SIMETRIČNIH  blok-šifarsk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kontraverzniji deo je dužina ključa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 bi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Diffie, M Hellman "Exhaustive Cryptanalysis of the NBS Data Encryption Standard" IEEE Computer 10(6), June 1977, pp74-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Hellman "DES will be totally insecure within ten years" IEEE Spectrum 16(7), Jul 1979, pp 31-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uga kontraverz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postoji sporedni ula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79280" y="186480"/>
            <a:ext cx="3959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ES</a:t>
            </a: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-izvo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10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ti princip koji je razvio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orst Fieste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IBM-u. – maksimiziranje Šenonovih principa – KONFUZIJE i DUFUZ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ši mešanje ulaznih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amen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F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ki biti se zamenjuju drugim (nelinearna funkcij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ermutacij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rmutireju neke od vred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6483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771640" y="257760"/>
            <a:ext cx="3959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ES</a:t>
            </a: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-izvo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37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tvroeni tekst se deli u dva dela: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-levi 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-des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ve polovine se propuštaju kroz   r  krugova (rundi) obrade a potom kombinuju u jedinstven blok-šifr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laz u i-tu rundu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e dobija kao izlaz iz i-1 runde. Pored njih dobija se još i PODKLJUČ (K). Svaki podključ je različit od polaznog ključa i svi su međusobno različi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vaka runda je definisana sa odgovarajučim podključem i poseduje identičnu struktu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upstitucija se obavlja na LEVOJ polovini primenom funkcije F na DESNI deo podataka. Nakon nje se obavlja permutacija tako što se LEVI i DESNI deo unakrsno zamen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1627200" y="907920"/>
            <a:ext cx="5681520" cy="5616720"/>
          </a:xfrm>
          <a:prstGeom prst="rect">
            <a:avLst/>
          </a:prstGeom>
          <a:ln w="0">
            <a:noFill/>
          </a:ln>
        </p:spPr>
      </p:pic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8000" y="417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Fiestel-ova ru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39280" y="332280"/>
            <a:ext cx="81378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Šifarski sistemi bazirani na Fiestel-ovom postupku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"/>
          <a:stretch/>
        </p:blipFill>
        <p:spPr>
          <a:xfrm>
            <a:off x="108000" y="1438200"/>
            <a:ext cx="88567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771640" y="257760"/>
            <a:ext cx="3959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ES</a:t>
            </a: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-rešenj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37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vijeno od strane IBM-a kao modifikacija prethodnog sistema pod nazivom LUCIFER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jsvežija modifikacija datira iz 1994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BM – je objavio da neće biti dodatnih zanavljanja DES –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e smatra se bezbednim za transakcije u budućnosti. Radi se na njegovom naslednik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S-ALGORITAM ima koristi TRI ko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a dati otvoreni tekst  x dužine 64 bita, izračunava se inicijalna permutacija IP(x), pri čemu je L leva a R desna polovina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2627280" y="5877000"/>
            <a:ext cx="388944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2771640" y="257760"/>
            <a:ext cx="3959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ES</a:t>
            </a: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-rešenj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39610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kon toga se u 16 iteracija formiraju L i R delovi takvi d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4211640" y="1341360"/>
            <a:ext cx="4811760" cy="393084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258920" y="5445000"/>
            <a:ext cx="6696000" cy="61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2340000" y="6093000"/>
                <a:ext cx="4537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stoje tri osnovna koncepta u domenu informacione bezbednosti o kojima treba raspravi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Bezbednost kao zadatak UPRAVLJAČKOG (Managemen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ne TEHNOLOŠKOG (IT) segmenta organizacionih sist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remenski zavisan model bezbedn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ubinska odbra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08000" y="25812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DES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-rešenje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671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ifrat se dobija tako što se na poslednju iteraciju primeni inverzna funkcija inicijalne permu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324000" y="4292640"/>
            <a:ext cx="3671640" cy="109368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067280" y="44280"/>
            <a:ext cx="493236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763280" y="-1440"/>
            <a:ext cx="604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IP - </a:t>
            </a:r>
            <a:r>
              <a:rPr b="1" lang="sr-Latn-CS" sz="2800" spc="-1" strike="noStrike">
                <a:solidFill>
                  <a:srgbClr val="003300"/>
                </a:solidFill>
                <a:latin typeface="Arial Black"/>
              </a:rPr>
              <a:t>Inicijalna permutacij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556160" cy="611964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4459320" cy="245880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3059280" y="1341360"/>
            <a:ext cx="3528720" cy="719280"/>
          </a:xfrm>
          <a:custGeom>
            <a:avLst/>
            <a:gdLst/>
            <a:ahLst/>
            <a:rect l="l" t="t" r="r" b="b"/>
            <a:pathLst>
              <a:path w="2404" h="453">
                <a:moveTo>
                  <a:pt x="0" y="0"/>
                </a:moveTo>
                <a:lnTo>
                  <a:pt x="2404" y="0"/>
                </a:lnTo>
                <a:lnTo>
                  <a:pt x="2404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58920" y="1125360"/>
            <a:ext cx="1800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763280" y="-1440"/>
            <a:ext cx="604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F – </a:t>
            </a:r>
            <a:r>
              <a:rPr b="1" lang="sr-Latn-CS" sz="2800" spc="-1" strike="noStrike">
                <a:solidFill>
                  <a:srgbClr val="003300"/>
                </a:solidFill>
                <a:latin typeface="Arial Black"/>
              </a:rPr>
              <a:t>funkcija transformacij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556160" cy="61196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2484360" y="2133720"/>
            <a:ext cx="4319640" cy="718920"/>
          </a:xfrm>
          <a:custGeom>
            <a:avLst/>
            <a:gdLst/>
            <a:ahLst/>
            <a:rect l="l" t="t" r="r" b="b"/>
            <a:pathLst>
              <a:path w="2404" h="453">
                <a:moveTo>
                  <a:pt x="0" y="0"/>
                </a:moveTo>
                <a:lnTo>
                  <a:pt x="2404" y="0"/>
                </a:lnTo>
                <a:lnTo>
                  <a:pt x="2404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979640" y="1916280"/>
            <a:ext cx="503280" cy="502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4211640" y="2997360"/>
                <a:ext cx="457668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6" name=""/>
          <p:cNvGrpSpPr/>
          <p:nvPr/>
        </p:nvGrpSpPr>
        <p:grpSpPr>
          <a:xfrm>
            <a:off x="5219640" y="3428640"/>
            <a:ext cx="2467080" cy="1364040"/>
            <a:chOff x="5219640" y="3428640"/>
            <a:chExt cx="2467080" cy="1364040"/>
          </a:xfrm>
        </p:grpSpPr>
        <p:sp>
          <p:nvSpPr>
            <p:cNvPr id="1147" name=""/>
            <p:cNvSpPr txBox="1"/>
            <p:nvPr/>
          </p:nvSpPr>
          <p:spPr>
            <a:xfrm>
              <a:off x="5219640" y="4221360"/>
              <a:ext cx="2467080" cy="571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Proširenje (E)</a:t>
              </a:r>
              <a:endPara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6083280" y="3428640"/>
              <a:ext cx="0" cy="792360"/>
            </a:xfrm>
            <a:prstGeom prst="line">
              <a:avLst/>
            </a:prstGeom>
            <a:ln w="50760">
              <a:solidFill>
                <a:srgbClr val="d5d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4067280" y="3500280"/>
            <a:ext cx="2466720" cy="2444760"/>
            <a:chOff x="4067280" y="3500280"/>
            <a:chExt cx="2466720" cy="2444760"/>
          </a:xfrm>
        </p:grpSpPr>
        <p:sp>
          <p:nvSpPr>
            <p:cNvPr id="1150" name=""/>
            <p:cNvSpPr txBox="1"/>
            <p:nvPr/>
          </p:nvSpPr>
          <p:spPr>
            <a:xfrm>
              <a:off x="4067280" y="5373720"/>
              <a:ext cx="2466720" cy="571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Permutacija (P)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5146560" y="3500280"/>
              <a:ext cx="0" cy="1873440"/>
            </a:xfrm>
            <a:prstGeom prst="line">
              <a:avLst/>
            </a:prstGeom>
            <a:ln w="50760">
              <a:solidFill>
                <a:srgbClr val="d5d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4572000" y="3573000"/>
            <a:ext cx="2467080" cy="3092760"/>
            <a:chOff x="4572000" y="3573000"/>
            <a:chExt cx="2467080" cy="3092760"/>
          </a:xfrm>
        </p:grpSpPr>
        <p:sp>
          <p:nvSpPr>
            <p:cNvPr id="1153" name=""/>
            <p:cNvSpPr txBox="1"/>
            <p:nvPr/>
          </p:nvSpPr>
          <p:spPr>
            <a:xfrm>
              <a:off x="4572000" y="6094440"/>
              <a:ext cx="2467080" cy="571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Supstitucija (S)</a:t>
              </a:r>
              <a:endPara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5651640" y="3573000"/>
              <a:ext cx="0" cy="2521080"/>
            </a:xfrm>
            <a:prstGeom prst="line">
              <a:avLst/>
            </a:prstGeom>
            <a:ln w="50760">
              <a:solidFill>
                <a:srgbClr val="d5d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5" name="" descr=""/>
          <p:cNvPicPr/>
          <p:nvPr/>
        </p:nvPicPr>
        <p:blipFill>
          <a:blip r:embed="rId8"/>
          <a:stretch/>
        </p:blipFill>
        <p:spPr>
          <a:xfrm>
            <a:off x="4500720" y="1268280"/>
            <a:ext cx="4319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6" dur="500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158" name=""/>
          <p:cNvSpPr/>
          <p:nvPr/>
        </p:nvSpPr>
        <p:spPr>
          <a:xfrm>
            <a:off x="1763640" y="1844640"/>
            <a:ext cx="4824360" cy="720720"/>
          </a:xfrm>
          <a:custGeom>
            <a:avLst/>
            <a:gdLst/>
            <a:ahLst/>
            <a:rect l="l" t="t" r="r" b="b"/>
            <a:pathLst>
              <a:path w="2404" h="453">
                <a:moveTo>
                  <a:pt x="0" y="0"/>
                </a:moveTo>
                <a:lnTo>
                  <a:pt x="2404" y="0"/>
                </a:lnTo>
                <a:lnTo>
                  <a:pt x="2404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16000" y="1484280"/>
            <a:ext cx="64764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952720" cy="235116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 txBox="1"/>
          <p:nvPr/>
        </p:nvSpPr>
        <p:spPr>
          <a:xfrm>
            <a:off x="5867280" y="112536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širivanje   (E)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5"/>
          <a:stretch/>
        </p:blipFill>
        <p:spPr>
          <a:xfrm>
            <a:off x="2700360" y="1413000"/>
            <a:ext cx="2306520" cy="29520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5148360" y="508464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(A) – pretstavlja permutaciju A kod koje se 16 bita dva puta ponavljaj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6"/>
          <a:stretch/>
        </p:blipFill>
        <p:spPr>
          <a:xfrm>
            <a:off x="2050920" y="2637000"/>
            <a:ext cx="1016280" cy="23796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7"/>
          <a:stretch/>
        </p:blipFill>
        <p:spPr>
          <a:xfrm>
            <a:off x="4356000" y="220500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8"/>
          <a:stretch/>
        </p:blipFill>
        <p:spPr>
          <a:xfrm>
            <a:off x="1403280" y="3429000"/>
            <a:ext cx="20890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6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2306520" cy="29520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4572000" y="2637000"/>
            <a:ext cx="42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1, B2, B3, B4, B5, B6, B7, B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8-bitni nizovi 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3"/>
          <a:stretch/>
        </p:blipFill>
        <p:spPr>
          <a:xfrm>
            <a:off x="2050920" y="2637000"/>
            <a:ext cx="1016280" cy="23796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4356000" y="220500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5"/>
          <a:stretch/>
        </p:blipFill>
        <p:spPr>
          <a:xfrm>
            <a:off x="1403280" y="3429000"/>
            <a:ext cx="20890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2306520" cy="29520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3"/>
          <a:stretch/>
        </p:blipFill>
        <p:spPr>
          <a:xfrm>
            <a:off x="2050920" y="2637000"/>
            <a:ext cx="1016280" cy="23796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/>
          <p:cNvPicPr/>
          <p:nvPr/>
        </p:nvPicPr>
        <p:blipFill>
          <a:blip r:embed="rId4"/>
          <a:stretch/>
        </p:blipFill>
        <p:spPr>
          <a:xfrm>
            <a:off x="4356000" y="220500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/>
          <p:cNvPicPr/>
          <p:nvPr/>
        </p:nvPicPr>
        <p:blipFill>
          <a:blip r:embed="rId5"/>
          <a:stretch/>
        </p:blipFill>
        <p:spPr>
          <a:xfrm>
            <a:off x="1403280" y="3284640"/>
            <a:ext cx="2089080" cy="2919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250920" y="3645000"/>
            <a:ext cx="4392360" cy="1368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5219640" y="907920"/>
            <a:ext cx="3600360" cy="2669400"/>
            <a:chOff x="5219640" y="907920"/>
            <a:chExt cx="3600360" cy="2669400"/>
          </a:xfrm>
        </p:grpSpPr>
        <p:sp>
          <p:nvSpPr>
            <p:cNvPr id="1182" name=""/>
            <p:cNvSpPr/>
            <p:nvPr/>
          </p:nvSpPr>
          <p:spPr>
            <a:xfrm>
              <a:off x="5219640" y="907920"/>
              <a:ext cx="3600360" cy="2669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Postoji 8 – S blokova koji pretstavljaju nizove od 4x16 bit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0 – 15 se mogu smatrati funkcijam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5435280" y="2995560"/>
              <a:ext cx="3214440" cy="257400"/>
              <a:chOff x="5435280" y="2995560"/>
              <a:chExt cx="3214440" cy="257400"/>
            </a:xfrm>
          </p:grpSpPr>
          <p:pic>
            <p:nvPicPr>
              <p:cNvPr id="11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35280" y="2995560"/>
                <a:ext cx="1319040" cy="2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74920" y="2995560"/>
                <a:ext cx="1774800" cy="2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6" name=""/>
          <p:cNvGrpSpPr/>
          <p:nvPr/>
        </p:nvGrpSpPr>
        <p:grpSpPr>
          <a:xfrm>
            <a:off x="5219640" y="3716280"/>
            <a:ext cx="3600360" cy="1015920"/>
            <a:chOff x="5219640" y="3716280"/>
            <a:chExt cx="3600360" cy="1015920"/>
          </a:xfrm>
        </p:grpSpPr>
        <p:sp>
          <p:nvSpPr>
            <p:cNvPr id="1187" name=""/>
            <p:cNvSpPr/>
            <p:nvPr/>
          </p:nvSpPr>
          <p:spPr>
            <a:xfrm>
              <a:off x="5219640" y="3716280"/>
              <a:ext cx="3600360" cy="1015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Za d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8" name="" descr=""/>
            <p:cNvPicPr/>
            <p:nvPr/>
          </p:nvPicPr>
          <p:blipFill>
            <a:blip r:embed="rId8"/>
            <a:stretch/>
          </p:blipFill>
          <p:spPr>
            <a:xfrm>
              <a:off x="6443640" y="3840120"/>
              <a:ext cx="21607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" descr=""/>
            <p:cNvPicPr/>
            <p:nvPr/>
          </p:nvPicPr>
          <p:blipFill>
            <a:blip r:embed="rId9"/>
            <a:stretch/>
          </p:blipFill>
          <p:spPr>
            <a:xfrm>
              <a:off x="6443640" y="4292640"/>
              <a:ext cx="93672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"/>
          <p:cNvGrpSpPr/>
          <p:nvPr/>
        </p:nvGrpSpPr>
        <p:grpSpPr>
          <a:xfrm>
            <a:off x="5219640" y="4869000"/>
            <a:ext cx="3600360" cy="1326240"/>
            <a:chOff x="5219640" y="4869000"/>
            <a:chExt cx="3600360" cy="1326240"/>
          </a:xfrm>
        </p:grpSpPr>
        <p:sp>
          <p:nvSpPr>
            <p:cNvPr id="1191" name=""/>
            <p:cNvSpPr/>
            <p:nvPr/>
          </p:nvSpPr>
          <p:spPr>
            <a:xfrm>
              <a:off x="5219640" y="4869000"/>
              <a:ext cx="3600360" cy="1326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de su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6012000" y="5300640"/>
              <a:ext cx="1942560" cy="337320"/>
              <a:chOff x="6012000" y="5300640"/>
              <a:chExt cx="1942560" cy="337320"/>
            </a:xfrm>
          </p:grpSpPr>
          <p:pic>
            <p:nvPicPr>
              <p:cNvPr id="11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12000" y="5372280"/>
                <a:ext cx="4456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4" name=""/>
              <p:cNvSpPr/>
              <p:nvPr/>
            </p:nvSpPr>
            <p:spPr>
              <a:xfrm>
                <a:off x="6443640" y="5300640"/>
                <a:ext cx="151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vrs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5651640" y="5661000"/>
              <a:ext cx="2303280" cy="337320"/>
              <a:chOff x="5651640" y="5661000"/>
              <a:chExt cx="2303280" cy="337320"/>
            </a:xfrm>
          </p:grpSpPr>
          <p:pic>
            <p:nvPicPr>
              <p:cNvPr id="119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51640" y="5734080"/>
                <a:ext cx="8254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7" name=""/>
              <p:cNvSpPr/>
              <p:nvPr/>
            </p:nvSpPr>
            <p:spPr>
              <a:xfrm>
                <a:off x="6443640" y="5661000"/>
                <a:ext cx="151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ko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98" name="" descr=""/>
          <p:cNvPicPr/>
          <p:nvPr/>
        </p:nvPicPr>
        <p:blipFill>
          <a:blip r:embed="rId12"/>
          <a:stretch/>
        </p:blipFill>
        <p:spPr>
          <a:xfrm>
            <a:off x="6084720" y="6237360"/>
            <a:ext cx="2016360" cy="41256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13"/>
          <a:stretch/>
        </p:blipFill>
        <p:spPr>
          <a:xfrm>
            <a:off x="179280" y="5157720"/>
            <a:ext cx="19843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48360" cy="300348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1042920" y="5084640"/>
            <a:ext cx="7589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 bilo ko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 bilo ko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-box S, S(x), S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100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 međusobno raqzlikuju u najmanje dva b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250920" y="3645000"/>
            <a:ext cx="576000" cy="1368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26920" y="2708280"/>
            <a:ext cx="3889440" cy="1657440"/>
          </a:xfrm>
          <a:custGeom>
            <a:avLst/>
            <a:gdLst/>
            <a:ahLst/>
            <a:rect l="l" t="t" r="r" b="b"/>
            <a:pathLst>
              <a:path w="2450" h="1044">
                <a:moveTo>
                  <a:pt x="0" y="1044"/>
                </a:moveTo>
                <a:lnTo>
                  <a:pt x="2450" y="318"/>
                </a:lnTo>
                <a:lnTo>
                  <a:pt x="245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1586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08" name="" descr=""/>
          <p:cNvPicPr/>
          <p:nvPr/>
        </p:nvPicPr>
        <p:blipFill>
          <a:blip r:embed="rId3"/>
          <a:stretch/>
        </p:blipFill>
        <p:spPr>
          <a:xfrm>
            <a:off x="179280" y="5157720"/>
            <a:ext cx="1984320" cy="395280"/>
          </a:xfrm>
          <a:prstGeom prst="rect">
            <a:avLst/>
          </a:prstGeom>
          <a:ln w="0">
            <a:noFill/>
          </a:ln>
        </p:spPr>
      </p:pic>
      <p:grpSp>
        <p:nvGrpSpPr>
          <p:cNvPr id="1209" name=""/>
          <p:cNvGrpSpPr/>
          <p:nvPr/>
        </p:nvGrpSpPr>
        <p:grpSpPr>
          <a:xfrm>
            <a:off x="5292720" y="4653000"/>
            <a:ext cx="3600360" cy="1326240"/>
            <a:chOff x="5292720" y="4653000"/>
            <a:chExt cx="3600360" cy="1326240"/>
          </a:xfrm>
        </p:grpSpPr>
        <p:sp>
          <p:nvSpPr>
            <p:cNvPr id="1210" name=""/>
            <p:cNvSpPr/>
            <p:nvPr/>
          </p:nvSpPr>
          <p:spPr>
            <a:xfrm>
              <a:off x="5292720" y="4653000"/>
              <a:ext cx="3600360" cy="1326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de su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6085080" y="5084640"/>
              <a:ext cx="1942560" cy="337320"/>
              <a:chOff x="6085080" y="5084640"/>
              <a:chExt cx="1942560" cy="337320"/>
            </a:xfrm>
          </p:grpSpPr>
          <p:pic>
            <p:nvPicPr>
              <p:cNvPr id="12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85080" y="5156280"/>
                <a:ext cx="4456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>
                <a:off x="6516720" y="5084640"/>
                <a:ext cx="151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vrs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5724720" y="5445000"/>
              <a:ext cx="2303280" cy="337320"/>
              <a:chOff x="5724720" y="5445000"/>
              <a:chExt cx="2303280" cy="337320"/>
            </a:xfrm>
          </p:grpSpPr>
          <p:pic>
            <p:nvPicPr>
              <p:cNvPr id="12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24720" y="5518080"/>
                <a:ext cx="8254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6" name=""/>
              <p:cNvSpPr/>
              <p:nvPr/>
            </p:nvSpPr>
            <p:spPr>
              <a:xfrm>
                <a:off x="6516720" y="5445000"/>
                <a:ext cx="151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ko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7" name="" descr=""/>
          <p:cNvPicPr/>
          <p:nvPr/>
        </p:nvPicPr>
        <p:blipFill>
          <a:blip r:embed="rId6"/>
          <a:stretch/>
        </p:blipFill>
        <p:spPr>
          <a:xfrm>
            <a:off x="6084720" y="6093000"/>
            <a:ext cx="20163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826920" y="3645000"/>
            <a:ext cx="576360" cy="1368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03280" y="2708280"/>
            <a:ext cx="3313080" cy="1512720"/>
          </a:xfrm>
          <a:custGeom>
            <a:avLst/>
            <a:gdLst/>
            <a:ahLst/>
            <a:rect l="l" t="t" r="r" b="b"/>
            <a:pathLst>
              <a:path w="2450" h="1044">
                <a:moveTo>
                  <a:pt x="0" y="1044"/>
                </a:moveTo>
                <a:lnTo>
                  <a:pt x="2450" y="318"/>
                </a:lnTo>
                <a:lnTo>
                  <a:pt x="245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84320" cy="395280"/>
          </a:xfrm>
          <a:prstGeom prst="rect">
            <a:avLst/>
          </a:prstGeom>
          <a:ln w="0">
            <a:noFill/>
          </a:ln>
        </p:spPr>
      </p:pic>
      <p:grpSp>
        <p:nvGrpSpPr>
          <p:cNvPr id="1223" name=""/>
          <p:cNvGrpSpPr/>
          <p:nvPr/>
        </p:nvGrpSpPr>
        <p:grpSpPr>
          <a:xfrm>
            <a:off x="5292720" y="4653000"/>
            <a:ext cx="3600360" cy="1326240"/>
            <a:chOff x="5292720" y="4653000"/>
            <a:chExt cx="3600360" cy="1326240"/>
          </a:xfrm>
        </p:grpSpPr>
        <p:sp>
          <p:nvSpPr>
            <p:cNvPr id="1224" name=""/>
            <p:cNvSpPr/>
            <p:nvPr/>
          </p:nvSpPr>
          <p:spPr>
            <a:xfrm>
              <a:off x="5292720" y="4653000"/>
              <a:ext cx="3600360" cy="1326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de su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6085080" y="5084640"/>
              <a:ext cx="1942560" cy="337320"/>
              <a:chOff x="6085080" y="5084640"/>
              <a:chExt cx="1942560" cy="337320"/>
            </a:xfrm>
          </p:grpSpPr>
          <p:pic>
            <p:nvPicPr>
              <p:cNvPr id="122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5080" y="5156280"/>
                <a:ext cx="4456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6516720" y="5084640"/>
                <a:ext cx="151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vrs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5724720" y="5445000"/>
              <a:ext cx="2303280" cy="337320"/>
              <a:chOff x="5724720" y="5445000"/>
              <a:chExt cx="2303280" cy="337320"/>
            </a:xfrm>
          </p:grpSpPr>
          <p:pic>
            <p:nvPicPr>
              <p:cNvPr id="12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720" y="5518080"/>
                <a:ext cx="8254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0" name=""/>
              <p:cNvSpPr/>
              <p:nvPr/>
            </p:nvSpPr>
            <p:spPr>
              <a:xfrm>
                <a:off x="6516720" y="5445000"/>
                <a:ext cx="151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ko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6084720" y="6093000"/>
            <a:ext cx="2016360" cy="41256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6"/>
          <a:stretch/>
        </p:blipFill>
        <p:spPr>
          <a:xfrm>
            <a:off x="395280" y="1197000"/>
            <a:ext cx="8532720" cy="14508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1258920" y="3645000"/>
            <a:ext cx="576360" cy="1368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835280" y="2708280"/>
            <a:ext cx="2881080" cy="1657440"/>
          </a:xfrm>
          <a:custGeom>
            <a:avLst/>
            <a:gdLst/>
            <a:ahLst/>
            <a:rect l="l" t="t" r="r" b="b"/>
            <a:pathLst>
              <a:path w="2450" h="1044">
                <a:moveTo>
                  <a:pt x="0" y="1044"/>
                </a:moveTo>
                <a:lnTo>
                  <a:pt x="2450" y="318"/>
                </a:lnTo>
                <a:lnTo>
                  <a:pt x="245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84320" cy="395280"/>
          </a:xfrm>
          <a:prstGeom prst="rect">
            <a:avLst/>
          </a:prstGeom>
          <a:ln w="0">
            <a:noFill/>
          </a:ln>
        </p:spPr>
      </p:pic>
      <p:grpSp>
        <p:nvGrpSpPr>
          <p:cNvPr id="1238" name=""/>
          <p:cNvGrpSpPr/>
          <p:nvPr/>
        </p:nvGrpSpPr>
        <p:grpSpPr>
          <a:xfrm>
            <a:off x="5292720" y="4653000"/>
            <a:ext cx="3600360" cy="1326240"/>
            <a:chOff x="5292720" y="4653000"/>
            <a:chExt cx="3600360" cy="1326240"/>
          </a:xfrm>
        </p:grpSpPr>
        <p:sp>
          <p:nvSpPr>
            <p:cNvPr id="1239" name=""/>
            <p:cNvSpPr/>
            <p:nvPr/>
          </p:nvSpPr>
          <p:spPr>
            <a:xfrm>
              <a:off x="5292720" y="4653000"/>
              <a:ext cx="3600360" cy="1326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de su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6085080" y="5084640"/>
              <a:ext cx="1942560" cy="337320"/>
              <a:chOff x="6085080" y="5084640"/>
              <a:chExt cx="1942560" cy="337320"/>
            </a:xfrm>
          </p:grpSpPr>
          <p:pic>
            <p:nvPicPr>
              <p:cNvPr id="12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5080" y="5156280"/>
                <a:ext cx="4456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2" name=""/>
              <p:cNvSpPr/>
              <p:nvPr/>
            </p:nvSpPr>
            <p:spPr>
              <a:xfrm>
                <a:off x="6516720" y="5084640"/>
                <a:ext cx="151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vrs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724720" y="5445000"/>
              <a:ext cx="2303280" cy="337320"/>
              <a:chOff x="5724720" y="5445000"/>
              <a:chExt cx="2303280" cy="337320"/>
            </a:xfrm>
          </p:grpSpPr>
          <p:pic>
            <p:nvPicPr>
              <p:cNvPr id="12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720" y="5518080"/>
                <a:ext cx="8254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5" name=""/>
              <p:cNvSpPr/>
              <p:nvPr/>
            </p:nvSpPr>
            <p:spPr>
              <a:xfrm>
                <a:off x="6516720" y="5445000"/>
                <a:ext cx="151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ko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46" name="" descr=""/>
          <p:cNvPicPr/>
          <p:nvPr/>
        </p:nvPicPr>
        <p:blipFill>
          <a:blip r:embed="rId5"/>
          <a:stretch/>
        </p:blipFill>
        <p:spPr>
          <a:xfrm>
            <a:off x="6084720" y="6093000"/>
            <a:ext cx="2016360" cy="41256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8351640" cy="13636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S-frejmvork definiše četiri esencijalna kriterijuma za uspešnu implementaciju pet osnovnih principa pouzdanosti siste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ormulisanje i dokumentovanje POLITI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fektivno upoznavanje svih autorizovanhi korisnika sa definisanom politiko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reiranje i primena odgovarajućih kontrolnih postupaka za primenu definisane politik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dziranje sistema i poduzimanje korektivnih akcija u cilju očuvanja usaglašenosti implementacije i definisane polit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užno je puno uključivanje i podrška rukovodnih struktur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4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250" name=""/>
          <p:cNvSpPr/>
          <p:nvPr/>
        </p:nvSpPr>
        <p:spPr>
          <a:xfrm>
            <a:off x="1835280" y="3645000"/>
            <a:ext cx="576000" cy="1368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11280" y="2708280"/>
            <a:ext cx="2305080" cy="1728720"/>
          </a:xfrm>
          <a:custGeom>
            <a:avLst/>
            <a:gdLst/>
            <a:ahLst/>
            <a:rect l="l" t="t" r="r" b="b"/>
            <a:pathLst>
              <a:path w="2450" h="1044">
                <a:moveTo>
                  <a:pt x="0" y="1044"/>
                </a:moveTo>
                <a:lnTo>
                  <a:pt x="2450" y="318"/>
                </a:lnTo>
                <a:lnTo>
                  <a:pt x="245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2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84320" cy="395280"/>
          </a:xfrm>
          <a:prstGeom prst="rect">
            <a:avLst/>
          </a:prstGeom>
          <a:ln w="0">
            <a:noFill/>
          </a:ln>
        </p:spPr>
      </p:pic>
      <p:grpSp>
        <p:nvGrpSpPr>
          <p:cNvPr id="1253" name=""/>
          <p:cNvGrpSpPr/>
          <p:nvPr/>
        </p:nvGrpSpPr>
        <p:grpSpPr>
          <a:xfrm>
            <a:off x="5292720" y="4653000"/>
            <a:ext cx="3600360" cy="1326240"/>
            <a:chOff x="5292720" y="4653000"/>
            <a:chExt cx="3600360" cy="1326240"/>
          </a:xfrm>
        </p:grpSpPr>
        <p:sp>
          <p:nvSpPr>
            <p:cNvPr id="1254" name=""/>
            <p:cNvSpPr/>
            <p:nvPr/>
          </p:nvSpPr>
          <p:spPr>
            <a:xfrm>
              <a:off x="5292720" y="4653000"/>
              <a:ext cx="3600360" cy="1326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de su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6085080" y="5084640"/>
              <a:ext cx="1942560" cy="337320"/>
              <a:chOff x="6085080" y="5084640"/>
              <a:chExt cx="1942560" cy="337320"/>
            </a:xfrm>
          </p:grpSpPr>
          <p:pic>
            <p:nvPicPr>
              <p:cNvPr id="1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5080" y="5156280"/>
                <a:ext cx="4456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7" name=""/>
              <p:cNvSpPr/>
              <p:nvPr/>
            </p:nvSpPr>
            <p:spPr>
              <a:xfrm>
                <a:off x="6516720" y="5084640"/>
                <a:ext cx="151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vrs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5724720" y="5445000"/>
              <a:ext cx="2303280" cy="337320"/>
              <a:chOff x="5724720" y="5445000"/>
              <a:chExt cx="2303280" cy="337320"/>
            </a:xfrm>
          </p:grpSpPr>
          <p:pic>
            <p:nvPicPr>
              <p:cNvPr id="12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720" y="5518080"/>
                <a:ext cx="8254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6516720" y="5445000"/>
                <a:ext cx="151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ko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61" name="" descr=""/>
          <p:cNvPicPr/>
          <p:nvPr/>
        </p:nvPicPr>
        <p:blipFill>
          <a:blip r:embed="rId5"/>
          <a:stretch/>
        </p:blipFill>
        <p:spPr>
          <a:xfrm>
            <a:off x="6084720" y="6093000"/>
            <a:ext cx="2016360" cy="41256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6"/>
          <a:stretch/>
        </p:blipFill>
        <p:spPr>
          <a:xfrm>
            <a:off x="395280" y="1341360"/>
            <a:ext cx="8282160" cy="135252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265" name=""/>
          <p:cNvSpPr/>
          <p:nvPr/>
        </p:nvSpPr>
        <p:spPr>
          <a:xfrm>
            <a:off x="2411280" y="3645000"/>
            <a:ext cx="576360" cy="1368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987640" y="2708280"/>
            <a:ext cx="2305080" cy="1728720"/>
          </a:xfrm>
          <a:custGeom>
            <a:avLst/>
            <a:gdLst/>
            <a:ahLst/>
            <a:rect l="l" t="t" r="r" b="b"/>
            <a:pathLst>
              <a:path w="2450" h="1044">
                <a:moveTo>
                  <a:pt x="0" y="1044"/>
                </a:moveTo>
                <a:lnTo>
                  <a:pt x="2450" y="318"/>
                </a:lnTo>
                <a:lnTo>
                  <a:pt x="245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7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84320" cy="395280"/>
          </a:xfrm>
          <a:prstGeom prst="rect">
            <a:avLst/>
          </a:prstGeom>
          <a:ln w="0">
            <a:noFill/>
          </a:ln>
        </p:spPr>
      </p:pic>
      <p:grpSp>
        <p:nvGrpSpPr>
          <p:cNvPr id="1268" name=""/>
          <p:cNvGrpSpPr/>
          <p:nvPr/>
        </p:nvGrpSpPr>
        <p:grpSpPr>
          <a:xfrm>
            <a:off x="5292720" y="4653000"/>
            <a:ext cx="3600360" cy="1326240"/>
            <a:chOff x="5292720" y="4653000"/>
            <a:chExt cx="3600360" cy="1326240"/>
          </a:xfrm>
        </p:grpSpPr>
        <p:sp>
          <p:nvSpPr>
            <p:cNvPr id="1269" name=""/>
            <p:cNvSpPr/>
            <p:nvPr/>
          </p:nvSpPr>
          <p:spPr>
            <a:xfrm>
              <a:off x="5292720" y="4653000"/>
              <a:ext cx="3600360" cy="1326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de su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6085080" y="5084640"/>
              <a:ext cx="1942560" cy="337320"/>
              <a:chOff x="6085080" y="5084640"/>
              <a:chExt cx="1942560" cy="337320"/>
            </a:xfrm>
          </p:grpSpPr>
          <p:pic>
            <p:nvPicPr>
              <p:cNvPr id="12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5080" y="5156280"/>
                <a:ext cx="4456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2" name=""/>
              <p:cNvSpPr/>
              <p:nvPr/>
            </p:nvSpPr>
            <p:spPr>
              <a:xfrm>
                <a:off x="6516720" y="5084640"/>
                <a:ext cx="151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vrs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5724720" y="5445000"/>
              <a:ext cx="2303280" cy="337320"/>
              <a:chOff x="5724720" y="5445000"/>
              <a:chExt cx="2303280" cy="337320"/>
            </a:xfrm>
          </p:grpSpPr>
          <p:pic>
            <p:nvPicPr>
              <p:cNvPr id="12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720" y="5518080"/>
                <a:ext cx="8254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5" name=""/>
              <p:cNvSpPr/>
              <p:nvPr/>
            </p:nvSpPr>
            <p:spPr>
              <a:xfrm>
                <a:off x="6516720" y="5445000"/>
                <a:ext cx="151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ko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76" name="" descr=""/>
          <p:cNvPicPr/>
          <p:nvPr/>
        </p:nvPicPr>
        <p:blipFill>
          <a:blip r:embed="rId5"/>
          <a:stretch/>
        </p:blipFill>
        <p:spPr>
          <a:xfrm>
            <a:off x="6084720" y="6093000"/>
            <a:ext cx="2016360" cy="412560"/>
          </a:xfrm>
          <a:prstGeom prst="rect">
            <a:avLst/>
          </a:prstGeom>
          <a:ln w="0">
            <a:noFill/>
          </a:ln>
        </p:spPr>
      </p:pic>
      <p:pic>
        <p:nvPicPr>
          <p:cNvPr id="1277" name="" descr=""/>
          <p:cNvPicPr/>
          <p:nvPr/>
        </p:nvPicPr>
        <p:blipFill>
          <a:blip r:embed="rId6"/>
          <a:stretch/>
        </p:blipFill>
        <p:spPr>
          <a:xfrm>
            <a:off x="250920" y="1341360"/>
            <a:ext cx="8551800" cy="13176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280" name=""/>
          <p:cNvSpPr/>
          <p:nvPr/>
        </p:nvSpPr>
        <p:spPr>
          <a:xfrm>
            <a:off x="2987640" y="3645000"/>
            <a:ext cx="576360" cy="1368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64000" y="2708280"/>
            <a:ext cx="1728720" cy="1584360"/>
          </a:xfrm>
          <a:custGeom>
            <a:avLst/>
            <a:gdLst/>
            <a:ahLst/>
            <a:rect l="l" t="t" r="r" b="b"/>
            <a:pathLst>
              <a:path w="2450" h="1044">
                <a:moveTo>
                  <a:pt x="0" y="1044"/>
                </a:moveTo>
                <a:lnTo>
                  <a:pt x="2450" y="318"/>
                </a:lnTo>
                <a:lnTo>
                  <a:pt x="245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84320" cy="395280"/>
          </a:xfrm>
          <a:prstGeom prst="rect">
            <a:avLst/>
          </a:prstGeom>
          <a:ln w="0">
            <a:noFill/>
          </a:ln>
        </p:spPr>
      </p:pic>
      <p:grpSp>
        <p:nvGrpSpPr>
          <p:cNvPr id="1283" name=""/>
          <p:cNvGrpSpPr/>
          <p:nvPr/>
        </p:nvGrpSpPr>
        <p:grpSpPr>
          <a:xfrm>
            <a:off x="5292720" y="4653000"/>
            <a:ext cx="3600360" cy="1326240"/>
            <a:chOff x="5292720" y="4653000"/>
            <a:chExt cx="3600360" cy="1326240"/>
          </a:xfrm>
        </p:grpSpPr>
        <p:sp>
          <p:nvSpPr>
            <p:cNvPr id="1284" name=""/>
            <p:cNvSpPr/>
            <p:nvPr/>
          </p:nvSpPr>
          <p:spPr>
            <a:xfrm>
              <a:off x="5292720" y="4653000"/>
              <a:ext cx="3600360" cy="1326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de su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6085080" y="5084640"/>
              <a:ext cx="1942560" cy="337320"/>
              <a:chOff x="6085080" y="5084640"/>
              <a:chExt cx="1942560" cy="33732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5080" y="5156280"/>
                <a:ext cx="4456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6516720" y="5084640"/>
                <a:ext cx="151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vrs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5724720" y="5445000"/>
              <a:ext cx="2303280" cy="337320"/>
              <a:chOff x="5724720" y="5445000"/>
              <a:chExt cx="2303280" cy="337320"/>
            </a:xfrm>
          </p:grpSpPr>
          <p:pic>
            <p:nvPicPr>
              <p:cNvPr id="12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720" y="5518080"/>
                <a:ext cx="8254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>
                <a:off x="6516720" y="5445000"/>
                <a:ext cx="151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ko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1" name="" descr=""/>
          <p:cNvPicPr/>
          <p:nvPr/>
        </p:nvPicPr>
        <p:blipFill>
          <a:blip r:embed="rId5"/>
          <a:stretch/>
        </p:blipFill>
        <p:spPr>
          <a:xfrm>
            <a:off x="6084720" y="6093000"/>
            <a:ext cx="2016360" cy="41256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/>
          <p:cNvPicPr/>
          <p:nvPr/>
        </p:nvPicPr>
        <p:blipFill>
          <a:blip r:embed="rId6"/>
          <a:stretch/>
        </p:blipFill>
        <p:spPr>
          <a:xfrm>
            <a:off x="324000" y="1268280"/>
            <a:ext cx="8642160" cy="143532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295" name=""/>
          <p:cNvSpPr/>
          <p:nvPr/>
        </p:nvSpPr>
        <p:spPr>
          <a:xfrm>
            <a:off x="3564000" y="3645000"/>
            <a:ext cx="576360" cy="1368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140360" y="2781360"/>
            <a:ext cx="1728720" cy="1584360"/>
          </a:xfrm>
          <a:custGeom>
            <a:avLst/>
            <a:gdLst/>
            <a:ahLst/>
            <a:rect l="l" t="t" r="r" b="b"/>
            <a:pathLst>
              <a:path w="2450" h="1044">
                <a:moveTo>
                  <a:pt x="0" y="1044"/>
                </a:moveTo>
                <a:lnTo>
                  <a:pt x="2450" y="318"/>
                </a:lnTo>
                <a:lnTo>
                  <a:pt x="245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84320" cy="395280"/>
          </a:xfrm>
          <a:prstGeom prst="rect">
            <a:avLst/>
          </a:prstGeom>
          <a:ln w="0">
            <a:noFill/>
          </a:ln>
        </p:spPr>
      </p:pic>
      <p:grpSp>
        <p:nvGrpSpPr>
          <p:cNvPr id="1298" name=""/>
          <p:cNvGrpSpPr/>
          <p:nvPr/>
        </p:nvGrpSpPr>
        <p:grpSpPr>
          <a:xfrm>
            <a:off x="5292720" y="4653000"/>
            <a:ext cx="3600360" cy="1326240"/>
            <a:chOff x="5292720" y="4653000"/>
            <a:chExt cx="3600360" cy="1326240"/>
          </a:xfrm>
        </p:grpSpPr>
        <p:sp>
          <p:nvSpPr>
            <p:cNvPr id="1299" name=""/>
            <p:cNvSpPr/>
            <p:nvPr/>
          </p:nvSpPr>
          <p:spPr>
            <a:xfrm>
              <a:off x="5292720" y="4653000"/>
              <a:ext cx="3600360" cy="1326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de su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6085080" y="5084640"/>
              <a:ext cx="1942560" cy="337320"/>
              <a:chOff x="6085080" y="5084640"/>
              <a:chExt cx="1942560" cy="337320"/>
            </a:xfrm>
          </p:grpSpPr>
          <p:pic>
            <p:nvPicPr>
              <p:cNvPr id="13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5080" y="5156280"/>
                <a:ext cx="4456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2" name=""/>
              <p:cNvSpPr/>
              <p:nvPr/>
            </p:nvSpPr>
            <p:spPr>
              <a:xfrm>
                <a:off x="6516720" y="5084640"/>
                <a:ext cx="151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vrs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724720" y="5445000"/>
              <a:ext cx="2303280" cy="337320"/>
              <a:chOff x="5724720" y="5445000"/>
              <a:chExt cx="2303280" cy="337320"/>
            </a:xfrm>
          </p:grpSpPr>
          <p:pic>
            <p:nvPicPr>
              <p:cNvPr id="13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720" y="5518080"/>
                <a:ext cx="8254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5" name=""/>
              <p:cNvSpPr/>
              <p:nvPr/>
            </p:nvSpPr>
            <p:spPr>
              <a:xfrm>
                <a:off x="6516720" y="5445000"/>
                <a:ext cx="151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ko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06" name="" descr=""/>
          <p:cNvPicPr/>
          <p:nvPr/>
        </p:nvPicPr>
        <p:blipFill>
          <a:blip r:embed="rId5"/>
          <a:stretch/>
        </p:blipFill>
        <p:spPr>
          <a:xfrm>
            <a:off x="6084720" y="6093000"/>
            <a:ext cx="2016360" cy="412560"/>
          </a:xfrm>
          <a:prstGeom prst="rect">
            <a:avLst/>
          </a:prstGeom>
          <a:ln w="0">
            <a:noFill/>
          </a:ln>
        </p:spPr>
      </p:pic>
      <p:pic>
        <p:nvPicPr>
          <p:cNvPr id="1307" name="" descr=""/>
          <p:cNvPicPr/>
          <p:nvPr/>
        </p:nvPicPr>
        <p:blipFill>
          <a:blip r:embed="rId6"/>
          <a:stretch/>
        </p:blipFill>
        <p:spPr>
          <a:xfrm>
            <a:off x="395280" y="1341360"/>
            <a:ext cx="8496360" cy="13654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3995640" y="3645000"/>
            <a:ext cx="576360" cy="1368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643280" y="2708280"/>
            <a:ext cx="1657440" cy="1584360"/>
          </a:xfrm>
          <a:custGeom>
            <a:avLst/>
            <a:gdLst/>
            <a:ahLst/>
            <a:rect l="l" t="t" r="r" b="b"/>
            <a:pathLst>
              <a:path w="2450" h="1044">
                <a:moveTo>
                  <a:pt x="0" y="1044"/>
                </a:moveTo>
                <a:lnTo>
                  <a:pt x="2450" y="318"/>
                </a:lnTo>
                <a:lnTo>
                  <a:pt x="245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84320" cy="395280"/>
          </a:xfrm>
          <a:prstGeom prst="rect">
            <a:avLst/>
          </a:prstGeom>
          <a:ln w="0">
            <a:noFill/>
          </a:ln>
        </p:spPr>
      </p:pic>
      <p:grpSp>
        <p:nvGrpSpPr>
          <p:cNvPr id="1313" name=""/>
          <p:cNvGrpSpPr/>
          <p:nvPr/>
        </p:nvGrpSpPr>
        <p:grpSpPr>
          <a:xfrm>
            <a:off x="5292720" y="4653000"/>
            <a:ext cx="3600360" cy="1326240"/>
            <a:chOff x="5292720" y="4653000"/>
            <a:chExt cx="3600360" cy="1326240"/>
          </a:xfrm>
        </p:grpSpPr>
        <p:sp>
          <p:nvSpPr>
            <p:cNvPr id="1314" name=""/>
            <p:cNvSpPr/>
            <p:nvPr/>
          </p:nvSpPr>
          <p:spPr>
            <a:xfrm>
              <a:off x="5292720" y="4653000"/>
              <a:ext cx="3600360" cy="1326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de su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6085080" y="5084640"/>
              <a:ext cx="1942560" cy="337320"/>
              <a:chOff x="6085080" y="5084640"/>
              <a:chExt cx="1942560" cy="337320"/>
            </a:xfrm>
          </p:grpSpPr>
          <p:pic>
            <p:nvPicPr>
              <p:cNvPr id="13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5080" y="5156280"/>
                <a:ext cx="4456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7" name=""/>
              <p:cNvSpPr/>
              <p:nvPr/>
            </p:nvSpPr>
            <p:spPr>
              <a:xfrm>
                <a:off x="6516720" y="5084640"/>
                <a:ext cx="151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vrs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5724720" y="5445000"/>
              <a:ext cx="2303280" cy="337320"/>
              <a:chOff x="5724720" y="5445000"/>
              <a:chExt cx="2303280" cy="337320"/>
            </a:xfrm>
          </p:grpSpPr>
          <p:pic>
            <p:nvPicPr>
              <p:cNvPr id="13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720" y="5518080"/>
                <a:ext cx="825480" cy="24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0" name=""/>
              <p:cNvSpPr/>
              <p:nvPr/>
            </p:nvSpPr>
            <p:spPr>
              <a:xfrm>
                <a:off x="6516720" y="5445000"/>
                <a:ext cx="151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- adresa ko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21" name="" descr=""/>
          <p:cNvPicPr/>
          <p:nvPr/>
        </p:nvPicPr>
        <p:blipFill>
          <a:blip r:embed="rId5"/>
          <a:stretch/>
        </p:blipFill>
        <p:spPr>
          <a:xfrm>
            <a:off x="6084720" y="6093000"/>
            <a:ext cx="2016360" cy="41256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8532720" cy="132732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700360" y="186840"/>
            <a:ext cx="395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Funkcija - f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75080" cy="5545080"/>
          </a:xfrm>
          <a:prstGeom prst="rect">
            <a:avLst/>
          </a:prstGeom>
          <a:ln w="0">
            <a:noFill/>
          </a:ln>
        </p:spPr>
      </p:pic>
      <p:sp>
        <p:nvSpPr>
          <p:cNvPr id="1325" name=""/>
          <p:cNvSpPr/>
          <p:nvPr/>
        </p:nvSpPr>
        <p:spPr>
          <a:xfrm flipV="1" rot="21481200">
            <a:off x="2832120" y="5011200"/>
            <a:ext cx="3902040" cy="449640"/>
          </a:xfrm>
          <a:custGeom>
            <a:avLst/>
            <a:gdLst/>
            <a:ahLst/>
            <a:rect l="l" t="t" r="r" b="b"/>
            <a:pathLst>
              <a:path w="2404" h="453">
                <a:moveTo>
                  <a:pt x="0" y="0"/>
                </a:moveTo>
                <a:lnTo>
                  <a:pt x="2404" y="0"/>
                </a:lnTo>
                <a:lnTo>
                  <a:pt x="2404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5229360"/>
            <a:ext cx="64764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5580000" y="5734080"/>
            <a:ext cx="22860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rmutacija   (P)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4"/>
          <a:stretch/>
        </p:blipFill>
        <p:spPr>
          <a:xfrm>
            <a:off x="5580000" y="2565360"/>
            <a:ext cx="2125800" cy="244152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5"/>
          <a:stretch/>
        </p:blipFill>
        <p:spPr>
          <a:xfrm>
            <a:off x="3059280" y="6021360"/>
            <a:ext cx="1944360" cy="38268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1984320" cy="39528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/>
          <p:cNvPicPr/>
          <p:nvPr/>
        </p:nvPicPr>
        <p:blipFill>
          <a:blip r:embed="rId7"/>
          <a:stretch/>
        </p:blipFill>
        <p:spPr>
          <a:xfrm>
            <a:off x="1908000" y="1700280"/>
            <a:ext cx="2306880" cy="29520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1016280" cy="237960"/>
          </a:xfrm>
          <a:prstGeom prst="rect">
            <a:avLst/>
          </a:prstGeom>
          <a:ln w="0">
            <a:noFill/>
          </a:ln>
        </p:spPr>
      </p:pic>
      <p:pic>
        <p:nvPicPr>
          <p:cNvPr id="1333" name="" descr=""/>
          <p:cNvPicPr/>
          <p:nvPr/>
        </p:nvPicPr>
        <p:blipFill>
          <a:blip r:embed="rId9"/>
          <a:stretch/>
        </p:blipFill>
        <p:spPr>
          <a:xfrm>
            <a:off x="4356000" y="220500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1334" name="" descr=""/>
          <p:cNvPicPr/>
          <p:nvPr/>
        </p:nvPicPr>
        <p:blipFill>
          <a:blip r:embed="rId10"/>
          <a:stretch/>
        </p:blipFill>
        <p:spPr>
          <a:xfrm>
            <a:off x="1476360" y="3429000"/>
            <a:ext cx="20890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1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94920" y="187200"/>
            <a:ext cx="7705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Konačni izgled funkcije f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108000" y="1177920"/>
            <a:ext cx="8712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763280" y="-1440"/>
            <a:ext cx="604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IP – </a:t>
            </a:r>
            <a:r>
              <a:rPr b="1" lang="sr-Latn-CS" sz="2800" spc="-1" strike="noStrike">
                <a:solidFill>
                  <a:srgbClr val="003300"/>
                </a:solidFill>
                <a:latin typeface="Arial Black"/>
              </a:rPr>
              <a:t>finalna permutacij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556160" cy="6119640"/>
          </a:xfrm>
          <a:prstGeom prst="rect">
            <a:avLst/>
          </a:prstGeom>
          <a:ln w="0">
            <a:noFill/>
          </a:ln>
        </p:spPr>
      </p:pic>
      <p:pic>
        <p:nvPicPr>
          <p:cNvPr id="1339" name="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4459320" cy="245880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 flipH="1" rot="10800000">
            <a:off x="3130920" y="4941360"/>
            <a:ext cx="3527640" cy="1008360"/>
          </a:xfrm>
          <a:custGeom>
            <a:avLst/>
            <a:gdLst/>
            <a:ahLst/>
            <a:rect l="l" t="t" r="r" b="b"/>
            <a:pathLst>
              <a:path w="2404" h="453">
                <a:moveTo>
                  <a:pt x="0" y="0"/>
                </a:moveTo>
                <a:lnTo>
                  <a:pt x="2404" y="0"/>
                </a:lnTo>
                <a:lnTo>
                  <a:pt x="2404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58920" y="5734080"/>
            <a:ext cx="18003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211640" y="1773360"/>
            <a:ext cx="504720" cy="3168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82440 h 3168360"/>
              <a:gd name="textAreaBottom" fmla="*/ 3085920 h 31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317080" y="1773360"/>
            <a:ext cx="431640" cy="3168360"/>
          </a:xfrm>
          <a:custGeom>
            <a:avLst/>
            <a:gdLst>
              <a:gd name="textAreaLeft" fmla="*/ 0 w 431640"/>
              <a:gd name="textAreaRight" fmla="*/ 155880 w 431640"/>
              <a:gd name="textAreaTop" fmla="*/ 82440 h 3168360"/>
              <a:gd name="textAreaBottom" fmla="*/ 30859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639280" y="14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8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1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26560" y="187200"/>
            <a:ext cx="741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ransformacija ključ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697440" cy="524196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/>
          <p:nvPr/>
        </p:nvSpPr>
        <p:spPr>
          <a:xfrm>
            <a:off x="4211640" y="1052640"/>
            <a:ext cx="4753080" cy="228852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 – bit-string 64 b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8 – bita su biti za kontrolu par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nivou bajta (neparni pari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8,16,24,32,40,48,56,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56 - bita čine KLJU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izbace se biti partiteta) (PC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826560" y="187200"/>
            <a:ext cx="741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ransformacija ključ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697440" cy="5241960"/>
          </a:xfrm>
          <a:prstGeom prst="rect">
            <a:avLst/>
          </a:prstGeom>
          <a:ln w="0">
            <a:noFill/>
          </a:ln>
        </p:spPr>
      </p:pic>
      <p:grpSp>
        <p:nvGrpSpPr>
          <p:cNvPr id="1350" name=""/>
          <p:cNvGrpSpPr/>
          <p:nvPr/>
        </p:nvGrpSpPr>
        <p:grpSpPr>
          <a:xfrm>
            <a:off x="1547640" y="927000"/>
            <a:ext cx="7272360" cy="2587680"/>
            <a:chOff x="1547640" y="927000"/>
            <a:chExt cx="7272360" cy="2587680"/>
          </a:xfrm>
        </p:grpSpPr>
        <p:pic>
          <p:nvPicPr>
            <p:cNvPr id="1351" name="" descr=""/>
            <p:cNvPicPr/>
            <p:nvPr/>
          </p:nvPicPr>
          <p:blipFill>
            <a:blip r:embed="rId2"/>
            <a:stretch/>
          </p:blipFill>
          <p:spPr>
            <a:xfrm>
              <a:off x="4356000" y="927000"/>
              <a:ext cx="4464000" cy="25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"/>
            <p:cNvSpPr/>
            <p:nvPr/>
          </p:nvSpPr>
          <p:spPr>
            <a:xfrm>
              <a:off x="1547640" y="1916280"/>
              <a:ext cx="792360" cy="50472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340000" y="2060640"/>
              <a:ext cx="3095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826560" y="2565360"/>
            <a:ext cx="4339080" cy="358920"/>
            <a:chOff x="826560" y="2565360"/>
            <a:chExt cx="4339080" cy="358920"/>
          </a:xfrm>
        </p:grpSpPr>
        <p:sp>
          <p:nvSpPr>
            <p:cNvPr id="1355" name=""/>
            <p:cNvSpPr/>
            <p:nvPr/>
          </p:nvSpPr>
          <p:spPr>
            <a:xfrm flipH="1">
              <a:off x="826200" y="2565360"/>
              <a:ext cx="1081080" cy="35892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050200" y="2565360"/>
              <a:ext cx="1081080" cy="35892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7" name="" descr=""/>
            <p:cNvPicPr/>
            <p:nvPr/>
          </p:nvPicPr>
          <p:blipFill>
            <a:blip r:embed="rId3"/>
            <a:stretch/>
          </p:blipFill>
          <p:spPr>
            <a:xfrm>
              <a:off x="3276720" y="2637000"/>
              <a:ext cx="18889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stoje tri osnovna koncepta u domenu informacione bezbednosti o kojima treba raspravi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Bezbednost kao zadatak UPRAVLJAČKOG (Management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ne TEHNOLOŠKOG segmenta organizacionih siste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remenski zavisan model bezb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ubinska odbra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826560" y="187200"/>
            <a:ext cx="741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ransformacija ključ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697440" cy="5241960"/>
          </a:xfrm>
          <a:prstGeom prst="rect">
            <a:avLst/>
          </a:prstGeom>
          <a:ln w="0">
            <a:noFill/>
          </a:ln>
        </p:spPr>
      </p:pic>
      <p:grpSp>
        <p:nvGrpSpPr>
          <p:cNvPr id="1360" name=""/>
          <p:cNvGrpSpPr/>
          <p:nvPr/>
        </p:nvGrpSpPr>
        <p:grpSpPr>
          <a:xfrm>
            <a:off x="5651640" y="981000"/>
            <a:ext cx="3094560" cy="1584000"/>
            <a:chOff x="5651640" y="981000"/>
            <a:chExt cx="3094560" cy="1584000"/>
          </a:xfrm>
        </p:grpSpPr>
        <p:grpSp>
          <p:nvGrpSpPr>
            <p:cNvPr id="1361" name=""/>
            <p:cNvGrpSpPr/>
            <p:nvPr/>
          </p:nvGrpSpPr>
          <p:grpSpPr>
            <a:xfrm>
              <a:off x="5651640" y="981000"/>
              <a:ext cx="3094560" cy="1050480"/>
              <a:chOff x="5651640" y="981000"/>
              <a:chExt cx="3094560" cy="1050480"/>
            </a:xfrm>
          </p:grpSpPr>
          <p:pic>
            <p:nvPicPr>
              <p:cNvPr id="13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1640" y="981000"/>
                <a:ext cx="2980440" cy="4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63" name=""/>
              <p:cNvGrpSpPr/>
              <p:nvPr/>
            </p:nvGrpSpPr>
            <p:grpSpPr>
              <a:xfrm>
                <a:off x="5651640" y="1576080"/>
                <a:ext cx="3094560" cy="455400"/>
                <a:chOff x="5651640" y="1576080"/>
                <a:chExt cx="3094560" cy="455400"/>
              </a:xfrm>
            </p:grpSpPr>
            <p:pic>
              <p:nvPicPr>
                <p:cNvPr id="13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49040" y="1576080"/>
                  <a:ext cx="2297160" cy="439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651640" y="1576080"/>
                  <a:ext cx="722520" cy="45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366" name="" descr=""/>
            <p:cNvPicPr/>
            <p:nvPr/>
          </p:nvPicPr>
          <p:blipFill>
            <a:blip r:embed="rId5"/>
            <a:stretch/>
          </p:blipFill>
          <p:spPr>
            <a:xfrm>
              <a:off x="5750640" y="2171880"/>
              <a:ext cx="2403000" cy="39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7" name=""/>
          <p:cNvGrpSpPr/>
          <p:nvPr/>
        </p:nvGrpSpPr>
        <p:grpSpPr>
          <a:xfrm>
            <a:off x="4643280" y="2708280"/>
            <a:ext cx="4248360" cy="1015920"/>
            <a:chOff x="4643280" y="2708280"/>
            <a:chExt cx="4248360" cy="1015920"/>
          </a:xfrm>
        </p:grpSpPr>
        <p:pic>
          <p:nvPicPr>
            <p:cNvPr id="1368" name="" descr=""/>
            <p:cNvPicPr/>
            <p:nvPr/>
          </p:nvPicPr>
          <p:blipFill>
            <a:blip r:embed="rId6"/>
            <a:stretch/>
          </p:blipFill>
          <p:spPr>
            <a:xfrm>
              <a:off x="4643280" y="2923920"/>
              <a:ext cx="1592280" cy="4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9" name=""/>
            <p:cNvSpPr/>
            <p:nvPr/>
          </p:nvSpPr>
          <p:spPr>
            <a:xfrm>
              <a:off x="6443640" y="2708280"/>
              <a:ext cx="244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x2 za i=1,2,9,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x4 inač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299280" y="2779560"/>
              <a:ext cx="215640" cy="8647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2320 h 864720"/>
                <a:gd name="textAreaBottom" fmla="*/ 842400 h 86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1116000" y="2349360"/>
            <a:ext cx="647640" cy="7192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195640" y="2349360"/>
            <a:ext cx="718920" cy="7192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692360" y="1197000"/>
            <a:ext cx="3887640" cy="1295280"/>
          </a:xfrm>
          <a:custGeom>
            <a:avLst/>
            <a:gdLst/>
            <a:ahLst/>
            <a:rect l="l" t="t" r="r" b="b"/>
            <a:pathLst>
              <a:path w="2404" h="771">
                <a:moveTo>
                  <a:pt x="0" y="771"/>
                </a:moveTo>
                <a:lnTo>
                  <a:pt x="1043" y="0"/>
                </a:lnTo>
                <a:lnTo>
                  <a:pt x="240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843280" y="1844640"/>
            <a:ext cx="2665440" cy="720720"/>
          </a:xfrm>
          <a:custGeom>
            <a:avLst/>
            <a:gdLst/>
            <a:ahLst/>
            <a:rect l="l" t="t" r="r" b="b"/>
            <a:pathLst>
              <a:path w="1588" h="408">
                <a:moveTo>
                  <a:pt x="0" y="408"/>
                </a:moveTo>
                <a:lnTo>
                  <a:pt x="544" y="0"/>
                </a:lnTo>
                <a:lnTo>
                  <a:pt x="158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00000" y="3068640"/>
            <a:ext cx="2159280" cy="431640"/>
          </a:xfrm>
          <a:prstGeom prst="rect">
            <a:avLst/>
          </a:prstGeom>
          <a:noFill/>
          <a:ln w="3816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059280" y="3141720"/>
            <a:ext cx="1512720" cy="142920"/>
          </a:xfrm>
          <a:custGeom>
            <a:avLst/>
            <a:gdLst/>
            <a:ahLst/>
            <a:rect l="l" t="t" r="r" b="b"/>
            <a:pathLst>
              <a:path w="953" h="90">
                <a:moveTo>
                  <a:pt x="0" y="90"/>
                </a:moveTo>
                <a:lnTo>
                  <a:pt x="273" y="0"/>
                </a:lnTo>
                <a:lnTo>
                  <a:pt x="953" y="0"/>
                </a:lnTo>
              </a:path>
            </a:pathLst>
          </a:custGeom>
          <a:noFill/>
          <a:ln w="38160">
            <a:solidFill>
              <a:srgbClr val="ff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7"/>
          <a:stretch/>
        </p:blipFill>
        <p:spPr>
          <a:xfrm>
            <a:off x="6084720" y="4005360"/>
            <a:ext cx="2971800" cy="180792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3203640" y="3573360"/>
            <a:ext cx="792000" cy="503280"/>
          </a:xfrm>
          <a:prstGeom prst="rect">
            <a:avLst/>
          </a:prstGeom>
          <a:solidFill>
            <a:srgbClr val="00ffff">
              <a:alpha val="4000"/>
            </a:srgbClr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708360" y="4076640"/>
            <a:ext cx="2376360" cy="865080"/>
          </a:xfrm>
          <a:custGeom>
            <a:avLst/>
            <a:gdLst/>
            <a:ahLst/>
            <a:rect l="l" t="t" r="r" b="b"/>
            <a:pathLst>
              <a:path w="1497" h="545">
                <a:moveTo>
                  <a:pt x="0" y="0"/>
                </a:moveTo>
                <a:lnTo>
                  <a:pt x="453" y="545"/>
                </a:lnTo>
                <a:lnTo>
                  <a:pt x="1497" y="545"/>
                </a:lnTo>
              </a:path>
            </a:pathLst>
          </a:custGeom>
          <a:noFill/>
          <a:ln w="38160">
            <a:solidFill>
              <a:srgbClr val="33cc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331640" y="187200"/>
            <a:ext cx="676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ransformacija ključ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5329080" cy="5305320"/>
          </a:xfrm>
          <a:prstGeom prst="rect">
            <a:avLst/>
          </a:prstGeom>
          <a:ln w="0">
            <a:noFill/>
          </a:ln>
        </p:spPr>
      </p:pic>
      <p:sp>
        <p:nvSpPr>
          <p:cNvPr id="1382" name=""/>
          <p:cNvSpPr txBox="1"/>
          <p:nvPr/>
        </p:nvSpPr>
        <p:spPr>
          <a:xfrm>
            <a:off x="5435640" y="3213000"/>
            <a:ext cx="338436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6-puta se ponavlj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826920" y="-252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ojst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i redovi S-bokso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u permutaci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, 1, …,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B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sov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pretstavljaju afine transformacije ula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mena jednog bita ulaza menja najmanje dva izlazna bita S-boks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bilo ko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bilo ko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-b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, S(x)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(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1100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 razlukuju u najmanje dva bi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vremeni kriptografski sistemi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Postoji čitav niz savremenih kriptografskih sistema od kojih je potrebno pomenu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DES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Data Encryptio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RSA (Rivest, Shamir i Adelm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DE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(International Data Encryption on Algorith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G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(Pretty Good Priv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9640" y="979200"/>
            <a:ext cx="7467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9900"/>
                </a:solidFill>
                <a:latin typeface="Arial Black"/>
              </a:rPr>
              <a:t>RSA </a:t>
            </a:r>
            <a:br>
              <a:rPr sz="3200"/>
            </a:br>
            <a:r>
              <a:rPr b="1" i="1" lang="fr-FR" sz="3200" spc="-1" strike="noStrike">
                <a:solidFill>
                  <a:srgbClr val="009900"/>
                </a:solidFill>
                <a:latin typeface="Arial Black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i="1" lang="fr-FR" sz="3200" spc="-1" strike="noStrike">
                <a:solidFill>
                  <a:srgbClr val="000000"/>
                </a:solidFill>
                <a:latin typeface="Arial Black"/>
              </a:rPr>
              <a:t>ivest,</a:t>
            </a:r>
            <a:r>
              <a:rPr b="1" i="1" lang="fr-FR" sz="3200" spc="-1" strike="noStrike">
                <a:solidFill>
                  <a:srgbClr val="000000"/>
                </a:solidFill>
                <a:latin typeface="Arial Black"/>
              </a:rPr>
              <a:t> S</a:t>
            </a:r>
            <a:r>
              <a:rPr b="0" i="1" lang="fr-FR" sz="3200" spc="-1" strike="noStrike">
                <a:solidFill>
                  <a:srgbClr val="000000"/>
                </a:solidFill>
                <a:latin typeface="Arial Black"/>
              </a:rPr>
              <a:t>hamir, </a:t>
            </a:r>
            <a:r>
              <a:rPr b="1" i="1" lang="fr-FR" sz="3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i="1" lang="fr-FR" sz="3200" spc="-1" strike="noStrike">
                <a:solidFill>
                  <a:srgbClr val="000000"/>
                </a:solidFill>
                <a:latin typeface="Arial Black"/>
              </a:rPr>
              <a:t>dleman</a:t>
            </a:r>
            <a:r>
              <a:rPr b="1" i="1" lang="fr-FR" sz="3200" spc="-1" strike="noStrike">
                <a:solidFill>
                  <a:srgbClr val="009900"/>
                </a:solidFill>
                <a:latin typeface="Arial Black"/>
              </a:rPr>
              <a:t> - 1978)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7280" cy="344772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>
            <a:off x="7350120" y="512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2"/>
          <a:stretch/>
        </p:blipFill>
        <p:spPr>
          <a:xfrm>
            <a:off x="7164360" y="5877000"/>
            <a:ext cx="1792440" cy="770040"/>
          </a:xfrm>
          <a:prstGeom prst="rect">
            <a:avLst/>
          </a:prstGeom>
          <a:ln w="0">
            <a:noFill/>
          </a:ln>
        </p:spPr>
      </p:pic>
      <p:sp>
        <p:nvSpPr>
          <p:cNvPr id="1391" name=""/>
          <p:cNvSpPr/>
          <p:nvPr/>
        </p:nvSpPr>
        <p:spPr>
          <a:xfrm>
            <a:off x="900000" y="18684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00000" y="1134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5690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rašireniji asimetrični kriptografski algoritam, zamišljen kao univerzalni kriptografski algoritam (šifrovanje, dešifrovanje, digitalno potpisivan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gurnost RSA je zasnovana na računarskoj složenosti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aktorizacije velikih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avni i tajni ključ su funkcije dva velika (200 cifrena) prosta bro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71280" y="2592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RSA</a:t>
            </a:r>
            <a:r>
              <a:rPr b="0" lang="sr-Latn-CS" sz="36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Performan</a:t>
            </a:r>
            <a:r>
              <a:rPr b="0" lang="sr-Latn-CS" sz="3600" spc="-1" strike="noStrike">
                <a:solidFill>
                  <a:srgbClr val="003300"/>
                </a:solidFill>
                <a:latin typeface="Arial"/>
              </a:rPr>
              <a:t>s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85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Generisanje ključa je SPORO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5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Generisanje šifrata je oko 1000 puta sporije nego kod A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tandard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 simetrične blok-šifrant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5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SA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e često koristi u zaštiti ključeva koji se u toku sesije razmenjuju uz oslonac n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vremeni kriptografski sistemi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Postoji čitav niz savremenih kriptografskih sistema od kojih je potrebno pomenu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DES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Data Encryptio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RSA (Rivest, Shamir i Adelm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IDEA (International Data Encryption on Algorith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G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(Pretty Good Priv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DEA (International Data Encryption on Algorit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mercijalni konkurent DES-standar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imetrični blok-šifarski sistem 64-bitnih blokova na sličan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ljuč dužine 128 b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lgoritam koristi 52 – 16-bitna podklju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ifriranje kori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NOŽENJE PO MODULU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65537 (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↑16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BIRANJE PO MODULU 65536 (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↑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matra se da je po brzini ekvivalentna DES-u ali da je OTPORNIJA na kompromito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00000" y="186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vremeni kriptografski sistemi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Postoji čitav niz savremenih kriptografskih sistema od kojih je potrebno pomenu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DES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Data Encryptio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RSA (Rivest, Shamir i Adelm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DEA (International Data Encryption on Algorith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PGP (Pretty Good Priv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Zaštita i bezbednost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vod – o problemu bezbednosti 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snovni koncepti informacione bezbe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ventivni mehanizmi (Preven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hanizmi za otkrivanje (Det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rektivni mehanizmi (Corr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aključak – i šta dal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97884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386000"/>
            <a:ext cx="842472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raspolažemo sa dovoljno resursa i vremena bilo koji segment preventivne zaštite može da se zaobiđ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 za posledicu ima potrebu da efektivni kontrolni mehanizmi poseduju proširenje preventinih mehanizama s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ama za detekciju incidenat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cedure za poduzimanje korektivnih akcija u slučaju narušenja bezbed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tekcija i korekcija mora bit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lagovremen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fikasn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zbog brzine kojom, nakon proboja preventivnih mehanizama, dolazi do kompromitovanja ostatka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00000" y="-320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GP (Pretty Good Priv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bjedinjava dva postojeća JAKA šifarska algoritma. IDEA – za kriptovanje otvorenog teksta i RSA – za kriptovanje ključeva simetričnog algoritma (IDE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upak: (šifrira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šiljalac šifrira otvoreni tekst   x   jednokratnim  pseudo-slučajnim IDEA ključem    k i dobja šifrat  y = Ek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DEA ključ   k   se šifrira uz oslonac na RSA algoritam i javni ključ   e   primaoca čime se dobija šifrat  Ee(k). Nakon toga se Ek(x) i Ee(k) zajedno šalju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00000" y="-3204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-Šifrir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GP (Pretty Good Priv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upak: (dešifrova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imalac koristi svoj tajni RSA ključ   d  u cilju dešifrovanja ključa   k=Dd(Ee(k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DEA ključ   k   se zatim koristi za dešifrovanje poruke   x=Dk(Ek(x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042920" y="403200"/>
            <a:ext cx="746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Simetrični – session key</a:t>
            </a:r>
            <a:r>
              <a:rPr b="0" lang="en-CA" sz="40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0" y="2055960"/>
            <a:ext cx="4481640" cy="324468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2"/>
          <a:stretch/>
        </p:blipFill>
        <p:spPr>
          <a:xfrm>
            <a:off x="4572000" y="2100240"/>
            <a:ext cx="4317840" cy="315108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228600" y="5567400"/>
            <a:ext cx="8231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šiljalac (A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Primalac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755280" y="18684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Bezbednosni Zahtevi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Poverljivost (</a:t>
            </a:r>
            <a:r>
              <a:rPr b="1" lang="en-CA" sz="2800" spc="-1" strike="noStrike">
                <a:solidFill>
                  <a:srgbClr val="ffcc00"/>
                </a:solidFill>
                <a:latin typeface="Arial"/>
              </a:rPr>
              <a:t>Confidentiality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aštita od obelodanjivanja neautorizovanim subjektima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Integritet (</a:t>
            </a:r>
            <a:r>
              <a:rPr b="1" lang="en-CA" sz="2800" spc="-1" strike="noStrike">
                <a:solidFill>
                  <a:srgbClr val="ffcc00"/>
                </a:solidFill>
                <a:latin typeface="Arial"/>
              </a:rPr>
              <a:t>Integrity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čuvanje konzistentnosti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Provera autentičnosti (</a:t>
            </a:r>
            <a:r>
              <a:rPr b="1" lang="en-CA" sz="2800" spc="-1" strike="noStrike">
                <a:solidFill>
                  <a:srgbClr val="ffcc00"/>
                </a:solidFill>
                <a:latin typeface="Arial"/>
              </a:rPr>
              <a:t>Authentication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tvrđivanje identiteta subjekta ili kreatora podatak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Neporecivost (</a:t>
            </a:r>
            <a:r>
              <a:rPr b="1" lang="en-CA" sz="2800" spc="-1" strike="noStrike">
                <a:solidFill>
                  <a:srgbClr val="ffcc00"/>
                </a:solidFill>
                <a:latin typeface="Arial"/>
              </a:rPr>
              <a:t>Non-repudiation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zvorni pokretač komunikacije nemože to kasnije poreći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1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1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nutar računara se otvoreni tekst i šifrat pretstavljaju kao niz b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LJUČ je takođe niz bita fiksne dužin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goritam za enkripciju kombinuje otvoreni tekst i ključ u cilju generisanja šifra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čina dokumenata su duži od ključa, pa je neophodno podeliti dokument na blokove od kojih je svaki jednake dužine kao i ključ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goritam se potom primenjuje na blokove dokumenta i klju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im postupkom nastaje ŠIF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i je po veličini jednak otvorenom dokumen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dešifrovanje se dokument deli na 128-bitne blokove i oni se dekriptuju u odnosu na ključ za dekripto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naga šifr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bitna faktora utiču na određivanje “jačine” bilo kog sistema šifriranj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UŽINA KLJU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ČIN RUKOVANJA KLJUČ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IRODA ALGORITMA ZA ŠIFR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naga šifr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bitna faktora utiču na određivanje “jačine” bilo kog sistema šifriranj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DUŽINA KLJU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AČIN RUKOVANJA KLJUČ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RIRODA ALGORITMA ZA ŠIFR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916360" y="2781360"/>
            <a:ext cx="5634000" cy="1711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uži ključevi obezbeđuju otpornije kriptovanje smanjivanjem broja ponavljajučih blokova u sklopu šifrat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o čini težim primenu analizatora šifrata koji rade po principu otkrivanja šablon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naga šifr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bitna faktora utiču na određivanje “jačine” bilo kog sistema šifriranj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UŽINA KLJU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NAČIN RUKOVANJA KLJUČ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RIRODA ALGORITMA ZA ŠIFR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68360" y="3284640"/>
            <a:ext cx="8351640" cy="32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ocedure čuvanja i rukovanja ključevima pretstavljaju najosetljiviji deo šifarskog sistem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ko dođe do kompromitovanja ključa šifarski sistem se lako razbij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ljučeve nebi trebalo skladištiti na računaru koji ih korist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piju bi trebalo čuvati na bezbednoj lokaciji, (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key escrow</a:t>
            </a:r>
            <a:r>
              <a:rPr b="1" i="1" lang="sr-Latn-C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ko da ako bilo koji zaposleni napusti organizaciju iz bilo kog razloga, podaci koje je kriptovao mogu biti dekriptovan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naga šifr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bitna faktora utiču na određivanje “jačine” bilo kog sistema šifriranj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UŽINA KLJU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AČIN RUKOVANJA KLJUČ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RIRODA ALGORITMA ZA ŠIFR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042920" y="3645000"/>
            <a:ext cx="7777080" cy="24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nažniji algoritmi su teški, ako ne i nemogući, za razbijanje uz oslonac na metodu sirove snag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te-force guessing technique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jnost algoritme nije nuž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lgoritmi koje koriste jnajšire korišćeni šifarski sistemi su JAVNO DOSTUPN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ipovi šifarsk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e dva osnovna tipa šifarskih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042920" y="3645000"/>
            <a:ext cx="7777080" cy="24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nažniji algoritmi su teški, ako ne i nemogući, za razbijanje uz oslonac na metodu sirove snag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te-force guessing technique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ajnost algoritme nije nuž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lgoritmi koje koriste jnajšire korišćeni šifarski sistemi su JAVNO DOSTUPN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636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Model bezbednosti baziran na blagovremenom odgovoru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redsređuje se na implementaciju skupa preventivnih, detektivnih i korektivnih mehanizama koji omogućavaju da sistem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oči napa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duzme akcije da ga osujet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kompromitovan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bilo kog dela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hteva sva tri vida me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v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ti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ekti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ipovi šifarsk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e dva osnovna tipa šifarskih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24000" y="2349360"/>
            <a:ext cx="8640720" cy="431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te isti ključ za šifrovanje i dešifro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rime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DES and A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d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NAČAJNO BRŽI OD ASIMETRIČN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e strane moraju poznavati tajni ključ. Neophodan je metod bezbedne razmene ključeva. (Da li je to e-mail?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an je različit ključ za svakog učesnika koji participira u kripto-zaštićenim transakcijam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ko obe strane koristi ISTI klju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 postoji način koja od strana je stvarni KREATOR dokumen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ipovi šifarsk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e dva osnovna tipa šifarskih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11280" y="2897280"/>
            <a:ext cx="7993080" cy="326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te DVA ključ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AVNI KLUČ (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ublic ke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ATNI KLJUČ (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rivate ke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jni i poznat samo jednoj od stran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lo koji ključ se može koristiti za enkripcij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i god da je korišćen za enkripciju onaj drugi se mora iskoristiti za dekriptovanj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ipovi šifarsk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e dva osnovna tipa šifarskih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68360" y="2852640"/>
            <a:ext cx="8280360" cy="367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imetrična enkripcija rešava niz problema koji postoje kod simetričn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bitno ko poznaje JAVNI KLJUČ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ekst koji se sa njime šifrira može se jedino dešifrovati uz oslonac na PRIVATNI ključ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avni ključ se može distribuirati otvoren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ograničen broj učesnika može koristiti javni ključ za kriptovanje poruk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ko samo jedna strana poznaje privatni ključ, moguče je egzaktno dokazati ko je kreirao dokume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has the private key, it’s possible to prove who created a docume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ipovi šifarsk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e dva osnovna tipa šifarskih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SIMETRIČNI ŠIFAR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187280" y="2852640"/>
            <a:ext cx="7632720" cy="309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ni nedostatak asimetričnih ključeva je BRZ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koliko hiljada puta sporiji u odnosu na simetričn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je pogodan za razmenu velike količine podataka uz oslonac na Intern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elektronskom poslovanju se koriste oba sistema kriptovanj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METRIČNI – za kodiranje masovnih sadržava koji se razmenju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SIMETRIČNI  - za sigurnu diseminaciju simetričnih ključev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simetrična enkripcija se može koristiti u kombinaciji sa procesom HEŠIRANJA u cilju generisanja digitalnih potpis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9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HEŠ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eširanj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stavlja mehanizam kojim se otvoreni tekst bilo koje dužine transformiše u kraći zapis koji se naziva HEŠ. (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ha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va najčešće korišćena algoritma s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D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rei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8-bi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 ključ originalne poru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-1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rei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60-bi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 heš-klju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likuje se od enkripcije u tome što 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nkripcijom uvek generiše ŠIFRAT koji je jednake dužine kao i otvoreni tekst, dok se heširanjem dobija KRAĆI sadržaj (fiksne duž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nkripcija je uvek reverzibilna, dok heširanje NIJE: nije moguće transformisati HEŠ unazad u originalni otvoreni tek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DIGITALNI POTP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imetrično kriptovanje i heširanje se koriste za kreiranje digitalnih potpis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Digitalni potpis (d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igital signature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etstavlja kriptovanu informaciju sa privatnim ključem onoga koji je informaciju kreira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e ju je dekriptovati jedino uz oslonac na odgovarajući JAVNI KLJUČ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uda uspešno dekriptovanje sa javnim ključem može dokazati da je poruku mogao kreirati jedino subjekat koji poseduje odgovarajući privatni ključ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vatni ključ je poznat jedino VLASNIKU, tako da je jedino VLASNIK mogao generisati i poslati posmatranu poruku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simetrično šifriranje je sporo, otuda se digitalni potpisi normalno ne kreiraju uz oslonac na privatne ključeve kojima se šifrira celokupan sadržaj ugovora, narudžbe ili dokumenta koji se razmenjuj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kument se prvo HEŠI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kon toga se HEŠ kriptuje uz oslonac na privatni ključ pošiljaoca, u cilju generisanja digitalnog potpi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78920" y="880560"/>
            <a:ext cx="864252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š nije samo efikasan već i obezbeđuje način za proveru da li je došlo do modifikacije sadržaja poruke u toku prenos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š-algoritmi koriste sve bite u originalnom otvorenom tekstu u cilju računanja heš-vred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se promeni bilo koji karakter u dokumentu dobiće se različita vrednost ključ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tu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prijemnik primi dokument i digitalni potpis i krene u postupak dekriptovanja, on kreira novi heš iz oslonac na isti algorita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se nova vrednost poklapa sa dekriptovanim digitalnim potpisom, prijemnik je siguran da je otvoreni tekst identičan originalnom na strani predaj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pešno korišćenje javnog ključa za dešifriranje dokumenata ili sadržaja datoteke dokazuje da je on kreiran od strane entiteta koj poseduje odgovarajući privatni klju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je moguće znati da li je entit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gitimnim privatnim ključem STVARNO ONAJ ZA KOGA TVDRI DA JE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z to, na koji način dolazite do javnog ključa entiteta u cilju dekriptov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nam pošiljalac obezbeđuje javni ključ tada niste zaštićeni od otkrivanja identite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govori uključuju oslonac na digitalne sertifikate i kreiranje infrastrukture JAVNIH KLJUČEV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stoje tri osnovna koncepta u domenu informacione bezbednosti o kojima treba raspravi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Bezbednost kao zadatak UPRAVLJAČKOG (Management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ne TEHNOLOŠKOG segmenta organizacionih siste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remenski zavisan model bezbedn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ubinska odbra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gital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ni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ertifi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ka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 elektronski dokument, kreiran i digitalno potpisan od strane poverljivog trećeg lic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đuje identitet VLASNIKA određenog JAVNNOG KLJUČ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drži javni ključ koji koriste učesnic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i sertifikati se mogu čuvati na web-sajtovim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auzeri su projektovani da automatski pribavljaju kopiju tog digitalnog sertifikata i da koriste javni ključ koji se u njima nalazi za komunikaciju sa web-sajto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če je ručno ispitati sadržaj digitalnog sertifikata web-sajta duplim klikom na lock-ikonukoja se pojavljuje u donjem desnom uglu prozora braauzer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gitalni sertifikati pretstavljaju automatsku metodu za dobijanje javnog ključa neke organizacije i/ili pojedinc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7138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r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infrastruktura javnog ključa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 (PK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 odnosi na sistem i procese koji se koriste za izdavanje i rukovanje asimetričnih ključeva i digitalnih sertifika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oni sistem koji izdaje javne i privatne ključe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beleži javne ključeve u sklopu digitalnih sertifikata naziva se nosilac sertifikata (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ertificate authorit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busines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ično koristi komercijalne nosioce sertifikata kao što su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wt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i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silac sertifik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ešira informacije koje se nalaze uskladištene u sklopu digitanog sertifik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ifrira taj heš privatnim ključ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družuje digitalni potpis digitalnom sertifikatu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ezbeđuje mehanizme za validaciju autentičnosti sertifika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rganizacije mogu kreirati vlastite digitalne sertifikate za internu upotreb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što se nebi trebali koristiti van okvira organizacionog sistema, oni ne omogućavaju da organizacija koristi javne i privatne ključeve u cilju rigoroznije provere autentičnosti korisnik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st Services frame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 sadrži spisak kriterijuma koji se mogu koristiti u cilju evaluacije ukupne pouzdanosti posmatranog nosioca sertifika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tan faktor su procedure koje ovlaščeni sertifkator   (CA) koristi u cilju verifikacije identiteta podnosioca zahteva za dodelu digitalnog sertifika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čitav niz digitalnih sertifik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99560" indent="-36936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jeftiniji i najmanje verodostojni mogu jedino verifikovati e-mail adresu podnosioca zahte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99560" indent="-36936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skuplji mogu zahtevati verifikaciju identiteta podnosioca zahteva kreditnim karticama, identifikacionim karticama, čekovnim karticala ili poreskim broje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gi element su procedure za ažuriranje sertifikata i oduzimanje onih koji su istekl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75528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 – Primer: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927360" y="4994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mainfrm"/>
          <p:cNvSpPr/>
          <p:nvPr/>
        </p:nvSpPr>
        <p:spPr>
          <a:xfrm>
            <a:off x="3522600" y="1725480"/>
            <a:ext cx="1136880" cy="968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877920" y="2035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435640" y="1268280"/>
            <a:ext cx="3298680" cy="3143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ILJ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 Poslati ponudu elektronskom razmenom dokumen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upak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 Ovlašćena osoba preduzeća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e povezuje na web-sajt vladine agencije za javne nabavke i klikom miša šalje PONUDU  po otvorenom pozi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6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68000" y="40284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927360" y="4994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mainfrm"/>
          <p:cNvSpPr/>
          <p:nvPr/>
        </p:nvSpPr>
        <p:spPr>
          <a:xfrm>
            <a:off x="3522600" y="1725480"/>
            <a:ext cx="1136880" cy="968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877920" y="2035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418000" y="1897200"/>
            <a:ext cx="329904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Brauzer prelazi na zaštićenu web-stranicu i prikazuje lock-ikon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Lock"/>
          <p:cNvSpPr/>
          <p:nvPr/>
        </p:nvSpPr>
        <p:spPr>
          <a:xfrm>
            <a:off x="1589040" y="4521240"/>
            <a:ext cx="425520" cy="5335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Lock"/>
          <p:cNvSpPr/>
          <p:nvPr/>
        </p:nvSpPr>
        <p:spPr>
          <a:xfrm>
            <a:off x="8172360" y="2565360"/>
            <a:ext cx="425520" cy="5335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85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pic>
        <p:nvPicPr>
          <p:cNvPr id="1486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>
            <a:off x="927360" y="4994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mainfrm"/>
          <p:cNvSpPr/>
          <p:nvPr/>
        </p:nvSpPr>
        <p:spPr>
          <a:xfrm>
            <a:off x="3522600" y="1725480"/>
            <a:ext cx="1136880" cy="968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877920" y="2035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084320" y="3335400"/>
            <a:ext cx="1506600" cy="147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540160" y="3370320"/>
            <a:ext cx="1728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2540160" y="2741400"/>
            <a:ext cx="1099800" cy="94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48360" y="1125360"/>
            <a:ext cx="3671640" cy="345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oftver 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-ovom računar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bavlja digitalni sertifikat agenci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rifikuje validnost sertifik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tvara sertifikat u cilju pribavljanja JAVNOG KLJUČA koji koristi agencij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9069800">
            <a:off x="945360" y="3152160"/>
            <a:ext cx="23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Digitalni sertifikat z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 ključ z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6800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00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661160" y="504828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mainfrm"/>
          <p:cNvSpPr/>
          <p:nvPr/>
        </p:nvSpPr>
        <p:spPr>
          <a:xfrm>
            <a:off x="3522600" y="1725480"/>
            <a:ext cx="1136880" cy="968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877920" y="2035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 flipV="1">
            <a:off x="6806880" y="3745080"/>
            <a:ext cx="1374840" cy="113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88160" y="3726000"/>
            <a:ext cx="68400" cy="35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 flipV="1">
            <a:off x="4756320" y="2571480"/>
            <a:ext cx="2085840" cy="149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23720" y="2948040"/>
            <a:ext cx="3551400" cy="1390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ačunar pri agenciji radi isto za digitalni sertifikat i ključ A-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rot="2275800">
            <a:off x="5111280" y="2798640"/>
            <a:ext cx="214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Digitalni sertifikat z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 ključ z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394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15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/>
          <p:nvPr/>
        </p:nvSpPr>
        <p:spPr>
          <a:xfrm>
            <a:off x="927360" y="4994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676600" y="2119320"/>
            <a:ext cx="3767040" cy="1380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ada poseduje javni ključ agencije a agencija poseduje javni ključ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-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3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524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526" name=""/>
          <p:cNvSpPr/>
          <p:nvPr/>
        </p:nvSpPr>
        <p:spPr>
          <a:xfrm>
            <a:off x="7529400" y="4603680"/>
            <a:ext cx="8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39640" y="33156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28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18960" y="1608120"/>
            <a:ext cx="3551400" cy="140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– ovlašćeno lice klikom miša na dugme pridružuje i šalje ponudu kompanij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31840" y="3576600"/>
            <a:ext cx="95544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538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540" name=""/>
          <p:cNvSpPr/>
          <p:nvPr/>
        </p:nvSpPr>
        <p:spPr>
          <a:xfrm>
            <a:off x="7503480" y="4603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Javn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Dubinska odbrana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: Bazirana je na ideji uključivanja više nivoa zaštite u cilju izbegavanja postojanja samo jedne potencijalne tačke odbran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dan nivo bude zaobiđ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tali mogu funkcionisati korektno ili u skladu sa plan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ita računarskih sistema uključuje upotrebu kombinacije: zaštitnih barijera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ozinki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i drugih preventivnih procedura koje ograničavaju pristu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dundantnost se može jednako primeniti i kode detektivnih i korektivnih mer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400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44" name=""/>
          <p:cNvSpPr/>
          <p:nvPr/>
        </p:nvSpPr>
        <p:spPr>
          <a:xfrm>
            <a:off x="927360" y="4994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58800" y="1558800"/>
            <a:ext cx="7763040" cy="140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e slanja pon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-softver za šifriranje obavlja niz korak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oftver za šifriranje prvo kreira HEŠ ponude, koristeći javno dostupni heš-algoritam kao što je npr. MD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274400" y="3573360"/>
            <a:ext cx="69264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-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31840" y="3576600"/>
            <a:ext cx="8841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2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/>
          <p:nvPr/>
        </p:nvSpPr>
        <p:spPr>
          <a:xfrm>
            <a:off x="333720" y="450360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/>
          <p:nvPr/>
        </p:nvSpPr>
        <p:spPr>
          <a:xfrm>
            <a:off x="7503480" y="4603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68000" y="186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803880" y="4994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.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662240" y="5029200"/>
            <a:ext cx="6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773600" y="1593720"/>
            <a:ext cx="4046400" cy="205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kon toga HEŠ se šifrira uz oslonac na A-ov privatni ključ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vako šifrovani HEŠ pretstavlja digitalni potp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h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-str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112840" y="2452680"/>
            <a:ext cx="320760" cy="1677960"/>
          </a:xfrm>
          <a:custGeom>
            <a:avLst/>
            <a:gdLst>
              <a:gd name="textAreaLeft" fmla="*/ 0 w 320760"/>
              <a:gd name="textAreaRight" fmla="*/ 115920 w 320760"/>
              <a:gd name="textAreaTop" fmla="*/ 43560 h 1677960"/>
              <a:gd name="textAreaBottom" fmla="*/ 1634400 h 167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410560" y="3006720"/>
            <a:ext cx="97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igital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ot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187280" y="3576600"/>
            <a:ext cx="86364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1840" y="357660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W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187280" y="2421000"/>
            <a:ext cx="86220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0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571" name=""/>
          <p:cNvSpPr/>
          <p:nvPr/>
        </p:nvSpPr>
        <p:spPr>
          <a:xfrm>
            <a:off x="297000" y="4503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A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573" name=""/>
          <p:cNvSpPr/>
          <p:nvPr/>
        </p:nvSpPr>
        <p:spPr>
          <a:xfrm>
            <a:off x="7355880" y="460368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.W.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31840" y="3576600"/>
            <a:ext cx="8841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68000" y="33156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77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78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181320" y="1593720"/>
            <a:ext cx="5638680" cy="89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ama ponu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e zatim šifrira simetričnim ključem uz oslonac na npr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208160" y="245592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221840" y="3576600"/>
            <a:ext cx="8344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pon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31840" y="357660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43000" y="245124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sym-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589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591" name=""/>
          <p:cNvSpPr/>
          <p:nvPr/>
        </p:nvSpPr>
        <p:spPr>
          <a:xfrm>
            <a:off x="7515720" y="46036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39640" y="33156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595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011480" y="1830240"/>
            <a:ext cx="3005280" cy="142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također treba da pošalje kopiju simetričnog ključ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208160" y="245592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253880" y="3576600"/>
            <a:ext cx="76572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31840" y="357660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43000" y="245124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sym-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152800" y="3589200"/>
            <a:ext cx="1093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607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8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609" name=""/>
          <p:cNvSpPr/>
          <p:nvPr/>
        </p:nvSpPr>
        <p:spPr>
          <a:xfrm>
            <a:off x="7529400" y="4603680"/>
            <a:ext cx="8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826920" y="25848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613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688000" y="1830240"/>
            <a:ext cx="2870280" cy="176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imetrični ključ se kriptuje javnim ključem agencije dobijenim u prvoj faz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08160" y="245592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221840" y="3576600"/>
            <a:ext cx="83484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31840" y="357660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43000" y="245124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sym-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152800" y="3589200"/>
            <a:ext cx="1093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146320" y="2451240"/>
            <a:ext cx="113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584360" y="3454200"/>
            <a:ext cx="955800" cy="903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627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8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629" name=""/>
          <p:cNvSpPr/>
          <p:nvPr/>
        </p:nvSpPr>
        <p:spPr>
          <a:xfrm>
            <a:off x="7529400" y="46036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0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633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4000" y="260280"/>
            <a:ext cx="8340480" cy="179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aket se zatim elektronski prenosi na sajt agencije. Paket uključu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nudu šifriranu SIMETRIČNIM KLJUČ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metrični ključ šifriran JAVNIM KLJUČEM agenc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igitalni potp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ncrypted has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208160" y="245592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220040" y="3576600"/>
            <a:ext cx="8344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31840" y="357660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43000" y="245124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sym-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152800" y="3589200"/>
            <a:ext cx="1093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46320" y="2451240"/>
            <a:ext cx="113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0" y="2268360"/>
            <a:ext cx="3522600" cy="1981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647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7529400" y="46036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75528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652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653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23800" y="2252520"/>
            <a:ext cx="3522600" cy="1981440"/>
            <a:chOff x="523800" y="2252520"/>
            <a:chExt cx="3522600" cy="1981440"/>
          </a:xfrm>
        </p:grpSpPr>
        <p:sp>
          <p:nvSpPr>
            <p:cNvPr id="1659" name=""/>
            <p:cNvSpPr/>
            <p:nvPr/>
          </p:nvSpPr>
          <p:spPr>
            <a:xfrm>
              <a:off x="1731960" y="2440080"/>
              <a:ext cx="861840" cy="113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NW 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744560" y="3560760"/>
              <a:ext cx="83304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sh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 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5640" y="3560760"/>
              <a:ext cx="86976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66800" y="2435400"/>
              <a:ext cx="861840" cy="113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sym-metr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76600" y="3573360"/>
              <a:ext cx="109368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mme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70120" y="2435400"/>
              <a:ext cx="1131840" cy="113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USA publ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23800" y="2252520"/>
              <a:ext cx="3522600" cy="1981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1332000" y="2276640"/>
            <a:ext cx="3522600" cy="1981080"/>
            <a:chOff x="1332000" y="2276640"/>
            <a:chExt cx="3522600" cy="1981080"/>
          </a:xfrm>
        </p:grpSpPr>
        <p:sp>
          <p:nvSpPr>
            <p:cNvPr id="1667" name=""/>
            <p:cNvSpPr/>
            <p:nvPr/>
          </p:nvSpPr>
          <p:spPr>
            <a:xfrm>
              <a:off x="2540160" y="2463840"/>
              <a:ext cx="86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NW 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552760" y="3584520"/>
              <a:ext cx="83304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sh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 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563840" y="3584520"/>
              <a:ext cx="86976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575000" y="2459160"/>
              <a:ext cx="86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sym-metr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484800" y="3597120"/>
              <a:ext cx="109368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mme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478320" y="2459160"/>
              <a:ext cx="113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USA publ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332000" y="2276640"/>
              <a:ext cx="3522600" cy="19810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2419200" y="2235240"/>
            <a:ext cx="3522600" cy="1981080"/>
            <a:chOff x="2419200" y="2235240"/>
            <a:chExt cx="3522600" cy="1981080"/>
          </a:xfrm>
        </p:grpSpPr>
        <p:sp>
          <p:nvSpPr>
            <p:cNvPr id="1675" name=""/>
            <p:cNvSpPr/>
            <p:nvPr/>
          </p:nvSpPr>
          <p:spPr>
            <a:xfrm>
              <a:off x="3627360" y="2422440"/>
              <a:ext cx="86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NW 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639960" y="3543120"/>
              <a:ext cx="83304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sh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 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651040" y="3543120"/>
              <a:ext cx="86976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2200" y="2417760"/>
              <a:ext cx="86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sym-metr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572000" y="3555720"/>
              <a:ext cx="109368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mme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565520" y="2417760"/>
              <a:ext cx="113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USA publ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419200" y="2235240"/>
              <a:ext cx="3522600" cy="19810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3216240" y="2184480"/>
            <a:ext cx="3522600" cy="1981080"/>
            <a:chOff x="3216240" y="2184480"/>
            <a:chExt cx="3522600" cy="1981080"/>
          </a:xfrm>
        </p:grpSpPr>
        <p:sp>
          <p:nvSpPr>
            <p:cNvPr id="1683" name=""/>
            <p:cNvSpPr/>
            <p:nvPr/>
          </p:nvSpPr>
          <p:spPr>
            <a:xfrm>
              <a:off x="4424400" y="2371680"/>
              <a:ext cx="86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NW 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437000" y="3492360"/>
              <a:ext cx="83304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sh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 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448080" y="3492360"/>
              <a:ext cx="86976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459240" y="2367000"/>
              <a:ext cx="86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sym-metr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369040" y="3504960"/>
              <a:ext cx="109368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mme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362560" y="2367000"/>
              <a:ext cx="113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USA publ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216240" y="2184480"/>
              <a:ext cx="3522600" cy="19810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4046400" y="2217600"/>
            <a:ext cx="3522600" cy="1981440"/>
            <a:chOff x="4046400" y="2217600"/>
            <a:chExt cx="3522600" cy="1981440"/>
          </a:xfrm>
        </p:grpSpPr>
        <p:sp>
          <p:nvSpPr>
            <p:cNvPr id="1691" name=""/>
            <p:cNvSpPr/>
            <p:nvPr/>
          </p:nvSpPr>
          <p:spPr>
            <a:xfrm>
              <a:off x="5254560" y="2405160"/>
              <a:ext cx="861840" cy="113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NW 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267160" y="3525840"/>
              <a:ext cx="83304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sh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 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278240" y="3525840"/>
              <a:ext cx="86976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’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289400" y="2400480"/>
              <a:ext cx="861840" cy="113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sym-metr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199200" y="3538440"/>
              <a:ext cx="109368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mme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192720" y="2400480"/>
              <a:ext cx="1131840" cy="1135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USA publ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046400" y="2217600"/>
              <a:ext cx="3522600" cy="1981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5292720" y="2205000"/>
            <a:ext cx="3522600" cy="1981080"/>
            <a:chOff x="5292720" y="2205000"/>
            <a:chExt cx="3522600" cy="1981080"/>
          </a:xfrm>
        </p:grpSpPr>
        <p:sp>
          <p:nvSpPr>
            <p:cNvPr id="1699" name=""/>
            <p:cNvSpPr/>
            <p:nvPr/>
          </p:nvSpPr>
          <p:spPr>
            <a:xfrm>
              <a:off x="6500880" y="2392200"/>
              <a:ext cx="86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563160" y="3512880"/>
              <a:ext cx="73404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sh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p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524560" y="3512880"/>
              <a:ext cx="869760" cy="48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Ponu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535720" y="2387520"/>
              <a:ext cx="86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sym-metr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445520" y="3525480"/>
              <a:ext cx="109368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mme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439040" y="2387520"/>
              <a:ext cx="1131840" cy="113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 w/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AJN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292720" y="2205000"/>
              <a:ext cx="3522600" cy="19810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6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707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709" name=""/>
          <p:cNvSpPr/>
          <p:nvPr/>
        </p:nvSpPr>
        <p:spPr>
          <a:xfrm>
            <a:off x="7529400" y="46036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24000" y="260280"/>
            <a:ext cx="8340480" cy="179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aket se zatim elektronski prenosi na sajt agencije. Paket uključu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nudu šifriranu SIMETRIČNIM KLJUČ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metrični ključ šifriran JAVNIM KLJUČEM agenc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igitalni potp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ncrypted has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5"/>
                            </p:stCondLst>
                            <p:childTnLst>
                              <p:par>
                                <p:cTn id="1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50"/>
                            </p:stCondLst>
                            <p:childTnLst>
                              <p:par>
                                <p:cTn id="1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25"/>
                            </p:stCondLst>
                            <p:childTnLst>
                              <p:par>
                                <p:cTn id="1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300"/>
                            </p:stCondLst>
                            <p:childTnLst>
                              <p:par>
                                <p:cTn id="1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375"/>
                            </p:stCondLst>
                            <p:childTnLst>
                              <p:par>
                                <p:cTn id="1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1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713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23800" y="1662120"/>
            <a:ext cx="4429080" cy="1120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gencija koristi A-ov javni ključ u cilju dešifrovanja digitalnog potpis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12040" y="2505240"/>
            <a:ext cx="861840" cy="113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525360" y="3625920"/>
            <a:ext cx="8344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  p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535720" y="362592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546880" y="250020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sym-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456680" y="3638520"/>
            <a:ext cx="1093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450200" y="2500200"/>
            <a:ext cx="113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960800" y="2031840"/>
            <a:ext cx="199872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926400" y="2014560"/>
            <a:ext cx="0" cy="406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 flipV="1">
            <a:off x="7111800" y="3556080"/>
            <a:ext cx="1238040" cy="95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586560" y="2608200"/>
            <a:ext cx="64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6705720" y="2692440"/>
            <a:ext cx="457200" cy="81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732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3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7529400" y="4603680"/>
            <a:ext cx="8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738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23800" y="1662120"/>
            <a:ext cx="4429080" cy="140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gencija zatim koristi vlastiti PRIVATNI KLJUČ u cilju dešifrovanja simetričnog ključ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525360" y="3625920"/>
            <a:ext cx="8344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535720" y="362592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546880" y="250020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sym-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456680" y="3638520"/>
            <a:ext cx="1093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450200" y="2500200"/>
            <a:ext cx="113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960800" y="2031840"/>
            <a:ext cx="30816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026560" y="2014560"/>
            <a:ext cx="0" cy="406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704000" y="2608200"/>
            <a:ext cx="6447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7823160" y="2692440"/>
            <a:ext cx="457200" cy="81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3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754" name=""/>
          <p:cNvSpPr/>
          <p:nvPr/>
        </p:nvSpPr>
        <p:spPr>
          <a:xfrm>
            <a:off x="323280" y="45036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756" name=""/>
          <p:cNvSpPr/>
          <p:nvPr/>
        </p:nvSpPr>
        <p:spPr>
          <a:xfrm>
            <a:off x="7529400" y="4603680"/>
            <a:ext cx="8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7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759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760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23800" y="1662120"/>
            <a:ext cx="4429080" cy="1104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ešifrovani simetrični ključ se koristi za dešifrovanje same ponud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532560" y="3625920"/>
            <a:ext cx="81612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535720" y="362592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546880" y="2500200"/>
            <a:ext cx="861840" cy="113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 w/ sym-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456680" y="3638520"/>
            <a:ext cx="1093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960800" y="2031840"/>
            <a:ext cx="103356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983200" y="2014560"/>
            <a:ext cx="0" cy="406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591160" y="2625840"/>
            <a:ext cx="64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5762520" y="2692440"/>
            <a:ext cx="457200" cy="81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 flipV="1">
            <a:off x="6468840" y="3116160"/>
            <a:ext cx="1455480" cy="473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5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776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778" name=""/>
          <p:cNvSpPr/>
          <p:nvPr/>
        </p:nvSpPr>
        <p:spPr>
          <a:xfrm>
            <a:off x="7529400" y="46036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5f5f5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ni tipovi preventivnih kontrola na koje se oslanja DUBINSKA ODBRANA uključuju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OVERE AUTENTIČ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zinke, žetoni, biometrijski elementi, MAC – adrese i s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OVERE AUTORIZOVA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rice prava pristupa i provera kompatibil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BU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IZIČKE PROVERE PRISTU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raža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ometrijski uređaj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DALJENE KONTROLE PRISTU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iltriranje paketa op IP adresi od strane root-era i zaštitnih barijera; sistemi za prevenciju infiltriranja; provera autentičnosti udaljenih korisnika; provere na bežičnim ulaznim tačkam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cedure z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jačavanje HOST-ova i SERV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irewalls, anti-virus software, disabling of unnecessary features, user account management, software design, e.g., to prevent  buffer overfl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NKRIP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9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1092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781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782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74600" y="1662120"/>
            <a:ext cx="4208400" cy="1695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z oslonac na identičan hešćalgoritam kao na strani A (u primeru MD5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 strani agencije se formira HEŠ dešifrovanog dokument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583320" y="3625920"/>
            <a:ext cx="715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535720" y="362592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456680" y="3638520"/>
            <a:ext cx="1093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581720" y="3621240"/>
            <a:ext cx="83304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962600" y="2506680"/>
            <a:ext cx="0" cy="1049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386240" y="2506680"/>
            <a:ext cx="6094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4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795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6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797" name=""/>
          <p:cNvSpPr/>
          <p:nvPr/>
        </p:nvSpPr>
        <p:spPr>
          <a:xfrm>
            <a:off x="7529400" y="4603680"/>
            <a:ext cx="8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68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800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801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1506600" y="5173200"/>
            <a:ext cx="441936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74600" y="1662120"/>
            <a:ext cx="4253040" cy="183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kon toga se vrši poređenje oba heš ključ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ko su identični sve je OK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ko nisu dokument nije valida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557760" y="3625920"/>
            <a:ext cx="76572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535720" y="3625920"/>
            <a:ext cx="86976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456680" y="3638520"/>
            <a:ext cx="1093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607280" y="3621240"/>
            <a:ext cx="78300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944960" y="325116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861240" y="324648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910040" y="3218040"/>
            <a:ext cx="19828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4" name="" descr=""/>
          <p:cNvPicPr/>
          <p:nvPr/>
        </p:nvPicPr>
        <p:blipFill>
          <a:blip r:embed="rId3"/>
          <a:stretch/>
        </p:blipFill>
        <p:spPr>
          <a:xfrm flipH="1" rot="16200000">
            <a:off x="1297440" y="4471920"/>
            <a:ext cx="482760" cy="417600"/>
          </a:xfrm>
          <a:prstGeom prst="rect">
            <a:avLst/>
          </a:prstGeom>
          <a:ln w="0">
            <a:noFill/>
          </a:ln>
        </p:spPr>
      </p:pic>
      <p:sp>
        <p:nvSpPr>
          <p:cNvPr id="1815" name=""/>
          <p:cNvSpPr/>
          <p:nvPr/>
        </p:nvSpPr>
        <p:spPr>
          <a:xfrm>
            <a:off x="347760" y="45036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J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6" name="" descr=""/>
          <p:cNvPicPr/>
          <p:nvPr/>
        </p:nvPicPr>
        <p:blipFill>
          <a:blip r:embed="rId4"/>
          <a:stretch/>
        </p:blipFill>
        <p:spPr>
          <a:xfrm flipH="1" rot="16200000">
            <a:off x="8365320" y="4572720"/>
            <a:ext cx="482400" cy="417600"/>
          </a:xfrm>
          <a:prstGeom prst="rect">
            <a:avLst/>
          </a:prstGeom>
          <a:ln w="0">
            <a:noFill/>
          </a:ln>
        </p:spPr>
      </p:pic>
      <p:sp>
        <p:nvSpPr>
          <p:cNvPr id="1817" name=""/>
          <p:cNvSpPr/>
          <p:nvPr/>
        </p:nvSpPr>
        <p:spPr>
          <a:xfrm>
            <a:off x="7531200" y="460368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 Jav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0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500"/>
                            </p:stCondLst>
                            <p:childTnLst>
                              <p:par>
                                <p:cTn id="13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2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8" name="" descr=""/>
          <p:cNvPicPr/>
          <p:nvPr/>
        </p:nvPicPr>
        <p:blipFill>
          <a:blip r:embed="rId1"/>
          <a:stretch/>
        </p:blipFill>
        <p:spPr>
          <a:xfrm>
            <a:off x="344520" y="479268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1092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820" name="" descr=""/>
          <p:cNvPicPr/>
          <p:nvPr/>
        </p:nvPicPr>
        <p:blipFill>
          <a:blip r:embed="rId2"/>
          <a:stretch/>
        </p:blipFill>
        <p:spPr>
          <a:xfrm>
            <a:off x="7221600" y="4835520"/>
            <a:ext cx="1603440" cy="171144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/>
          <p:nvPr/>
        </p:nvSpPr>
        <p:spPr>
          <a:xfrm>
            <a:off x="955440" y="499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67376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J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1608120" y="5173200"/>
            <a:ext cx="4317840" cy="17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H="1">
            <a:off x="5062320" y="5191200"/>
            <a:ext cx="880920" cy="23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097600" y="5445000"/>
            <a:ext cx="2387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74600" y="1662120"/>
            <a:ext cx="5494320" cy="1390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z pretpostavku da je sve OK i da se heš ključevi slažu, agencija šalje potvrdu preduzeću A da je ponuda primljen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583320" y="3625920"/>
            <a:ext cx="715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535720" y="3625920"/>
            <a:ext cx="869760" cy="52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u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456680" y="3638520"/>
            <a:ext cx="109368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607280" y="3621240"/>
            <a:ext cx="78300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po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441240" y="47530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-OK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00"/>
                            </p:stCondLst>
                            <p:childTnLst>
                              <p:par>
                                <p:cTn id="1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2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0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ticaj šifriranja na druge nivoe ODBRA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ifriranje štit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verljivo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ivatno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enosa sadržaja i obezbeđuje mehanizme za proveru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UTENTIČNOST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garanciju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EPORECIVOST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ransak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o međutim unosi određene proble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aštitna barije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ije u stanju da efektivno proverava sadržaj šifriranih pake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ternativni pristup podrazumeva da se šifrirani paketi usmere na demilitarizovanu zonu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de se dešifruju a zatim usmeravaju nazad na zaštitnu barijeru radi dodatnih prover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sa prethodnim pristupom je da paketi koji pristižu postaju osetljivi na “njuškanje” čime se njihova poverljivost i privatnost mogu narušit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puštajući paketima da prolaze kroz zaštitnu barijeru bez dešifrovanja kompromituje bezbednosnu politiku organizacionog siste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-vir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istemi za detekciju prod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kođer imaju poteškoće u rukovanju šifrovanim paketi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uzetno je važno da se u sklopu organizacionog sistema razmotre navedeni nedostaci u cilju projektovanja i implementiranja adekvatnih bezbednosnih mehaniza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Mehanizmi za otkrivanj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vod – o problemu bezbednosti 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Osnovni koncepti bezbednosti inform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reventivni mehanizmi (Preven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hanizmi za otkrivanje (Det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Korektivni mehanizmi (Corr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ljučak – i šta dal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539640" y="59040"/>
            <a:ext cx="746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Mehanizmi za otkrivanj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ventivni mehanizmi nikada ni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0%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ektivni kada je u pitanju sprečavanje svih napad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bog toga je neophodna implementacija mehanizama za otkrivanje (detekciju) napada u cilju poboljšanja bezbednosti organizacionog sistema uz oslonac n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ziranje efektivnosti preventivnih mehanizama;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tkrivanje incidenata kod kojih su preventivni mehanizmi zaštite uspešno zaobiđeni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Mehanizmi za otkriv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era autentičnosti i prava pristupa pretstavljaju politiku organizacionog sistema koja se tiče pristupa sistemu i ograničenjima nad aktivnostima ovlašćenih korisnik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varno korišćenje sistema se mora proveravati u cilju provere usklađenosti uz oslonac n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alizu log-ova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analy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e za otkrivanje prodora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usion detection system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veštaje upravi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ial report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riodično testiranje efektivnosti primenjenih bezbednosnih me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Mehanizmi za otkriv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era autentičnosti i prava pristupa pretstavljaju politiku organizacionog sistema koja se tiče pristupa sistemu i ograničenjima nad aktivnostima ovlašćenih korisnik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varno korišćenje sistema se mora proveravati u cilju provere usklađenosti uz oslonac n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Analizu log-ova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g analysis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isteme za otkrivanje prodora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usion detection systems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veštaje upravi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ial reports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eriodično testiranje efektivnosti primenjenih bezbednosnih me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Mehanizmi za otkriv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naliza log-ova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 Analysis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čina sistema dolazi sa ugrađenim mogućnostima evidentiranja (logging) informacija o subjektima koji pristupaju sistemu i akcijama koje poduzimaj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g-zapisi formiraju podlogu za analizu i nadzor nad procesom pristupa resursima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aju smisla jedino ako njihovo korišćenje pretstavlja rutinsku radn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Anlaiza log-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proces ispitivanja zapisa u cilju nadziranja funkcija mehanizama zašti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5f5f5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ni tipovi DETEKTIVNIH kontrola na koje se oslanja DUBINSKA ODBRANA uključuj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aliza log-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i za detekciju infiltr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pravljački izvešt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stiranje zaštitnih mehaniz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ulnerability scanners, penetration tests, war dia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Mehanizmi za otkriv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sklopu zapisa se mogu nalaziti informacije o neuspešnim pokušajima pristupa različitim serverima u sklopu sistem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oba koja analizira zapise u sklopu log-a mora pokušati otkriti razlog zbog koga je pokušaj pristupa bio neuspešan. To može bit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aboravljena lozink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legitimni korisni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egitiman korisni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bez prava pristup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dotičnom server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ekorektna korisnička identifikaci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u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– obično pretstavlja pokušaj “prodora” u sist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Mehanizmi za otkriv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alizu log-zapisa je potrebno raditi u regularnim vremenskim intervalima u cilju blagovremenog otkrivanja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ije jednostavno jer sadržaj log-ova može brzo rasti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dministrator sistema se obično oslanja na alate koji omogućavaju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odsecanj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“stezanje”) rutinskih elemenata log-ova i zadržavanje samo onih koji poseduju neki vid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nomalij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 nekim slučajevima je potrebno koristiti sisteme za otkrivanje pokušaja prodora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usion detection systems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ji obezbeđuje automatizaciju procesa nadziran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Mehanizmi za otkriv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era autentičnosti i prava pristupa pretstavljaju politiku organizacionog sistema koja se tiče pristupa sistemu i ograničenjima nad aktivnostima ovlašćenih korisnik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varno korišćenje sistema se mora proveravati u cilju provere usklađenosti uz oslonac n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nalizu log-ova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 analysis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Sisteme za otkrivanje prodora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rusion detection systems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veštaje upravi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ial reports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eriodično testiranje efektivnosti primenjenih bezbednosnih me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Mehanizmi za otkriva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istemi za otkrivanje pro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na slabost analize log-ova 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htevnost procesa i mogućnost ljudske greške (pogrešna interpretacija zapis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i za otkrivanje prod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DS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tstavljaju pokušaj automatizacije dela procesa nadzora u sklopu mehanizama zašt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vod – o problemu bezbednosti 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Osnovni koncepti bezbednosti inform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reventivni mehanizmi (Preven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ehanizmi za otkrivanje (Det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rektivni mehanizmi (Corr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ljučak – i šta dal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tkrivanje pokušaja i uspešni prodori u zaštićeni sistem su važni ali su beskorisni ako ih ne prate KOREKTIVNE AKCIJ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va od pomenutih kriterijuma efektivne zaštite zahtevaju postojanje procedura z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agovanje na slamanje bezbednosnih mehanizama sistema i druge bezbednosne incid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lagovremene korektivne akci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ključne komponente koje zadovoljavaju prethodne kriterijume s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miranje RAČUNARSKI TIMA ZA HITNE INTERVENCIJ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emergency response tea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ređivanje posebnog pojedinca koji je nadležan za bezbednost u sklopu cele organizacije (security offic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ovani sistem rukovanja “zakrpama” (mehanizmima korekcije bezbednosnih propust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ključne komponente koje zadovoljavaju prethodne kriterijume s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Formiranje RAČUNARSKI TIMA ZA HITNE INTERVENCIJ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ter emergency response team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dređivanje posebnog pojedinca koji je nadležan za bezbednost u sklopu cele organizacije (security offic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rganizovani sistem rukovanja “zakrpama” (mehanizmima korekcije bezbednosnih propust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1092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ačunarski tim za hitne interv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ljučni segment koji omogućava blagovremen odgovor na bezbednosne incidente je postojanje posebnog tima za hitne intervencije  (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omputer 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mergency 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esponse 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eam (CERT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govoran za rukovanj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ačajni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ncidenti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svom sastavu im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ehničke specijalist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ukovodioce višeg nivo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ke potencijalne akcije mogu imati značajn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konomske posledic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npr. da li da se privremeno isključi sistem elektronske trgovine spuštanjem namenskog servera koji je kompromitovan?) i zahtevaju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pravljačko odlučivan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ra da vodi celokupan proces reakcije na bezbednosne incidente kroz četiri korak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IHVATANJE (priznavanje) POSTOJANJA PROBLE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UZBIJANJ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PORAV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 FESTUM AKTIVNOSTI (Follow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Informaciona bezbednost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5f5f5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ni tipovi KOREKTIVNIH kontrola na koje se oslanja DUBINSKA ODBRANA uključuj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imovi za hitne intervencij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Emergency Response Team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lavni službenik bezbednosti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Security Officer (CSO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ukovanje zakrpama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 Managem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ra da vodi celokupan proces reakcije na bezbednosne incidente kroz četiri korak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RIHVATANJE (priznavanje) POSTOJANJA PROBLEM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UZBIJANJ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OPORAV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OST FESTUM AKTIVNOSTI (Follow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382920" y="3573360"/>
            <a:ext cx="5761080" cy="165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glavnom nastaje kao posledica signalizacije od strane sistema za otkrivanje prodora (IDS) ili kao rezultat analize zapisa (log-ova) od strane administrato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ra da vodi celokupan proces reakcije na bezbednosne incidente kroz četiri korak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RIHVATANJE (priznavanje) POSTOJANJA PROBLE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SUZBIJANJ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OPORAV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OST FESTUM AKTIVNOSTI (Follow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382920" y="4076640"/>
            <a:ext cx="576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da je otkriven prodor ili pokušaj prodora u sistem nužna je promptna reakcija u cilju njegovog zaustavljanja i suzbijanja štete koja može nastupit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ra da vodi celokupan proces reakcije na bezbednosne incidente kroz četiri korak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RIHVATANJE (priznavanje) POSTOJANJA PROBLE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UZBIJANJ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OPORAV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OST FESTUM AKTIVNOSTI (Follow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382920" y="4076640"/>
            <a:ext cx="576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Štetu je potrebno sanira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nekad uključuje restauriranje (vraćanje) podataka sa rezervnih kopija i/ili ponovnu instalaciju kompromitovanih program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ra da vodi celokupan proces reakcije na bezbednosne incidente kroz četiri korak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RIHVATANJE (priznavanje) POSTOJANJA PROBLE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UZBIJANJ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OPORAV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OST FESTUM AKTIVNOSTI (Follow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763640" y="260280"/>
            <a:ext cx="7201080" cy="4246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da se pokrene OPORAV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eophodno je obaviti analizu uslova pod kojima je došlo do incidenta (CERT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trebno je poduzeti adekvatne mere u cilju izmene postojećih bezbednosnih mehanizama i/ili politike bezbednosti u cilju minimiziranja verovatnoće ponavljanja sličnog ili identičnog incident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neti odluku o tome da li će se poduzeti mere otkrivanja i kažnjavanja počinilac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ko se želi kazniti počinilac neophodno je hitno angažovanje forenzičkih eksper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 cilju obezbeđivanja očuvanja svih potencijalnih dokaza, na način koji je PRIHVATLJIV na SUD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ebno je važno proveravati i “uvežbavati” mehanizme odgovora u incidentnim situacijama, uključujući i mehanizme obaveštavanja i uzbunjivanja u cilju otkrivanja potencijalnih propust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dovno vežbanje pomaž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entifikaciji promena u mehanizmima odgovora u cilju njihovog usklađivanja sa novim tehnološkim izazovim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CER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e kompanije je u toku “vežbe” utvrdio da je došlo do promene lozinke na WEB-servisu koji je vitalan za reakciju na incidente. O promeni lozinke niko nije obavestio CERT niti je on posedovao novu. Jasno je da je to bolje otkriti pri rutinskoj proveri nego u konkretnom inciden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ključne komponente koje zadovoljavaju prethodne kriterijume s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Formiranje RAČUNARSKI TIMA ZA HITNE INTERVENCIJ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r emergency response team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dređivanje posebnog pojedinca koji je nadležan za bezbednost u sklopu cele organizacije (security offic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rganizovani sistem rukovanja “zakrpama” (mehanizmima korekcije bezbednosnih propust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lavni službenik bezbednost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security officer (CSO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phodno je da bude osoba nezavisna od drugih PIS funk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a poznavati IT-kompanije i sarađivati sa projektantima PIS u cilju projektovanja, implementacije i promocije razumne bezbednosne politike i procedur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seminira informacije o pretnjama, greškama, bezbednosnim kolapsima, neodgovarajućem korišćenju sistema i posledicama ovih akcij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rađuje sa odgovornim za fizičko-tehničko obezbeđe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stupa delu IT-infrastrukture u cilju evaluacije primenjenih bezbednosnih mer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10920" y="258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ključne komponente koje zadovoljavaju prethodne kriterijume s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Formiranje RAČUNARSKI TIMA ZA HITNE INTERVENCIJ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r emergency response team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dređivanje posebnog pojedinca koji je nadležan za bezbednost u sklopu cele organizacije (security offic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rganizovani sistem rukovanja “zakrpama” (mehanizmima korekcije bezbednosnih propusta)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ukovanje “zakrpama”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 Manage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ga bitna korektivna mera uključuje KOREKCIJU poznatih ranjivih mesta i instalaciju najsvežijih unapređenja vezanih z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viru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oft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bednosne barijer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erativne sistem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plikativne program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objavljenih ranjivih tačaka se rapidno povečava svake godin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lavni uzrok ove pojave je KOMPLEKSNOST i OBIM softverskih sistema koja se značajno uvečav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čina rasprostranjenih programa sadrže milione linija kod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k i kada bi bi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9.9%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šeni greša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dalje bi u njima postojalo ok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etljivih tačaka na milion linija kod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akeri i konsultanti u domenu bezbednosti tragaju za ovim osetljivim mestim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a ih jednom otkri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ino pitanje koje se postavlja je KAKO IH ISKORISTIT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vod – o problemu bezbednosti 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Osnovni koncepti bezbednosti inform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ventivni mehanizmi (Preven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ehanizmi za otkrivanje (Det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Korektivni mehanizmi (Corr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ljučak – i šta dal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Hakeri obično javno objavljuju uputstva za korišćenje osetljivih mesta na Internetu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ako je neophodno posedovati specijalističke veštine za otkrivanje osetljivih mesta, jednom kada se ona otkriju i to objavi, napda na njih je moguć od bilo koga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padaći koji izvršavaju pripremljene program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e u zargonu nazivaju skript-mališani (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script kiddies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cc0000"/>
                </a:solidFill>
                <a:latin typeface="Arial"/>
              </a:rPr>
              <a:t>Zakrpa (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atch</a:t>
            </a:r>
            <a:r>
              <a:rPr b="1" i="1" lang="sr-Latn-CS" sz="3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 kod koji distribuiraju proizvođaći softvera u cilju otklanjanja otkrivenih osetljivih mest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cc0000"/>
                </a:solidFill>
                <a:latin typeface="Arial"/>
              </a:rPr>
              <a:t>Rukovanje zakrpama (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atch management</a:t>
            </a:r>
            <a:r>
              <a:rPr b="1" i="1" lang="sr-Latn-CS" sz="3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 proc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legitimne primene “zakrpi” i unapređenja na celokupan softver neke organizacij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zazovan je j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krpe mogu posedovati neočekivane “nus-pojave” koje mogu uzrokovati probleme, pa ih je neophodno testirati pre primen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stojenje velikog broja zakrpi na nivou godine je vrlo verovatno za bilo koji softverski proizvod, što znači da je potrebno primeniti na stotine njih na više hiljada računara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4000" y="-18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Korek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stemi za prevenciju prodora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usion Prevention System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 obečavajući uz pretpostavku da ih je moguće brzo ažurirati u cilju pružanja odgovora na nove osetljive tačke i blokiranja novih malicioznih programa koji ih koriste. Sve to u cilju “kupovine vremena” 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dekvatno testiranje “zakrpa”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nu testiranih “zakrpa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Zaključak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vod – o problemu bezbednosti 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Osnovni koncepti bezbednosti inform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reventivni mehanizmi (Preven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ehanizmi za otkrivanje (Det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Korektivni mehanizmi (Corr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aključak – i šta dal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4920" y="72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Zaključak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5164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ovom delu kursa bavili smo 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činom na koji bezbednost utiče na pouzdanost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iterijumima koje je moguće koristiti za evaluaciju efektivnosti bezbednosnih mehanizama primenjenih u sklopu PIS organizacionih siste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aliz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menski-baziranih modela zaštite i konceptom dubinske odbran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ipovima preventivnih, detektivnih i korektivnih mehanizama, koji se koriste u cilju obezbeđenje zaštite P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činom na koji šifriranje doprinosi bezbednosti i funkcionisanjem osnovnih sistemi šifriranj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324000" y="1906200"/>
            <a:ext cx="8820000" cy="1320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olicijska informatika</a:t>
            </a:r>
            <a:br>
              <a:rPr sz="4400"/>
            </a:br>
            <a:r>
              <a:rPr b="0" lang="sr-Latn-CS" sz="3600" spc="-1" strike="noStrike">
                <a:solidFill>
                  <a:srgbClr val="ff0000"/>
                </a:solidFill>
                <a:latin typeface="Arial Black"/>
              </a:rPr>
              <a:t>Poglavlje 06. </a:t>
            </a:r>
            <a:r>
              <a:rPr b="0" i="1" lang="sr-Latn-CS" sz="3600" spc="-1" strike="noStrike">
                <a:solidFill>
                  <a:srgbClr val="ff0000"/>
                </a:solidFill>
                <a:latin typeface="Arial Black"/>
              </a:rPr>
              <a:t>Zaštit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901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08160" cy="1268280"/>
          </a:xfrm>
          <a:prstGeom prst="rect">
            <a:avLst/>
          </a:prstGeom>
          <a:ln w="0">
            <a:noFill/>
          </a:ln>
        </p:spPr>
      </p:pic>
      <p:pic>
        <p:nvPicPr>
          <p:cNvPr id="1902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1903" name="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1540080" cy="3124080"/>
          </a:xfrm>
          <a:prstGeom prst="rect">
            <a:avLst/>
          </a:prstGeom>
          <a:ln w="0">
            <a:noFill/>
          </a:ln>
        </p:spPr>
      </p:pic>
      <p:sp>
        <p:nvSpPr>
          <p:cNvPr id="1904" name=""/>
          <p:cNvSpPr txBox="1"/>
          <p:nvPr/>
        </p:nvSpPr>
        <p:spPr>
          <a:xfrm>
            <a:off x="611280" y="4076640"/>
            <a:ext cx="4647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 i t a nj a 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0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 preventivnih mera zaštite je da spreče pojavu bezbednosnih incidenat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jučuju dva povezana mehaniz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veru autentičnost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merena je na verifikaciju IDENTITETA SUBJEKTA koji želi da ostvari pristup zaštićenom OBJEKTU (OBJEKTIM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veru ovlašćen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graničava prava autentičnih subjekata delovima sistema i specifikacija akcija koje su im dozvoljen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overu autentično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subjekta se može obaviti uz oslonac na verifikaci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čega što subjek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Z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lozinka, PIN-kod i sl.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čega što subjekat 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IMA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poseduje) (Smart kartica ili ID-bed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kih 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fizičkih karakteristi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iometr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skih identifika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otisak prsta, glas i sl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vod – o problemu bezbednosti 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Osnovni koncepti informacione bezbe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reventivni mehanizmi (Preven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ehanizmi za otkrivanje (Det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Korektivni mehanizmi (Correctiv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ljučak – i šta dalj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zinke su verovatno najuobičajeniji i ujedno najkontraverzniji mehanizam provere autentično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ektivna lozinka mora zadovoljavati čitav niz zahtev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užina (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ešavina karak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lučajnost (pesudoslučaj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a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zinke su verovatno najuobičajeniji i ujedno najkontraverzniji mehanizam provere autentično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ektivna lozinka mora zadovoljavati čitav niz zahtev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Dužina (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ešavina karak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lučajnost (pesudoslučaj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Ta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4149720"/>
            <a:ext cx="47512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uže lozinke se smatraju sigurnijim (bezbednijim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rebale bi da budu najmanje 8 znakov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zinke su verovatno najuobičajeniji i ujedno najkontraverzniji mehanizam provere autentično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ektivna lozinka mora zadovoljavati čitav niz zahtev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užina (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ešavina karak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lučajnost (pesudoslučaj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Ta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4581360"/>
            <a:ext cx="4751640" cy="107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eophodno je koristiti mešavinu malih i velikih slova, brojeva i specijalnih karakt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zinke su verovatno najuobičajeniji i ujedno najkontraverzniji mehanizam provere autentično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ektivna lozinka mora zadovoljavati čitav niz zahtev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užina (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ešavina karak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lučajnost (pesudoslučaj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Ta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1557360"/>
            <a:ext cx="5976720" cy="28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 lozinke nebi trebalo uzimati reči koje se nalaze u rečniku ili su proširene (sa prednje ili zadnje strane) brojevima kao np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Lozinke netrebale povezivati sa ličnim interesima i/ili hobijima odnosno pojmovima i karakteristikama ličnosti (pogledati rečnik za krekovanje lozinki  na Internet-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zinke su verovatno najuobičajeniji i ujedno najkontraverzniji mehanizam provere autentično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ektivna lozinka mora zadovoljavati čitav niz zahtev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užina (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ešavina karak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lučajnost (pesudoslučaj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Ta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4869000"/>
            <a:ext cx="4897440" cy="57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jvažnija karakteristika lozin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421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ozinku koja zadovoljava navedene kriterijume je obično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EŠKO ZAPAMTIT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posebno ako sistem preventivne zaštite zahteva promenu lozinke po isteku predefinisanog perioda (npr. 90 da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čina ljudi zbog to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raju lozinke koje se lako pamte pa time i pogađaju: 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raju lozinke koje zadovoljavaju kriterijume jakih lozinki ali ih NEGDE ZAPISUJ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se lozinka zapiše ona, od nečega što zna samo jedan subjekat, postaje objekat koji je moguće “ukrasti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o rezultat ove dileme neki eksperti za domen bezbednosti osporavaju napore na formiranju “jakih lozinki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injenica je da statirtička istraživanja u sistemima koji koriste jake lozinke, pokazuju da je najčešći servis koji administratori pružaju – RESETOVANJE LOZINKI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ni predlažu oslonac na DVOKOMPONENTNE mehanizme za proveru autentičnosti kao što su npr. kombinacij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mart kartice i PIN-ko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ugi eksperti to negiraju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jihova argumentacija se temelji na mogućnostima koje nude savremeni operativni sistemi (lozinke duže od 15-karakter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snici mogu kreirati “polugovoreće” lozinke koje su dovoljno duge ali se lako pamt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np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like2binPar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fThSiGoHiSaYoAsGoB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ugački iskazi dramatično povečavaju napor potreban za razbijanje i/ili pogađanje lozink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: Duge lozinke koje se lako pam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ti jedan mehanizam za proveru autentičnosti nije bez ma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ozin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ehnike fizičke identifik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Biometrijske tehn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ti jedan mehanizam za proveru autentičnosti nije bez ma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ozin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ehnike fizičke identifik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Biometrijske tehn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3068640"/>
            <a:ext cx="6379920" cy="781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oguće ih je POGODITI, IZGUBITI, ZAPISATI, RAZBITI ili OTKRITI (saopštit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 čemu je poglavl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 koji način bezbednost utiče na pouzdanost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 osnovu kojih kriterijuma (4) je moguće oceniti efektivnost informacione bezbed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onih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i su osnovni koncepti zaštite u sklopi P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i vidovi preventivnih, detektivnih i korektivnih mera je moguće primeniti u cilju obezbeđenje informacione bezbednosti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 koji način kripto zaštita doprinosi bezbednosti i na koji način je moguće primeniti dva osnovna tipa kripto zašt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ti jedan mehanizam za proveru autentičnosti nije bez ma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Lozin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Tehnike fizičke identifik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Biometrijske tehn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2360" y="3500280"/>
            <a:ext cx="6624720" cy="936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ključuju KARTICE, BEDŽEVE i USB uređa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oguće ih je IZBUBITI, UKRASTI ili DUPLICIRA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ti jedan mehanizam za proveru autentičnosti nije bez ma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Lozin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ehnike fizičke identifik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Biometrijske tehn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476280"/>
            <a:ext cx="8569440" cy="29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oš uvek s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kupe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za masovnu primenu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oš uvek nis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00%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uzdan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eke tehnike prat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egativne konotacije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(npr. otisak prst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Bezbednost biometrijskih podatak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ko dođe do kompromitovanja biometrijskih podataka to može imati ozbiljne posledice po vlasni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 razliku od lozinki ili žetona, biometrijski identifikatori se ne mogu (lako) ZAMENITI i/ili PROMENIT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209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ako niti jedna od tri osnovne tehnike provere autentičnosti nije sama dovoljna, oslonac na kombinaciju (multifaktorska autentikacija) pretstavlja obečavajući mehaniza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išćenje otiska DLANA i PIN-koda zajedno je mnogo efektniji mehanizam provere autentičnosti nego ako se svaki od njih zasebno korist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28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apadi na sistem provere autentičnosti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padi sa lažnim pretstavljanjem (imperso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ethodno je moralo doći do kompromitovanja tajne inform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padi sa ponovljenim porukama (rep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odrazumeva prisluškivanje komunikacije poverljivim kanalom (u toku provere autentičnosti) i repliciranje iste poruke siste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padi sa uvođenjem kašnjenja (forced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esretanje poruke, njeno zadržavanje do pojave time-out događaja na strani korisnika, a zatim prosleđivanje na stranu sistema i blokiranje odgovora sistema korisn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padi sa preplitanjem (interlea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u procesu autentikacije napadač pokušava da “nadmudri” mehanizam ili da otvori paralelnu sesi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aštita od napada na sistem provere autentičnosti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845964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ndardi u domenu provere autentičnosti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.5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ijerarhijski servis na bazi kataloga koji skladišti informacije neophodne za proces provere autentičnosti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acije se skladište u formi SERTIFI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finiše tri tipa procedura provere autenti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OSMERNE (sam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lijen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VOSMERNE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lijen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server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klij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ROSMERNE (pored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lijen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erve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uključuje i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rifikato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ndardi u domenu provere autentičnosti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erberos – MIT (verzija 5 Wind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20396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ndardi u domenu provere autentičnosti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erberos – MIT (verzija 5 Wind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203960" cy="460512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4211640" y="3789360"/>
            <a:ext cx="3381480" cy="2519280"/>
            <a:chOff x="4211640" y="3789360"/>
            <a:chExt cx="3381480" cy="2519280"/>
          </a:xfrm>
        </p:grpSpPr>
        <p:sp>
          <p:nvSpPr>
            <p:cNvPr id="237" name=""/>
            <p:cNvSpPr/>
            <p:nvPr/>
          </p:nvSpPr>
          <p:spPr>
            <a:xfrm>
              <a:off x="4211640" y="5084640"/>
              <a:ext cx="1366920" cy="122400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84720" y="3789360"/>
              <a:ext cx="1508400" cy="833400"/>
            </a:xfrm>
            <a:solidFill>
              <a:srgbClr val="ff0000"/>
            </a:solidFill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Zaštiće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res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28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ndardi u domenu provere autentičnosti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erberos – MIT (verzija 5 Wind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203960" cy="460512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4284720" y="1658880"/>
            <a:ext cx="4464000" cy="1409760"/>
            <a:chOff x="4284720" y="1658880"/>
            <a:chExt cx="4464000" cy="1409760"/>
          </a:xfrm>
        </p:grpSpPr>
        <p:sp>
          <p:nvSpPr>
            <p:cNvPr id="243" name=""/>
            <p:cNvSpPr/>
            <p:nvPr/>
          </p:nvSpPr>
          <p:spPr>
            <a:xfrm>
              <a:off x="4284720" y="1844640"/>
              <a:ext cx="1366920" cy="122400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40680" y="1658880"/>
              <a:ext cx="1508040" cy="833400"/>
            </a:xfrm>
            <a:solidFill>
              <a:srgbClr val="ff0000"/>
            </a:solidFill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Server za prist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ndardi u domenu provere autentičnosti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erberos – MIT (verzija 5 Wind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203960" cy="460512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4284720" y="2852640"/>
            <a:ext cx="4608360" cy="1513080"/>
            <a:chOff x="4284720" y="2852640"/>
            <a:chExt cx="4608360" cy="1513080"/>
          </a:xfrm>
        </p:grpSpPr>
        <p:sp>
          <p:nvSpPr>
            <p:cNvPr id="249" name=""/>
            <p:cNvSpPr/>
            <p:nvPr/>
          </p:nvSpPr>
          <p:spPr>
            <a:xfrm>
              <a:off x="4284720" y="2852640"/>
              <a:ext cx="1366920" cy="122400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48360" y="2997360"/>
              <a:ext cx="1944720" cy="1368360"/>
            </a:xfrm>
            <a:solidFill>
              <a:srgbClr val="ff0000"/>
            </a:solidFill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Server za dodelu ULAZN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a od osnovnih funkcija PIS je da obezbedi informacije koje su neophodne u procesu donošenja odluka. Da bi informacije bile korisne one moraju biti: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uzda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što podrazume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obezbeđuju preciznu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mpletnu sliku o aktivnostima organizacionog sistema u vre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su na raspolaganju kada su potreb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formacija i sistem koji ih proizvodi su zaštićeni od: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ubitk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mpromitovan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/ili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rađ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280" y="2588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overu ovlašćenj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subjekta se obično implementira uz oslonac na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atricu pristup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access control matrix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pecificira kojim OBJEKTIMA SUBJEKAT mož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ati i koje operacije nad objektima su mu  dozvol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a SUBJEKAT izrazi nameru da pristupi OBJEKTU sistem obavlja test kompatibilnosti (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compatibility tes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u cilju provere da li ovlašćenja SUBJEKTAodgovaraju pravima pristupa u sklopu matrice za kontrolu priatup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ricu kontrole pristupa  je potrebno ažurirati u regularnim vremenskim intervali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era autentičnosti i autorizacija se može primeniti i na UREĐ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aka radna sta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inter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sl. zahteva mrežnu kartic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IC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a bi bila povezana na računarsku mrežu organizacij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akia mrežna kartica poseduje jedinstvenu MAC-adresu (Media Access Contro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e je ograničiti pristup mreži jedino uređajuma sa određenim MAC-adresama ili MAC-adrese koristiti za proveru prava prist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: Tuneliranje zaštitne barijere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1672ce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ako provera autentičnosti i ovlašćenja SUBJEKATA pretstavljaju ključne mehanizme ograničavanja pristupa OBJEKTIMA koji su predmet zaštite, postoji čitav niz drugih preventivnih mehanizama koje je neophodno upotrebiti u cilju adekvatne zašti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380160"/>
            <a:ext cx="830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579640" y="1628640"/>
            <a:ext cx="338796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išenivovske preventivne kontrole koje odražavaju dubinsku zaštitu, u cilju zadovoljavanja kriterijuma reakcije sistema zaštite u VREMENU (BLAGOVREMEN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-based model of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24000" y="1484280"/>
            <a:ext cx="5221080" cy="5062680"/>
            <a:chOff x="324000" y="1484280"/>
            <a:chExt cx="5221080" cy="5062680"/>
          </a:xfrm>
        </p:grpSpPr>
        <p:sp>
          <p:nvSpPr>
            <p:cNvPr id="260" name=""/>
            <p:cNvSpPr/>
            <p:nvPr/>
          </p:nvSpPr>
          <p:spPr>
            <a:xfrm>
              <a:off x="324000" y="1484280"/>
              <a:ext cx="5221080" cy="506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48960" y="2048760"/>
              <a:ext cx="4012560" cy="39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61240" y="2596680"/>
              <a:ext cx="2936160" cy="2810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56240" y="3092760"/>
              <a:ext cx="1968120" cy="183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77800" y="3503520"/>
              <a:ext cx="1114200" cy="10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441880" y="3826800"/>
              <a:ext cx="97776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nkripcij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108160" y="3178080"/>
              <a:ext cx="1716840" cy="105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snaživanj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616760" y="2694960"/>
              <a:ext cx="2606760" cy="161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Kontrola udaljenog pristupa (Control Remote Access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1258920" y="2250000"/>
              <a:ext cx="3380040" cy="179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Kontrola fizičkog pristupa (Control Physical Access)</a:t>
              </a:r>
              <a:endPara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370160" y="1643760"/>
              <a:ext cx="3322800" cy="129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Obuka (Training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380160"/>
            <a:ext cx="830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63640" y="1628640"/>
            <a:ext cx="360396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672ce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672c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vi nivo PREVENTIVNE ZAŠT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79280" y="1413000"/>
            <a:ext cx="5221440" cy="5062320"/>
            <a:chOff x="179280" y="1413000"/>
            <a:chExt cx="5221440" cy="5062320"/>
          </a:xfrm>
        </p:grpSpPr>
        <p:sp>
          <p:nvSpPr>
            <p:cNvPr id="273" name=""/>
            <p:cNvSpPr/>
            <p:nvPr/>
          </p:nvSpPr>
          <p:spPr>
            <a:xfrm>
              <a:off x="179280" y="1413000"/>
              <a:ext cx="5221440" cy="50623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4240" y="1977480"/>
              <a:ext cx="4012920" cy="391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16520" y="2525400"/>
              <a:ext cx="2936520" cy="28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11520" y="3021480"/>
              <a:ext cx="1968480" cy="183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33080" y="3432240"/>
              <a:ext cx="1114200" cy="10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297160" y="3755160"/>
              <a:ext cx="9781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nkripcij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963440" y="3106440"/>
              <a:ext cx="1717200" cy="104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snaživanj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472040" y="2623680"/>
              <a:ext cx="2606760" cy="161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Kontrola udaljenog pristupa (Control Remote Access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114200" y="2178720"/>
              <a:ext cx="3380400" cy="179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Kontrola fizičkog pristupa (Control Physical Access)</a:t>
              </a:r>
              <a:endPara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1225800" y="1572480"/>
              <a:ext cx="3322800" cy="129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Obuka (Training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26920" y="1989000"/>
            <a:ext cx="3961080" cy="3888000"/>
          </a:xfrm>
          <a:prstGeom prst="ellipse">
            <a:avLst/>
          </a:prstGeom>
          <a:solidFill>
            <a:srgbClr val="00ffff">
              <a:alpha val="9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ektivnost pojedinačnih kontrolnih procedura zavisi od stepena do kog subjekti razumeju i primenjuju politiku zaštite u sklopu organizacionog sistem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poslene je potrebno upoznati sa napadima koji pripadaj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3200" spc="-1" strike="noStrike">
                <a:solidFill>
                  <a:srgbClr val="cc0000"/>
                </a:solidFill>
                <a:latin typeface="Arial"/>
              </a:rPr>
              <a:t>kategoriji društvenog (civilizovanog) ponašanj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ception to obtain unauthorized acces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8560" y="907920"/>
            <a:ext cx="8461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 saopštavati LOZINKE i druge informacije vezane za registracije, račune, konfiguraciju radnih stanica i sl., nikome ko vas kontaktira telefonom, e-mailom, ili IM(Instant Messag-ing) servisom, čak i kada se pretstavljaju kao ADMINISTRATORI SIST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 dozvolite drugim ljud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legama sa posla ili spoljnjim saradnicim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a idu sa vama kroz ulaz koji ograničava prav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aj t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var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 može dogoditi na glavnim ulaznim vratima kao i na unutrašnjim zaključanim vrati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ično uspeva jer večina ljudi smatra da je nepristojno ne propustiti drugu osobu da uđe pre njih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luma” ovde igra značajnu ulog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58920" y="1052280"/>
            <a:ext cx="853416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kođer je važno investirati u neprekidno profesionalno obrazovanje specijalista za informacionu bezbednos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ve IT stvaraju nove bezbednosne pretnje i čine ranija rešen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mehanizme zastarel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oni sistemi često propuste da obezbede obuk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ovom vitalnom segmen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ebno je korisno pratiti izvode iz nedavnih hakerskih incidena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hat”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acija nadzire aktivnosti hakera i na web-u objavljuje rezultate istraživanja koja opisuju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su aktivnosti pripremlj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ko administratori mreže mogu da se zaštite u svakom od opisanih slučaje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sopi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nj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kreker-ski web-sajtovi oezbeđuju informacije o načinima na koje je moguće provaliti u računarske sisteme i računarske mreže uključujući i načine z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boj (rušenje) server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nerisanje vir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krivanje identite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užno je nadzirati ove sajtove u cilju prikupljanja informacija o aktuelnim pristupima napadu i/ili odbrani sistema od napada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ukovodstvo mora obezbediti uslove za adekvatnu obu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inans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monstriranje podrške zaposlenima koji poštuju propisane mere zaštit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ebno značajno za borbu protiv napada koji nastupaju nakon “druženja i ćaskanja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nu kaznenih mera protiv zaposlenih koji nasmerno krše bezbednosnu politik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3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t osnovnih principa koji doprinose pouzdanosti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3218040" cy="112536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POUZDA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4920" y="33156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435280" y="1599840"/>
            <a:ext cx="352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ntrola fizičkog pristu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re kontrole fizičkog pristupa pretstavljaju drugi sloj preventivnih mera zašti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297160" y="3827520"/>
            <a:ext cx="97776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Encryption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473120" y="2695680"/>
            <a:ext cx="2606760" cy="16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180788"/>
                <a:gd name="adj2" fmla="val 7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rol Remote Access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25440" y="1644480"/>
            <a:ext cx="3322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raining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24000" y="1341360"/>
            <a:ext cx="5221080" cy="5062680"/>
            <a:chOff x="324000" y="1341360"/>
            <a:chExt cx="5221080" cy="5062680"/>
          </a:xfrm>
        </p:grpSpPr>
        <p:sp>
          <p:nvSpPr>
            <p:cNvPr id="300" name=""/>
            <p:cNvSpPr/>
            <p:nvPr/>
          </p:nvSpPr>
          <p:spPr>
            <a:xfrm>
              <a:off x="324000" y="1341360"/>
              <a:ext cx="5221080" cy="506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48960" y="1905840"/>
              <a:ext cx="4012560" cy="3919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61240" y="2453760"/>
              <a:ext cx="2936160" cy="2810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56240" y="2949840"/>
              <a:ext cx="1968120" cy="183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77800" y="3360600"/>
              <a:ext cx="1114200" cy="10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2441880" y="3683880"/>
              <a:ext cx="97776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nkripcij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2108160" y="3035160"/>
              <a:ext cx="1716840" cy="105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snaživanj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616760" y="2552040"/>
              <a:ext cx="2606760" cy="161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Kontrola udaljenog pristupa (Control Remote Access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258920" y="2107080"/>
              <a:ext cx="3380040" cy="179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Kontrola fizičkog pristupa (Control Physical Access)</a:t>
              </a:r>
              <a:endPara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1370160" y="1500840"/>
              <a:ext cx="3322800" cy="129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Obuka (Training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476360" y="2421000"/>
            <a:ext cx="2951280" cy="2879640"/>
          </a:xfrm>
          <a:prstGeom prst="ellipse">
            <a:avLst/>
          </a:prstGeom>
          <a:solidFill>
            <a:srgbClr val="00ffff">
              <a:alpha val="9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nekoliko minu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št napadač koji nije direktno fizički nadziran, može uspešno ostvariti pristup osetljivim podacima koji se nalaze unutar granica siste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ebn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medijumi koji posto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stave u računarski si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mogučavaju subjektu koji ne poseduje legitimne privilegije da zaobiđe mehanizme njihove prover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e je instalirati softver ili hardver za evidentiranje sadržaja koji se otkucava na tastaturi (keystro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ge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pomoću njega preuzeti korisničke identifikacije i lozinke autorizovanih korisnik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sketa sa javno dostupnim pomoćnim programima može se staviti u disketni uređaj PC-klijenta i omogućiti da se preuzmu podaci o svim identifikacijama i lozinkama koje su na tom računaru saopštene od poslednjeg podizanja OS-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hanizmi fizičke kontrole pristupa počinju od SAMOG ULAZA U ZGRAD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li treba da postoje nezaključani ulazi u poslovni objekat u toku normalnog radn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avila zaštite od požara zahtevaju postojanje izlaza za slučaj nužd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i nebi trebali omogućiti ulaz SPOLJA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aju biti povezani na ALARMNI SISTEM koji se aktivira kada neko prođe kroz taj ulaz/izlaz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rtir ili službenik obezbeđenja mora biti prisutan na glavnom ulazu poslovne zgrade da bi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verio identitet zaposlen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htevao od posetilaca da se evidentiraju i da budu pod pratnjom sprovedeni do odrediš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nutar poslovnog objek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izički pristup prostorijama u kojima se nalazi računarska oprema mora biti OGRANIČEN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storije moraju biti BEZBEDNO ZAKLJUČ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i ulasci i izlasci trebaju biti nadzirani od strane zatvorene televizije ili sistema video nadzor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išestruki neuspešni pokušaj ulaska treba da aktivira ALAR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 prostorijama u kojima se nalaze serveri sa visoko osetljivim podacima, obične brave se moraju zameniti s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ITAČIMA KAR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UMERIČKIM TARTATURA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IOMETRIJSKIM UREĐAJ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stup kablovima koji se koriste u sklopu Lokalne mreže mora biti ograničen u cilju pevencije montiranja prislušnih uređa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blovi i ožičenja nebi smeli biti izloženi u prostoru u koji mogu uči slučajni posetioc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idni priključci koji nisu u upotrebi moraju biti fizićki odspojeni od mrež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k-ormari moraju biti bezbedno zaključan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se dele sa drugim stanarima zgrade, tlekomunikaciona oprema mora biti smeštena unutar zaključanih čeličnih kavez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zički mehanizmi zaštite moraju biti adekvatni i ekonomski isplativ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ophodno je puno angažovanje rukovodstva da bi se obezbedilo da vredni resur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udu adekvatno obezbeđe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aptop računa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lularni telefo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D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ređaju zahtevaju posebnu pažnj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ađa laptop-računara pretstavlja osnovni problem, pri čemu glavni gubitak ne pretstavlja vrednost samog računara, već gubitak poverljivih informacija i troškovi obezbeđenja oporavka od gubitka poverljivih informacij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bi se sprečima njihova krađ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phodno je obučiti zaposlene da uvek zaključavaju laptop-računare u sklopu objekata koji se ne mogu pomerati (čaki i dok su u kancelarij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etljivi podaci bi trebali jedino biti skladišteni na izmenjivim diskovima, ne i na hard-diskovima. Neophodna je posebna briga u sprečavanju pristupa izmenjivim mediji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ko je krađa uvek moguća, poverljivi ili osetljivi podaci bi trebali biti zaštićeni merama kripto-zašt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nekim organizacionim sistemima na laptop-računare se instalira namenski softver koji, ako je laptop ukraden, automatski poziva definisni broj i javlja trenutnu lokaciju ako kradljivac pokuša pristup Interne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datne mogućnosti pružaju GPRS uređaji koje je moguće instalirati u sklopu Laptop-računa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33156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435640" y="1599840"/>
            <a:ext cx="345744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ntrola udaljenog pristu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či nivo preventivne zaštite pretstavlja kontrola udljenog pristup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322360" y="3851280"/>
            <a:ext cx="978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Encryption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51000" y="1668600"/>
            <a:ext cx="3322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raining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152800" y="3827520"/>
            <a:ext cx="97776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Encryption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328760" y="2695680"/>
            <a:ext cx="2606760" cy="16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180788"/>
                <a:gd name="adj2" fmla="val 7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rol Remote Access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81080" y="1644480"/>
            <a:ext cx="3322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raining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9280" y="1484280"/>
            <a:ext cx="5221440" cy="5062680"/>
            <a:chOff x="179280" y="1484280"/>
            <a:chExt cx="5221440" cy="5062680"/>
          </a:xfrm>
        </p:grpSpPr>
        <p:sp>
          <p:nvSpPr>
            <p:cNvPr id="333" name=""/>
            <p:cNvSpPr/>
            <p:nvPr/>
          </p:nvSpPr>
          <p:spPr>
            <a:xfrm>
              <a:off x="179280" y="1484280"/>
              <a:ext cx="5221440" cy="506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4240" y="2048760"/>
              <a:ext cx="4012920" cy="39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16520" y="2596680"/>
              <a:ext cx="2936520" cy="28101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11520" y="3092760"/>
              <a:ext cx="1968480" cy="183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33080" y="3503520"/>
              <a:ext cx="1114200" cy="10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2297160" y="3826800"/>
              <a:ext cx="9781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nkripcij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1963440" y="3178080"/>
              <a:ext cx="1717200" cy="105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snaživanj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1472040" y="2694960"/>
              <a:ext cx="2606760" cy="161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Kontrola udaljenog pristupa (Control Remote Access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114200" y="2250000"/>
              <a:ext cx="3380400" cy="179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Kontrola fizičkog pristupa (Control Physical Access)</a:t>
              </a:r>
              <a:endPara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1225800" y="1643760"/>
              <a:ext cx="3322800" cy="129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Obuka (Training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835280" y="3068640"/>
            <a:ext cx="1944720" cy="1873080"/>
          </a:xfrm>
          <a:prstGeom prst="ellipse">
            <a:avLst/>
          </a:prstGeom>
          <a:solidFill>
            <a:srgbClr val="00ffff">
              <a:alpha val="9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292720" y="309600"/>
            <a:ext cx="3432240" cy="9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Preventivne mer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579640" y="1341000"/>
            <a:ext cx="3143160" cy="52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dbrana gran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Route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irewalls, and Intrusion Preven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igure shows the relationship between an organization’s information system and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vice called a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border rou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nects an organization’s information system to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rcRect l="3574" t="0" r="6233" b="0"/>
          <a:stretch/>
        </p:blipFill>
        <p:spPr>
          <a:xfrm>
            <a:off x="648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217600" y="1320840"/>
            <a:ext cx="830520" cy="660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3182760" y="1879200"/>
            <a:ext cx="3189600" cy="270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3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t osnovnih principa koji doprinose pouzdanosti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Bezb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3218040" cy="112536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POUZDA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9560" y="5802480"/>
            <a:ext cx="3218040" cy="50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BEZBED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38720" y="2852640"/>
            <a:ext cx="4805280" cy="785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stup sistemu i podacima koje on enkapsulira je kontrolis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48360" y="-360"/>
            <a:ext cx="3790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rementivne mer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63640" y="1058400"/>
            <a:ext cx="3529080" cy="52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za graničnog router-a nalazi se glavna barij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(f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irewall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ilo kao poseban hardverski uređaj ili računarski sistem opšte namene koji izvršava odgovarajući program (software firewa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3574" t="0" r="6233" b="0"/>
          <a:stretch/>
        </p:blipFill>
        <p:spPr>
          <a:xfrm>
            <a:off x="648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68360" y="2217600"/>
            <a:ext cx="729000" cy="660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910960" y="2276640"/>
            <a:ext cx="2884680" cy="27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508720" y="59400"/>
            <a:ext cx="3240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reventivne mer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580000" y="1413000"/>
            <a:ext cx="3368880" cy="49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serveri i e-mail serveri su smešteni u sklopu posebnog dela mreže koji se nazi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militarizovana zo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(d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emilitarized zone (DMZ)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bog toga što im se pristupa preko Interneta a nalaze se u arhitekturi korporativne mrež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3574" t="0" r="6233" b="0"/>
          <a:stretch/>
        </p:blipFill>
        <p:spPr>
          <a:xfrm>
            <a:off x="648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492360" y="1963800"/>
            <a:ext cx="1773360" cy="211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35640" y="186480"/>
            <a:ext cx="35035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Preventivne mer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35640" y="1412640"/>
            <a:ext cx="3370320" cy="52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Zajed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border router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 glav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irewall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deluju kao aktivni filtri koji kontrolišu koje informacije mogu ući i izać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z P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Da bi shvatili kako oni ra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y function,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neophodno je poznavati način prenosa podataka posretstvom globalne računarske mreže (Internet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3574" t="0" r="6233" b="0"/>
          <a:stretch/>
        </p:blipFill>
        <p:spPr>
          <a:xfrm>
            <a:off x="648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219400" y="1303200"/>
            <a:ext cx="877680" cy="1643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formacije se u sklopu Interneta prenose u formi PAK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kumenti i datoteke koje su predmet slanja se prvo dekomponuju u pak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keti se šalju u LAN ili Internet mreži do odrediš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ređaj koji prima pakete obavlje njihovu kontrolu i reasemblida poslati dokumen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lokupan proces se obavlja uz oslonac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CP/IP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amiliju protokola za prenos informacija na Internet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ransmission Control Protocol (TC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ficira procedure za podelu datoteka i dokumenata na PAKETE na izvoru i njihovo reasembliranje na odredištu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nternet Protocol (I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ficira strukturu paketa i načina njihovog usmeravanja do odred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00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aki IP paket poseduje dva 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GLAVLJE (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de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drži adresu izvora i odredišta kao i informacije o tipu podataka koji se prenose u sklopu tela poru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ELO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tokol propisuje veličinu zaglavlja i redosled informacionih polja u nje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ebni uređaji (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router</a:t>
            </a:r>
            <a:r>
              <a:rPr b="1" i="1" lang="sr-Latn-CS" sz="2400" spc="-1" strike="noStrike">
                <a:solidFill>
                  <a:srgbClr val="cc0000"/>
                </a:solidFill>
                <a:latin typeface="Arial"/>
              </a:rPr>
              <a:t>i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itaju odredišnu adre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 zaglavlja paketa i donose odluku o usmeravanju paketa ka odrediš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kuća verz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P prot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Pv4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sti adrese duž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-bi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. (IPv6 – 128-bitne adr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P adresa se sastoji od četi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-bi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oja odvojena tačkom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da se une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RL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prenticehall.co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me se prevodi u pridruženu IP adresu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5.193.123.25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lavni granični ruter proverava sadržaj odredišne adrese svakog paketa koji prim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adresa ne pripada skupu adresa organizacije, paket se prosleđuje drugom ruteru na Internet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adresa pripada skupu adresa organizacije, paket se preuzima i podvrgava jednoj ili više provera pre njegovog puštanja u unutrašnju mrež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kup pravila poznak kao liste za kontrolu pristupa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(AC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ređuju koji paketi mogu biti preuzet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ranični ruteri obično obavljaju tzv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atičko filtriranje paketa (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static packet filtering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je pojedinačne pakete analizira jedino sa aspekta adresa izvora i odredišt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560" y="738360"/>
            <a:ext cx="87138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L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ično zabranjuje ulaz u unutrašnju mrežu sledećim paketim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keti sa nedozvooljenom adresom IZV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ređene adrese izvora su rezervisane za unutrašnje potrebe i ne mogu se usmerabati preko Intern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.0.0 – 10.255.255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2.16.0.0 – 172.31.255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.168.0.0 – 192.168.255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vedeni paketi su ili posledica greške ili pokušaj napad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keti sa adresom izvora koja je u domenu adresa organizacij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ije logično da paketi sa tom adresom, kao interni saobračaj, dolaze preko glavnog ruter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o su tipični primeri “nadmudrivanja”.(spoofed address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ovi u sklopu graničnog rutera nekada sadrže i dodatne tipove paketa koje je potrebno odbacit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avila se uglavnom fokusiraju na odbijanje paketa. Svaki paket koji se ne odbaci prosleđuje se ka zaštitnoj barije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itna barijera podvrgava paket detaljnijim proverama pre nego što ga pusti u unutrašnju mrež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ično kao granični r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itne barijere koriste liste kontrole pristupa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cilju utvrđivanja šta da rade sa svakim od paket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štitne barijere su projektovane tako da deluju kao filtri i dozvoljavaju prolazak jedino paketima koji zadovoljavaju postavljene usl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ačno (poslednje) pravilo u sklopu ACL zaštitne barijere je da se odbacuje bilo koji paket koji nije prošao prethodna pravi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štitne barijere ne BLOKIRAJU saobračaj, jedino ga FILTRIRAJ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itne barijere koriste sofisticiranije tehnike  filtriranja paketa nego granični ruter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čina kori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stateful packet filt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tičko filtriranje paketa proverava svaki 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ket posebno, dok stateful filtriranje održava tabelu koja sadrži sve ustanovljene veze između računara sa unutrađnje mreže i Interne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štitna barijera se oslanja na ovu tabelu radi provere da li je pristigli paket deo neke komunikacije koja je u toku a inicirana je od strane računara sa unutrašnje mrež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arijera na ovaj način odbija propuštanje paketa koji pripadaju sofisticiranijim napadima koji inače prolaze statičko filtriranj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51280" y="1628640"/>
            <a:ext cx="4835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t osnovnih principa koji doprinose pouzdanosti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Bezb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Pover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3218040" cy="112536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POUZDA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9560" y="5802480"/>
            <a:ext cx="3218040" cy="50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BEZBED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870480" y="403452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VERLJIV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46560" y="3357720"/>
            <a:ext cx="489744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etljive informacije/podaci su zaštićeni od neovlašćenog pristupa i/ili eksponiranj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ful packet filtering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a ograničenja jer proverava jedino sadržaj zaglavlja IP paket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ces je brz i strpljivo lovi nepoželjne paket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graničene je snage jer propušta pakete čija se povratna adresa na nalazi u listi nepoželjnih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era bi bila efikasnija ako bi se analiziralo i telo paket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ces koji je poznat pod nazivom dubinska inspekcija paketa (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deep packet inspec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proverava podatke sadržane u telu pak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poriji 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ubinska inspekcija paketa je centralni deo novog tipa filtriranja poznatog kao sistem prevencije prodora (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rusion prevention systems (IPS)</a:t>
            </a:r>
            <a:r>
              <a:rPr b="1" i="1" lang="sr-Latn-CS" sz="2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projektovan tako da identifikuje i odbija pakete koji su sastavni deo koordiniranog napad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lanja se na više tehnika za identifikaciju nepoželjnih pak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vera sadržaja paketa u bazi ŠABLONA (potpisa) poznatih i dokumentovanih metoda nap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stanovljavanje profi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norma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obraća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korišćenje statističke analize u cilju identifikovanja paketa koji nisu u skladu sa profilo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šćenje na pravilima zasnovanog standarda prihvatanja posebnih tipova saobraćaja i odbijanje paketa koji nisu u skladu sa standardo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424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na prednost ovog pristupa je mogućmost blokiranj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samo već viđenih napada nego i nepoznatih pod uslovom da ne poštuju standar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S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tstavlja obečavajući dodatak bezednosnom arsenalu, ali ni sam nije bez nedostatak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ačajno usporava r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ije otporan na lažne alarme koji rezultiraju odbacivanjem paketa koji su sastavni deo legitimnog saobraća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enzivna istraživanja su u toku na poboljšanju IPS, i deluje da će njihova primena poboljšati bezbednost u uslovima udaljenog pristup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ada se ne smatra da će ZAMENITI RUTER-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i su komplementarno sretstvo i omogučavaju stvaranje novog sloja mehanizma zašti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anični rute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iltriraju OČIGLEDNO neprihvatljive pake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štitne barijere obavljaju detaljnije provere, propuštajući samo one pakete koji sadrže dozvoljene tipove podatak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avljaju dubinske provere paketa koji prolaze kroz barijere u cilju da mnjihov sadržaj odgovara specificiranoj bezbednosnoj politici organizacij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24360" y="187920"/>
            <a:ext cx="28116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Preventivne mer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51280" y="1557000"/>
            <a:ext cx="308124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ga dimenzija koncepta dubinske zašt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korišćenje niza unutrašnjih zaštitnih barijera u cilju segmentiranja različitih organizacionih delova kompanij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rcRect l="3574" t="0" r="6233" b="0"/>
          <a:stretch/>
        </p:blipFill>
        <p:spPr>
          <a:xfrm>
            <a:off x="648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3505320"/>
            <a:ext cx="693720" cy="896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87520" y="3506760"/>
            <a:ext cx="693720" cy="897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3522600"/>
            <a:ext cx="693720" cy="897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liki broj bezbednosnih incidenata uzrokuju zaposleni (ne autsajder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nutrašnje zaštitne barijere olakšavaju ograničavanje pristupa podacima i delovima PIS kojima pojedinačni zaposleni mogu pristupit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ižu bezbednost i jačaju unutrašnje mehanizme uvođenjem novog nivoa razndavanja nadležnost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79280" y="880560"/>
            <a:ext cx="878544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demi su jeftini i jednostavno ih je instalirati tako da su zaposleni često pred iskušenjem da ih instaliraju na PC-računare, bez dozvole ili obaveštavanja ovlašćenih lic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ju OGROMNU RUPU u obodnoj bezbednosti, posebno zbog toga što zaposleni vrlo retko konfigurišu bilo kakav otporan mehanizam provere autentičnost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an infiltrirani modem kreira pomoćni ulaz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back door”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kroz koji napadač može uspešno kompromitovati celokupan sistem zaštit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lužba koja se bavi zaštitom računara ili unutrašnjim nadzorom treba periodično proveravati postojanje neprijavljenih mod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oftver koji se koristi od strane hakera može birati bilo koji telefon u sklopu kompanije i otkriti one koji su povezani sa modemo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prijavljeni modemi se moraju ukloniti i njihovo korišćenje sankcionisat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79280" y="880560"/>
            <a:ext cx="878544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Bežični pris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liki broj organizacija obezbeđuju i bežični pristup resursima PIS (WA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ostavan je i vrlo pogodan za implementaci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đutim, bilo ko sa bežičnim mrežnim adapterom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može pokušati da se poveže na mrež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akoža pristupa otvara okvir za napade i proširuje oblast koji je potrebno efikasno i efektivno štitit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gnal bežične mreže se može skinuti sa relativno velike udalje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z vozila, susednih zgrada i s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880560"/>
            <a:ext cx="878544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l-Up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ne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liki broj isntitucija omogućava zaposlenim da u sistem ulaze posretstvom biranih linija sa udaljenih lokacij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aj pristup obično zaobilazi zaštitne barijer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phodno je posebno identifikovati takve korisnik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Remote Authentication Dial-In User Service (RADIU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standardni način za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nici se povezuju na udaljeni server za pristup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-access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i daju log-in parametr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e-access serve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sleđuje log-in parametre 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DIUS ser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i obavlja proveru kompatibilnosti u cilju autentikacije korisnik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651640" y="189000"/>
            <a:ext cx="33112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Preventivne mer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435280" y="1267920"/>
            <a:ext cx="352908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ezbedni WAP, svi bežični uređaji i konekcione tačke moraju biti locirani u sklopu DEMILITARIZOVANE ZON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obraćaj koji ulazi posretstvom udaljenog bežičnog pristupa na ovaj način se usmeravaju na glavnu zaštitnu barijeru i time podležu kontrolama kao i paketi propušteni od strane graničnog ruter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3574" t="0" r="6233" b="0"/>
          <a:stretch/>
        </p:blipFill>
        <p:spPr>
          <a:xfrm>
            <a:off x="648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709720" y="2252520"/>
            <a:ext cx="1202040" cy="947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18756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O problemu bezbednosti  P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51280" y="1628640"/>
            <a:ext cx="4835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et osnovnih principa koji doprinose pouzdanosti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Bezb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Pover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Priv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3218040" cy="1125360"/>
          </a:xfrm>
          <a:prstGeom prst="triangle">
            <a:avLst>
              <a:gd name="adj" fmla="val 50000"/>
            </a:avLst>
          </a:prstGeom>
          <a:solidFill>
            <a:srgbClr val="1672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POUZDA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560" y="5802480"/>
            <a:ext cx="3218040" cy="509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BEZBED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870480" y="4034520"/>
            <a:ext cx="3076560" cy="43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VERLJIV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84960" y="4047120"/>
            <a:ext cx="3076560" cy="43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T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3933720"/>
            <a:ext cx="4805280" cy="151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ersonalno podaci o kupcima, prikupljeni posretstvom e-trgovine se prikupljaju, koriste, prikazuju i održavaju na odgovarajući nači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920" y="880560"/>
            <a:ext cx="87138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cilju obezbeđenja adekvatne zašt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ežičnog pristupa mreži neophodno je ispoštovati sledeće proced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ključivanje bezbednosnih svoj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čina bežičnih uređaja se prodaju sa onemogućenim bezbednosnim mehanizm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nkripcija je obično isključ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phodno je proveriti autentičnost svih uređaja koji pokušavaju da uspostave bežičnu vezu ka mreži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re nego što im se dodeli IP adres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e ovo obezbedilo neophodno je tretirati dolazeću bežičnu konekciju ka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l-up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kušaj i usmeriti je prvo 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US serve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 drugi uređaj za proveru autentič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nfigurisati sve autorizovane bežične mrežne kontrolere da rade jedino u infrastrukturnom režimu rad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ređaji se prisiljavaju da se povezuju jedino na WAP-ov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ežični mrežni adapteri konfigurisani u ad-hok režimu rada mogu direktno komunicirati sa bilo kojim drugim uređajem koji poseduje bežični mrežni adap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se to ne učini moguć je nastanak bezbednosnih rupa budući da se na ovaj način formiraju P2P mreže bez provere autentičnosti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ključiti automatsko emitovanje adrese pristupne tačke (SS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set identifi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snik mora ručno uneti WAP SSI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im se neautorizovani pristup čini mnogo tež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definisati listu autorizovanih MAC-adresa i konfigurisati WAP-ove tako da jedino prihvataju konekciju sa ovih adres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manjite snagu emitovanja WAP-ova da bi potencijalni neovlašćeni korisnici morali da budu u neposrednoj blizin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cirajte WAP-ove u unutrašnjosti poslovnih objekata i koristite usmerene anten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o kod mod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ostavno je i jeftino uspostaviti “privatnu” bežičnu mrežu i neovlašćene WAP-ov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 periodično testiranje u cilju otkrivanja i eliminisanja nelegitimnih pristupnih tačak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33156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24000" y="1557000"/>
            <a:ext cx="2953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snaživanje (čeličenje) na strani servera i apl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etvrti nivo odbrane podrazumeva osnaživanje na strani servera i aplikac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322360" y="3851280"/>
            <a:ext cx="978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Encryption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251000" y="1668600"/>
            <a:ext cx="3322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raining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152800" y="3827520"/>
            <a:ext cx="97776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Encryption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328760" y="2695680"/>
            <a:ext cx="2606760" cy="16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180788"/>
                <a:gd name="adj2" fmla="val 7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rol Remote Access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81080" y="1644480"/>
            <a:ext cx="3322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raining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79280" y="1484280"/>
            <a:ext cx="5221440" cy="5062680"/>
            <a:chOff x="179280" y="1484280"/>
            <a:chExt cx="5221440" cy="5062680"/>
          </a:xfrm>
        </p:grpSpPr>
        <p:sp>
          <p:nvSpPr>
            <p:cNvPr id="416" name=""/>
            <p:cNvSpPr/>
            <p:nvPr/>
          </p:nvSpPr>
          <p:spPr>
            <a:xfrm>
              <a:off x="179280" y="1484280"/>
              <a:ext cx="5221440" cy="506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4240" y="2048760"/>
              <a:ext cx="4012920" cy="39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16520" y="2596680"/>
              <a:ext cx="2936520" cy="2810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11520" y="3092760"/>
              <a:ext cx="1968480" cy="1839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33080" y="3503520"/>
              <a:ext cx="1114200" cy="1005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297160" y="3826800"/>
              <a:ext cx="97812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Enkripcij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1963440" y="3178080"/>
              <a:ext cx="1717200" cy="105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snaživanj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472040" y="2694960"/>
              <a:ext cx="2606760" cy="161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Kontrola udaljenog pristupa (Control Remote Access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1114200" y="2250000"/>
              <a:ext cx="3380400" cy="179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180788"/>
                  <a:gd name="adj2" fmla="val 710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Kontrola fizičkog pristupa (Control Physical Access)</a:t>
              </a:r>
              <a:endPara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1225800" y="1643760"/>
              <a:ext cx="3322800" cy="129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Obuka (Training)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195640" y="3500280"/>
            <a:ext cx="1152360" cy="1008360"/>
          </a:xfrm>
          <a:prstGeom prst="ellipse">
            <a:avLst/>
          </a:prstGeom>
          <a:solidFill>
            <a:srgbClr val="00ffff">
              <a:alpha val="9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569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uteri, barijere i sistemi za prevenciju prodora su projektovani tako da štite mrežni perimetar (doseg) P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formaciona bezbednost se poboljšava dopunjavanjem preventivnih kontrola na perimetru mreže dodatnim kontrolama na: radnim stanicama, serverima, štampačima i drugim uređajima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ji čine organizaciju mrežnih resu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segmenta zaslužuju posebnu pažn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nfigurisanje HOST-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nički nalozi i prava (accou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izajn soft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nfigurisanje HOST-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Bezbednost im se izmenom konfiguracije može značajno podić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razumevane (default) konfiguracije večine uređaja obično omogućavaju veliki broj opcija koje se jako retko, ili nikada, koris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razumevane instal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čine operativnih sistema uključuju veliki broj programa posebne namene (servis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i nisu neophodni (esencijaln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ključivanje nepotrebnih i dodatnih servi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večava verovatnoću uspešnog instaliranja bez podrške specijalizovanih službi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uppor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 algn="just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na je SLABOST SA ASPEKTA BEZBEDNOST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0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čina programa sadrži inherentne slabosti izražene postojanjem osetljivih tokova (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vulnerabiliti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 stoga pretstavljaju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tencijalne tačke napad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pcioni programi i svojstva koja se ne koriste treba ukloniti i/ili blokirat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ati kao što 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oft Baseline Security Analyzer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skeneri osetljivih mesta mogu identifikovati nekorišćene i nepotrebni programe koji pretstavljaju potencijalnu pretnju bezbed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aj proces isključivanja nepotrebnih svojstava naziv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snaživa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hardenin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0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red osnaživan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trebno je na host-ovima u sklopu mreže, primeniti dva dodatna preventivna mehaniz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 svakom HOST-u je neophodno instalirat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TI-VIRUS softv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oji se redovno ažurir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aki HOST koji sadrži osetljive podatke/informacije mora posedovat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OFTVERSKU ZAŠTITNU BARIJER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-based firewal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koji se redovno ažurir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ukovanje korisničkim nalozima i pravi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s and Privileg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nički nalozi moraju biti pažljivo administrirani, posebno ako imaju neograničena prava na računarskom sistem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nicima kojima su neophodna administrativna prava na pojedinačnom računaru neophodno je dodeliti dva NALOG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dan sa ADMINISTRATIVNIM pravi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rugi sa ograničenim pra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nici bi trebali da se prijavljuju sa ograničenim nalogom pri obavljanju rutinskih dnevnih poslov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ada brauziraju po Internetu ili otvaraju e-mail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 algn="just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mpromitacijom se u tom slučaju prepuštaju samo ograničena prava napadaču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000" y="-144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"/>
              </a:rPr>
              <a:t>ZiOS – Preventivni mehanizm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a su korisniku neophodna administrativna prava, npr. instaliranje novog softvera, tada je neophodno da se prijavi uz oslonac na administrativni nalo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Desni klik na komandu i izbor opci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orišćenje super-u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U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man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9:51:55Z</dcterms:created>
  <dc:creator>xx</dc:creator>
  <dc:description/>
  <dc:language>en-US</dc:language>
  <cp:lastModifiedBy>Branko Perišić</cp:lastModifiedBy>
  <dcterms:modified xsi:type="dcterms:W3CDTF">2009-04-07T13:50:05Z</dcterms:modified>
  <cp:revision>591</cp:revision>
  <dc:subject/>
  <dc:title>PowerPoint Presentation</dc:title>
</cp:coreProperties>
</file>